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jpeg" ContentType="image/jpeg"/>
  <Override PartName="/ppt/media/image9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08C-F29B-4DD2-92BE-F975C7A4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3DC-5A98-49B6-918C-D4C181EE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013-334F-4DF8-8D64-F576ED21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5BB-FA54-4766-82E8-8FFF7919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18D8-3F3A-45A6-A9A2-EA12AC98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73AD-A621-4FC8-98CE-B4F1EB3B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5234-7191-44B9-A7C8-D9E9BEB7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B272-1897-4885-9015-F8BBBFA3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B9E2-FFC9-47E7-8BC1-BB5721D5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0423-9A56-4118-96A2-236A4287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203F-489E-4850-8B4D-2C2B7965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F58-EDC7-4971-ADF9-C692D4B0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74FB-C3D2-4A47-A371-3F9B824D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4A4F-E691-4750-8E5E-5F61CE20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725E-1C20-4909-B805-124AAFFA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4A30-8C99-4DA6-A62A-A864FFD3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7E14-AA1E-42AF-8F9E-4C02406A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19D-C802-4101-9F86-E5773881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143-F0B7-45DA-B447-229650A7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7FD-F62F-47A1-8C13-5290CA63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DC9-0C4D-4D11-8756-920E9372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87B-FD95-41AE-AF16-0A4EFD44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F2A-E793-4AC5-89D6-38D850B5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C10-4732-46B0-B8C3-B5423A0F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71D1-7BFF-4740-817A-9B29618FA5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E99A-5B87-413A-AE41-88770FD189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  <a:ea typeface="Times New Roman"/>
              </a:rPr>
              <a:t>Conceptual Design of ISRU Propellant Storage Depot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69608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Colorado School of Mines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Graduate Research Assistant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Lee Johns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Advisors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Dr. Robert King &amp; Dr. Michael Duke, CS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Extraterrestrial ISRU Systems Concepts Develop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Mr. Kerry Nock, Global Aerospace Corporati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shield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01D0-9B99-4449-8410-C8944A21DA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Electrolysis Unit Separates The Water Into Oxygen &amp; Hydrogen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sumed electrolyzer specification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lkaline medium, 355 K operating temperature, 2.17 MPa operating pressur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4.41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Wh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 h20 Electrolyz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2.26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g equi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W Requir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7.88*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-4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m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Volum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 equip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Includes dryer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87.6% Electrolysis output oxygen gas &amp; water vap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2.4% Electrolysis output hydrogen gas &amp; water vap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ying this to the Lunar depo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lume=0.19 m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&amp; Required Power=19.3 k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shield" descr=""/>
          <p:cNvPicPr/>
          <p:nvPr/>
        </p:nvPicPr>
        <p:blipFill>
          <a:blip r:embed="rId3"/>
          <a:stretch/>
        </p:blipFill>
        <p:spPr>
          <a:xfrm>
            <a:off x="7620120" y="45720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BBE-5C97-4A36-B871-804BC1E452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Dryers Take Out The Water Vapor From The O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&amp; H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Gases.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sumed dryer specification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 step drying system: cold trap condensation and absorption/adsorption with hydroscopic sal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utput 98.9% pure oxygen gas from input gas/water vapor mixtur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utput 86.9% pure hydrogen gas from input gas/water vapor mixtur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ryer Radiator Sizing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8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g equi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/hr input mixtu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0.17 </a:t>
            </a:r>
            <a:r>
              <a:rPr b="0" lang="en-US" sz="1600" spc="-1" strike="noStrike" baseline="30000">
                <a:solidFill>
                  <a:srgbClr val="40458c"/>
                </a:solidFill>
                <a:latin typeface="Tahoma"/>
              </a:rPr>
              <a:t>m2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600" spc="-1" strike="noStrike" baseline="-25000">
                <a:solidFill>
                  <a:srgbClr val="40458c"/>
                </a:solidFill>
                <a:latin typeface="Tahoma"/>
              </a:rPr>
              <a:t>kg equipmen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lying this to the Lunar depo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xygen Dryer Radiator Surface Area=1.2 m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ydrogen Dryer Radiator Surface Area=0.17 m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7" name="shield" descr=""/>
          <p:cNvPicPr/>
          <p:nvPr/>
        </p:nvPicPr>
        <p:blipFill>
          <a:blip r:embed="rId3"/>
          <a:stretch/>
        </p:blipFill>
        <p:spPr>
          <a:xfrm>
            <a:off x="7467480" y="30492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58E-C888-4F1C-A399-2A52B32DAB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xygen &amp; Hydrogen Liquefiers Refrigerate The Gases To A Liquid State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sumed liquefier specification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efiers both cool the incoming gas from the dryers and the boil-off gases from the storage tank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ydrogen Liquefier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4% Carnot Efficiency, 16.4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Wh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 H(l)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0.2705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Wh cool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 H2(g)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0.7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g equi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W cool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0.0012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m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xygen Liquefier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0% Carnot Efficiency, 0.9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Wh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 H(l)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0.0707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Wh cool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 H2(g)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0.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g equi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W cool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0.00306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m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efier Radiator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 reject @ 340 K. 26.3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W rejec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/hr hydrogen produce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1.2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W rejec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/hr oxygen produce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10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g equi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W rejec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&amp; 0.14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m2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 equi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lying this to the Lunar Depo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Oxygen: V=0.08 m</a:t>
            </a:r>
            <a:r>
              <a:rPr b="0" lang="en-US" sz="16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, Required Power=3.6 kW, Radiator SA=6.5 m</a:t>
            </a:r>
            <a:r>
              <a:rPr b="0" lang="en-US" sz="16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Hydrogen: V=0.1 m</a:t>
            </a:r>
            <a:r>
              <a:rPr b="0" lang="en-US" sz="16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, Required Power=9.2 kW, Radiator SA=6.5 m</a:t>
            </a:r>
            <a:r>
              <a:rPr b="0" lang="en-US" sz="16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0" name="shield" descr=""/>
          <p:cNvPicPr/>
          <p:nvPr/>
        </p:nvPicPr>
        <p:blipFill>
          <a:blip r:embed="rId3"/>
          <a:stretch/>
        </p:blipFill>
        <p:spPr>
          <a:xfrm>
            <a:off x="7391520" y="30492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614-A7F3-4A47-830E-8A383BF748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olar Arrays Are Sized For The Total System Power Requirements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sumed solar array specification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lat solar arrays with ~14% efficiency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400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W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kg equi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.08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g equi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m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dditional 7% of total power requirement added for power conversion &amp; distribution (93% efficienc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dditional 8% of total power requirement added for misc. equipme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lying this to the Lunar Depo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otal Power Required (Including misc. equipment)=36.8 k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lat Solar Array Surface Area=192 m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3" name="shield" descr=""/>
          <p:cNvPicPr/>
          <p:nvPr/>
        </p:nvPicPr>
        <p:blipFill>
          <a:blip r:embed="rId3"/>
          <a:stretch/>
        </p:blipFill>
        <p:spPr>
          <a:xfrm>
            <a:off x="7467480" y="38088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1A1-618F-424C-9B19-9C6918DDAA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These Component Calculations, Conceptual Drawings Were Drawn For The Other Three Facilities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culations applied to the specific requirements of the GAC Astrotel projec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 conceptual depot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1 Spacepor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unar Surf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s Surf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s/Phobos Orbi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shield" descr=""/>
          <p:cNvPicPr/>
          <p:nvPr/>
        </p:nvPicPr>
        <p:blipFill>
          <a:blip r:embed="rId3"/>
          <a:stretch/>
        </p:blipFill>
        <p:spPr>
          <a:xfrm>
            <a:off x="7620120" y="228600"/>
            <a:ext cx="1131840" cy="1131840"/>
          </a:xfrm>
          <a:prstGeom prst="rect">
            <a:avLst/>
          </a:prstGeom>
          <a:ln w="0">
            <a:noFill/>
          </a:ln>
        </p:spPr>
      </p:pic>
      <p:pic>
        <p:nvPicPr>
          <p:cNvPr id="257" name="Lunar%20Depot%20Render1a%20(New)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4572000" y="2209680"/>
            <a:ext cx="41911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C47-37D2-467B-AAE7-B26B7F428C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1 Spaceport Propellant Depot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pot Requirement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ore 3,818 kg wat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vert water to oxygen &amp; hydrogen @ 1.59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efy Oxygen @ 1.42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efy Hydrogen @ 0.18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H Storage 387 k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OX Storage 3099 k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L1%20Depot%20Render1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4800600" y="1933560"/>
            <a:ext cx="3809880" cy="4056120"/>
          </a:xfrm>
          <a:prstGeom prst="rect">
            <a:avLst/>
          </a:prstGeom>
          <a:ln w="0">
            <a:noFill/>
          </a:ln>
        </p:spPr>
      </p:pic>
      <p:pic>
        <p:nvPicPr>
          <p:cNvPr id="261" name="shield" descr=""/>
          <p:cNvPicPr/>
          <p:nvPr/>
        </p:nvPicPr>
        <p:blipFill>
          <a:blip r:embed="rId3"/>
          <a:stretch/>
        </p:blipFill>
        <p:spPr>
          <a:xfrm>
            <a:off x="7467480" y="38088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62E-932B-46DF-8FC7-C170FAB469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unar Surface Propellant Depot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pot Requirement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ore 10,056 kg wat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vert water to oxygen &amp; hydrogen @ 4.5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efy Oxygen @ 3.94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efy Hydrogen @ 0.56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aily transfer of LOX &amp; LH to L1 depot, tanks sized for daily storag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Lunar%20Depot%20Render1(New)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4800600" y="2249640"/>
            <a:ext cx="3809880" cy="3425760"/>
          </a:xfrm>
          <a:prstGeom prst="rect">
            <a:avLst/>
          </a:prstGeom>
          <a:ln w="0">
            <a:noFill/>
          </a:ln>
        </p:spPr>
      </p:pic>
      <p:pic>
        <p:nvPicPr>
          <p:cNvPr id="265" name="shield" descr=""/>
          <p:cNvPicPr/>
          <p:nvPr/>
        </p:nvPicPr>
        <p:blipFill>
          <a:blip r:embed="rId3"/>
          <a:stretch/>
        </p:blipFill>
        <p:spPr>
          <a:xfrm>
            <a:off x="7467480" y="45720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E32-E198-4A48-916F-4C7B5CBE8E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rs Surface Propellant Depot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pot Requirement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ore 1,147 kg wat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vert water to oxygen @ hydrogen @ 8.07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efy Oxygen @ 7.06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efy Hydrogen @ 1.01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OX Storage 3,824 k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H Storage 30,593 k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8" name="Copy%20of%20Mars%20Depot%20Render1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4800600" y="224784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shield" descr=""/>
          <p:cNvPicPr/>
          <p:nvPr/>
        </p:nvPicPr>
        <p:blipFill>
          <a:blip r:embed="rId3"/>
          <a:stretch/>
        </p:blipFill>
        <p:spPr>
          <a:xfrm>
            <a:off x="7391520" y="38088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510-9085-468E-8AC2-D6C41B0904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rs/Phobos Orbit Propellant Depot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pot Requirement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ore Oxygen Gas 189 k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efy Oxygen 23.2 kg/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OX Storage 17,272 k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H Storage 2,467 k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ssume LH from eart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2" name="Phobos%20Depot%20Render1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4800600" y="1933560"/>
            <a:ext cx="3809880" cy="4056120"/>
          </a:xfrm>
          <a:prstGeom prst="rect">
            <a:avLst/>
          </a:prstGeom>
          <a:ln w="0">
            <a:noFill/>
          </a:ln>
        </p:spPr>
      </p:pic>
      <p:pic>
        <p:nvPicPr>
          <p:cNvPr id="273" name="shield" descr=""/>
          <p:cNvPicPr/>
          <p:nvPr/>
        </p:nvPicPr>
        <p:blipFill>
          <a:blip r:embed="rId3"/>
          <a:stretch/>
        </p:blipFill>
        <p:spPr>
          <a:xfrm>
            <a:off x="7543800" y="45720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993-8F43-4E7C-A62D-D2B8D7C3AF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Conclusions &amp; Recommenda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chnology &amp; calculation assumptions suited for a conservative initial system conceptual desig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rovements in equipment selection from trade studies of more recent space-specific applic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rovement in component mass/size assumptions would include associated equipment such as mounting structures, pumps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AD4-A280-4E9E-AB4A-ED3F40E1E6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Presentation Will Cover The Following Topics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verview of the GAC Astrotel Projec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stem (Design &amp; Assumptions) Requirem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verall System Desig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unar Surface Depot Flow Block Diagra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stem Design (Using Lunar Depot Mod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orage Tanks (Cryogenic, Gaseou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ectrolysis/Dryers/Radiato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efiers/Radiato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lar Arrays (Total Power Consumpt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ceptual Drawings of Other Depot Facili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clusions and Recommend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3" name="shield" descr=""/>
          <p:cNvPicPr/>
          <p:nvPr/>
        </p:nvPicPr>
        <p:blipFill>
          <a:blip r:embed="rId7"/>
          <a:stretch/>
        </p:blipFill>
        <p:spPr>
          <a:xfrm>
            <a:off x="7620120" y="30492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C5C-4562-4E69-B132-6EB64690AA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GAC Astrotel Architecture Provides Cyclical Transport To Mars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Astrotel Project Provide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ansport between Earth &amp; Mars via small, highly autonomous vehicles called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Astro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aut Ho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el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requent &amp; short duration trips between the two planets (5 month duration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Astrotel Architecture Require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-situ resource excavation, processing &amp; storag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Astrotel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4800600" y="1905120"/>
            <a:ext cx="3962520" cy="4114800"/>
          </a:xfrm>
          <a:prstGeom prst="rect">
            <a:avLst/>
          </a:prstGeom>
          <a:ln w="0">
            <a:noFill/>
          </a:ln>
        </p:spPr>
      </p:pic>
      <p:pic>
        <p:nvPicPr>
          <p:cNvPr id="217" name="shield" descr=""/>
          <p:cNvPicPr/>
          <p:nvPr/>
        </p:nvPicPr>
        <p:blipFill>
          <a:blip r:embed="rId4"/>
          <a:stretch/>
        </p:blipFill>
        <p:spPr>
          <a:xfrm>
            <a:off x="7467480" y="45720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A9F-CD4C-46BF-BE3A-B9E979964F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Conceptual Designs Are Based On The System Requirement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amp; Technology Assumptions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System Requirem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Production, Delivery or Storage Rates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quid Wat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xygen/Hydrogen G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quid Oxygen/Hydroge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lectrolys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quefac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Technology Base (Assumption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mponent Spec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olar Arrays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lectrolyz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rye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quefie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adiato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torage Tank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ystem Effect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mponent Volume, Size, &amp; Mas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wer Consump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shield" descr=""/>
          <p:cNvPicPr/>
          <p:nvPr/>
        </p:nvPicPr>
        <p:blipFill>
          <a:blip r:embed="rId3"/>
          <a:stretch/>
        </p:blipFill>
        <p:spPr>
          <a:xfrm>
            <a:off x="7620120" y="22860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658-9B28-49DF-AFC7-C7F1BD0652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Conceptual System Design Is Broken Down Into Five Sections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orage Ta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ectro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yers &amp; Radiat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quefiers &amp; Radiat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lar Cells (Total Power Consumptio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shield" descr=""/>
          <p:cNvPicPr/>
          <p:nvPr/>
        </p:nvPicPr>
        <p:blipFill>
          <a:blip r:embed="rId6"/>
          <a:stretch/>
        </p:blipFill>
        <p:spPr>
          <a:xfrm>
            <a:off x="7467480" y="457200"/>
            <a:ext cx="1131840" cy="1131840"/>
          </a:xfrm>
          <a:prstGeom prst="rect">
            <a:avLst/>
          </a:prstGeom>
          <a:ln w="0">
            <a:noFill/>
          </a:ln>
        </p:spPr>
      </p:pic>
      <p:pic>
        <p:nvPicPr>
          <p:cNvPr id="225" name="Copy%20of%20Depot%20Parts%20Montage" descr="Rectangle: Click to edit Master text styles&#13;&#10;Second level&#13;&#10;Third level&#13;&#10;Fourth level&#13;&#10;Fifth level"/>
          <p:cNvPicPr/>
          <p:nvPr/>
        </p:nvPicPr>
        <p:blipFill>
          <a:blip r:embed="rId7"/>
          <a:stretch/>
        </p:blipFill>
        <p:spPr>
          <a:xfrm>
            <a:off x="4800600" y="2548080"/>
            <a:ext cx="3809880" cy="282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D73-EF77-4BD8-823A-289D5ABE7F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l System Components Are Based On Data Obtained From The Following References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ceptual Study of On Orbit Production of Cryogenic Propellants by Water Electrolysis”. Moran, M.E.  NASA Lewis Research Center. 1991. NAS1.15:20373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yogenic Reactant Storage for Lunar Base Regenerative Fuel Cells”. Kohout, L.L.  NASA Lewis Research Center. 1989. NAS1.15:10198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yclical Visits to Mars via Astronaut Hotels: Phase I Final Report”. Global Aerospace Corporation. 30 November 2000.  GAC Report #:510-04911-00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8" name="shield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5D0-B964-42BD-B404-94CDC1A865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unar Surface Propellant Depot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pot Requirement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ore 10,056 kg wat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vert water to oxygen &amp; hydrogen @ 4.5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efy Oxygen @ 3.94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efy Hydrogen @ 0.56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aily transfer of LOX &amp; LH to L1 depot, tanks sized for daily storag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1" name="Lunar%20Depot%20Render1(New)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4800600" y="2249640"/>
            <a:ext cx="3809880" cy="3425760"/>
          </a:xfrm>
          <a:prstGeom prst="rect">
            <a:avLst/>
          </a:prstGeom>
          <a:ln w="0">
            <a:noFill/>
          </a:ln>
        </p:spPr>
      </p:pic>
      <p:pic>
        <p:nvPicPr>
          <p:cNvPr id="232" name="shield" descr=""/>
          <p:cNvPicPr/>
          <p:nvPr/>
        </p:nvPicPr>
        <p:blipFill>
          <a:blip r:embed="rId3"/>
          <a:stretch/>
        </p:blipFill>
        <p:spPr>
          <a:xfrm>
            <a:off x="7467480" y="45720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3BE-EAD7-4E90-8C2D-DD6F1298C3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unar Surface Depot System Flow Block Diagram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Sample%20Lunar%20Flowchart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7543800" cy="4667400"/>
          </a:xfrm>
          <a:prstGeom prst="rect">
            <a:avLst/>
          </a:prstGeom>
          <a:ln w="0">
            <a:noFill/>
          </a:ln>
        </p:spPr>
      </p:pic>
      <p:pic>
        <p:nvPicPr>
          <p:cNvPr id="237" name="shield" descr=""/>
          <p:cNvPicPr/>
          <p:nvPr/>
        </p:nvPicPr>
        <p:blipFill>
          <a:blip r:embed="rId4"/>
          <a:stretch/>
        </p:blipFill>
        <p:spPr>
          <a:xfrm>
            <a:off x="7391520" y="38088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13D-3DF3-444E-A1C0-8696D9C6F5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Tanks Store the Necessary Amounts of LOX, LH, and Water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ater Stor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qui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Water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ominal Density=98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kg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m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version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.0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 m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M.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quired 10.056 M.T. water storage gives: 10.3 m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volum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lume rounded to 10.5 m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for insulation &amp; other items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yogenic Stor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ssumed aluminum dual layer construction w/insulatio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ank size includes an additional 15% for residual &amp; maximum achievable filling level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LOX: 0.947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m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M.T.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ith the required 0.032 M.T. gives 0.03 m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LH: 15.6 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m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ahoma"/>
              </a:rPr>
              <a:t>M.T.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ith the required 0.005 M.T. gives 0.07 m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shield" descr=""/>
          <p:cNvPicPr/>
          <p:nvPr/>
        </p:nvPicPr>
        <p:blipFill>
          <a:blip r:embed="rId3"/>
          <a:stretch/>
        </p:blipFill>
        <p:spPr>
          <a:xfrm>
            <a:off x="7696080" y="38088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1DD-6ABF-4900-BA09-980267E90D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5:41:26Z</dcterms:created>
  <dc:creator>Division of Engineering</dc:creator>
  <dc:description/>
  <dc:language>en-US</dc:language>
  <cp:lastModifiedBy>Division of Engineering</cp:lastModifiedBy>
  <dcterms:modified xsi:type="dcterms:W3CDTF">2001-11-12T16:43:44Z</dcterms:modified>
  <cp:revision>120</cp:revision>
  <dc:subject/>
  <dc:title>Conceptual Design of ISRU Propellant Storage Depots </dc:title>
</cp:coreProperties>
</file>