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6A9-4DF1-4AE0-82D9-8719FD65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E3C-536C-458B-BA03-415BEFF2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805-2593-4A01-948D-92C2F9D0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7D8-F5A2-462B-966B-A8FD04D3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950-9E10-44CB-8AB0-DC57C501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522-8202-4C3B-A499-6AC65B55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CB9-4783-4AD4-A8A3-194E9450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A64-73B1-48FA-8C23-93F32BBD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72A-A39D-486B-9A3E-2D04243D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52F-BE02-4101-A20B-27A3D11B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766-EB99-406F-9243-5D252336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451-7384-44B7-BD22-8AC80A71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D41-8D38-4994-817A-CD18B2020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ower Architectures for Lunar Resourc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666520" y="22096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ervic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igning th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ootstrapping th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00" y="6400800"/>
            <a:ext cx="411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wer Architectures for Lunar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51840" y="63244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gary.rod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@</a:t>
            </a: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sys</a:t>
            </a:r>
            <a:r>
              <a:rPr b="0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RAN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ing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00" y="6400800"/>
            <a:ext cx="411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wer Architectures for Lunar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51840" y="63244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gary.rod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@</a:t>
            </a: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sys</a:t>
            </a:r>
            <a:r>
              <a:rPr b="0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RAN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76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-locat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00" y="6400800"/>
            <a:ext cx="411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wer Architectures for Lunar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63244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gary.rod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@</a:t>
            </a: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sys</a:t>
            </a:r>
            <a:r>
              <a:rPr b="0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RAN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86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cro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00" y="6400800"/>
            <a:ext cx="411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wer Architectures for Lunar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51840" y="63244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gary.rod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@</a:t>
            </a: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sys</a:t>
            </a:r>
            <a:r>
              <a:rPr b="0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RAN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1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wer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00" y="6400800"/>
            <a:ext cx="411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wer Architectures for Lunar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51840" y="63244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gary.rod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@</a:t>
            </a: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sys</a:t>
            </a:r>
            <a:r>
              <a:rPr b="0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RAN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86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ributio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llectio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00" y="6400800"/>
            <a:ext cx="411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wer Architectures for Lunar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51840" y="63244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gary.rod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@</a:t>
            </a: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sys</a:t>
            </a:r>
            <a:r>
              <a:rPr b="0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RAN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tstrapping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6880" y="2743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ild on mission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 Indigenou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liberat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000" y="6400800"/>
            <a:ext cx="411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wer Architectures for Lunar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51840" y="63244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gary.rod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@</a:t>
            </a: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sys</a:t>
            </a:r>
            <a:r>
              <a:rPr b="0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RAN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95480" y="25146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ound-the-cloc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g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00" y="6400800"/>
            <a:ext cx="411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wer Architectures for Lunar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51840" y="63244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gary.rod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@</a:t>
            </a:r>
            <a:r>
              <a:rPr b="0" i="1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sys</a:t>
            </a:r>
            <a:r>
              <a:rPr b="0" lang="en-US" sz="1200" spc="-1" strike="noStrike" u="sng">
                <a:solidFill>
                  <a:srgbClr val="3399ff"/>
                </a:solidFill>
                <a:uFillTx/>
                <a:latin typeface="Arial"/>
              </a:rPr>
              <a:t>RAN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1:38:43Z</dcterms:created>
  <dc:creator>Gary Rodriguez</dc:creator>
  <dc:description/>
  <dc:language>en-US</dc:language>
  <cp:lastModifiedBy>jenn</cp:lastModifiedBy>
  <dcterms:modified xsi:type="dcterms:W3CDTF">2004-02-02T23:03:14Z</dcterms:modified>
  <cp:revision>6</cp:revision>
  <dc:subject/>
  <dc:title>Power Architectures for Lunar Resource Development</dc:title>
</cp:coreProperties>
</file>