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74B-FA69-4F59-93DF-8C816EA2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EC0-4948-4AC7-8E94-BD039B54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775-B351-4F56-A43D-07EB6B08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B96-31C0-4888-B76C-5BBBBFD6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E8E-75D3-4E2B-8B5A-0945812C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DB9-E742-48BD-88DA-174AC5B2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84F-87E7-4179-9E4E-184AE5B2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50C-C95A-41D4-A643-88F2DF50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D21-FCBE-4C1C-BB10-5F61AD05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A26-1046-4C23-91DF-6B90E3A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52A-4DFA-4AB5-A07B-7D2879F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F8C-E86A-4469-A075-A44D6C76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D2BE-93D4-4ACB-BB15-D554FC3E8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ower Architectures for Lunar Resource Development</a:t>
            </a:r>
            <a:br>
              <a:rPr sz="2800"/>
            </a:br>
            <a:br>
              <a:rPr sz="28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pace Resources Roundtabl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85840" y="53337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ary "ROD" Rodrigu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ystems Archit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y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AN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ribution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llection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6324480"/>
            <a:ext cx="9144000" cy="352800"/>
            <a:chOff x="0" y="6324480"/>
            <a:chExt cx="9144000" cy="352800"/>
          </a:xfrm>
        </p:grpSpPr>
        <p:sp>
          <p:nvSpPr>
            <p:cNvPr id="92" name=""/>
            <p:cNvSpPr/>
            <p:nvPr/>
          </p:nvSpPr>
          <p:spPr>
            <a:xfrm>
              <a:off x="72000" y="6400800"/>
              <a:ext cx="41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ower Architectures for Lunar Resourc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51840" y="6324480"/>
              <a:ext cx="18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gary.rod</a:t>
              </a:r>
              <a:r>
                <a:rPr b="0" lang="en-US" sz="1200" spc="-1" strike="noStrike">
                  <a:solidFill>
                    <a:srgbClr val="3399ff"/>
                  </a:solidFill>
                  <a:latin typeface="Arial"/>
                </a:rPr>
                <a:t>@</a:t>
              </a: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sys</a:t>
              </a:r>
              <a:r>
                <a:rPr b="0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RAND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86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re does the utility stop and the customer-owned facility st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324480"/>
            <a:ext cx="9144000" cy="352800"/>
            <a:chOff x="0" y="6324480"/>
            <a:chExt cx="9144000" cy="352800"/>
          </a:xfrm>
        </p:grpSpPr>
        <p:sp>
          <p:nvSpPr>
            <p:cNvPr id="98" name=""/>
            <p:cNvSpPr/>
            <p:nvPr/>
          </p:nvSpPr>
          <p:spPr>
            <a:xfrm>
              <a:off x="72000" y="6400800"/>
              <a:ext cx="41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ower Architectures for Lunar Resourc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51840" y="6324480"/>
              <a:ext cx="18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gary.rod</a:t>
              </a:r>
              <a:r>
                <a:rPr b="0" lang="en-US" sz="1200" spc="-1" strike="noStrike">
                  <a:solidFill>
                    <a:srgbClr val="3399ff"/>
                  </a:solidFill>
                  <a:latin typeface="Arial"/>
                </a:rPr>
                <a:t>@</a:t>
              </a: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sys</a:t>
              </a:r>
              <a:r>
                <a:rPr b="0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RAND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tstrapping th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66880" y="2743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ild on mission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gh Indigenou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liberat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324480"/>
            <a:ext cx="9144000" cy="352800"/>
            <a:chOff x="0" y="6324480"/>
            <a:chExt cx="9144000" cy="352800"/>
          </a:xfrm>
        </p:grpSpPr>
        <p:sp>
          <p:nvSpPr>
            <p:cNvPr id="104" name=""/>
            <p:cNvSpPr/>
            <p:nvPr/>
          </p:nvSpPr>
          <p:spPr>
            <a:xfrm>
              <a:off x="72000" y="6400800"/>
              <a:ext cx="41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ower Architectures for Lunar Resourc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51840" y="6324480"/>
              <a:ext cx="18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gary.rod</a:t>
              </a:r>
              <a:r>
                <a:rPr b="0" lang="en-US" sz="1200" spc="-1" strike="noStrike">
                  <a:solidFill>
                    <a:srgbClr val="3399ff"/>
                  </a:solidFill>
                  <a:latin typeface="Arial"/>
                </a:rPr>
                <a:t>@</a:t>
              </a: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sys</a:t>
              </a:r>
              <a:r>
                <a:rPr b="0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RAND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95480" y="25146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ound-the-cloc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g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6324480"/>
            <a:ext cx="9144000" cy="352800"/>
            <a:chOff x="0" y="6324480"/>
            <a:chExt cx="9144000" cy="352800"/>
          </a:xfrm>
        </p:grpSpPr>
        <p:sp>
          <p:nvSpPr>
            <p:cNvPr id="110" name=""/>
            <p:cNvSpPr/>
            <p:nvPr/>
          </p:nvSpPr>
          <p:spPr>
            <a:xfrm>
              <a:off x="72000" y="6400800"/>
              <a:ext cx="41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ower Architectures for Lunar Resourc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51840" y="6324480"/>
              <a:ext cx="18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gary.rod</a:t>
              </a:r>
              <a:r>
                <a:rPr b="0" lang="en-US" sz="1200" spc="-1" strike="noStrike">
                  <a:solidFill>
                    <a:srgbClr val="3399ff"/>
                  </a:solidFill>
                  <a:latin typeface="Arial"/>
                </a:rPr>
                <a:t>@</a:t>
              </a: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sys</a:t>
              </a:r>
              <a:r>
                <a:rPr b="0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RAND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MISSIONpatch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7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he Earth is close to the Moon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d,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the Moon is a very long way from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6324480"/>
            <a:ext cx="9144000" cy="352800"/>
            <a:chOff x="0" y="6324480"/>
            <a:chExt cx="9144000" cy="352800"/>
          </a:xfrm>
        </p:grpSpPr>
        <p:sp>
          <p:nvSpPr>
            <p:cNvPr id="45" name=""/>
            <p:cNvSpPr/>
            <p:nvPr/>
          </p:nvSpPr>
          <p:spPr>
            <a:xfrm>
              <a:off x="72000" y="6400800"/>
              <a:ext cx="41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ower Architectures for Lunar Resourc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251840" y="6324480"/>
              <a:ext cx="18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gary.rod</a:t>
              </a:r>
              <a:r>
                <a:rPr b="0" lang="en-US" sz="1200" spc="-1" strike="noStrike">
                  <a:solidFill>
                    <a:srgbClr val="3399ff"/>
                  </a:solidFill>
                  <a:latin typeface="Arial"/>
                </a:rPr>
                <a:t>@</a:t>
              </a: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sys</a:t>
              </a:r>
              <a:r>
                <a:rPr b="0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RAND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6520" y="22096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Servic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igning th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ootstrapping th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6324480"/>
            <a:ext cx="9144000" cy="352800"/>
            <a:chOff x="0" y="6324480"/>
            <a:chExt cx="9144000" cy="352800"/>
          </a:xfrm>
        </p:grpSpPr>
        <p:sp>
          <p:nvSpPr>
            <p:cNvPr id="50" name=""/>
            <p:cNvSpPr/>
            <p:nvPr/>
          </p:nvSpPr>
          <p:spPr>
            <a:xfrm>
              <a:off x="72000" y="6400800"/>
              <a:ext cx="41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ower Architectures for Lunar Resourc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51840" y="6324480"/>
              <a:ext cx="18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gary.rod</a:t>
              </a:r>
              <a:r>
                <a:rPr b="0" lang="en-US" sz="1200" spc="-1" strike="noStrike">
                  <a:solidFill>
                    <a:srgbClr val="3399ff"/>
                  </a:solidFill>
                  <a:latin typeface="Arial"/>
                </a:rPr>
                <a:t>@</a:t>
              </a: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sys</a:t>
              </a:r>
              <a:r>
                <a:rPr b="0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RAND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Servic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564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 not expect to flow goods from the Moon to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indigenous Lunar Resources will support delivery of SERVICES to Earth's inhabi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oration will become an operational adjunct to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6324480"/>
            <a:ext cx="9144000" cy="352800"/>
            <a:chOff x="0" y="6324480"/>
            <a:chExt cx="9144000" cy="352800"/>
          </a:xfrm>
        </p:grpSpPr>
        <p:sp>
          <p:nvSpPr>
            <p:cNvPr id="56" name=""/>
            <p:cNvSpPr/>
            <p:nvPr/>
          </p:nvSpPr>
          <p:spPr>
            <a:xfrm>
              <a:off x="72000" y="6400800"/>
              <a:ext cx="41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ower Architectures for Lunar Resourc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51840" y="6324480"/>
              <a:ext cx="18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gary.rod</a:t>
              </a:r>
              <a:r>
                <a:rPr b="0" lang="en-US" sz="1200" spc="-1" strike="noStrike">
                  <a:solidFill>
                    <a:srgbClr val="3399ff"/>
                  </a:solidFill>
                  <a:latin typeface="Arial"/>
                </a:rPr>
                <a:t>@</a:t>
              </a: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sys</a:t>
              </a:r>
              <a:r>
                <a:rPr b="0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RAND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Servic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564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ic Powe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ervic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is the indispensible enabler of Luna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sence of a power grid reduces mission requirements for industri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6324480"/>
            <a:ext cx="9144000" cy="352800"/>
            <a:chOff x="0" y="6324480"/>
            <a:chExt cx="9144000" cy="352800"/>
          </a:xfrm>
        </p:grpSpPr>
        <p:sp>
          <p:nvSpPr>
            <p:cNvPr id="62" name=""/>
            <p:cNvSpPr/>
            <p:nvPr/>
          </p:nvSpPr>
          <p:spPr>
            <a:xfrm>
              <a:off x="72000" y="6400800"/>
              <a:ext cx="41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ower Architectures for Lunar Resourc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51840" y="6324480"/>
              <a:ext cx="18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gary.rod</a:t>
              </a:r>
              <a:r>
                <a:rPr b="0" lang="en-US" sz="1200" spc="-1" strike="noStrike">
                  <a:solidFill>
                    <a:srgbClr val="3399ff"/>
                  </a:solidFill>
                  <a:latin typeface="Arial"/>
                </a:rPr>
                <a:t>@</a:t>
              </a: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sys</a:t>
              </a:r>
              <a:r>
                <a:rPr b="0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RAND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ing th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6324480"/>
            <a:ext cx="9144000" cy="352800"/>
            <a:chOff x="0" y="6324480"/>
            <a:chExt cx="9144000" cy="352800"/>
          </a:xfrm>
        </p:grpSpPr>
        <p:sp>
          <p:nvSpPr>
            <p:cNvPr id="68" name=""/>
            <p:cNvSpPr/>
            <p:nvPr/>
          </p:nvSpPr>
          <p:spPr>
            <a:xfrm>
              <a:off x="72000" y="6400800"/>
              <a:ext cx="41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ower Architectures for Lunar Resourc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51840" y="6324480"/>
              <a:ext cx="18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gary.rod</a:t>
              </a:r>
              <a:r>
                <a:rPr b="0" lang="en-US" sz="1200" spc="-1" strike="noStrike">
                  <a:solidFill>
                    <a:srgbClr val="3399ff"/>
                  </a:solidFill>
                  <a:latin typeface="Arial"/>
                </a:rPr>
                <a:t>@</a:t>
              </a: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sys</a:t>
              </a:r>
              <a:r>
                <a:rPr b="0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RAND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76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-locat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6324480"/>
            <a:ext cx="9144000" cy="352800"/>
            <a:chOff x="0" y="6324480"/>
            <a:chExt cx="9144000" cy="352800"/>
          </a:xfrm>
        </p:grpSpPr>
        <p:sp>
          <p:nvSpPr>
            <p:cNvPr id="74" name=""/>
            <p:cNvSpPr/>
            <p:nvPr/>
          </p:nvSpPr>
          <p:spPr>
            <a:xfrm>
              <a:off x="72000" y="6400800"/>
              <a:ext cx="41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ower Architectures for Lunar Resourc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51840" y="6324480"/>
              <a:ext cx="18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gary.rod</a:t>
              </a:r>
              <a:r>
                <a:rPr b="0" lang="en-US" sz="1200" spc="-1" strike="noStrike">
                  <a:solidFill>
                    <a:srgbClr val="3399ff"/>
                  </a:solidFill>
                  <a:latin typeface="Arial"/>
                </a:rPr>
                <a:t>@</a:t>
              </a: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sys</a:t>
              </a:r>
              <a:r>
                <a:rPr b="0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RAND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cro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6324480"/>
            <a:ext cx="9144000" cy="352800"/>
            <a:chOff x="0" y="6324480"/>
            <a:chExt cx="9144000" cy="352800"/>
          </a:xfrm>
        </p:grpSpPr>
        <p:sp>
          <p:nvSpPr>
            <p:cNvPr id="80" name=""/>
            <p:cNvSpPr/>
            <p:nvPr/>
          </p:nvSpPr>
          <p:spPr>
            <a:xfrm>
              <a:off x="72000" y="6400800"/>
              <a:ext cx="41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ower Architectures for Lunar Resourc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51840" y="6324480"/>
              <a:ext cx="18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gary.rod</a:t>
              </a:r>
              <a:r>
                <a:rPr b="0" lang="en-US" sz="1200" spc="-1" strike="noStrike">
                  <a:solidFill>
                    <a:srgbClr val="3399ff"/>
                  </a:solidFill>
                  <a:latin typeface="Arial"/>
                </a:rPr>
                <a:t>@</a:t>
              </a: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sys</a:t>
              </a:r>
              <a:r>
                <a:rPr b="0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RAND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864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wer Cond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generative Ca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6324480"/>
            <a:ext cx="9144000" cy="352800"/>
            <a:chOff x="0" y="6324480"/>
            <a:chExt cx="9144000" cy="352800"/>
          </a:xfrm>
        </p:grpSpPr>
        <p:sp>
          <p:nvSpPr>
            <p:cNvPr id="86" name=""/>
            <p:cNvSpPr/>
            <p:nvPr/>
          </p:nvSpPr>
          <p:spPr>
            <a:xfrm>
              <a:off x="72000" y="6400800"/>
              <a:ext cx="41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ower Architectures for Lunar Resourc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51840" y="6324480"/>
              <a:ext cx="18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gary.rod</a:t>
              </a:r>
              <a:r>
                <a:rPr b="0" lang="en-US" sz="1200" spc="-1" strike="noStrike">
                  <a:solidFill>
                    <a:srgbClr val="3399ff"/>
                  </a:solidFill>
                  <a:latin typeface="Arial"/>
                </a:rPr>
                <a:t>@</a:t>
              </a:r>
              <a:r>
                <a:rPr b="0" i="1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sys</a:t>
              </a:r>
              <a:r>
                <a:rPr b="0" lang="en-US" sz="1200" spc="-1" strike="noStrike" u="sng">
                  <a:solidFill>
                    <a:srgbClr val="3399ff"/>
                  </a:solidFill>
                  <a:uFillTx/>
                  <a:latin typeface="Arial"/>
                </a:rPr>
                <a:t>RAND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1:38:43Z</dcterms:created>
  <dc:creator>Gary Rodriguez</dc:creator>
  <dc:description/>
  <dc:language>en-US</dc:language>
  <cp:lastModifiedBy>jenn</cp:lastModifiedBy>
  <dcterms:modified xsi:type="dcterms:W3CDTF">2004-02-02T23:02:37Z</dcterms:modified>
  <cp:revision>9</cp:revision>
  <dc:subject/>
  <dc:title>Power Architectures for Lunar Resource Development</dc:title>
</cp:coreProperties>
</file>