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2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37.png" ContentType="image/png"/>
  <Override PartName="/ppt/media/image20.jpeg" ContentType="image/jpeg"/>
  <Override PartName="/ppt/media/image12.png" ContentType="image/png"/>
  <Override PartName="/ppt/media/image3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264-1B13-41D5-808D-8505DFDE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36480" y="4273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503-0EB2-468F-A591-EF0DF8D8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9160" y="194616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6480" y="4273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9160" y="4273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8AC-1ED6-49BE-A746-D3190885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4480" y="194616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120" y="194616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6480" y="4273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4480" y="4273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120" y="4273200"/>
            <a:ext cx="25023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452-90B9-4774-AA5D-6720008C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36480" y="19461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E1D-214C-4C41-B9CE-8C2D5FEA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23A-319B-4DBF-B822-248AF4F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9160" y="194616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40C-9B3D-46E7-8049-0AAC37F0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18F-6C6C-4086-8A96-F594F593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4920" y="0"/>
            <a:ext cx="729792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E37-2F3B-4D8C-93B3-2B9F82AB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160" y="194616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80" y="4273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264-DAEF-4CAE-BD3C-7E7D1A88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3792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160" y="194616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9160" y="427320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346-B218-4BA5-ADB7-F94FE0D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6480" y="194616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160" y="1946160"/>
            <a:ext cx="37926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6480" y="4273200"/>
            <a:ext cx="777240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CC1-8C0D-4CE9-A44C-81BF8AC6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A88-7F4A-4089-87AE-7D35197B4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36480" y="19461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1825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1292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556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5564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5564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4400" y="6683400"/>
            <a:ext cx="27547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. Sanders, (281) 483-9066, gerald.b.sanders1@jsc.nasa.go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2640" y="652320"/>
            <a:ext cx="815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nasalogo" descr=""/>
          <p:cNvPicPr/>
          <p:nvPr/>
        </p:nvPicPr>
        <p:blipFill>
          <a:blip r:embed="rId2"/>
          <a:stretch/>
        </p:blipFill>
        <p:spPr>
          <a:xfrm>
            <a:off x="0" y="0"/>
            <a:ext cx="835200" cy="800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7565040" y="658800"/>
            <a:ext cx="14259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JSC-Energy Systems Divis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png"/><Relationship Id="rId3" Type="http://schemas.openxmlformats.org/officeDocument/2006/relationships/image" Target="../media/image16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png"/><Relationship Id="rId19" Type="http://schemas.openxmlformats.org/officeDocument/2006/relationships/image" Target="../media/image36.jpeg"/><Relationship Id="rId20" Type="http://schemas.openxmlformats.org/officeDocument/2006/relationships/image" Target="../media/image19.jpeg"/><Relationship Id="rId21" Type="http://schemas.openxmlformats.org/officeDocument/2006/relationships/image" Target="../media/image9.jpeg"/><Relationship Id="rId22" Type="http://schemas.openxmlformats.org/officeDocument/2006/relationships/image" Target="../media/image23.png"/><Relationship Id="rId2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2520" y="484200"/>
            <a:ext cx="8207280" cy="21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velopment of a Surface Exploration Infrastructure Based on Common Technologies &amp; ISRU Consumable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5187600"/>
            <a:ext cx="409428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4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ry Sa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ef, Propulsion &amp; Fluid Systems Bra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Systems Division/JSC/E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81) 483-90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4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ald.b.sanders@nasa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0760" y="2643120"/>
            <a:ext cx="48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ct. 28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08880" y="5251320"/>
            <a:ext cx="208440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27600" y="5229360"/>
            <a:ext cx="1784160" cy="147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543800" y="3535200"/>
            <a:ext cx="1150920" cy="173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24360" y="3537000"/>
            <a:ext cx="27241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OUT (Cont.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960" y="851040"/>
            <a:ext cx="849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9080" indent="-17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Yearly Integrated Tests and Field Test articl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03: Subsystem &amp; Ops Test Unit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920880" indent="-22860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ify Apollo Lunar Rover with PEM fuel cell power plant (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aseous storag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920880" indent="-22860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fuel reformer, cryogenic storage and navigation system desig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920880" indent="-22860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Factors Testbed (HF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920880" indent="-22860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bed for automation, communications, sensors, and control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04: SCOUT Engineering Unit (EU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920880" indent="-22860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e 1st iteration on motion system and crew/payload accommod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920880" indent="-228600">
              <a:lnSpc>
                <a:spcPct val="90000"/>
              </a:lnSpc>
              <a:spcBef>
                <a:spcPts val="26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rporate and demonstrate additional subsystems not demonstrated in first y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05: 1st Gen SCOUT Unit tested at year’s end field tr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ly tested at Meteor Crater, Arizona in Sept.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plant operated successfully but needs to be more dur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environment much more severe than at JSC “Mars yar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ts of lessons learned (hardware &amp; operations) to be used in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COUT un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jsc2003e57386" descr=""/>
          <p:cNvPicPr/>
          <p:nvPr/>
        </p:nvPicPr>
        <p:blipFill>
          <a:blip r:embed="rId1"/>
          <a:stretch/>
        </p:blipFill>
        <p:spPr>
          <a:xfrm>
            <a:off x="814320" y="5319720"/>
            <a:ext cx="1789200" cy="1185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39960" y="5307120"/>
            <a:ext cx="1820880" cy="120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76760" y="5310360"/>
            <a:ext cx="1809720" cy="120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rcRect l="0" t="0" r="1528" b="0"/>
          <a:stretch/>
        </p:blipFill>
        <p:spPr>
          <a:xfrm>
            <a:off x="6626160" y="5303880"/>
            <a:ext cx="15778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0" r="1528" b="0"/>
          <a:stretch/>
        </p:blipFill>
        <p:spPr>
          <a:xfrm>
            <a:off x="5011560" y="5307120"/>
            <a:ext cx="811440" cy="623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158240" cy="5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otential Interoperability &amp; Evolution of Surface Infrastructure Technologies &amp; Capabilities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484280" y="1411200"/>
            <a:ext cx="576360" cy="615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989000" y="1601640"/>
            <a:ext cx="684360" cy="614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V="1">
            <a:off x="1028880" y="1650960"/>
            <a:ext cx="26352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76040" y="1413000"/>
            <a:ext cx="784440" cy="612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20760" y="1054080"/>
            <a:ext cx="47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 Assistant 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440" y="3457440"/>
            <a:ext cx="47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 Suit P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760" y="4959360"/>
            <a:ext cx="47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UT R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2025720"/>
            <a:ext cx="147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ou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75360" y="2031840"/>
            <a:ext cx="1073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Liquid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97560" y="2025720"/>
            <a:ext cx="147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4120" y="4373640"/>
            <a:ext cx="2031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ou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Liquid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127320" y="1644120"/>
            <a:ext cx="82728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161040" y="1650960"/>
            <a:ext cx="438120" cy="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09680" y="2238480"/>
            <a:ext cx="195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Demonstration in Arizona Sept., ‘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873840" y="1425600"/>
            <a:ext cx="360360" cy="60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2865600" y="3782880"/>
            <a:ext cx="436320" cy="609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13160" y="4114800"/>
            <a:ext cx="438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8263080" y="3790800"/>
            <a:ext cx="696600" cy="613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8318520" y="1246320"/>
            <a:ext cx="623880" cy="623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721640" y="1415880"/>
            <a:ext cx="449280" cy="44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29560" y="3836880"/>
            <a:ext cx="449280" cy="44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37480" y="5392800"/>
            <a:ext cx="449280" cy="44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3320" y="4398840"/>
            <a:ext cx="147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03840" y="5929200"/>
            <a:ext cx="1479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426360" y="4116240"/>
            <a:ext cx="438120" cy="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53000" y="4373640"/>
            <a:ext cx="1596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3920" y="18288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ar Polar Explor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143920" y="584208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Range R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86760" y="4384800"/>
            <a:ext cx="9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Rich E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396" descr=""/>
          <p:cNvPicPr/>
          <p:nvPr/>
        </p:nvPicPr>
        <p:blipFill>
          <a:blip r:embed="rId9"/>
          <a:stretch/>
        </p:blipFill>
        <p:spPr>
          <a:xfrm>
            <a:off x="2006640" y="3768840"/>
            <a:ext cx="749160" cy="628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4025880" y="3736800"/>
            <a:ext cx="306360" cy="6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7085160" y="3782880"/>
            <a:ext cx="444240" cy="615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4421160" y="3765600"/>
            <a:ext cx="652320" cy="627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7113600" y="5343480"/>
            <a:ext cx="342720" cy="617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262400" y="5935680"/>
            <a:ext cx="1262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ou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Liquid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75160" y="5609880"/>
            <a:ext cx="799920" cy="3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61240" y="5592600"/>
            <a:ext cx="825480" cy="3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4443480" y="5342040"/>
            <a:ext cx="541440" cy="604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017800" y="5916600"/>
            <a:ext cx="16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1st Demonstration   in Arizona Sept., ‘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283520" y="4713120"/>
            <a:ext cx="1440" cy="56376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89280" y="3114720"/>
            <a:ext cx="1420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ou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11280" y="3133800"/>
            <a:ext cx="481320" cy="474480"/>
          </a:xfrm>
          <a:prstGeom prst="line">
            <a:avLst/>
          </a:prstGeom>
          <a:ln w="57240">
            <a:solidFill>
              <a:srgbClr val="0033cc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2597040"/>
            <a:ext cx="449280" cy="44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5"/>
          <a:stretch/>
        </p:blipFill>
        <p:spPr>
          <a:xfrm>
            <a:off x="8337600" y="2360520"/>
            <a:ext cx="600120" cy="619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186760" y="2965320"/>
            <a:ext cx="95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otic Colo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Im000906" descr=""/>
          <p:cNvPicPr/>
          <p:nvPr/>
        </p:nvPicPr>
        <p:blipFill>
          <a:blip r:embed="rId16"/>
          <a:stretch/>
        </p:blipFill>
        <p:spPr>
          <a:xfrm>
            <a:off x="3116160" y="2540160"/>
            <a:ext cx="416160" cy="62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7"/>
          <a:stretch/>
        </p:blipFill>
        <p:spPr>
          <a:xfrm>
            <a:off x="5487840" y="1413000"/>
            <a:ext cx="390600" cy="62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18"/>
          <a:stretch/>
        </p:blipFill>
        <p:spPr>
          <a:xfrm>
            <a:off x="4037040" y="1405080"/>
            <a:ext cx="419040" cy="623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745080" y="2027160"/>
            <a:ext cx="1073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Air, Ga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791240" y="1643040"/>
            <a:ext cx="438120" cy="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89720" y="4362480"/>
            <a:ext cx="1073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 Liquid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9"/>
          <a:stretch/>
        </p:blipFill>
        <p:spPr>
          <a:xfrm>
            <a:off x="5902200" y="3743280"/>
            <a:ext cx="390600" cy="62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2" name=""/>
          <p:cNvSpPr/>
          <p:nvPr/>
        </p:nvSpPr>
        <p:spPr>
          <a:xfrm flipV="1">
            <a:off x="5243400" y="4122720"/>
            <a:ext cx="438120" cy="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5879880" y="2692440"/>
            <a:ext cx="228600" cy="882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227480" y="2569680"/>
            <a:ext cx="317520" cy="1071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076480" y="5607000"/>
            <a:ext cx="26352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0040" y="5603760"/>
            <a:ext cx="69552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57040" y="2317680"/>
            <a:ext cx="0" cy="331488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4920" y="4861080"/>
            <a:ext cx="141480" cy="4204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7062480" y="2684520"/>
            <a:ext cx="228600" cy="88272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jsc2003e57386" descr=""/>
          <p:cNvPicPr/>
          <p:nvPr/>
        </p:nvPicPr>
        <p:blipFill>
          <a:blip r:embed="rId20"/>
          <a:stretch/>
        </p:blipFill>
        <p:spPr>
          <a:xfrm>
            <a:off x="2428920" y="5332320"/>
            <a:ext cx="946080" cy="627120"/>
          </a:xfrm>
          <a:prstGeom prst="rect">
            <a:avLst/>
          </a:prstGeom>
          <a:ln w="0">
            <a:noFill/>
          </a:ln>
        </p:spPr>
      </p:pic>
      <p:pic>
        <p:nvPicPr>
          <p:cNvPr id="211" name="MnDrill_TopDown.3k" descr=""/>
          <p:cNvPicPr/>
          <p:nvPr/>
        </p:nvPicPr>
        <p:blipFill>
          <a:blip r:embed="rId21"/>
          <a:stretch/>
        </p:blipFill>
        <p:spPr>
          <a:xfrm>
            <a:off x="8271000" y="5440320"/>
            <a:ext cx="698400" cy="3920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2"/>
          <a:stretch/>
        </p:blipFill>
        <p:spPr>
          <a:xfrm>
            <a:off x="976320" y="5337000"/>
            <a:ext cx="784080" cy="613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71680" y="5924520"/>
            <a:ext cx="147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Battery – FC Gaseous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SA Vision &amp; Mission &amp; Exploration Overview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3920" y="858960"/>
            <a:ext cx="847080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ASA’s Vision is to “ …improve life here, extend life to there, and find life beyond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ASA’s Mission is to “…understand and protect our home planet, explore the Universe and search for life, and inspire the next generation of explorers … as only NASA ca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75160" y="2960640"/>
            <a:ext cx="4392720" cy="2311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2462040"/>
            <a:ext cx="4176720" cy="26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ploration Overview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s ar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ience-driv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no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stination-driv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ive expansion of robotic and human exploration from Earth Orbit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Neighborhood (Moon &amp; Earth-Moon Lagrange Poin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n-Earth Lagrange Po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able &amp; Sustainable Planetary Surface Explor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uter Plan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yo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1840" y="5699160"/>
            <a:ext cx="84708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o Meet NASA’s Mission and to meet the challenge “to explore the universe and search for life” robotic and human exploration must b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ffordabl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Beneficia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a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4880" y="-360"/>
            <a:ext cx="7788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ttributes of an Exploration Infrastructure that Utilizes Common Technologies and ISRU Consumables </a:t>
            </a:r>
            <a:endParaRPr b="1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4720" y="5715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botic, Beyond Pla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879480"/>
            <a:ext cx="84866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fford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s use of common hardware in multiple applications and at multiple destinations of interest (mission not destination drive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s development and recurring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s modularity that can reduce logistics of spare par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. EVA fuel cell uses one FC module, EVA robotic rover uses 3 FC modules, and human rover uses 10 FC modu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izes Earth launch mass &amp; co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izes reusa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enefi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s or enables new missions and science by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mission durations beyond Earth-supplied consum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ing surface mobility and number of sites of expl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ing delivered payload for same size Earth launch vehicle or lan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functional backup to life support system and can increase radiation prot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s dependence on Earth supplied products (especially for long trip tim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options in event of problems or fail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ar hardware enables scavenging of replacements for failed hardware in emerge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consumables enables crew to scavenge oxygen and fuel from rovers to extend mission or overcome power or life support fail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55496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rface Exploration Based On ISRU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360" y="973080"/>
            <a:ext cx="8513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/Robotic missions to the surface of the Moon and Mars will requi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le-robotic rovers and aerial vehicles for science, site reconnaissance, and potentially hazardous oper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tonomous and tele-robotic rovers for planetary resource excavation, transport, and process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wer-rich Extra-Vehicular Activity (EVA) suits for lights, tools, computers, communication,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A assistant rovers for site expl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man transport rovers and propulsive hoppers for mid and long distance explo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y cache of critical life support consumables for habitat and spacecra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able cache for EVA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ed radiation protection (long-dur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RU can provide the following mission critical consumables &amp; materia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pellants for propuls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(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/Fuel for landers, hoppers, and aerial vehicl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&amp; 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/hydrogen (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for cargo transportation vehicles and space s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agents for fuel cell power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fe support consumables (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water) for habitats, airlocks, and E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ases for science equipment (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Ar,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He, etc.) and dril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tra radiation shielding from regolith or in-situ water resour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09800" y="4402080"/>
            <a:ext cx="915840" cy="93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5080" y="1498680"/>
            <a:ext cx="1212840" cy="942840"/>
          </a:xfrm>
          <a:prstGeom prst="rect">
            <a:avLst/>
          </a:prstGeom>
          <a:ln w="0">
            <a:noFill/>
          </a:ln>
        </p:spPr>
      </p:pic>
      <p:pic>
        <p:nvPicPr>
          <p:cNvPr id="64" name="MnDrill_TopDown.3k" descr=""/>
          <p:cNvPicPr/>
          <p:nvPr/>
        </p:nvPicPr>
        <p:blipFill>
          <a:blip r:embed="rId3"/>
          <a:stretch/>
        </p:blipFill>
        <p:spPr>
          <a:xfrm>
            <a:off x="3086280" y="4400640"/>
            <a:ext cx="1687320" cy="949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429160" y="4405320"/>
            <a:ext cx="1322640" cy="949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905040"/>
            <a:ext cx="260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otic Precursors &amp; Tele-robotic Sci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6920" y="3803760"/>
            <a:ext cx="26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 Astronaut w/ Robotic Assi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74840" y="3801960"/>
            <a:ext cx="365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 Astronauts w/ Pressurized or Un-Pressurized Rov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22680" y="5408640"/>
            <a:ext cx="2309760" cy="12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rips from habit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o 10 h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start/stops for sci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pply EVA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FC reactants from Rover to extend EVA or emergenc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79880" y="5402160"/>
            <a:ext cx="223380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rips from habit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to 5 d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’s only for pre-screened scie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ver stores EVA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power consumables – recharged before each E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1520" y="2540160"/>
            <a:ext cx="3038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rips from habitat or la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start/stops for sci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er or habitat resupplies Fuel Cell (FC) reactants when rover returns with sampl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rface Exploration Infrastructure Concep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1520" y="5411880"/>
            <a:ext cx="25909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trips (4 to 10 h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ver carries equipment &amp; supplies p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pply EVA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amp; FC reactants from Rover to extend EVA or emergenc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24400" y="871560"/>
            <a:ext cx="5378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Modular hardware &amp; common consumables for reduced logistics, and increase flexibility, &amp; 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ISRU plant on Lander or Habitat produces consumables for EVA and rover life support &amp; power initial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Infrastructure is easily expandable from simple robotic lander and rover to full human pres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02160" y="938160"/>
            <a:ext cx="207720" cy="2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02160" y="1897200"/>
            <a:ext cx="207720" cy="20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02160" y="2868480"/>
            <a:ext cx="207720" cy="2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3520" y="3905280"/>
            <a:ext cx="21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91440" y="5407200"/>
            <a:ext cx="18525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RU plant on Habitat Lan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-1144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llant tanks used for FC reactant &amp; ELCSS backup stora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w Lander reused with ISRU Propell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342200" y="4402080"/>
            <a:ext cx="15112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5116320" y="4791240"/>
            <a:ext cx="1538280" cy="183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23080" y="4705200"/>
            <a:ext cx="17784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32600" y="4692600"/>
            <a:ext cx="17136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543280" y="2987640"/>
            <a:ext cx="850680" cy="662040"/>
          </a:xfrm>
          <a:prstGeom prst="line">
            <a:avLst/>
          </a:prstGeom>
          <a:ln w="572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10120" y="3137040"/>
            <a:ext cx="1969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246280" y="1677960"/>
            <a:ext cx="927000" cy="765360"/>
          </a:xfrm>
          <a:prstGeom prst="line">
            <a:avLst/>
          </a:prstGeom>
          <a:ln w="5724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626000">
            <a:off x="5489640" y="2158920"/>
            <a:ext cx="114120" cy="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4560" y="0"/>
            <a:ext cx="82090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mon Technologies Enable Multiple Application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831960"/>
            <a:ext cx="221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rfac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2640" y="825480"/>
            <a:ext cx="2317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b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88240" y="824040"/>
            <a:ext cx="19954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re Technolog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78040" y="2173320"/>
            <a:ext cx="572760" cy="585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87320" y="1160640"/>
            <a:ext cx="746280" cy="579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41240" y="3143160"/>
            <a:ext cx="808200" cy="579600"/>
          </a:xfrm>
          <a:prstGeom prst="rect">
            <a:avLst/>
          </a:prstGeom>
          <a:ln w="0">
            <a:noFill/>
          </a:ln>
        </p:spPr>
      </p:pic>
      <p:pic>
        <p:nvPicPr>
          <p:cNvPr id="95" name="C:\WINDOWS\Desktop\lunarlander.tif" descr=""/>
          <p:cNvPicPr/>
          <p:nvPr/>
        </p:nvPicPr>
        <p:blipFill>
          <a:blip r:embed="rId4"/>
          <a:stretch/>
        </p:blipFill>
        <p:spPr>
          <a:xfrm>
            <a:off x="700200" y="6004080"/>
            <a:ext cx="928440" cy="517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1880" y="4146480"/>
            <a:ext cx="873000" cy="57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3040" y="1719360"/>
            <a:ext cx="20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botic Precursors &amp; Tele-robotic Scie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3040" y="2711520"/>
            <a:ext cx="20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 Astronaut w/ Robotic Assista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22760"/>
            <a:ext cx="215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 Astronauts w/ Pressurized or Un-Pressurized Rov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6440" y="468792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520" y="6492960"/>
            <a:ext cx="20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d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54560" y="1287360"/>
            <a:ext cx="218268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Fuel Cell Pow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99"/>
                </a:solidFill>
                <a:latin typeface="Arial"/>
              </a:rPr>
              <a:t>Open-Loop Lif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osed-Loop Lif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sumable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O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-Based Propul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09480" y="4970520"/>
            <a:ext cx="568440" cy="58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1278000" y="4975200"/>
            <a:ext cx="50328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3080" y="5535720"/>
            <a:ext cx="166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-Situ Production Of Consumab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93000" y="1415880"/>
            <a:ext cx="2151000" cy="51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quisition &amp; Sepa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batier Rea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WGS Rea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ectro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ane Refor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Sepa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lectro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Stor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 Exchang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 Vaporiz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Fuel Storag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(0-g &amp; reduced-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eed &amp; Transfer Li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Fuel Coupling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Cel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Fuel Igniters &amp; Thrus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5000" y="1519200"/>
            <a:ext cx="130320" cy="3959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8280" y="2732040"/>
            <a:ext cx="130320" cy="299088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81720" y="1519200"/>
            <a:ext cx="131760" cy="26798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34240" y="4335480"/>
            <a:ext cx="129960" cy="11350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1517760"/>
            <a:ext cx="130320" cy="26820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34240" y="5807160"/>
            <a:ext cx="129960" cy="331560"/>
          </a:xfrm>
          <a:prstGeom prst="rect">
            <a:avLst/>
          </a:pr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508200"/>
            <a:ext cx="130320" cy="196884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217840" y="1511280"/>
            <a:ext cx="765000" cy="1609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00480" y="5958000"/>
            <a:ext cx="1756080" cy="201600"/>
          </a:xfrm>
          <a:prstGeom prst="line">
            <a:avLst/>
          </a:prstGeom>
          <a:ln w="57240">
            <a:solidFill>
              <a:srgbClr val="00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11480" y="1092240"/>
            <a:ext cx="129960" cy="360216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938920"/>
            <a:ext cx="130320" cy="706320"/>
          </a:xfrm>
          <a:prstGeom prst="rect">
            <a:avLst/>
          </a:prstGeom>
          <a:solidFill>
            <a:srgbClr val="3333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49440" y="2166840"/>
            <a:ext cx="139680" cy="17827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9440" y="5946840"/>
            <a:ext cx="139680" cy="69696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2840" y="4025880"/>
            <a:ext cx="131760" cy="798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9640" y="4986360"/>
            <a:ext cx="130320" cy="70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90680" y="1474560"/>
            <a:ext cx="107964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2000" y="2408400"/>
            <a:ext cx="904680" cy="12600"/>
          </a:xfrm>
          <a:prstGeom prst="line">
            <a:avLst/>
          </a:prstGeom>
          <a:ln w="5724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736720" y="3814560"/>
            <a:ext cx="648000" cy="55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965320" y="4987800"/>
            <a:ext cx="455760" cy="285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8640" y="5942160"/>
            <a:ext cx="130320" cy="701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186000" y="6140520"/>
            <a:ext cx="231840" cy="7920"/>
          </a:xfrm>
          <a:prstGeom prst="line">
            <a:avLst/>
          </a:prstGeom>
          <a:ln w="57240">
            <a:solidFill>
              <a:srgbClr val="00cc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velopment of Surface Infrastructure Concep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851040"/>
            <a:ext cx="849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 feasibility of Surface Exploration Infrastructure concep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mobile power system capable of delivering high peak power and high total energy for long duration operations over a wide range of environmental condi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capability in simulated mission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“power rich” environment for sci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 experience with near-term technologies to assess interoperability with power, propulsion, and life support systems and direct future technology development activ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nd demonstrate prototypes of design that can be used as basis for future partnerships or NRA solici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31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pro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initial applications with modest mass, volume, and integration limi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evolvable testbed for technology and operations development and demonst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-a-little, test-a-l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e technologies and surface infrastructure assets with experi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e project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development of Robotic/Human Intera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existing-but-separate JSC activities into a common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young engineers with hands-on experience in systems and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2979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RU Hydrogen/Oxygen Power Plant (IHOPP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960" y="851040"/>
            <a:ext cx="849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and characterize the feasibility of powering an EVA Assistant Rover with a fuel cell (FC) using ISRU-producible reacta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qui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existing battery power system with more capable F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Cells &amp; 3 High Pressure Tanks (1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0 W @ 24 V, 1600 W @20 V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Densit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76 kW*hr;  139W*hr/k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ation:           13.5 hours @ 600 W ave. pow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elope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8” L, 30” W, 24”) H  (approx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s (wet):       63 kg (139 lbm)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&amp; demonstr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fuel cell power system in 3 Ph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1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RU Hydrogen/Oxygen Power Plant (IHOPP)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2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RU Methane/Oxygen Power Plant (IMOP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3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RU Cryogenic Methane/Oxygen Power Pla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CMOPP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ly tested at Meteor Crater, Arizona in Sept.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49840" y="5376960"/>
            <a:ext cx="1150920" cy="103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401840" y="5388120"/>
            <a:ext cx="969840" cy="1035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352680" y="5388120"/>
            <a:ext cx="1292400" cy="102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H="1">
            <a:off x="2552400" y="585792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16440" y="585792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90840" y="6489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HO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78480" y="6489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 EVA R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3400" y="6489720"/>
            <a:ext cx="16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 EVA R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803448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cience, Crew, Operations &amp; Utility Testbed (SCOUT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960" y="851040"/>
            <a:ext cx="849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89080" indent="-17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initial applications with modest mass, volume, and integration limi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evolvable testbed for technology and operations development and demonst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e technologies and surface infrastructure assets with experien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quirements/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modating 2 person suited crew (600 lbm to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ingress/egress of crew and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ual, teleoperation, and autonomous control &amp;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over rough terrain and long dista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lope (3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ars equivalent), 1 ft tall roc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um 6 mile round trip, goal 60 miles ma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6 mile round trip (FY05 goal 60 mi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y and/or tow paylo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ing up to 400 lbm (in addition to cre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ing payload trailer of up to 500 lb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KW PEM fuel cell power pl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power and consumables for crew and science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power and/or consumables to crew while in trans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 power to science equipment while in transit (TBD W) and at rest (TBD 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08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non-line of sight communication and navigation from 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7800" indent="-17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5:50:53Z</dcterms:created>
  <dc:creator>gsanders</dc:creator>
  <dc:description/>
  <dc:language>en-US</dc:language>
  <cp:lastModifiedBy>jenn</cp:lastModifiedBy>
  <dcterms:modified xsi:type="dcterms:W3CDTF">2004-02-02T23:03:41Z</dcterms:modified>
  <cp:revision>225</cp:revision>
  <dc:subject/>
  <dc:title>PowerPoint Presentation</dc:title>
</cp:coreProperties>
</file>