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258-D61A-4948-A1AC-5801D688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Themes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the high level rationale for exploring the M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a framework for capturing the many objectives across multiple discipl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ded into two types –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ore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rosscut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ore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themes address the primary reasons for  conducting activities on the M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rosscutting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themes address ways to maximize the benefit of the core them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 THE MO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duce risks and cost and increase productivity of future missions by testing technologies, systems, and operations in a planetary environment other than the Ear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RSUE SCIENTIFIC:  Engage in scientific investigations Of the Moon (solar system processes), On the Moon (use the unique environment), and From the Moon (to study other celestial phenomen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ND PERMANENT HUMAN PRESENCE:  Develop the capabilities and infrastructure required to expand the number of people, the duration, the self-sufficiency, and the degree of non-governmental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PAND EARTH’S ECONOMIC SPHERE:  Create new markets based on lunar and cis-lunar activity that will return economic, technological, and quality-of-life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HANCE GLOBAL SECURTIY:  Provide a challenging, shared, and peaceful global vision that unites nations in pursuit of common objecti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GAGE, INSPIRE:  Excite the public about space, encourage students to pursue careers in high technology fields, ensure that individuals enter the workforce with the scientific and technical knowledge necessary to sustain expl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7B8-C042-4E81-8197-DABFAA62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800604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7800" y="3709440"/>
            <a:ext cx="800604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5AF-0AFD-4758-84C8-8C9BF2EB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7036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7800" y="370944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70360" y="370944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35E-AB36-4E15-B1B5-FD59798D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4640" y="106668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06668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67800" y="370944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4640" y="370944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709440"/>
            <a:ext cx="25776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C39-BD04-43E8-91B6-4B985E86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67800" y="1066680"/>
            <a:ext cx="80060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D4F-40B4-486B-98CF-91DB9C41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80060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62D-62E8-499D-8224-FE1B0C4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39067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0360" y="1066680"/>
            <a:ext cx="39067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DAE-8279-4443-B985-60310EA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82F-0531-4B43-8A05-6D90D17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28280" y="204480"/>
            <a:ext cx="742788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346-091C-4101-A0F7-8B343309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0360" y="1066680"/>
            <a:ext cx="39067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7800" y="370944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991-52BA-4E5C-8C6C-9EBF8F1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39067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036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0360" y="370944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A9D-7350-416F-95C9-83A9178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0360" y="1066680"/>
            <a:ext cx="3906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7800" y="3709440"/>
            <a:ext cx="800604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E07-3D6B-441A-9A21-22DCC5E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8830440" y="6637320"/>
            <a:ext cx="306360" cy="239760"/>
          </a:xfrm>
          <a:prstGeom prst="flowChartDelay">
            <a:avLst/>
          </a:prstGeom>
          <a:solidFill>
            <a:srgbClr val="33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7800" y="1066680"/>
            <a:ext cx="80060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600" y="6619680"/>
            <a:ext cx="91440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8120" y="187200"/>
            <a:ext cx="7885080" cy="462240"/>
          </a:xfrm>
          <a:custGeom>
            <a:avLst/>
            <a:gdLst/>
            <a:ahLst/>
            <a:rect l="l" t="t" r="r" b="b"/>
            <a:pathLst>
              <a:path w="957" h="203">
                <a:moveTo>
                  <a:pt x="0" y="200"/>
                </a:moveTo>
                <a:lnTo>
                  <a:pt x="0" y="0"/>
                </a:lnTo>
                <a:lnTo>
                  <a:pt x="957" y="1"/>
                </a:lnTo>
                <a:lnTo>
                  <a:pt x="957" y="20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649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594640" y="406440"/>
            <a:ext cx="3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8912160" y="32976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0" y="648360"/>
            <a:ext cx="9150480" cy="42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6480" y="12600"/>
            <a:ext cx="761760" cy="6494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932160" y="63576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5D5-079C-4093-904E-B2025DD9A4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228760" y="1219320"/>
            <a:ext cx="539136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oad Ahead for NAS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nar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David J. Atkinson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SA H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uty Program Executive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ar Precursor and Robotic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esented to Space Resources Roundtable, Golden, Colorado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31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600" y="133200"/>
            <a:ext cx="1354320" cy="1154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00800" y="571500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.j.atkinson@nas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-you for the Invitation.    Why Am I He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80060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b21818"/>
                </a:solidFill>
                <a:latin typeface="Arial"/>
              </a:rPr>
              <a:t>Effective use of in-situ resources is becoming a keystone of future human explor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ablish Contact and Relationshi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an Update on the Planning fo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on for Space Exploratio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isten, Listen,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77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Plan: Exploration Strate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4960" y="838080"/>
            <a:ext cx="5329080" cy="54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sustained human presence to the moon to enable eventual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Earth’s economic sphere to encompass the Moon and pursue lunar activities with direct benefits to lif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oon to prepare for future human and robotic missions to Mars and other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e scientific activities to address fundamental questions about the solar system, the universe, and our place i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existing and create new glob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, inspire, and educate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9847" t="24236" r="2404" b="5055"/>
          <a:stretch/>
        </p:blipFill>
        <p:spPr>
          <a:xfrm>
            <a:off x="380880" y="838080"/>
            <a:ext cx="1576440" cy="12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43040" y="1709640"/>
            <a:ext cx="163656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2324160" cy="14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082520" y="4038480"/>
            <a:ext cx="2197080" cy="123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17520" y="5305320"/>
            <a:ext cx="2373120" cy="11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429000" y="838080"/>
            <a:ext cx="228600" cy="381240"/>
          </a:xfrm>
          <a:prstGeom prst="flowChartExtra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1676520"/>
            <a:ext cx="228600" cy="380880"/>
          </a:xfrm>
          <a:prstGeom prst="flowChartExtra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64840" y="6324480"/>
            <a:ext cx="43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21818"/>
                </a:solidFill>
                <a:latin typeface="Times New Roman"/>
              </a:rPr>
              <a:t>Taken from the Congressional Approp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52880" y="3035160"/>
            <a:ext cx="1587600" cy="381240"/>
          </a:xfrm>
          <a:prstGeom prst="rightArrow">
            <a:avLst>
              <a:gd name="adj1" fmla="val 50000"/>
              <a:gd name="adj2" fmla="val 1041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2164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There: Exploration Roadm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976320"/>
            <a:ext cx="8686800" cy="5705280"/>
            <a:chOff x="228600" y="976320"/>
            <a:chExt cx="8686800" cy="5705280"/>
          </a:xfrm>
        </p:grpSpPr>
        <p:sp>
          <p:nvSpPr>
            <p:cNvPr id="76" name=""/>
            <p:cNvSpPr/>
            <p:nvPr/>
          </p:nvSpPr>
          <p:spPr>
            <a:xfrm>
              <a:off x="6667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248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7784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9076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33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624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7360" y="982800"/>
              <a:ext cx="0" cy="569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99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5284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540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89440" y="976320"/>
              <a:ext cx="0" cy="569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0236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49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2784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040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1520" y="976320"/>
              <a:ext cx="0" cy="569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6444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7700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899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78320" y="976320"/>
              <a:ext cx="0" cy="569880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8600" y="985680"/>
              <a:ext cx="8686800" cy="5678640"/>
              <a:chOff x="228600" y="985680"/>
              <a:chExt cx="8686800" cy="5678640"/>
            </a:xfrm>
          </p:grpSpPr>
          <p:sp>
            <p:nvSpPr>
              <p:cNvPr id="97" name=""/>
              <p:cNvSpPr/>
              <p:nvPr/>
            </p:nvSpPr>
            <p:spPr>
              <a:xfrm>
                <a:off x="228600" y="985680"/>
                <a:ext cx="8686800" cy="567864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7960" y="1319040"/>
                <a:ext cx="8666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44440" y="997560"/>
              <a:ext cx="865512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868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124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5416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672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7964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92200" y="1059840"/>
              <a:ext cx="24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0512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1948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2040" y="1059840"/>
              <a:ext cx="24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496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788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044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8336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9592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028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2320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576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4868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6124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7416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88520" y="10598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315200" y="2590920"/>
            <a:ext cx="1828800" cy="333360"/>
          </a:xfrm>
          <a:prstGeom prst="rightArrow">
            <a:avLst>
              <a:gd name="adj1" fmla="val 60000"/>
              <a:gd name="adj2" fmla="val 7047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2000" y="2581200"/>
            <a:ext cx="6276960" cy="314280"/>
          </a:xfrm>
          <a:prstGeom prst="rightArrow">
            <a:avLst>
              <a:gd name="adj1" fmla="val 71426"/>
              <a:gd name="adj2" fmla="val 153030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33600" y="1876320"/>
            <a:ext cx="3219480" cy="333360"/>
          </a:xfrm>
          <a:prstGeom prst="rightArrow">
            <a:avLst>
              <a:gd name="adj1" fmla="val 60000"/>
              <a:gd name="adj2" fmla="val 84236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38840" y="1333440"/>
            <a:ext cx="3276720" cy="381240"/>
          </a:xfrm>
          <a:prstGeom prst="rightArrow">
            <a:avLst>
              <a:gd name="adj1" fmla="val 60000"/>
              <a:gd name="adj2" fmla="val 74967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30600" y="5403960"/>
            <a:ext cx="3147840" cy="19980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unar Lander Development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5716440"/>
            <a:ext cx="3148200" cy="20016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unar Heavy Launch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30600" y="6024600"/>
            <a:ext cx="3147840" cy="20016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arth Departure Stage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0" y="6332400"/>
            <a:ext cx="3681720" cy="22068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rface Systems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114800"/>
            <a:ext cx="3048120" cy="22860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rew Exploration Vehicle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419720"/>
            <a:ext cx="3048120" cy="228600"/>
          </a:xfrm>
          <a:prstGeom prst="rect">
            <a:avLst/>
          </a:prstGeom>
          <a:solidFill>
            <a:srgbClr val="00804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rew Launch Vehicle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124080"/>
            <a:ext cx="4599000" cy="200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mmercial Crew/Cargo for I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657600"/>
            <a:ext cx="2708280" cy="200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pace Shuttle 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5240" y="1374840"/>
            <a:ext cx="24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unar Outpost Build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686480"/>
            <a:ext cx="4267440" cy="1904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EV/CLV Production and Operations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880" y="19051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nar Robotic 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19920"/>
            <a:ext cx="1650960" cy="20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154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2640" y="2590920"/>
            <a:ext cx="20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 Robotic 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680" y="4686480"/>
            <a:ext cx="914400" cy="190440"/>
          </a:xfrm>
          <a:prstGeom prst="rtTriangl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26208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s Expeditio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400800"/>
            <a:ext cx="2819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64008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Specific dates and milestones not yet established. Return to the moon as early as 2018, but not later than 202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1371600"/>
            <a:ext cx="152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6640" y="137304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st Human CEV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1676520"/>
            <a:ext cx="1526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1676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6680" y="1649520"/>
            <a:ext cx="12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th Human Lunar L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48640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48640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54864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5715000"/>
            <a:ext cx="1650960" cy="203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1680" y="544032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rly Desig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2800" y="4591080"/>
            <a:ext cx="1904760" cy="380880"/>
          </a:xfrm>
          <a:prstGeom prst="rightArrow">
            <a:avLst>
              <a:gd name="adj1" fmla="val 50000"/>
              <a:gd name="adj2" fmla="val 12502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951680" y="1709640"/>
            <a:ext cx="11923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42920" y="4044960"/>
            <a:ext cx="182520" cy="2374920"/>
          </a:xfrm>
          <a:prstGeom prst="rect">
            <a:avLst/>
          </a:prstGeom>
          <a:ln w="0">
            <a:noFill/>
          </a:ln>
          <a:effectLst>
            <a:outerShdw dist="26865" dir="3455261" blurRad="0" rotWithShape="0">
              <a:srgbClr val="ffffff"/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3360" y="1719360"/>
            <a:ext cx="900000" cy="642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553080" y="236232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0" y="3081240"/>
            <a:ext cx="606600" cy="804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 rot="1800000">
            <a:off x="3580920" y="3733920"/>
            <a:ext cx="171468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210440" y="5989680"/>
            <a:ext cx="950760" cy="79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5181480" y="4876920"/>
            <a:ext cx="1019160" cy="84924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3657600" y="1676520"/>
            <a:ext cx="747720" cy="736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4038480" y="2895480"/>
            <a:ext cx="1084320" cy="7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6383160" y="3755880"/>
            <a:ext cx="374760" cy="2368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</p:pic>
      <p:sp>
        <p:nvSpPr>
          <p:cNvPr id="165" name=""/>
          <p:cNvSpPr/>
          <p:nvPr/>
        </p:nvSpPr>
        <p:spPr>
          <a:xfrm>
            <a:off x="4140360" y="1359000"/>
            <a:ext cx="139680" cy="190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6160" y="1311120"/>
            <a:ext cx="19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V Contract A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8040" y="1335240"/>
            <a:ext cx="139680" cy="190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5240" y="1300320"/>
            <a:ext cx="0" cy="508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080" y="782640"/>
            <a:ext cx="55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nar Architecture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8006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the “ big picture” architecture, objectives, plans, studies, and reference mission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jumping off point for program and project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 consists of Campaign Team, Focus Element Teams, and various stakeholder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 am a m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ecember roll-out of results-to-da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k in Progres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Focus Element Team devo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-Situ Resource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U is becoming a significant, highly visible component of the overall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1818"/>
                </a:solidFill>
                <a:latin typeface="Arial"/>
              </a:rPr>
              <a:t>The ISRU objectives are major and the schedule is aggressive.  However, if it </a:t>
            </a:r>
            <a:r>
              <a:rPr b="1" i="1" lang="en-US" sz="2400" spc="-1" strike="noStrike">
                <a:solidFill>
                  <a:srgbClr val="b21818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b21818"/>
                </a:solidFill>
                <a:latin typeface="Arial"/>
              </a:rPr>
              <a:t> be accomplished, the benefits are likely to be enor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2164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-Situ Resource Utilization (ISRU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" y="990720"/>
            <a:ext cx="8686800" cy="5704920"/>
            <a:chOff x="228600" y="990720"/>
            <a:chExt cx="8686800" cy="5704920"/>
          </a:xfrm>
        </p:grpSpPr>
        <p:sp>
          <p:nvSpPr>
            <p:cNvPr id="174" name=""/>
            <p:cNvSpPr/>
            <p:nvPr/>
          </p:nvSpPr>
          <p:spPr>
            <a:xfrm>
              <a:off x="6667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0248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784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9076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33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624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27360" y="997200"/>
              <a:ext cx="0" cy="56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99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284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540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89440" y="990720"/>
              <a:ext cx="0" cy="56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0236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149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2784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040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1520" y="990720"/>
              <a:ext cx="0" cy="56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444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7700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899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78320" y="990720"/>
              <a:ext cx="0" cy="5698440"/>
            </a:xfrm>
            <a:prstGeom prst="line">
              <a:avLst/>
            </a:prstGeom>
            <a:ln w="158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28600" y="1000080"/>
              <a:ext cx="8686800" cy="5678280"/>
              <a:chOff x="228600" y="1000080"/>
              <a:chExt cx="8686800" cy="5678280"/>
            </a:xfrm>
          </p:grpSpPr>
          <p:sp>
            <p:nvSpPr>
              <p:cNvPr id="195" name=""/>
              <p:cNvSpPr/>
              <p:nvPr/>
            </p:nvSpPr>
            <p:spPr>
              <a:xfrm>
                <a:off x="228600" y="1000080"/>
                <a:ext cx="8686800" cy="567828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960" y="1333440"/>
                <a:ext cx="8666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44440" y="1011600"/>
              <a:ext cx="865512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868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124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5416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672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7964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92200" y="1074240"/>
              <a:ext cx="24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1948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2040" y="1074240"/>
              <a:ext cx="24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4496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5788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044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8336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9592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028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2320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576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4868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6124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7416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88520" y="10742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315200" y="2590920"/>
            <a:ext cx="1828800" cy="333360"/>
          </a:xfrm>
          <a:prstGeom prst="rightArrow">
            <a:avLst>
              <a:gd name="adj1" fmla="val 60000"/>
              <a:gd name="adj2" fmla="val 7047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2581200"/>
            <a:ext cx="6276960" cy="314280"/>
          </a:xfrm>
          <a:prstGeom prst="rightArrow">
            <a:avLst>
              <a:gd name="adj1" fmla="val 71426"/>
              <a:gd name="adj2" fmla="val 153030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33600" y="1876320"/>
            <a:ext cx="3219480" cy="333360"/>
          </a:xfrm>
          <a:prstGeom prst="rightArrow">
            <a:avLst>
              <a:gd name="adj1" fmla="val 60000"/>
              <a:gd name="adj2" fmla="val 84236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38840" y="1333440"/>
            <a:ext cx="3276720" cy="381240"/>
          </a:xfrm>
          <a:prstGeom prst="rightArrow">
            <a:avLst>
              <a:gd name="adj1" fmla="val 60000"/>
              <a:gd name="adj2" fmla="val 74967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5240" y="1374840"/>
            <a:ext cx="24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unar Outpost Build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880" y="19051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nar Robotic 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9154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2640" y="2590920"/>
            <a:ext cx="20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 Robotic 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26208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s Expeditio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6400800"/>
            <a:ext cx="2819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1371600"/>
            <a:ext cx="152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6640" y="137304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st Human CEV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676520"/>
            <a:ext cx="1526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676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6680" y="1649520"/>
            <a:ext cx="12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th Human Lunar L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548640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951680" y="1709640"/>
            <a:ext cx="1192320" cy="677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03360" y="1719360"/>
            <a:ext cx="900000" cy="642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553080" y="236232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657600" y="1676520"/>
            <a:ext cx="747720" cy="736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140360" y="1359000"/>
            <a:ext cx="139680" cy="190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5240" y="1300320"/>
            <a:ext cx="0" cy="508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080" y="782640"/>
            <a:ext cx="55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66680" y="3441600"/>
            <a:ext cx="8077320" cy="1057680"/>
            <a:chOff x="1066680" y="3441600"/>
            <a:chExt cx="8077320" cy="1057680"/>
          </a:xfrm>
        </p:grpSpPr>
        <p:sp>
          <p:nvSpPr>
            <p:cNvPr id="243" name=""/>
            <p:cNvSpPr/>
            <p:nvPr/>
          </p:nvSpPr>
          <p:spPr>
            <a:xfrm>
              <a:off x="3809880" y="344160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o Luna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3586320"/>
              <a:ext cx="139680" cy="190440"/>
            </a:xfrm>
            <a:prstGeom prst="triangle">
              <a:avLst>
                <a:gd name="adj" fmla="val 50000"/>
              </a:avLst>
            </a:prstGeom>
            <a:solidFill>
              <a:srgbClr val="b218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3548160"/>
              <a:ext cx="12952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unar IS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45400" y="3586320"/>
              <a:ext cx="139680" cy="190440"/>
            </a:xfrm>
            <a:prstGeom prst="triangle">
              <a:avLst>
                <a:gd name="adj" fmla="val 50000"/>
              </a:avLst>
            </a:prstGeom>
            <a:solidFill>
              <a:srgbClr val="b218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4440" y="3586320"/>
              <a:ext cx="139680" cy="190440"/>
            </a:xfrm>
            <a:prstGeom prst="triangle">
              <a:avLst>
                <a:gd name="adj" fmla="val 50000"/>
              </a:avLst>
            </a:prstGeom>
            <a:solidFill>
              <a:srgbClr val="b218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3586320"/>
              <a:ext cx="139680" cy="190440"/>
            </a:xfrm>
            <a:prstGeom prst="triangle">
              <a:avLst>
                <a:gd name="adj" fmla="val 50000"/>
              </a:avLst>
            </a:prstGeom>
            <a:solidFill>
              <a:srgbClr val="b218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86600" y="3441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3320" y="347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347184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347184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66680" y="3975120"/>
              <a:ext cx="6782040" cy="0"/>
            </a:xfrm>
            <a:prstGeom prst="line">
              <a:avLst/>
            </a:prstGeom>
            <a:ln w="38160">
              <a:solidFill>
                <a:srgbClr val="b218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30400" y="348948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1818"/>
                  </a:solidFill>
                  <a:latin typeface="Arial"/>
                </a:rPr>
                <a:t>PRELIMIN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8280" y="204480"/>
            <a:ext cx="742788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(First) Ques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7800" y="1066680"/>
            <a:ext cx="80060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m I in the right meeting?  Are you laughing, pensive, or frightened by our objectives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STRENGTHS and WEAKNESSES of current ISRU technolog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“LOW HANGING FRUIT” - early, simple, achievable ISRU resul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MOST VALUABLE OPPORTUNITIES to target for ISR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needed to reach an INITIAL LUNAR ISRU DEMONST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needed to reach INITIAL, NON-TRIVIAL ISRU PRODUCTION CAPABILITY on the lunar surf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major RISKS and UNCERTAIN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HOICES need to be made, and WHEN?  By WH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VERY MU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: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DAVID.J.ATKINSON@NAS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:  202.358.02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exploration.nas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 Atkinson</cp:lastModifiedBy>
  <dcterms:modified xsi:type="dcterms:W3CDTF">2006-10-31T05:47:41Z</dcterms:modified>
  <cp:revision>5</cp:revision>
  <dc:subject/>
  <dc:title>PowerPoint Presentation</dc:title>
</cp:coreProperties>
</file>