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A40-6AD9-483C-B17A-3D257298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917-FD92-465D-9373-DF9CFF0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85E-3B51-4ABA-8E16-2E9498C9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C8D-EB82-40B5-9D37-0DC23512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099-69C7-4465-8AF8-C833084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C1DB-45B1-4B1E-9B08-C5A4E91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FEF-1830-4C54-9FCD-4A55526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7E65-CBBF-48C3-8218-C540D52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3EE1-E560-4A63-A4AA-05BDBF0A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E3F-4596-47CE-A4B2-CFE6D16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11A-D5DF-4811-9607-B245CB72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69A-9889-4042-BC12-02CE7633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E72B-648C-4A52-90E8-AFE2DF94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C9A-0E19-483E-8A31-A6272E0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2A9-0835-41B0-B3D0-705E6DA6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676-AE0D-4978-A475-EAF6EB36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50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DDB-2813-4B30-939E-BD60DB8A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C4F-6825-4451-984B-ED5F39F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DAD-4293-489E-9B2E-0D8F753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AFD-77EC-4D49-BFF3-FB8DB45D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9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FA9-82B9-42C3-87EF-C36D6A7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5AD-7294-4503-B17C-122EC8E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50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733-06B3-449C-9F08-5D6802CD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50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611-9897-4BA4-9A3F-9A8DEF8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50000">
                  <a:srgbClr val="000000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ace Resources Roundtable V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ember 1,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7BDD-6591-4076-B6DC-E9FE083B67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Pioneer_PPT_Logo-Neg" descr=""/>
          <p:cNvPicPr/>
          <p:nvPr/>
        </p:nvPicPr>
        <p:blipFill>
          <a:blip r:embed="rId2"/>
          <a:stretch/>
        </p:blipFill>
        <p:spPr>
          <a:xfrm>
            <a:off x="7315200" y="6095880"/>
            <a:ext cx="137160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7F6-B00E-439B-B35B-B48A16CE2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Arial"/>
              </a:rPr>
              <a:t>Lunar Materials Handling System</a:t>
            </a:r>
            <a:endParaRPr b="0" lang="en-US" sz="36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038120" y="160020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ioneer Astronautic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Lakewood, Colorado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ark Berggren, Robert Zubrin, Stacy Carrera, James Kilgore, John Campbell,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ather Rose, Nick Jameson,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urt Boyll, Christine Roark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1" name="IMG_1363_RigPreRun-Rpt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311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43400" y="4114800"/>
            <a:ext cx="4267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ASA JSC SBIR Phas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ontract NNJ06JD81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ndon Moore, CO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pace Resources Roundtable V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ovember 1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oneer_PPT_Logo-Neg" descr=""/>
          <p:cNvPicPr/>
          <p:nvPr/>
        </p:nvPicPr>
        <p:blipFill>
          <a:blip r:embed="rId2"/>
          <a:stretch/>
        </p:blipFill>
        <p:spPr>
          <a:xfrm>
            <a:off x="1239840" y="5270400"/>
            <a:ext cx="1808280" cy="79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Characteriza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urface Clean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Electrostatic, magnetic, and vibration methods remove most particl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Wiping is effective, but abrades surfa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Pneumatic pulses provide effective, non-contact clean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0" name="IMG_0870-8500vFountain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2895480" cy="1619280"/>
          </a:xfrm>
          <a:prstGeom prst="rect">
            <a:avLst/>
          </a:prstGeom>
          <a:ln w="0">
            <a:noFill/>
          </a:ln>
        </p:spPr>
      </p:pic>
      <p:pic>
        <p:nvPicPr>
          <p:cNvPr id="141" name="IMG_1086-PneumaticRig" descr=""/>
          <p:cNvPicPr/>
          <p:nvPr/>
        </p:nvPicPr>
        <p:blipFill>
          <a:blip r:embed="rId2"/>
          <a:stretch/>
        </p:blipFill>
        <p:spPr>
          <a:xfrm>
            <a:off x="3962520" y="1160640"/>
            <a:ext cx="329544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IMG_1093-PneuCleanedDisk" descr=""/>
          <p:cNvPicPr/>
          <p:nvPr/>
        </p:nvPicPr>
        <p:blipFill>
          <a:blip r:embed="rId3"/>
          <a:stretch/>
        </p:blipFill>
        <p:spPr>
          <a:xfrm>
            <a:off x="5489640" y="2979720"/>
            <a:ext cx="3197160" cy="1117440"/>
          </a:xfrm>
          <a:prstGeom prst="rect">
            <a:avLst/>
          </a:prstGeom>
          <a:ln w="25560">
            <a:solidFill>
              <a:srgbClr val="ffff99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460760" y="6049800"/>
            <a:ext cx="266724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static “Fountain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200400"/>
            <a:ext cx="628560" cy="27612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992400"/>
            <a:ext cx="35053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neumatic Pulse Experi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System Desig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eal Protec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Contaminant prevention is the preferred method to ensure long-term seal reliabil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Seal cleaning provides secondary protec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System designed using a ball valve; design is readily adaptable to gate valves or hatch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5520"/>
            <a:ext cx="41911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d Feeder and Valve Protection Slee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IMG_1396Valve-Funnel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224160" cy="2759040"/>
          </a:xfrm>
          <a:prstGeom prst="rect">
            <a:avLst/>
          </a:prstGeom>
          <a:ln w="0">
            <a:noFill/>
          </a:ln>
        </p:spPr>
      </p:pic>
      <p:pic>
        <p:nvPicPr>
          <p:cNvPr id="150" name="fill%20funnel-rpt" descr=""/>
          <p:cNvPicPr/>
          <p:nvPr/>
        </p:nvPicPr>
        <p:blipFill>
          <a:blip r:embed="rId2"/>
          <a:stretch/>
        </p:blipFill>
        <p:spPr>
          <a:xfrm>
            <a:off x="7000920" y="2835360"/>
            <a:ext cx="18381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G_1382_ControlsScreen-Rpt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1981080" cy="1482840"/>
          </a:xfrm>
          <a:prstGeom prst="rect">
            <a:avLst/>
          </a:prstGeom>
          <a:ln w="28440">
            <a:solidFill>
              <a:srgbClr val="ffff99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Demonstra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ystem Demonst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Automated LMHS operated in 1 m</a:t>
            </a:r>
            <a:r>
              <a:rPr b="1" i="1" lang="en-US" sz="20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 vacuum chambe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LMHS integrated with hydrogen reduc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788"/>
              </a:spcAft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Batch, down-flow reactor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788"/>
              </a:spcAft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Sealed H</a:t>
            </a:r>
            <a:r>
              <a:rPr b="1" i="1" lang="en-US" sz="18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system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788"/>
              </a:spcAft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recycle pump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788"/>
              </a:spcAft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O recovery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Multiple operations (~850°C; 5 hr cycle time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4" name="IMG_1363_RigPreRun-Rpt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286000" cy="2278080"/>
          </a:xfrm>
          <a:prstGeom prst="rect">
            <a:avLst/>
          </a:prstGeom>
          <a:ln w="28440">
            <a:solidFill>
              <a:srgbClr val="ffff99"/>
            </a:solidFill>
            <a:miter/>
          </a:ln>
        </p:spPr>
      </p:pic>
      <p:pic>
        <p:nvPicPr>
          <p:cNvPr id="155" name="IMG_1399_SystemOps" descr=""/>
          <p:cNvPicPr/>
          <p:nvPr/>
        </p:nvPicPr>
        <p:blipFill>
          <a:blip r:embed="rId3"/>
          <a:stretch/>
        </p:blipFill>
        <p:spPr>
          <a:xfrm>
            <a:off x="4648320" y="4284720"/>
            <a:ext cx="2514600" cy="1887480"/>
          </a:xfrm>
          <a:prstGeom prst="rect">
            <a:avLst/>
          </a:prstGeom>
          <a:ln w="28440">
            <a:solidFill>
              <a:srgbClr val="ffff99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7086600" y="1631880"/>
            <a:ext cx="990720" cy="73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HS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uum Cha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78760" y="4876920"/>
            <a:ext cx="1463760" cy="82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ductio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 Cha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Demonstra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05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Demonstra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emonstration Resul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No H</a:t>
            </a:r>
            <a:r>
              <a:rPr b="1" i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 leak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2 % O</a:t>
            </a:r>
            <a:r>
              <a:rPr b="1" i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 yield from JSC-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Successful material feed and discharge from reacto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No valve contamination or wear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2" name="IMG_1403_ReactorTop-Rpt" descr=""/>
          <p:cNvPicPr/>
          <p:nvPr/>
        </p:nvPicPr>
        <p:blipFill>
          <a:blip r:embed="rId1"/>
          <a:stretch/>
        </p:blipFill>
        <p:spPr>
          <a:xfrm>
            <a:off x="4648320" y="3905280"/>
            <a:ext cx="2514600" cy="1886040"/>
          </a:xfrm>
          <a:prstGeom prst="rect">
            <a:avLst/>
          </a:prstGeom>
          <a:ln w="28440">
            <a:solidFill>
              <a:srgbClr val="ffff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858000" y="5349960"/>
            <a:ext cx="17524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Ball Val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Op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029200" y="1371600"/>
            <a:ext cx="3886200" cy="2459160"/>
            <a:chOff x="5029200" y="1371600"/>
            <a:chExt cx="3886200" cy="2459160"/>
          </a:xfrm>
        </p:grpSpPr>
        <p:pic>
          <p:nvPicPr>
            <p:cNvPr id="165" name="IMG_1409_DiscChuteDust-Rpt" descr=""/>
            <p:cNvPicPr/>
            <p:nvPr/>
          </p:nvPicPr>
          <p:blipFill>
            <a:blip r:embed="rId2"/>
            <a:stretch/>
          </p:blipFill>
          <p:spPr>
            <a:xfrm>
              <a:off x="5105520" y="1371600"/>
              <a:ext cx="326700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238880" y="3352680"/>
              <a:ext cx="16765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umina Felt Se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7772040" y="2514240"/>
              <a:ext cx="228600" cy="7621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781320" y="3429000"/>
              <a:ext cx="381240" cy="763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1905120"/>
              <a:ext cx="9907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p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2057400"/>
              <a:ext cx="457200" cy="7632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572000" y="3068640"/>
            <a:ext cx="1143000" cy="74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st Contain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lee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143000"/>
            <a:ext cx="312444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harge Valve Protection Slee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15000" y="3200040"/>
            <a:ext cx="457200" cy="22860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spcAft>
                <a:spcPts val="17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Build and test a 1 kg per day O</a:t>
            </a:r>
            <a:r>
              <a:rPr b="0" i="1" lang="en-US" sz="28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LMHS/hydrogen reduction syste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spcAft>
                <a:spcPts val="17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Demonstrate repeated operations in vacuu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spcAft>
                <a:spcPts val="17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Establish net yield, operating power, heat exchange requirements, and hydrogen loss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spcAft>
                <a:spcPts val="17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Apply knowledge to establish LMHS needs for alternate ISRU process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spcAft>
                <a:spcPts val="17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Evaluate LMHS commercial applic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135160"/>
            <a:ext cx="685800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SA Johnson Spac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BIR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andon Moore (JS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ISRU Background and Problem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328760"/>
            <a:ext cx="79246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Many lunar ISRU processes have been demonstrated on a laboratory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For repeatable, long-duration operations, a lunar ISRU system will need to address the following critical issues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Gas leaks from process se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Component damage by abrasion or h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o capitalize on ISRU, materials handling and reactor systems that address these issues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Description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309680"/>
            <a:ext cx="7772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he Lunar Materials Handling System (LMHS) conveys solids to and from an ISRU process vessel and provides a gas-tight s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Protects seals from abrasive w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Protects internal reactor components from radiant process h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Protects external components from environmental temperature extr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LMHS methods enable automated feeding, equipment operation, and residue discharging over many cy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System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3880" y="1012680"/>
            <a:ext cx="7924680" cy="500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Work Pla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Select candidate valve and seal types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Characterize valve and seal durability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Characterize particle flow and adhesion using JSC-1 simulant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Develop seal contaminant protection method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Develop seal cleaning method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Demonstrate LMHS techniques integrated with ISRU processing in vacuum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Valve Selec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5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Ball valves, gate valves, and custom hatches with elastomer seals were identified for LMHS applications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Each has a wide, clear flow path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They can withstand or be protected from environmental and process temperature extrem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249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Some elastomer seals are capable of operating over many compression-decompression cycles at temperatures from –260 to +320°C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Valve Selec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352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Ball Valv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Rotating seals (Teflon</a:t>
            </a:r>
            <a:r>
              <a:rPr b="1" i="1" lang="en-US" sz="20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®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Higher profil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Resistant to abrasive wear over dozens of cy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9" name="IMG_1971BallValveOpen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2133720" cy="1660320"/>
          </a:xfrm>
          <a:prstGeom prst="rect">
            <a:avLst/>
          </a:prstGeom>
          <a:ln w="0">
            <a:noFill/>
          </a:ln>
        </p:spPr>
      </p:pic>
      <p:pic>
        <p:nvPicPr>
          <p:cNvPr id="120" name="IMG_1970BallValvePartOpen" descr=""/>
          <p:cNvPicPr/>
          <p:nvPr/>
        </p:nvPicPr>
        <p:blipFill>
          <a:blip r:embed="rId2"/>
          <a:stretch/>
        </p:blipFill>
        <p:spPr>
          <a:xfrm>
            <a:off x="6553080" y="3405240"/>
            <a:ext cx="2133720" cy="1657440"/>
          </a:xfrm>
          <a:prstGeom prst="rect">
            <a:avLst/>
          </a:prstGeom>
          <a:ln w="0">
            <a:noFill/>
          </a:ln>
        </p:spPr>
      </p:pic>
      <p:pic>
        <p:nvPicPr>
          <p:cNvPr id="121" name="IMG_1974BallValveProfile" descr=""/>
          <p:cNvPicPr/>
          <p:nvPr/>
        </p:nvPicPr>
        <p:blipFill>
          <a:blip r:embed="rId3"/>
          <a:stretch/>
        </p:blipFill>
        <p:spPr>
          <a:xfrm>
            <a:off x="3897360" y="1676520"/>
            <a:ext cx="2530440" cy="33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Valve Selec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352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Gate Valv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Perpendicular seal engagemen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Lower profil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Sensitive to particulate contamin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5" name="IMG_1965Gate2-3Open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1422360" cy="1523880"/>
          </a:xfrm>
          <a:prstGeom prst="rect">
            <a:avLst/>
          </a:prstGeom>
          <a:ln w="0">
            <a:noFill/>
          </a:ln>
        </p:spPr>
      </p:pic>
      <p:pic>
        <p:nvPicPr>
          <p:cNvPr id="126" name="IMG_1967Gate1-4Open" descr=""/>
          <p:cNvPicPr/>
          <p:nvPr/>
        </p:nvPicPr>
        <p:blipFill>
          <a:blip r:embed="rId2"/>
          <a:stretch/>
        </p:blipFill>
        <p:spPr>
          <a:xfrm>
            <a:off x="5504040" y="4191120"/>
            <a:ext cx="1420560" cy="1523880"/>
          </a:xfrm>
          <a:prstGeom prst="rect">
            <a:avLst/>
          </a:prstGeom>
          <a:ln w="0">
            <a:noFill/>
          </a:ln>
        </p:spPr>
      </p:pic>
      <p:pic>
        <p:nvPicPr>
          <p:cNvPr id="127" name="IMG_1968GateCloses" descr=""/>
          <p:cNvPicPr/>
          <p:nvPr/>
        </p:nvPicPr>
        <p:blipFill>
          <a:blip r:embed="rId3"/>
          <a:stretch/>
        </p:blipFill>
        <p:spPr>
          <a:xfrm>
            <a:off x="7027920" y="4191120"/>
            <a:ext cx="141768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IMG_1972GateProfile" descr=""/>
          <p:cNvPicPr/>
          <p:nvPr/>
        </p:nvPicPr>
        <p:blipFill>
          <a:blip r:embed="rId4"/>
          <a:stretch/>
        </p:blipFill>
        <p:spPr>
          <a:xfrm>
            <a:off x="3962520" y="1143000"/>
            <a:ext cx="4495680" cy="297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MHS Phase I Characterization</a:t>
            </a:r>
            <a:endParaRPr b="0" lang="en-US" sz="3200" spc="-1" strike="noStrike">
              <a:solidFill>
                <a:srgbClr val="00c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124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Particle Adhe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Polished surfaces reduce adhesion and aid flow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876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Layer of ultra-fine particles adhere regardless of material, finish, or electrical charg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1" name="IMG_0923-SS-Neg-PostPourCropped" descr=""/>
          <p:cNvPicPr/>
          <p:nvPr/>
        </p:nvPicPr>
        <p:blipFill>
          <a:blip r:embed="rId1"/>
          <a:stretch/>
        </p:blipFill>
        <p:spPr>
          <a:xfrm>
            <a:off x="4268880" y="1173240"/>
            <a:ext cx="1838160" cy="2560680"/>
          </a:xfrm>
          <a:prstGeom prst="rect">
            <a:avLst/>
          </a:prstGeom>
          <a:ln w="0">
            <a:noFill/>
          </a:ln>
        </p:spPr>
      </p:pic>
      <p:pic>
        <p:nvPicPr>
          <p:cNvPr id="132" name="IMG_0888-SS-Positive-MeterCropped" descr=""/>
          <p:cNvPicPr/>
          <p:nvPr/>
        </p:nvPicPr>
        <p:blipFill>
          <a:blip r:embed="rId2"/>
          <a:stretch/>
        </p:blipFill>
        <p:spPr>
          <a:xfrm>
            <a:off x="6138720" y="1192320"/>
            <a:ext cx="2335320" cy="2541600"/>
          </a:xfrm>
          <a:prstGeom prst="rect">
            <a:avLst/>
          </a:prstGeom>
          <a:ln w="0">
            <a:noFill/>
          </a:ln>
        </p:spPr>
      </p:pic>
      <p:pic>
        <p:nvPicPr>
          <p:cNvPr id="133" name="IMG_0690GoreTexPostPour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057400" cy="2055960"/>
          </a:xfrm>
          <a:prstGeom prst="rect">
            <a:avLst/>
          </a:prstGeom>
          <a:ln w="0">
            <a:noFill/>
          </a:ln>
        </p:spPr>
      </p:pic>
      <p:pic>
        <p:nvPicPr>
          <p:cNvPr id="134" name="IMG_0785-SS-Grounding-PostTestWipeCropped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02320" y="5562720"/>
            <a:ext cx="18288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re-Te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81560" y="5562720"/>
            <a:ext cx="18288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shed Stainless 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421080"/>
            <a:ext cx="35049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Flow &amp; Adhesion Experi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6:19:31Z</dcterms:created>
  <dc:creator>Stacy Carrera</dc:creator>
  <dc:description/>
  <dc:language>en-US</dc:language>
  <cp:lastModifiedBy>M</cp:lastModifiedBy>
  <dcterms:modified xsi:type="dcterms:W3CDTF">2006-10-30T23:31:44Z</dcterms:modified>
  <cp:revision>127</cp:revision>
  <dc:subject/>
  <dc:title>Carbon Monoxide Silicate Reduction System</dc:title>
</cp:coreProperties>
</file>