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6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13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E85-361C-442A-BE44-D7F02B2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E1E-ADF2-4D01-A380-1A1B690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1D4-4F6F-4CF5-AC3B-E70ECD82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812-6C84-4162-8AAF-E42E5F85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F94-257A-44DB-8360-4E92FB52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E24-D124-4973-A4D9-3D0AD37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F6B-50A1-4732-A652-1F8F0E3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FAC-4A65-4806-A9E3-F23A33D6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DB8-6715-4970-AE86-57251CAD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B91-E4F8-4986-A694-D5D087B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FD4-3901-4662-BB8A-3B1F478B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748-75D9-4ED2-8FDA-E7EB941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5AD-0B1F-48B0-8853-96C0A85DE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7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.png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7.png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7.png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7.pn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image" Target="../media/image4.jpeg"/><Relationship Id="rId72" Type="http://schemas.openxmlformats.org/officeDocument/2006/relationships/image" Target="../media/image4.jpeg"/><Relationship Id="rId73" Type="http://schemas.openxmlformats.org/officeDocument/2006/relationships/image" Target="../media/image4.jpeg"/><Relationship Id="rId74" Type="http://schemas.openxmlformats.org/officeDocument/2006/relationships/image" Target="../media/image4.jpeg"/><Relationship Id="rId75" Type="http://schemas.openxmlformats.org/officeDocument/2006/relationships/image" Target="../media/image4.jpeg"/><Relationship Id="rId76" Type="http://schemas.openxmlformats.org/officeDocument/2006/relationships/image" Target="../media/image4.jpeg"/><Relationship Id="rId77" Type="http://schemas.openxmlformats.org/officeDocument/2006/relationships/image" Target="../media/image4.jpeg"/><Relationship Id="rId78" Type="http://schemas.openxmlformats.org/officeDocument/2006/relationships/image" Target="../media/image4.jpeg"/><Relationship Id="rId79" Type="http://schemas.openxmlformats.org/officeDocument/2006/relationships/image" Target="../media/image5.jpeg"/><Relationship Id="rId80" Type="http://schemas.openxmlformats.org/officeDocument/2006/relationships/image" Target="../media/image5.jpeg"/><Relationship Id="rId81" Type="http://schemas.openxmlformats.org/officeDocument/2006/relationships/image" Target="../media/image5.jpeg"/><Relationship Id="rId82" Type="http://schemas.openxmlformats.org/officeDocument/2006/relationships/image" Target="../media/image5.jpeg"/><Relationship Id="rId83" Type="http://schemas.openxmlformats.org/officeDocument/2006/relationships/image" Target="../media/image5.jpeg"/><Relationship Id="rId84" Type="http://schemas.openxmlformats.org/officeDocument/2006/relationships/image" Target="../media/image5.jpeg"/><Relationship Id="rId85" Type="http://schemas.openxmlformats.org/officeDocument/2006/relationships/image" Target="../media/image5.jpeg"/><Relationship Id="rId86" Type="http://schemas.openxmlformats.org/officeDocument/2006/relationships/image" Target="../media/image5.jpeg"/><Relationship Id="rId87" Type="http://schemas.openxmlformats.org/officeDocument/2006/relationships/image" Target="../media/image5.jpeg"/><Relationship Id="rId88" Type="http://schemas.openxmlformats.org/officeDocument/2006/relationships/image" Target="../media/image5.jpeg"/><Relationship Id="rId89" Type="http://schemas.openxmlformats.org/officeDocument/2006/relationships/image" Target="../media/image5.jpeg"/><Relationship Id="rId90" Type="http://schemas.openxmlformats.org/officeDocument/2006/relationships/image" Target="../media/image5.jpeg"/><Relationship Id="rId91" Type="http://schemas.openxmlformats.org/officeDocument/2006/relationships/image" Target="../media/image5.jpeg"/><Relationship Id="rId92" Type="http://schemas.openxmlformats.org/officeDocument/2006/relationships/image" Target="../media/image5.jpeg"/><Relationship Id="rId93" Type="http://schemas.openxmlformats.org/officeDocument/2006/relationships/image" Target="../media/image5.jpeg"/><Relationship Id="rId94" Type="http://schemas.openxmlformats.org/officeDocument/2006/relationships/image" Target="../media/image5.jpeg"/><Relationship Id="rId95" Type="http://schemas.openxmlformats.org/officeDocument/2006/relationships/image" Target="../media/image5.jpeg"/><Relationship Id="rId9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image" Target="../media/image12.gi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7440" y="593640"/>
            <a:ext cx="6583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A Long-Endurance Retaskable Transfer Vehic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3429000"/>
            <a:ext cx="65991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rad R. B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Justin G. Rodrig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ary J. Rodrig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resented at</a:t>
            </a: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 the 8</a:t>
            </a:r>
            <a:r>
              <a:rPr b="0" i="1" lang="en-US" sz="14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 Annual Space Resources Roundtable, Golden, Colora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November 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tlas-centaur" descr=""/>
          <p:cNvPicPr/>
          <p:nvPr/>
        </p:nvPicPr>
        <p:blipFill>
          <a:blip r:embed="rId1"/>
          <a:stretch/>
        </p:blipFill>
        <p:spPr>
          <a:xfrm>
            <a:off x="274680" y="228600"/>
            <a:ext cx="18032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680" y="6629400"/>
            <a:ext cx="859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228600"/>
            <a:ext cx="859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35360" y="5715000"/>
            <a:ext cx="806400" cy="822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46880" y="5738760"/>
            <a:ext cx="3347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sys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RAND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pace Commercializa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0120" y="6080040"/>
            <a:ext cx="50292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9040" y="2330280"/>
            <a:ext cx="516600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240" y="2514600"/>
            <a:ext cx="52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80"/>
                </a:solidFill>
                <a:latin typeface="Arial"/>
              </a:rPr>
              <a:t>Propellant Suppl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elements will be examined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0" y="1271520"/>
            <a:ext cx="4366800" cy="5460840"/>
            <a:chOff x="0" y="1271520"/>
            <a:chExt cx="4366800" cy="5460840"/>
          </a:xfrm>
        </p:grpSpPr>
        <p:grpSp>
          <p:nvGrpSpPr>
            <p:cNvPr id="1900" name=""/>
            <p:cNvGrpSpPr/>
            <p:nvPr/>
          </p:nvGrpSpPr>
          <p:grpSpPr>
            <a:xfrm>
              <a:off x="0" y="2505240"/>
              <a:ext cx="1913040" cy="4212360"/>
              <a:chOff x="0" y="2505240"/>
              <a:chExt cx="1913040" cy="4212360"/>
            </a:xfrm>
          </p:grpSpPr>
          <p:grpSp>
            <p:nvGrpSpPr>
              <p:cNvPr id="1901" name=""/>
              <p:cNvGrpSpPr/>
              <p:nvPr/>
            </p:nvGrpSpPr>
            <p:grpSpPr>
              <a:xfrm>
                <a:off x="599760" y="2505240"/>
                <a:ext cx="712800" cy="3827880"/>
                <a:chOff x="599760" y="2505240"/>
                <a:chExt cx="712800" cy="382788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599760" y="5673240"/>
                  <a:ext cx="710640" cy="65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99760" y="3494880"/>
                  <a:ext cx="712800" cy="60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13b00"/>
                    </a:gs>
                    <a:gs pos="50000">
                      <a:srgbClr val="b08200"/>
                    </a:gs>
                    <a:gs pos="100000">
                      <a:srgbClr val="513b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flipV="1">
                  <a:off x="599760" y="3494160"/>
                  <a:ext cx="712800" cy="2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99760" y="4073760"/>
                  <a:ext cx="712800" cy="2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99760" y="2505240"/>
                  <a:ext cx="712800" cy="991080"/>
                </a:xfrm>
                <a:custGeom>
                  <a:avLst/>
                  <a:gdLst/>
                  <a:ahLst/>
                  <a:rect l="l" t="t" r="r" b="b"/>
                  <a:pathLst>
                    <a:path w="624" h="865">
                      <a:moveTo>
                        <a:pt x="0" y="864"/>
                      </a:moveTo>
                      <a:cubicBezTo>
                        <a:pt x="0" y="795"/>
                        <a:pt x="0" y="763"/>
                        <a:pt x="2" y="727"/>
                      </a:cubicBezTo>
                      <a:lnTo>
                        <a:pt x="9" y="646"/>
                      </a:lnTo>
                      <a:lnTo>
                        <a:pt x="17" y="585"/>
                      </a:lnTo>
                      <a:lnTo>
                        <a:pt x="30" y="523"/>
                      </a:lnTo>
                      <a:lnTo>
                        <a:pt x="48" y="442"/>
                      </a:lnTo>
                      <a:lnTo>
                        <a:pt x="72" y="369"/>
                      </a:lnTo>
                      <a:lnTo>
                        <a:pt x="104" y="298"/>
                      </a:lnTo>
                      <a:lnTo>
                        <a:pt x="138" y="243"/>
                      </a:lnTo>
                      <a:lnTo>
                        <a:pt x="183" y="177"/>
                      </a:lnTo>
                      <a:lnTo>
                        <a:pt x="227" y="127"/>
                      </a:lnTo>
                      <a:lnTo>
                        <a:pt x="275" y="76"/>
                      </a:lnTo>
                      <a:lnTo>
                        <a:pt x="294" y="40"/>
                      </a:lnTo>
                      <a:lnTo>
                        <a:pt x="312" y="0"/>
                      </a:lnTo>
                      <a:lnTo>
                        <a:pt x="330" y="42"/>
                      </a:lnTo>
                      <a:lnTo>
                        <a:pt x="350" y="76"/>
                      </a:lnTo>
                      <a:lnTo>
                        <a:pt x="405" y="135"/>
                      </a:lnTo>
                      <a:lnTo>
                        <a:pt x="441" y="177"/>
                      </a:lnTo>
                      <a:lnTo>
                        <a:pt x="489" y="246"/>
                      </a:lnTo>
                      <a:lnTo>
                        <a:pt x="521" y="300"/>
                      </a:lnTo>
                      <a:lnTo>
                        <a:pt x="548" y="360"/>
                      </a:lnTo>
                      <a:lnTo>
                        <a:pt x="575" y="438"/>
                      </a:lnTo>
                      <a:lnTo>
                        <a:pt x="593" y="508"/>
                      </a:lnTo>
                      <a:lnTo>
                        <a:pt x="606" y="580"/>
                      </a:lnTo>
                      <a:lnTo>
                        <a:pt x="615" y="651"/>
                      </a:lnTo>
                      <a:lnTo>
                        <a:pt x="623" y="732"/>
                      </a:lnTo>
                      <a:lnTo>
                        <a:pt x="624" y="865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f4c19"/>
                    </a:gs>
                    <a:gs pos="50000">
                      <a:srgbClr val="ff9933"/>
                    </a:gs>
                    <a:gs pos="100000">
                      <a:srgbClr val="7f4c19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H="1">
                  <a:off x="955080" y="2505240"/>
                  <a:ext cx="192240" cy="989640"/>
                </a:xfrm>
                <a:custGeom>
                  <a:avLst/>
                  <a:gdLst/>
                  <a:ahLst/>
                  <a:rect l="l" t="t" r="r" b="b"/>
                  <a:pathLst>
                    <a:path w="298" h="841">
                      <a:moveTo>
                        <a:pt x="3" y="841"/>
                      </a:moveTo>
                      <a:cubicBezTo>
                        <a:pt x="3" y="817"/>
                        <a:pt x="0" y="747"/>
                        <a:pt x="3" y="694"/>
                      </a:cubicBezTo>
                      <a:cubicBezTo>
                        <a:pt x="6" y="641"/>
                        <a:pt x="13" y="579"/>
                        <a:pt x="24" y="525"/>
                      </a:cubicBezTo>
                      <a:cubicBezTo>
                        <a:pt x="35" y="471"/>
                        <a:pt x="51" y="415"/>
                        <a:pt x="67" y="370"/>
                      </a:cubicBezTo>
                      <a:cubicBezTo>
                        <a:pt x="83" y="325"/>
                        <a:pt x="100" y="291"/>
                        <a:pt x="121" y="253"/>
                      </a:cubicBezTo>
                      <a:cubicBezTo>
                        <a:pt x="142" y="215"/>
                        <a:pt x="173" y="175"/>
                        <a:pt x="196" y="145"/>
                      </a:cubicBezTo>
                      <a:cubicBezTo>
                        <a:pt x="219" y="115"/>
                        <a:pt x="244" y="99"/>
                        <a:pt x="261" y="75"/>
                      </a:cubicBezTo>
                      <a:cubicBezTo>
                        <a:pt x="278" y="51"/>
                        <a:pt x="290" y="16"/>
                        <a:pt x="298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99760" y="4070160"/>
                  <a:ext cx="712800" cy="193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147680" y="3494880"/>
                  <a:ext cx="0" cy="25077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212400" y="3339360"/>
                <a:ext cx="1487160" cy="3378240"/>
                <a:chOff x="212400" y="3339360"/>
                <a:chExt cx="1487160" cy="3378240"/>
              </a:xfrm>
            </p:grpSpPr>
            <p:grpSp>
              <p:nvGrpSpPr>
                <p:cNvPr id="1911" name=""/>
                <p:cNvGrpSpPr/>
                <p:nvPr/>
              </p:nvGrpSpPr>
              <p:grpSpPr>
                <a:xfrm>
                  <a:off x="212400" y="3339360"/>
                  <a:ext cx="457200" cy="3378240"/>
                  <a:chOff x="212400" y="3339360"/>
                  <a:chExt cx="457200" cy="3378240"/>
                </a:xfrm>
              </p:grpSpPr>
              <p:sp>
                <p:nvSpPr>
                  <p:cNvPr id="1912" name=""/>
                  <p:cNvSpPr/>
                  <p:nvPr/>
                </p:nvSpPr>
                <p:spPr>
                  <a:xfrm flipV="1">
                    <a:off x="212400" y="6434280"/>
                    <a:ext cx="457200" cy="179640"/>
                  </a:xfrm>
                  <a:custGeom>
                    <a:avLst/>
                    <a:gdLst>
                      <a:gd name="textAreaLeft" fmla="*/ 82440 w 457200"/>
                      <a:gd name="textAreaRight" fmla="*/ 374760 w 457200"/>
                      <a:gd name="textAreaTop" fmla="*/ 32400 h 179640"/>
                      <a:gd name="textAreaBottom" fmla="*/ 147240 h 179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730" y="21600"/>
                        </a:lnTo>
                        <a:lnTo>
                          <a:pt x="387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 flipV="1">
                    <a:off x="280800" y="6614640"/>
                    <a:ext cx="316440" cy="102960"/>
                  </a:xfrm>
                  <a:custGeom>
                    <a:avLst/>
                    <a:gdLst>
                      <a:gd name="textAreaLeft" fmla="*/ 41040 w 316440"/>
                      <a:gd name="textAreaRight" fmla="*/ 275400 w 316440"/>
                      <a:gd name="textAreaTop" fmla="*/ 13320 h 102960"/>
                      <a:gd name="textAreaBottom" fmla="*/ 8964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712" y="21600"/>
                        </a:lnTo>
                        <a:lnTo>
                          <a:pt x="1888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2b5f2"/>
                      </a:gs>
                      <a:gs pos="50000">
                        <a:srgbClr val="dfe5f9"/>
                      </a:gs>
                      <a:gs pos="100000">
                        <a:srgbClr val="a2b5f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294120" y="3714840"/>
                    <a:ext cx="289800" cy="271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 flipV="1">
                    <a:off x="294120" y="3495240"/>
                    <a:ext cx="289800" cy="219600"/>
                  </a:xfrm>
                  <a:custGeom>
                    <a:avLst/>
                    <a:gdLst>
                      <a:gd name="textAreaLeft" fmla="*/ 60120 w 289800"/>
                      <a:gd name="textAreaRight" fmla="*/ 229680 w 289800"/>
                      <a:gd name="textAreaTop" fmla="*/ 45720 h 219600"/>
                      <a:gd name="textAreaBottom" fmla="*/ 173880 h 219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654" y="21600"/>
                        </a:lnTo>
                        <a:lnTo>
                          <a:pt x="494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flipH="1">
                    <a:off x="467280" y="3495240"/>
                    <a:ext cx="65160" cy="54720"/>
                  </a:xfrm>
                  <a:prstGeom prst="parallelogram">
                    <a:avLst>
                      <a:gd name="adj" fmla="val 30271"/>
                    </a:avLst>
                  </a:prstGeom>
                  <a:solidFill>
                    <a:srgbClr val="6633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7" name=""/>
                  <p:cNvGrpSpPr/>
                  <p:nvPr/>
                </p:nvGrpSpPr>
                <p:grpSpPr>
                  <a:xfrm>
                    <a:off x="293760" y="3984480"/>
                    <a:ext cx="289800" cy="1470960"/>
                    <a:chOff x="293760" y="3984480"/>
                    <a:chExt cx="289800" cy="1470960"/>
                  </a:xfrm>
                </p:grpSpPr>
                <p:sp>
                  <p:nvSpPr>
                    <p:cNvPr id="1918" name=""/>
                    <p:cNvSpPr/>
                    <p:nvPr/>
                  </p:nvSpPr>
                  <p:spPr>
                    <a:xfrm flipH="1">
                      <a:off x="293760" y="398448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 flipH="1">
                      <a:off x="293760" y="42786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 flipH="1">
                      <a:off x="293760" y="45727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 flipH="1">
                      <a:off x="293760" y="48672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2" name=""/>
                    <p:cNvSpPr/>
                    <p:nvPr/>
                  </p:nvSpPr>
                  <p:spPr>
                    <a:xfrm flipH="1">
                      <a:off x="293760" y="51613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 flipH="1">
                      <a:off x="293760" y="545544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4" name=""/>
                  <p:cNvGrpSpPr/>
                  <p:nvPr/>
                </p:nvGrpSpPr>
                <p:grpSpPr>
                  <a:xfrm>
                    <a:off x="294120" y="6165720"/>
                    <a:ext cx="289800" cy="161280"/>
                    <a:chOff x="294120" y="6165720"/>
                    <a:chExt cx="289800" cy="161280"/>
                  </a:xfrm>
                </p:grpSpPr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294120" y="61657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6" name=""/>
                    <p:cNvSpPr/>
                    <p:nvPr/>
                  </p:nvSpPr>
                  <p:spPr>
                    <a:xfrm>
                      <a:off x="294120" y="624636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>
                      <a:off x="294120" y="63270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8" name=""/>
                  <p:cNvSpPr/>
                  <p:nvPr/>
                </p:nvSpPr>
                <p:spPr>
                  <a:xfrm>
                    <a:off x="284040" y="6435000"/>
                    <a:ext cx="108360" cy="179640"/>
                  </a:xfrm>
                  <a:prstGeom prst="parallelogram">
                    <a:avLst>
                      <a:gd name="adj" fmla="val 47958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H="1">
                    <a:off x="459360" y="6454440"/>
                    <a:ext cx="78840" cy="72000"/>
                  </a:xfrm>
                  <a:prstGeom prst="parallelogram">
                    <a:avLst>
                      <a:gd name="adj" fmla="val 27760"/>
                    </a:avLst>
                  </a:prstGeom>
                  <a:solidFill>
                    <a:srgbClr val="94aaf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H="1">
                    <a:off x="547560" y="6436080"/>
                    <a:ext cx="119520" cy="177480"/>
                  </a:xfrm>
                  <a:prstGeom prst="parallelogram">
                    <a:avLst>
                      <a:gd name="adj" fmla="val 68519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335160" y="3769920"/>
                    <a:ext cx="72000" cy="536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359280" y="3339360"/>
                    <a:ext cx="1569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36">
                        <a:moveTo>
                          <a:pt x="0" y="136"/>
                        </a:moveTo>
                        <a:lnTo>
                          <a:pt x="31" y="48"/>
                        </a:lnTo>
                        <a:lnTo>
                          <a:pt x="47" y="12"/>
                        </a:lnTo>
                        <a:lnTo>
                          <a:pt x="71" y="0"/>
                        </a:lnTo>
                        <a:lnTo>
                          <a:pt x="95" y="13"/>
                        </a:lnTo>
                        <a:lnTo>
                          <a:pt x="112" y="48"/>
                        </a:lnTo>
                        <a:lnTo>
                          <a:pt x="142" y="136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1242720" y="3339360"/>
                  <a:ext cx="456840" cy="3378240"/>
                  <a:chOff x="1242720" y="3339360"/>
                  <a:chExt cx="456840" cy="337824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 flipH="1" flipV="1">
                    <a:off x="1242360" y="6434280"/>
                    <a:ext cx="456840" cy="179640"/>
                  </a:xfrm>
                  <a:custGeom>
                    <a:avLst/>
                    <a:gdLst>
                      <a:gd name="textAreaLeft" fmla="*/ 82440 w 456840"/>
                      <a:gd name="textAreaRight" fmla="*/ 374400 w 456840"/>
                      <a:gd name="textAreaTop" fmla="*/ 32400 h 179640"/>
                      <a:gd name="textAreaBottom" fmla="*/ 147240 h 179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7730" y="21600"/>
                        </a:lnTo>
                        <a:lnTo>
                          <a:pt x="387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H="1" flipV="1">
                    <a:off x="1315080" y="6614640"/>
                    <a:ext cx="316080" cy="102960"/>
                  </a:xfrm>
                  <a:custGeom>
                    <a:avLst/>
                    <a:gdLst>
                      <a:gd name="textAreaLeft" fmla="*/ 40680 w 316080"/>
                      <a:gd name="textAreaRight" fmla="*/ 275400 w 316080"/>
                      <a:gd name="textAreaTop" fmla="*/ 13320 h 102960"/>
                      <a:gd name="textAreaBottom" fmla="*/ 8964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712" y="21600"/>
                        </a:lnTo>
                        <a:lnTo>
                          <a:pt x="1888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2b5f2"/>
                      </a:gs>
                      <a:gs pos="50000">
                        <a:srgbClr val="dfe5f9"/>
                      </a:gs>
                      <a:gs pos="100000">
                        <a:srgbClr val="a2b5f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H="1">
                    <a:off x="1327320" y="3714840"/>
                    <a:ext cx="289800" cy="271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 flipV="1">
                    <a:off x="1327320" y="3495240"/>
                    <a:ext cx="289800" cy="219600"/>
                  </a:xfrm>
                  <a:custGeom>
                    <a:avLst/>
                    <a:gdLst>
                      <a:gd name="textAreaLeft" fmla="*/ 60120 w 289800"/>
                      <a:gd name="textAreaRight" fmla="*/ 229680 w 289800"/>
                      <a:gd name="textAreaTop" fmla="*/ 45720 h 219600"/>
                      <a:gd name="textAreaBottom" fmla="*/ 173880 h 219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654" y="21600"/>
                        </a:lnTo>
                        <a:lnTo>
                          <a:pt x="4946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1379160" y="3495240"/>
                    <a:ext cx="65160" cy="54720"/>
                  </a:xfrm>
                  <a:prstGeom prst="parallelogram">
                    <a:avLst>
                      <a:gd name="adj" fmla="val 30271"/>
                    </a:avLst>
                  </a:prstGeom>
                  <a:solidFill>
                    <a:srgbClr val="6633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1328040" y="3984480"/>
                    <a:ext cx="289800" cy="1470960"/>
                    <a:chOff x="1328040" y="3984480"/>
                    <a:chExt cx="289800" cy="147096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1328040" y="398448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1328040" y="42786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>
                      <a:off x="1328040" y="45727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1328040" y="48672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1328040" y="51613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1328040" y="545544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1327680" y="6165720"/>
                    <a:ext cx="289800" cy="161280"/>
                    <a:chOff x="1327680" y="6165720"/>
                    <a:chExt cx="289800" cy="16128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 flipH="1">
                      <a:off x="1327680" y="616572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 flipH="1">
                      <a:off x="1327680" y="624636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 flipH="1">
                      <a:off x="1327680" y="6327000"/>
                      <a:ext cx="2898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0" name=""/>
                  <p:cNvSpPr/>
                  <p:nvPr/>
                </p:nvSpPr>
                <p:spPr>
                  <a:xfrm flipH="1">
                    <a:off x="1518840" y="6435000"/>
                    <a:ext cx="108360" cy="179640"/>
                  </a:xfrm>
                  <a:prstGeom prst="parallelogram">
                    <a:avLst>
                      <a:gd name="adj" fmla="val 47958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1373400" y="6454440"/>
                    <a:ext cx="78480" cy="72000"/>
                  </a:xfrm>
                  <a:prstGeom prst="parallelogram">
                    <a:avLst>
                      <a:gd name="adj" fmla="val 27634"/>
                    </a:avLst>
                  </a:prstGeom>
                  <a:solidFill>
                    <a:srgbClr val="94aaf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1245240" y="6436080"/>
                    <a:ext cx="119160" cy="177480"/>
                  </a:xfrm>
                  <a:prstGeom prst="parallelogram">
                    <a:avLst>
                      <a:gd name="adj" fmla="val 68519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H="1">
                    <a:off x="1505160" y="3769920"/>
                    <a:ext cx="72000" cy="536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H="1">
                    <a:off x="1395720" y="3339360"/>
                    <a:ext cx="15696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36">
                        <a:moveTo>
                          <a:pt x="0" y="136"/>
                        </a:moveTo>
                        <a:lnTo>
                          <a:pt x="31" y="48"/>
                        </a:lnTo>
                        <a:lnTo>
                          <a:pt x="47" y="12"/>
                        </a:lnTo>
                        <a:lnTo>
                          <a:pt x="71" y="0"/>
                        </a:lnTo>
                        <a:lnTo>
                          <a:pt x="95" y="13"/>
                        </a:lnTo>
                        <a:lnTo>
                          <a:pt x="112" y="48"/>
                        </a:lnTo>
                        <a:lnTo>
                          <a:pt x="142" y="136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d4e3"/>
                      </a:gs>
                      <a:gs pos="50000">
                        <a:srgbClr val="eff1f5"/>
                      </a:gs>
                      <a:gs pos="100000">
                        <a:srgbClr val="cfd4e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55" name=""/>
              <p:cNvGrpSpPr/>
              <p:nvPr/>
            </p:nvGrpSpPr>
            <p:grpSpPr>
              <a:xfrm>
                <a:off x="0" y="3787200"/>
                <a:ext cx="1913040" cy="2789640"/>
                <a:chOff x="0" y="3787200"/>
                <a:chExt cx="1913040" cy="2789640"/>
              </a:xfrm>
            </p:grpSpPr>
            <p:grpSp>
              <p:nvGrpSpPr>
                <p:cNvPr id="1956" name=""/>
                <p:cNvGrpSpPr/>
                <p:nvPr/>
              </p:nvGrpSpPr>
              <p:grpSpPr>
                <a:xfrm>
                  <a:off x="759240" y="3906360"/>
                  <a:ext cx="396000" cy="499320"/>
                  <a:chOff x="759240" y="3906360"/>
                  <a:chExt cx="396000" cy="49932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759240" y="3910680"/>
                    <a:ext cx="0" cy="495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1155240" y="3906360"/>
                    <a:ext cx="0" cy="495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0" y="3787200"/>
                  <a:ext cx="1913040" cy="2789640"/>
                  <a:chOff x="0" y="3787200"/>
                  <a:chExt cx="1913040" cy="278964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743760" y="3934800"/>
                    <a:ext cx="425160" cy="49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432">
                        <a:moveTo>
                          <a:pt x="0" y="334"/>
                        </a:moveTo>
                        <a:lnTo>
                          <a:pt x="18" y="215"/>
                        </a:lnTo>
                        <a:lnTo>
                          <a:pt x="48" y="90"/>
                        </a:lnTo>
                        <a:lnTo>
                          <a:pt x="68" y="41"/>
                        </a:lnTo>
                        <a:lnTo>
                          <a:pt x="86" y="1"/>
                        </a:lnTo>
                        <a:lnTo>
                          <a:pt x="300" y="0"/>
                        </a:lnTo>
                        <a:lnTo>
                          <a:pt x="320" y="44"/>
                        </a:lnTo>
                        <a:lnTo>
                          <a:pt x="336" y="90"/>
                        </a:lnTo>
                        <a:lnTo>
                          <a:pt x="365" y="206"/>
                        </a:lnTo>
                        <a:lnTo>
                          <a:pt x="384" y="334"/>
                        </a:lnTo>
                        <a:lnTo>
                          <a:pt x="384" y="432"/>
                        </a:lnTo>
                        <a:lnTo>
                          <a:pt x="0" y="432"/>
                        </a:lnTo>
                        <a:lnTo>
                          <a:pt x="0" y="33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840240" y="3787200"/>
                    <a:ext cx="2354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129">
                        <a:moveTo>
                          <a:pt x="0" y="129"/>
                        </a:moveTo>
                        <a:lnTo>
                          <a:pt x="21" y="86"/>
                        </a:lnTo>
                        <a:lnTo>
                          <a:pt x="53" y="36"/>
                        </a:lnTo>
                        <a:lnTo>
                          <a:pt x="77" y="9"/>
                        </a:lnTo>
                        <a:lnTo>
                          <a:pt x="108" y="0"/>
                        </a:lnTo>
                        <a:lnTo>
                          <a:pt x="138" y="9"/>
                        </a:lnTo>
                        <a:lnTo>
                          <a:pt x="161" y="38"/>
                        </a:lnTo>
                        <a:lnTo>
                          <a:pt x="191" y="86"/>
                        </a:lnTo>
                        <a:lnTo>
                          <a:pt x="21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52920" y="4484880"/>
                    <a:ext cx="74376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296">
                        <a:moveTo>
                          <a:pt x="672" y="1296"/>
                        </a:moveTo>
                        <a:lnTo>
                          <a:pt x="0" y="1296"/>
                        </a:lnTo>
                        <a:lnTo>
                          <a:pt x="0" y="1152"/>
                        </a:lnTo>
                        <a:lnTo>
                          <a:pt x="240" y="912"/>
                        </a:lnTo>
                        <a:lnTo>
                          <a:pt x="432" y="768"/>
                        </a:lnTo>
                        <a:lnTo>
                          <a:pt x="528" y="480"/>
                        </a:lnTo>
                        <a:lnTo>
                          <a:pt x="624" y="0"/>
                        </a:lnTo>
                        <a:lnTo>
                          <a:pt x="672" y="0"/>
                        </a:lnTo>
                        <a:lnTo>
                          <a:pt x="672" y="1296"/>
                        </a:lnTo>
                        <a:close/>
                      </a:path>
                    </a:pathLst>
                  </a:custGeom>
                  <a:solidFill>
                    <a:srgbClr val="ced8f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 flipH="1">
                    <a:off x="1116000" y="4484880"/>
                    <a:ext cx="74376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296">
                        <a:moveTo>
                          <a:pt x="672" y="1296"/>
                        </a:moveTo>
                        <a:lnTo>
                          <a:pt x="0" y="1296"/>
                        </a:lnTo>
                        <a:lnTo>
                          <a:pt x="0" y="1152"/>
                        </a:lnTo>
                        <a:lnTo>
                          <a:pt x="240" y="912"/>
                        </a:lnTo>
                        <a:lnTo>
                          <a:pt x="432" y="768"/>
                        </a:lnTo>
                        <a:lnTo>
                          <a:pt x="528" y="480"/>
                        </a:lnTo>
                        <a:lnTo>
                          <a:pt x="624" y="0"/>
                        </a:lnTo>
                        <a:lnTo>
                          <a:pt x="672" y="0"/>
                        </a:lnTo>
                        <a:lnTo>
                          <a:pt x="672" y="1296"/>
                        </a:lnTo>
                        <a:close/>
                      </a:path>
                    </a:pathLst>
                  </a:custGeom>
                  <a:solidFill>
                    <a:srgbClr val="ced8f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743760" y="4429800"/>
                    <a:ext cx="4251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743760" y="4429800"/>
                    <a:ext cx="425160" cy="32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743760" y="4759920"/>
                    <a:ext cx="425160" cy="32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743760" y="5089680"/>
                    <a:ext cx="425160" cy="32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743760" y="5419800"/>
                    <a:ext cx="425160" cy="32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743760" y="5749920"/>
                    <a:ext cx="425160" cy="55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839160" y="4093200"/>
                    <a:ext cx="55080" cy="673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797040" y="4044600"/>
                    <a:ext cx="3186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895320" y="4373640"/>
                    <a:ext cx="60840" cy="55800"/>
                  </a:xfrm>
                  <a:prstGeom prst="rect">
                    <a:avLst/>
                  </a:prstGeom>
                  <a:solidFill>
                    <a:srgbClr val="4422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956520" y="4373640"/>
                    <a:ext cx="60840" cy="55800"/>
                  </a:xfrm>
                  <a:prstGeom prst="rect">
                    <a:avLst/>
                  </a:prstGeom>
                  <a:solidFill>
                    <a:srgbClr val="4422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860040" y="4362120"/>
                    <a:ext cx="25560" cy="259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1024920" y="4364640"/>
                    <a:ext cx="25560" cy="2592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956520" y="4429800"/>
                    <a:ext cx="0" cy="1374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637560" y="6189840"/>
                    <a:ext cx="637560" cy="110160"/>
                  </a:xfrm>
                  <a:prstGeom prst="rect">
                    <a:avLst/>
                  </a:prstGeom>
                  <a:solidFill>
                    <a:srgbClr val="c3cff7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0" y="5981400"/>
                    <a:ext cx="191304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44">
                        <a:moveTo>
                          <a:pt x="576" y="144"/>
                        </a:moveTo>
                        <a:lnTo>
                          <a:pt x="0" y="48"/>
                        </a:lnTo>
                        <a:lnTo>
                          <a:pt x="0" y="0"/>
                        </a:lnTo>
                        <a:lnTo>
                          <a:pt x="48" y="0"/>
                        </a:lnTo>
                        <a:lnTo>
                          <a:pt x="864" y="0"/>
                        </a:lnTo>
                        <a:lnTo>
                          <a:pt x="1680" y="0"/>
                        </a:lnTo>
                        <a:lnTo>
                          <a:pt x="1728" y="0"/>
                        </a:lnTo>
                        <a:lnTo>
                          <a:pt x="1728" y="48"/>
                        </a:lnTo>
                        <a:lnTo>
                          <a:pt x="1152" y="144"/>
                        </a:lnTo>
                        <a:lnTo>
                          <a:pt x="576" y="144"/>
                        </a:lnTo>
                        <a:close/>
                      </a:path>
                    </a:pathLst>
                  </a:custGeom>
                  <a:solidFill>
                    <a:srgbClr val="ced8f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318600" y="5969880"/>
                    <a:ext cx="0" cy="14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594080" y="5969880"/>
                    <a:ext cx="0" cy="14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0" y="4320000"/>
                    <a:ext cx="797040" cy="171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1500">
                        <a:moveTo>
                          <a:pt x="720" y="1392"/>
                        </a:moveTo>
                        <a:lnTo>
                          <a:pt x="59" y="1392"/>
                        </a:lnTo>
                        <a:lnTo>
                          <a:pt x="56" y="1346"/>
                        </a:lnTo>
                        <a:lnTo>
                          <a:pt x="74" y="1290"/>
                        </a:lnTo>
                        <a:lnTo>
                          <a:pt x="126" y="1236"/>
                        </a:lnTo>
                        <a:lnTo>
                          <a:pt x="287" y="1101"/>
                        </a:lnTo>
                        <a:lnTo>
                          <a:pt x="476" y="932"/>
                        </a:lnTo>
                        <a:lnTo>
                          <a:pt x="522" y="869"/>
                        </a:lnTo>
                        <a:lnTo>
                          <a:pt x="564" y="756"/>
                        </a:lnTo>
                        <a:lnTo>
                          <a:pt x="594" y="614"/>
                        </a:lnTo>
                        <a:lnTo>
                          <a:pt x="624" y="441"/>
                        </a:lnTo>
                        <a:lnTo>
                          <a:pt x="647" y="324"/>
                        </a:lnTo>
                        <a:lnTo>
                          <a:pt x="672" y="218"/>
                        </a:lnTo>
                        <a:lnTo>
                          <a:pt x="672" y="0"/>
                        </a:lnTo>
                        <a:lnTo>
                          <a:pt x="644" y="132"/>
                        </a:lnTo>
                        <a:lnTo>
                          <a:pt x="624" y="240"/>
                        </a:lnTo>
                        <a:lnTo>
                          <a:pt x="588" y="456"/>
                        </a:lnTo>
                        <a:lnTo>
                          <a:pt x="560" y="596"/>
                        </a:lnTo>
                        <a:lnTo>
                          <a:pt x="527" y="735"/>
                        </a:lnTo>
                        <a:lnTo>
                          <a:pt x="488" y="833"/>
                        </a:lnTo>
                        <a:lnTo>
                          <a:pt x="432" y="912"/>
                        </a:lnTo>
                        <a:lnTo>
                          <a:pt x="201" y="1115"/>
                        </a:lnTo>
                        <a:lnTo>
                          <a:pt x="78" y="1220"/>
                        </a:lnTo>
                        <a:lnTo>
                          <a:pt x="45" y="1259"/>
                        </a:lnTo>
                        <a:lnTo>
                          <a:pt x="24" y="1314"/>
                        </a:lnTo>
                        <a:lnTo>
                          <a:pt x="0" y="1392"/>
                        </a:lnTo>
                        <a:lnTo>
                          <a:pt x="0" y="1454"/>
                        </a:lnTo>
                        <a:lnTo>
                          <a:pt x="30" y="1473"/>
                        </a:lnTo>
                        <a:lnTo>
                          <a:pt x="587" y="1500"/>
                        </a:lnTo>
                        <a:lnTo>
                          <a:pt x="720" y="1488"/>
                        </a:lnTo>
                        <a:lnTo>
                          <a:pt x="720" y="139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H="1">
                    <a:off x="1116000" y="4320000"/>
                    <a:ext cx="797040" cy="171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1500">
                        <a:moveTo>
                          <a:pt x="720" y="1392"/>
                        </a:moveTo>
                        <a:lnTo>
                          <a:pt x="59" y="1392"/>
                        </a:lnTo>
                        <a:lnTo>
                          <a:pt x="56" y="1346"/>
                        </a:lnTo>
                        <a:lnTo>
                          <a:pt x="74" y="1290"/>
                        </a:lnTo>
                        <a:lnTo>
                          <a:pt x="126" y="1236"/>
                        </a:lnTo>
                        <a:lnTo>
                          <a:pt x="287" y="1101"/>
                        </a:lnTo>
                        <a:lnTo>
                          <a:pt x="476" y="932"/>
                        </a:lnTo>
                        <a:lnTo>
                          <a:pt x="522" y="869"/>
                        </a:lnTo>
                        <a:lnTo>
                          <a:pt x="564" y="756"/>
                        </a:lnTo>
                        <a:lnTo>
                          <a:pt x="594" y="614"/>
                        </a:lnTo>
                        <a:lnTo>
                          <a:pt x="624" y="441"/>
                        </a:lnTo>
                        <a:lnTo>
                          <a:pt x="647" y="324"/>
                        </a:lnTo>
                        <a:lnTo>
                          <a:pt x="672" y="218"/>
                        </a:lnTo>
                        <a:lnTo>
                          <a:pt x="672" y="0"/>
                        </a:lnTo>
                        <a:lnTo>
                          <a:pt x="644" y="132"/>
                        </a:lnTo>
                        <a:lnTo>
                          <a:pt x="624" y="240"/>
                        </a:lnTo>
                        <a:lnTo>
                          <a:pt x="588" y="456"/>
                        </a:lnTo>
                        <a:lnTo>
                          <a:pt x="560" y="596"/>
                        </a:lnTo>
                        <a:lnTo>
                          <a:pt x="527" y="735"/>
                        </a:lnTo>
                        <a:lnTo>
                          <a:pt x="488" y="833"/>
                        </a:lnTo>
                        <a:lnTo>
                          <a:pt x="432" y="912"/>
                        </a:lnTo>
                        <a:lnTo>
                          <a:pt x="201" y="1115"/>
                        </a:lnTo>
                        <a:lnTo>
                          <a:pt x="78" y="1220"/>
                        </a:lnTo>
                        <a:lnTo>
                          <a:pt x="45" y="1259"/>
                        </a:lnTo>
                        <a:lnTo>
                          <a:pt x="24" y="1314"/>
                        </a:lnTo>
                        <a:lnTo>
                          <a:pt x="0" y="1392"/>
                        </a:lnTo>
                        <a:lnTo>
                          <a:pt x="0" y="1454"/>
                        </a:lnTo>
                        <a:lnTo>
                          <a:pt x="30" y="1473"/>
                        </a:lnTo>
                        <a:lnTo>
                          <a:pt x="587" y="1500"/>
                        </a:lnTo>
                        <a:lnTo>
                          <a:pt x="720" y="1488"/>
                        </a:lnTo>
                        <a:lnTo>
                          <a:pt x="720" y="139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676080" y="6147360"/>
                    <a:ext cx="32040" cy="110160"/>
                  </a:xfrm>
                  <a:prstGeom prst="rect">
                    <a:avLst/>
                  </a:prstGeom>
                  <a:solidFill>
                    <a:srgbClr val="9f8b6b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1207800" y="6147360"/>
                    <a:ext cx="32040" cy="110160"/>
                  </a:xfrm>
                  <a:prstGeom prst="rect">
                    <a:avLst/>
                  </a:prstGeom>
                  <a:solidFill>
                    <a:srgbClr val="9f8b6b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743760" y="5913720"/>
                    <a:ext cx="425160" cy="38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88680" y="6144120"/>
                    <a:ext cx="2034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22">
                        <a:moveTo>
                          <a:pt x="78" y="211"/>
                        </a:moveTo>
                        <a:lnTo>
                          <a:pt x="164" y="222"/>
                        </a:lnTo>
                        <a:lnTo>
                          <a:pt x="174" y="154"/>
                        </a:lnTo>
                        <a:lnTo>
                          <a:pt x="174" y="85"/>
                        </a:lnTo>
                        <a:lnTo>
                          <a:pt x="162" y="15"/>
                        </a:lnTo>
                        <a:lnTo>
                          <a:pt x="98" y="0"/>
                        </a:lnTo>
                        <a:lnTo>
                          <a:pt x="53" y="54"/>
                        </a:lnTo>
                        <a:lnTo>
                          <a:pt x="20" y="121"/>
                        </a:lnTo>
                        <a:lnTo>
                          <a:pt x="0" y="183"/>
                        </a:lnTo>
                        <a:lnTo>
                          <a:pt x="78" y="21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a70"/>
                      </a:gs>
                      <a:gs pos="50000">
                        <a:srgbClr val="b5c4f5"/>
                      </a:gs>
                      <a:gs pos="100000">
                        <a:srgbClr val="535a7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flipH="1">
                    <a:off x="1021680" y="6153120"/>
                    <a:ext cx="20160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22">
                        <a:moveTo>
                          <a:pt x="78" y="211"/>
                        </a:moveTo>
                        <a:lnTo>
                          <a:pt x="164" y="222"/>
                        </a:lnTo>
                        <a:lnTo>
                          <a:pt x="174" y="154"/>
                        </a:lnTo>
                        <a:lnTo>
                          <a:pt x="174" y="85"/>
                        </a:lnTo>
                        <a:lnTo>
                          <a:pt x="162" y="15"/>
                        </a:lnTo>
                        <a:lnTo>
                          <a:pt x="98" y="0"/>
                        </a:lnTo>
                        <a:lnTo>
                          <a:pt x="53" y="54"/>
                        </a:lnTo>
                        <a:lnTo>
                          <a:pt x="20" y="121"/>
                        </a:lnTo>
                        <a:lnTo>
                          <a:pt x="0" y="183"/>
                        </a:lnTo>
                        <a:lnTo>
                          <a:pt x="78" y="21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a70"/>
                      </a:gs>
                      <a:gs pos="50000">
                        <a:srgbClr val="b5c4f5"/>
                      </a:gs>
                      <a:gs pos="100000">
                        <a:srgbClr val="535a7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847800" y="6146280"/>
                    <a:ext cx="22356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96">
                        <a:moveTo>
                          <a:pt x="89" y="196"/>
                        </a:moveTo>
                        <a:lnTo>
                          <a:pt x="173" y="177"/>
                        </a:lnTo>
                        <a:lnTo>
                          <a:pt x="162" y="115"/>
                        </a:lnTo>
                        <a:lnTo>
                          <a:pt x="146" y="58"/>
                        </a:lnTo>
                        <a:lnTo>
                          <a:pt x="117" y="0"/>
                        </a:lnTo>
                        <a:lnTo>
                          <a:pt x="53" y="1"/>
                        </a:lnTo>
                        <a:lnTo>
                          <a:pt x="21" y="61"/>
                        </a:lnTo>
                        <a:lnTo>
                          <a:pt x="8" y="114"/>
                        </a:lnTo>
                        <a:lnTo>
                          <a:pt x="0" y="178"/>
                        </a:lnTo>
                        <a:lnTo>
                          <a:pt x="89" y="1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a70"/>
                      </a:gs>
                      <a:gs pos="50000">
                        <a:srgbClr val="b5c4f5"/>
                      </a:gs>
                      <a:gs pos="100000">
                        <a:srgbClr val="535a7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743760" y="5805000"/>
                    <a:ext cx="425160" cy="18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883440" y="5803560"/>
                    <a:ext cx="145800" cy="384840"/>
                  </a:xfrm>
                  <a:prstGeom prst="rect">
                    <a:avLst/>
                  </a:prstGeom>
                  <a:solidFill>
                    <a:srgbClr val="ced8f4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1031760" y="5805000"/>
                    <a:ext cx="24336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320">
                        <a:moveTo>
                          <a:pt x="0" y="179"/>
                        </a:moveTo>
                        <a:lnTo>
                          <a:pt x="1" y="131"/>
                        </a:lnTo>
                        <a:lnTo>
                          <a:pt x="11" y="66"/>
                        </a:lnTo>
                        <a:lnTo>
                          <a:pt x="23" y="29"/>
                        </a:lnTo>
                        <a:lnTo>
                          <a:pt x="34" y="0"/>
                        </a:lnTo>
                        <a:lnTo>
                          <a:pt x="141" y="1"/>
                        </a:lnTo>
                        <a:lnTo>
                          <a:pt x="166" y="46"/>
                        </a:lnTo>
                        <a:lnTo>
                          <a:pt x="187" y="92"/>
                        </a:lnTo>
                        <a:lnTo>
                          <a:pt x="204" y="164"/>
                        </a:lnTo>
                        <a:lnTo>
                          <a:pt x="213" y="245"/>
                        </a:lnTo>
                        <a:lnTo>
                          <a:pt x="216" y="320"/>
                        </a:lnTo>
                        <a:lnTo>
                          <a:pt x="28" y="320"/>
                        </a:lnTo>
                        <a:lnTo>
                          <a:pt x="0" y="320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37560" y="5805000"/>
                    <a:ext cx="24336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319">
                        <a:moveTo>
                          <a:pt x="220" y="178"/>
                        </a:moveTo>
                        <a:lnTo>
                          <a:pt x="219" y="130"/>
                        </a:lnTo>
                        <a:lnTo>
                          <a:pt x="209" y="65"/>
                        </a:lnTo>
                        <a:lnTo>
                          <a:pt x="197" y="28"/>
                        </a:lnTo>
                        <a:lnTo>
                          <a:pt x="185" y="1"/>
                        </a:lnTo>
                        <a:lnTo>
                          <a:pt x="76" y="0"/>
                        </a:lnTo>
                        <a:lnTo>
                          <a:pt x="51" y="45"/>
                        </a:lnTo>
                        <a:lnTo>
                          <a:pt x="30" y="91"/>
                        </a:lnTo>
                        <a:lnTo>
                          <a:pt x="12" y="163"/>
                        </a:lnTo>
                        <a:lnTo>
                          <a:pt x="3" y="244"/>
                        </a:lnTo>
                        <a:lnTo>
                          <a:pt x="0" y="319"/>
                        </a:lnTo>
                        <a:lnTo>
                          <a:pt x="191" y="319"/>
                        </a:lnTo>
                        <a:lnTo>
                          <a:pt x="220" y="319"/>
                        </a:lnTo>
                        <a:lnTo>
                          <a:pt x="220" y="17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ed8f4"/>
                      </a:gs>
                      <a:gs pos="50000">
                        <a:srgbClr val="e8ecf9"/>
                      </a:gs>
                      <a:gs pos="100000">
                        <a:srgbClr val="ced8f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688680" y="6367320"/>
                    <a:ext cx="19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42">
                        <a:moveTo>
                          <a:pt x="82" y="30"/>
                        </a:moveTo>
                        <a:lnTo>
                          <a:pt x="173" y="42"/>
                        </a:lnTo>
                        <a:lnTo>
                          <a:pt x="115" y="12"/>
                        </a:lnTo>
                        <a:lnTo>
                          <a:pt x="70" y="1"/>
                        </a:lnTo>
                        <a:lnTo>
                          <a:pt x="0" y="0"/>
                        </a:lnTo>
                        <a:lnTo>
                          <a:pt x="82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1032840" y="6370920"/>
                    <a:ext cx="1904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41">
                        <a:moveTo>
                          <a:pt x="90" y="30"/>
                        </a:moveTo>
                        <a:lnTo>
                          <a:pt x="0" y="41"/>
                        </a:lnTo>
                        <a:lnTo>
                          <a:pt x="35" y="25"/>
                        </a:lnTo>
                        <a:lnTo>
                          <a:pt x="80" y="12"/>
                        </a:lnTo>
                        <a:lnTo>
                          <a:pt x="131" y="3"/>
                        </a:lnTo>
                        <a:lnTo>
                          <a:pt x="172" y="0"/>
                        </a:lnTo>
                        <a:lnTo>
                          <a:pt x="9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847800" y="6367320"/>
                    <a:ext cx="2235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34">
                        <a:moveTo>
                          <a:pt x="104" y="34"/>
                        </a:moveTo>
                        <a:lnTo>
                          <a:pt x="202" y="12"/>
                        </a:lnTo>
                        <a:lnTo>
                          <a:pt x="127" y="0"/>
                        </a:lnTo>
                        <a:lnTo>
                          <a:pt x="82" y="0"/>
                        </a:lnTo>
                        <a:lnTo>
                          <a:pt x="0" y="13"/>
                        </a:lnTo>
                        <a:lnTo>
                          <a:pt x="104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906840" y="5803560"/>
                    <a:ext cx="98280" cy="77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75">
                        <a:moveTo>
                          <a:pt x="3" y="212"/>
                        </a:moveTo>
                        <a:lnTo>
                          <a:pt x="11" y="83"/>
                        </a:lnTo>
                        <a:lnTo>
                          <a:pt x="29" y="0"/>
                        </a:lnTo>
                        <a:lnTo>
                          <a:pt x="61" y="0"/>
                        </a:lnTo>
                        <a:lnTo>
                          <a:pt x="80" y="83"/>
                        </a:lnTo>
                        <a:lnTo>
                          <a:pt x="84" y="210"/>
                        </a:lnTo>
                        <a:lnTo>
                          <a:pt x="89" y="311"/>
                        </a:lnTo>
                        <a:lnTo>
                          <a:pt x="71" y="584"/>
                        </a:lnTo>
                        <a:lnTo>
                          <a:pt x="60" y="648"/>
                        </a:lnTo>
                        <a:lnTo>
                          <a:pt x="46" y="675"/>
                        </a:lnTo>
                        <a:lnTo>
                          <a:pt x="32" y="647"/>
                        </a:lnTo>
                        <a:lnTo>
                          <a:pt x="18" y="582"/>
                        </a:lnTo>
                        <a:lnTo>
                          <a:pt x="0" y="306"/>
                        </a:lnTo>
                        <a:lnTo>
                          <a:pt x="3" y="2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938520" y="5803560"/>
                    <a:ext cx="35640" cy="77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75">
                        <a:moveTo>
                          <a:pt x="0" y="336"/>
                        </a:moveTo>
                        <a:lnTo>
                          <a:pt x="0" y="0"/>
                        </a:lnTo>
                        <a:lnTo>
                          <a:pt x="48" y="0"/>
                        </a:lnTo>
                        <a:lnTo>
                          <a:pt x="48" y="336"/>
                        </a:lnTo>
                        <a:lnTo>
                          <a:pt x="38" y="602"/>
                        </a:lnTo>
                        <a:lnTo>
                          <a:pt x="26" y="675"/>
                        </a:lnTo>
                        <a:lnTo>
                          <a:pt x="11" y="603"/>
                        </a:lnTo>
                        <a:lnTo>
                          <a:pt x="0" y="336"/>
                        </a:lnTo>
                        <a:close/>
                      </a:path>
                    </a:pathLst>
                  </a:custGeom>
                  <a:solidFill>
                    <a:srgbClr val="4422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788040" y="4093200"/>
                    <a:ext cx="1026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771480" y="4160520"/>
                    <a:ext cx="1216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V="1">
                    <a:off x="910080" y="3904200"/>
                    <a:ext cx="6480" cy="26280"/>
                  </a:xfrm>
                  <a:prstGeom prst="rect">
                    <a:avLst/>
                  </a:prstGeom>
                  <a:solidFill>
                    <a:srgbClr val="94aaf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955440" y="3906360"/>
                    <a:ext cx="6480" cy="25920"/>
                  </a:xfrm>
                  <a:prstGeom prst="rect">
                    <a:avLst/>
                  </a:prstGeom>
                  <a:solidFill>
                    <a:srgbClr val="94aaf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V="1">
                    <a:off x="988560" y="3903840"/>
                    <a:ext cx="18720" cy="25920"/>
                  </a:xfrm>
                  <a:prstGeom prst="rect">
                    <a:avLst/>
                  </a:prstGeom>
                  <a:solidFill>
                    <a:srgbClr val="94aaf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3" name=""/>
                  <p:cNvGrpSpPr/>
                  <p:nvPr/>
                </p:nvGrpSpPr>
                <p:grpSpPr>
                  <a:xfrm>
                    <a:off x="780480" y="4147920"/>
                    <a:ext cx="357480" cy="164880"/>
                    <a:chOff x="780480" y="4147920"/>
                    <a:chExt cx="357480" cy="164880"/>
                  </a:xfrm>
                </p:grpSpPr>
                <p:sp>
                  <p:nvSpPr>
                    <p:cNvPr id="2004" name=""/>
                    <p:cNvSpPr/>
                    <p:nvPr/>
                  </p:nvSpPr>
                  <p:spPr>
                    <a:xfrm>
                      <a:off x="780480" y="4147920"/>
                      <a:ext cx="35748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144">
                          <a:moveTo>
                            <a:pt x="0" y="144"/>
                          </a:moveTo>
                          <a:lnTo>
                            <a:pt x="12" y="60"/>
                          </a:lnTo>
                          <a:lnTo>
                            <a:pt x="162" y="0"/>
                          </a:lnTo>
                          <a:lnTo>
                            <a:pt x="303" y="54"/>
                          </a:lnTo>
                          <a:lnTo>
                            <a:pt x="323" y="143"/>
                          </a:lnTo>
                          <a:lnTo>
                            <a:pt x="252" y="128"/>
                          </a:lnTo>
                          <a:lnTo>
                            <a:pt x="243" y="96"/>
                          </a:lnTo>
                          <a:lnTo>
                            <a:pt x="210" y="75"/>
                          </a:lnTo>
                          <a:lnTo>
                            <a:pt x="162" y="66"/>
                          </a:lnTo>
                          <a:lnTo>
                            <a:pt x="111" y="77"/>
                          </a:lnTo>
                          <a:lnTo>
                            <a:pt x="75" y="96"/>
                          </a:lnTo>
                          <a:lnTo>
                            <a:pt x="69" y="129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4422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V="1">
                      <a:off x="1049400" y="4210920"/>
                      <a:ext cx="66240" cy="504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6" name=""/>
                    <p:cNvSpPr/>
                    <p:nvPr/>
                  </p:nvSpPr>
                  <p:spPr>
                    <a:xfrm flipV="1">
                      <a:off x="1013760" y="4181040"/>
                      <a:ext cx="25200" cy="504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 flipH="1" flipV="1">
                      <a:off x="797040" y="4219560"/>
                      <a:ext cx="66240" cy="39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 flipV="1">
                      <a:off x="959760" y="4149000"/>
                      <a:ext cx="0" cy="741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880920" y="4182120"/>
                      <a:ext cx="24120" cy="51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10" name=""/>
            <p:cNvGrpSpPr/>
            <p:nvPr/>
          </p:nvGrpSpPr>
          <p:grpSpPr>
            <a:xfrm>
              <a:off x="3938760" y="3067200"/>
              <a:ext cx="428040" cy="3645720"/>
              <a:chOff x="3938760" y="3067200"/>
              <a:chExt cx="428040" cy="3645720"/>
            </a:xfrm>
          </p:grpSpPr>
          <p:grpSp>
            <p:nvGrpSpPr>
              <p:cNvPr id="2011" name=""/>
              <p:cNvGrpSpPr/>
              <p:nvPr/>
            </p:nvGrpSpPr>
            <p:grpSpPr>
              <a:xfrm>
                <a:off x="4020480" y="3796560"/>
                <a:ext cx="268200" cy="884160"/>
                <a:chOff x="4020480" y="3796560"/>
                <a:chExt cx="268200" cy="88416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4020480" y="3893400"/>
                  <a:ext cx="2671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020480" y="3905640"/>
                  <a:ext cx="267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V="1">
                  <a:off x="4020480" y="3832920"/>
                  <a:ext cx="268200" cy="60480"/>
                </a:xfrm>
                <a:custGeom>
                  <a:avLst/>
                  <a:gdLst>
                    <a:gd name="textAreaLeft" fmla="*/ 67680 w 268200"/>
                    <a:gd name="textAreaRight" fmla="*/ 200520 w 268200"/>
                    <a:gd name="textAreaTop" fmla="*/ 15120 h 60480"/>
                    <a:gd name="textAreaBottom" fmla="*/ 45360 h 60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909" y="21600"/>
                      </a:lnTo>
                      <a:lnTo>
                        <a:pt x="6691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102200" y="3796560"/>
                  <a:ext cx="104760" cy="3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043520" y="4499280"/>
                  <a:ext cx="221760" cy="48240"/>
                </a:xfrm>
                <a:custGeom>
                  <a:avLst/>
                  <a:gdLst>
                    <a:gd name="textAreaLeft" fmla="*/ 32040 w 221760"/>
                    <a:gd name="textAreaRight" fmla="*/ 189720 w 221760"/>
                    <a:gd name="textAreaTop" fmla="*/ 6840 h 48240"/>
                    <a:gd name="textAreaBottom" fmla="*/ 41400 h 4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137" y="21600"/>
                      </a:lnTo>
                      <a:lnTo>
                        <a:pt x="246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020480" y="4317480"/>
                  <a:ext cx="268200" cy="24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020480" y="3953880"/>
                  <a:ext cx="268200" cy="48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a4723"/>
                    </a:gs>
                    <a:gs pos="50000">
                      <a:srgbClr val="b69148"/>
                    </a:gs>
                    <a:gs pos="100000">
                      <a:srgbClr val="5a472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140720" y="4581360"/>
                  <a:ext cx="349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118040" y="4545000"/>
                  <a:ext cx="349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061160" y="4565880"/>
                  <a:ext cx="46440" cy="4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4043520" y="4595760"/>
                  <a:ext cx="81720" cy="84600"/>
                </a:xfrm>
                <a:custGeom>
                  <a:avLst/>
                  <a:gdLst>
                    <a:gd name="textAreaLeft" fmla="*/ 18000 w 81720"/>
                    <a:gd name="textAreaRight" fmla="*/ 63720 w 81720"/>
                    <a:gd name="textAreaTop" fmla="*/ 18360 h 84600"/>
                    <a:gd name="textAreaBottom" fmla="*/ 66240 h 8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066920" y="4547880"/>
                  <a:ext cx="34920" cy="24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201200" y="4565880"/>
                  <a:ext cx="46440" cy="4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4183560" y="4595760"/>
                  <a:ext cx="81720" cy="84600"/>
                </a:xfrm>
                <a:custGeom>
                  <a:avLst/>
                  <a:gdLst>
                    <a:gd name="textAreaLeft" fmla="*/ 18000 w 81720"/>
                    <a:gd name="textAreaRight" fmla="*/ 63720 w 81720"/>
                    <a:gd name="textAreaTop" fmla="*/ 18360 h 84600"/>
                    <a:gd name="textAreaBottom" fmla="*/ 66240 h 8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206960" y="4547880"/>
                  <a:ext cx="34920" cy="24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148640" y="4523760"/>
                  <a:ext cx="69840" cy="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066920" y="4544280"/>
                  <a:ext cx="17496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3992760" y="3067200"/>
                <a:ext cx="321120" cy="830520"/>
                <a:chOff x="3992760" y="3067200"/>
                <a:chExt cx="321120" cy="83052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3992760" y="3765240"/>
                  <a:ext cx="321120" cy="25200"/>
                </a:xfrm>
                <a:custGeom>
                  <a:avLst/>
                  <a:gdLst>
                    <a:gd name="textAreaLeft" fmla="*/ 40680 w 321120"/>
                    <a:gd name="textAreaRight" fmla="*/ 280440 w 321120"/>
                    <a:gd name="textAreaTop" fmla="*/ 3240 h 25200"/>
                    <a:gd name="textAreaBottom" fmla="*/ 21960 h 2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800" y="21600"/>
                      </a:lnTo>
                      <a:lnTo>
                        <a:pt x="18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7d7d7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992760" y="3496680"/>
                  <a:ext cx="321120" cy="268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992760" y="3067200"/>
                  <a:ext cx="321120" cy="42948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020120" y="3790440"/>
                  <a:ext cx="267120" cy="103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020120" y="3897720"/>
                  <a:ext cx="267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5" name=""/>
              <p:cNvGrpSpPr/>
              <p:nvPr/>
            </p:nvGrpSpPr>
            <p:grpSpPr>
              <a:xfrm>
                <a:off x="3938760" y="4434840"/>
                <a:ext cx="428040" cy="2278080"/>
                <a:chOff x="3938760" y="4434840"/>
                <a:chExt cx="428040" cy="2278080"/>
              </a:xfrm>
            </p:grpSpPr>
            <p:sp>
              <p:nvSpPr>
                <p:cNvPr id="2036" name=""/>
                <p:cNvSpPr/>
                <p:nvPr/>
              </p:nvSpPr>
              <p:spPr>
                <a:xfrm flipV="1">
                  <a:off x="3938760" y="6597000"/>
                  <a:ext cx="106920" cy="115920"/>
                </a:xfrm>
                <a:custGeom>
                  <a:avLst/>
                  <a:gdLst>
                    <a:gd name="textAreaLeft" fmla="*/ 23400 w 106920"/>
                    <a:gd name="textAreaRight" fmla="*/ 83520 w 106920"/>
                    <a:gd name="textAreaTop" fmla="*/ 25560 h 115920"/>
                    <a:gd name="textAreaBottom" fmla="*/ 90360 h 11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V="1">
                  <a:off x="4083840" y="6581160"/>
                  <a:ext cx="136800" cy="131400"/>
                </a:xfrm>
                <a:custGeom>
                  <a:avLst/>
                  <a:gdLst>
                    <a:gd name="textAreaLeft" fmla="*/ 29880 w 136800"/>
                    <a:gd name="textAreaRight" fmla="*/ 106920 w 136800"/>
                    <a:gd name="textAreaTop" fmla="*/ 28800 h 131400"/>
                    <a:gd name="textAreaBottom" fmla="*/ 102600 h 131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V="1">
                  <a:off x="4259880" y="6597000"/>
                  <a:ext cx="106920" cy="115920"/>
                </a:xfrm>
                <a:custGeom>
                  <a:avLst/>
                  <a:gdLst>
                    <a:gd name="textAreaLeft" fmla="*/ 23400 w 106920"/>
                    <a:gd name="textAreaRight" fmla="*/ 83520 w 106920"/>
                    <a:gd name="textAreaTop" fmla="*/ 25560 h 115920"/>
                    <a:gd name="textAreaBottom" fmla="*/ 90360 h 11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020480" y="4757040"/>
                  <a:ext cx="267120" cy="112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d6c63"/>
                    </a:gs>
                    <a:gs pos="50000">
                      <a:srgbClr val="bea596"/>
                    </a:gs>
                    <a:gs pos="100000">
                      <a:srgbClr val="7d6c6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020480" y="5884920"/>
                  <a:ext cx="267120" cy="48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24c26"/>
                    </a:gs>
                    <a:gs pos="50000">
                      <a:srgbClr val="dcd3ca"/>
                    </a:gs>
                    <a:gs pos="100000">
                      <a:srgbClr val="724c2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3945240" y="6366960"/>
                  <a:ext cx="414720" cy="253080"/>
                </a:xfrm>
                <a:custGeom>
                  <a:avLst/>
                  <a:gdLst>
                    <a:gd name="textAreaLeft" fmla="*/ 64440 w 414720"/>
                    <a:gd name="textAreaRight" fmla="*/ 350280 w 414720"/>
                    <a:gd name="textAreaTop" fmla="*/ 39240 h 253080"/>
                    <a:gd name="textAreaBottom" fmla="*/ 213840 h 253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97" y="21600"/>
                      </a:lnTo>
                      <a:lnTo>
                        <a:pt x="290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d6c63"/>
                    </a:gs>
                    <a:gs pos="50000">
                      <a:srgbClr val="bea596"/>
                    </a:gs>
                    <a:gs pos="100000">
                      <a:srgbClr val="7d6c6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020480" y="6474600"/>
                  <a:ext cx="267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020480" y="6581880"/>
                  <a:ext cx="267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938760" y="6474600"/>
                  <a:ext cx="160920" cy="161280"/>
                </a:xfrm>
                <a:prstGeom prst="parallelogram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bea596"/>
                    </a:gs>
                    <a:gs pos="100000">
                      <a:srgbClr val="574c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H="1">
                  <a:off x="4206960" y="6474600"/>
                  <a:ext cx="159840" cy="161280"/>
                </a:xfrm>
                <a:prstGeom prst="parallelogram">
                  <a:avLst>
                    <a:gd name="adj" fmla="val 23611"/>
                  </a:avLst>
                </a:prstGeom>
                <a:gradFill rotWithShape="0">
                  <a:gsLst>
                    <a:gs pos="0">
                      <a:srgbClr val="574c45"/>
                    </a:gs>
                    <a:gs pos="100000">
                      <a:srgbClr val="bea59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045680" y="5937840"/>
                  <a:ext cx="81720" cy="591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180680" y="5937840"/>
                  <a:ext cx="79200" cy="591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046760" y="5884920"/>
                  <a:ext cx="80640" cy="525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180680" y="5884920"/>
                  <a:ext cx="79200" cy="525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4046760" y="6528240"/>
                  <a:ext cx="80640" cy="72360"/>
                </a:xfrm>
                <a:custGeom>
                  <a:avLst/>
                  <a:gdLst>
                    <a:gd name="textAreaLeft" fmla="*/ 17640 w 80640"/>
                    <a:gd name="textAreaRight" fmla="*/ 63000 w 80640"/>
                    <a:gd name="textAreaTop" fmla="*/ 15840 h 72360"/>
                    <a:gd name="textAreaBottom" fmla="*/ 56520 h 7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4180680" y="6528240"/>
                  <a:ext cx="80640" cy="72360"/>
                </a:xfrm>
                <a:custGeom>
                  <a:avLst/>
                  <a:gdLst>
                    <a:gd name="textAreaLeft" fmla="*/ 17640 w 80640"/>
                    <a:gd name="textAreaRight" fmla="*/ 63000 w 80640"/>
                    <a:gd name="textAreaTop" fmla="*/ 15840 h 72360"/>
                    <a:gd name="textAreaBottom" fmla="*/ 56520 h 7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287600" y="5776560"/>
                  <a:ext cx="19440" cy="590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>
                  <a:off x="4000680" y="6206400"/>
                  <a:ext cx="19440" cy="1609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287600" y="5616360"/>
                  <a:ext cx="19440" cy="15984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135680" y="4864320"/>
                  <a:ext cx="19440" cy="1503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020480" y="4434840"/>
                  <a:ext cx="267120" cy="32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7" name=""/>
            <p:cNvGrpSpPr/>
            <p:nvPr/>
          </p:nvGrpSpPr>
          <p:grpSpPr>
            <a:xfrm>
              <a:off x="1866960" y="1271520"/>
              <a:ext cx="1153800" cy="5460840"/>
              <a:chOff x="1866960" y="1271520"/>
              <a:chExt cx="1153800" cy="5460840"/>
            </a:xfrm>
          </p:grpSpPr>
          <p:grpSp>
            <p:nvGrpSpPr>
              <p:cNvPr id="2058" name=""/>
              <p:cNvGrpSpPr/>
              <p:nvPr/>
            </p:nvGrpSpPr>
            <p:grpSpPr>
              <a:xfrm>
                <a:off x="2261160" y="2546280"/>
                <a:ext cx="364320" cy="1067760"/>
                <a:chOff x="2261160" y="2546280"/>
                <a:chExt cx="364320" cy="106776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2261520" y="2606760"/>
                  <a:ext cx="3639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474640" y="3342960"/>
                  <a:ext cx="6048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fedbb9"/>
                    </a:gs>
                    <a:gs pos="100000">
                      <a:srgbClr val="ff993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261520" y="2897640"/>
                  <a:ext cx="363960" cy="1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292120" y="3142440"/>
                  <a:ext cx="303480" cy="20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292120" y="3066840"/>
                  <a:ext cx="30348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4" name=""/>
                <p:cNvGrpSpPr/>
                <p:nvPr/>
              </p:nvGrpSpPr>
              <p:grpSpPr>
                <a:xfrm>
                  <a:off x="2337480" y="3342960"/>
                  <a:ext cx="197640" cy="271080"/>
                  <a:chOff x="2337480" y="3342960"/>
                  <a:chExt cx="197640" cy="27108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2359800" y="3342960"/>
                    <a:ext cx="159840" cy="29880"/>
                  </a:xfrm>
                  <a:custGeom>
                    <a:avLst/>
                    <a:gdLst>
                      <a:gd name="textAreaLeft" fmla="*/ 47520 w 159840"/>
                      <a:gd name="textAreaRight" fmla="*/ 112320 w 159840"/>
                      <a:gd name="textAreaTop" fmla="*/ 8640 h 29880"/>
                      <a:gd name="textAreaBottom" fmla="*/ 21240 h 29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207" y="21600"/>
                        </a:lnTo>
                        <a:lnTo>
                          <a:pt x="8393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4e4e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2337480" y="3432240"/>
                    <a:ext cx="19764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V="1">
                    <a:off x="2395080" y="3372840"/>
                    <a:ext cx="90720" cy="60480"/>
                  </a:xfrm>
                  <a:custGeom>
                    <a:avLst/>
                    <a:gdLst>
                      <a:gd name="textAreaLeft" fmla="*/ 23040 w 90720"/>
                      <a:gd name="textAreaRight" fmla="*/ 67680 w 90720"/>
                      <a:gd name="textAreaTop" fmla="*/ 15120 h 60480"/>
                      <a:gd name="textAreaBottom" fmla="*/ 45360 h 6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4909" y="21600"/>
                        </a:lnTo>
                        <a:lnTo>
                          <a:pt x="6691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4e4e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2373480" y="3483000"/>
                    <a:ext cx="13104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2358360" y="3533400"/>
                    <a:ext cx="1612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2345760" y="3583080"/>
                    <a:ext cx="1810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1" name=""/>
                <p:cNvSpPr/>
                <p:nvPr/>
              </p:nvSpPr>
              <p:spPr>
                <a:xfrm>
                  <a:off x="2292120" y="3234600"/>
                  <a:ext cx="30348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322360" y="3006000"/>
                  <a:ext cx="6012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fedbb9"/>
                    </a:gs>
                    <a:gs pos="100000">
                      <a:srgbClr val="ff993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3" name=""/>
                <p:cNvGrpSpPr/>
                <p:nvPr/>
              </p:nvGrpSpPr>
              <p:grpSpPr>
                <a:xfrm>
                  <a:off x="2292120" y="3234600"/>
                  <a:ext cx="303480" cy="30960"/>
                  <a:chOff x="2292120" y="3234600"/>
                  <a:chExt cx="303480" cy="3096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229212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23216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235728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23990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244080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248256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252432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255996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25898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3" name=""/>
                <p:cNvGrpSpPr/>
                <p:nvPr/>
              </p:nvGrpSpPr>
              <p:grpSpPr>
                <a:xfrm>
                  <a:off x="2263320" y="3012840"/>
                  <a:ext cx="360360" cy="331920"/>
                  <a:chOff x="2263320" y="3012840"/>
                  <a:chExt cx="360360" cy="331920"/>
                </a:xfrm>
              </p:grpSpPr>
              <p:grpSp>
                <p:nvGrpSpPr>
                  <p:cNvPr id="2084" name=""/>
                  <p:cNvGrpSpPr/>
                  <p:nvPr/>
                </p:nvGrpSpPr>
                <p:grpSpPr>
                  <a:xfrm>
                    <a:off x="2263320" y="3012840"/>
                    <a:ext cx="182160" cy="148320"/>
                    <a:chOff x="2263320" y="3012840"/>
                    <a:chExt cx="182160" cy="148320"/>
                  </a:xfrm>
                </p:grpSpPr>
                <p:sp>
                  <p:nvSpPr>
                    <p:cNvPr id="2085" name=""/>
                    <p:cNvSpPr/>
                    <p:nvPr/>
                  </p:nvSpPr>
                  <p:spPr>
                    <a:xfrm rot="14750400">
                      <a:off x="2273760" y="30870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6" name=""/>
                    <p:cNvSpPr/>
                    <p:nvPr/>
                  </p:nvSpPr>
                  <p:spPr>
                    <a:xfrm flipH="1" rot="6849600">
                      <a:off x="2333520" y="30870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7" name=""/>
                    <p:cNvSpPr/>
                    <p:nvPr/>
                  </p:nvSpPr>
                  <p:spPr>
                    <a:xfrm flipH="1" rot="6108600">
                      <a:off x="2235960" y="308268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 rot="15491400">
                      <a:off x="2206800" y="3085560"/>
                      <a:ext cx="14652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2441520" y="3014280"/>
                    <a:ext cx="182160" cy="148680"/>
                    <a:chOff x="2441520" y="3014280"/>
                    <a:chExt cx="182160" cy="148680"/>
                  </a:xfrm>
                </p:grpSpPr>
                <p:sp>
                  <p:nvSpPr>
                    <p:cNvPr id="2090" name=""/>
                    <p:cNvSpPr/>
                    <p:nvPr/>
                  </p:nvSpPr>
                  <p:spPr>
                    <a:xfrm flipH="1" rot="6849600">
                      <a:off x="2457000" y="30888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"/>
                    <p:cNvSpPr/>
                    <p:nvPr/>
                  </p:nvSpPr>
                  <p:spPr>
                    <a:xfrm rot="14750400">
                      <a:off x="2397240" y="30888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2" name=""/>
                    <p:cNvSpPr/>
                    <p:nvPr/>
                  </p:nvSpPr>
                  <p:spPr>
                    <a:xfrm rot="15491400">
                      <a:off x="2504160" y="308448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3" name=""/>
                    <p:cNvSpPr/>
                    <p:nvPr/>
                  </p:nvSpPr>
                  <p:spPr>
                    <a:xfrm flipH="1" rot="6108600">
                      <a:off x="2533320" y="308772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4" name=""/>
                  <p:cNvGrpSpPr/>
                  <p:nvPr/>
                </p:nvGrpSpPr>
                <p:grpSpPr>
                  <a:xfrm>
                    <a:off x="2293560" y="3265200"/>
                    <a:ext cx="150480" cy="79560"/>
                    <a:chOff x="2293560" y="3265200"/>
                    <a:chExt cx="150480" cy="79560"/>
                  </a:xfrm>
                </p:grpSpPr>
                <p:sp>
                  <p:nvSpPr>
                    <p:cNvPr id="2095" name=""/>
                    <p:cNvSpPr/>
                    <p:nvPr/>
                  </p:nvSpPr>
                  <p:spPr>
                    <a:xfrm flipH="1" rot="6465000">
                      <a:off x="2284920" y="3304800"/>
                      <a:ext cx="80640" cy="2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rot="15518400">
                      <a:off x="2262240" y="3303720"/>
                      <a:ext cx="80640" cy="2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 rot="14176800">
                      <a:off x="2319840" y="330336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 flipH="1" rot="7423200">
                      <a:off x="2370960" y="330372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9" name=""/>
                  <p:cNvGrpSpPr/>
                  <p:nvPr/>
                </p:nvGrpSpPr>
                <p:grpSpPr>
                  <a:xfrm>
                    <a:off x="2442960" y="3263400"/>
                    <a:ext cx="150840" cy="79560"/>
                    <a:chOff x="2442960" y="3263400"/>
                    <a:chExt cx="150840" cy="79560"/>
                  </a:xfrm>
                </p:grpSpPr>
                <p:sp>
                  <p:nvSpPr>
                    <p:cNvPr id="2100" name=""/>
                    <p:cNvSpPr/>
                    <p:nvPr/>
                  </p:nvSpPr>
                  <p:spPr>
                    <a:xfrm rot="15135000">
                      <a:off x="2520720" y="3303000"/>
                      <a:ext cx="80640" cy="2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 flipH="1" rot="6081600">
                      <a:off x="2543760" y="3301560"/>
                      <a:ext cx="80640" cy="2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flipH="1" rot="7423200">
                      <a:off x="2475360" y="330156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 rot="14176800">
                      <a:off x="2423880" y="330192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04" name=""/>
                <p:cNvSpPr/>
                <p:nvPr/>
              </p:nvSpPr>
              <p:spPr>
                <a:xfrm flipH="1" rot="8578200">
                  <a:off x="2246400" y="2606040"/>
                  <a:ext cx="153720" cy="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2373120" y="2631960"/>
                  <a:ext cx="146520" cy="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13021800">
                  <a:off x="2485440" y="2607840"/>
                  <a:ext cx="15372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7360" y="2546280"/>
                  <a:ext cx="15228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V="1">
                  <a:off x="2261520" y="2652840"/>
                  <a:ext cx="3639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9" name=""/>
                <p:cNvGrpSpPr/>
                <p:nvPr/>
              </p:nvGrpSpPr>
              <p:grpSpPr>
                <a:xfrm>
                  <a:off x="2261520" y="2669400"/>
                  <a:ext cx="363960" cy="677880"/>
                  <a:chOff x="2261520" y="2669400"/>
                  <a:chExt cx="363960" cy="67788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2291760" y="3159360"/>
                    <a:ext cx="3034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2261520" y="2684520"/>
                    <a:ext cx="363960" cy="33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2261520" y="2944800"/>
                    <a:ext cx="363960" cy="1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2261520" y="2715120"/>
                    <a:ext cx="363960" cy="1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337120" y="2669400"/>
                    <a:ext cx="30240" cy="36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2310840" y="3342960"/>
                    <a:ext cx="26748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77777"/>
                      </a:gs>
                      <a:gs pos="50000">
                        <a:srgbClr val="a7a7a7"/>
                      </a:gs>
                      <a:gs pos="100000">
                        <a:srgbClr val="777777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2291760" y="3266280"/>
                    <a:ext cx="30384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7" name=""/>
              <p:cNvGrpSpPr/>
              <p:nvPr/>
            </p:nvGrpSpPr>
            <p:grpSpPr>
              <a:xfrm>
                <a:off x="1866960" y="3152880"/>
                <a:ext cx="1153800" cy="3579480"/>
                <a:chOff x="1866960" y="3152880"/>
                <a:chExt cx="1153800" cy="357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2231280" y="6186600"/>
                  <a:ext cx="424800" cy="1209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31280" y="3638160"/>
                  <a:ext cx="424800" cy="60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0" name=""/>
                <p:cNvGrpSpPr/>
                <p:nvPr/>
              </p:nvGrpSpPr>
              <p:grpSpPr>
                <a:xfrm>
                  <a:off x="2656440" y="3152880"/>
                  <a:ext cx="364320" cy="3579480"/>
                  <a:chOff x="2656440" y="3152880"/>
                  <a:chExt cx="364320" cy="3579480"/>
                </a:xfrm>
              </p:grpSpPr>
              <p:grpSp>
                <p:nvGrpSpPr>
                  <p:cNvPr id="2121" name=""/>
                  <p:cNvGrpSpPr/>
                  <p:nvPr/>
                </p:nvGrpSpPr>
                <p:grpSpPr>
                  <a:xfrm>
                    <a:off x="2656440" y="3638160"/>
                    <a:ext cx="364320" cy="3094200"/>
                    <a:chOff x="2656440" y="3638160"/>
                    <a:chExt cx="364320" cy="3094200"/>
                  </a:xfrm>
                </p:grpSpPr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2734560" y="6579360"/>
                      <a:ext cx="2023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2">
                          <a:moveTo>
                            <a:pt x="95" y="0"/>
                          </a:moveTo>
                          <a:lnTo>
                            <a:pt x="113" y="42"/>
                          </a:lnTo>
                          <a:lnTo>
                            <a:pt x="126" y="102"/>
                          </a:lnTo>
                          <a:lnTo>
                            <a:pt x="0" y="102"/>
                          </a:lnTo>
                          <a:lnTo>
                            <a:pt x="16" y="42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2656440" y="6326640"/>
                      <a:ext cx="364320" cy="254160"/>
                    </a:xfrm>
                    <a:custGeom>
                      <a:avLst/>
                      <a:gdLst>
                        <a:gd name="textAreaLeft" fmla="*/ 104040 w 364320"/>
                        <a:gd name="textAreaRight" fmla="*/ 260280 w 364320"/>
                        <a:gd name="textAreaTop" fmla="*/ 72360 h 254160"/>
                        <a:gd name="textAreaBottom" fmla="*/ 181800 h 254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3650" y="21600"/>
                          </a:lnTo>
                          <a:lnTo>
                            <a:pt x="795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2656440" y="448740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2656440" y="594360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2656440" y="4609080"/>
                      <a:ext cx="364320" cy="1456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2656440" y="4244760"/>
                      <a:ext cx="364320" cy="242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2656440" y="363816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2656440" y="3759120"/>
                      <a:ext cx="364320" cy="606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0" name=""/>
                    <p:cNvGrpSpPr/>
                    <p:nvPr/>
                  </p:nvGrpSpPr>
                  <p:grpSpPr>
                    <a:xfrm>
                      <a:off x="2656440" y="4366080"/>
                      <a:ext cx="364320" cy="242640"/>
                      <a:chOff x="2656440" y="4366080"/>
                      <a:chExt cx="364320" cy="242640"/>
                    </a:xfrm>
                  </p:grpSpPr>
                  <p:sp>
                    <p:nvSpPr>
                      <p:cNvPr id="2131" name=""/>
                      <p:cNvSpPr/>
                      <p:nvPr/>
                    </p:nvSpPr>
                    <p:spPr>
                      <a:xfrm>
                        <a:off x="2656440" y="436608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2" name=""/>
                      <p:cNvSpPr/>
                      <p:nvPr/>
                    </p:nvSpPr>
                    <p:spPr>
                      <a:xfrm flipH="1">
                        <a:off x="271692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3" name=""/>
                      <p:cNvSpPr/>
                      <p:nvPr/>
                    </p:nvSpPr>
                    <p:spPr>
                      <a:xfrm>
                        <a:off x="265644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4" name=""/>
                      <p:cNvSpPr/>
                      <p:nvPr/>
                    </p:nvSpPr>
                    <p:spPr>
                      <a:xfrm>
                        <a:off x="277776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5" name=""/>
                      <p:cNvSpPr/>
                      <p:nvPr/>
                    </p:nvSpPr>
                    <p:spPr>
                      <a:xfrm flipH="1">
                        <a:off x="283860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6" name=""/>
                      <p:cNvSpPr/>
                      <p:nvPr/>
                    </p:nvSpPr>
                    <p:spPr>
                      <a:xfrm>
                        <a:off x="289908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7" name=""/>
                      <p:cNvSpPr/>
                      <p:nvPr/>
                    </p:nvSpPr>
                    <p:spPr>
                      <a:xfrm flipH="1">
                        <a:off x="295992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8" name=""/>
                      <p:cNvSpPr/>
                      <p:nvPr/>
                    </p:nvSpPr>
                    <p:spPr>
                      <a:xfrm>
                        <a:off x="3020760" y="436608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39" name=""/>
                    <p:cNvSpPr/>
                    <p:nvPr/>
                  </p:nvSpPr>
                  <p:spPr>
                    <a:xfrm>
                      <a:off x="2656440" y="6125760"/>
                      <a:ext cx="364320" cy="199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0" name=""/>
                    <p:cNvSpPr/>
                    <p:nvPr/>
                  </p:nvSpPr>
                  <p:spPr>
                    <a:xfrm>
                      <a:off x="2656440" y="6065280"/>
                      <a:ext cx="364320" cy="60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1" name=""/>
                  <p:cNvGrpSpPr/>
                  <p:nvPr/>
                </p:nvGrpSpPr>
                <p:grpSpPr>
                  <a:xfrm>
                    <a:off x="2656440" y="3638160"/>
                    <a:ext cx="364320" cy="2572200"/>
                    <a:chOff x="2656440" y="3638160"/>
                    <a:chExt cx="364320" cy="2572200"/>
                  </a:xfrm>
                </p:grpSpPr>
                <p:sp>
                  <p:nvSpPr>
                    <p:cNvPr id="2142" name=""/>
                    <p:cNvSpPr/>
                    <p:nvPr/>
                  </p:nvSpPr>
                  <p:spPr>
                    <a:xfrm>
                      <a:off x="2656440" y="3638160"/>
                      <a:ext cx="364320" cy="120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3" name=""/>
                    <p:cNvSpPr/>
                    <p:nvPr/>
                  </p:nvSpPr>
                  <p:spPr>
                    <a:xfrm>
                      <a:off x="2656440" y="4366080"/>
                      <a:ext cx="364320" cy="242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44" name=""/>
                    <p:cNvGrpSpPr/>
                    <p:nvPr/>
                  </p:nvGrpSpPr>
                  <p:grpSpPr>
                    <a:xfrm>
                      <a:off x="2656440" y="3698640"/>
                      <a:ext cx="364320" cy="2511720"/>
                      <a:chOff x="2656440" y="3698640"/>
                      <a:chExt cx="364320" cy="2511720"/>
                    </a:xfrm>
                  </p:grpSpPr>
                  <p:sp>
                    <p:nvSpPr>
                      <p:cNvPr id="2145" name=""/>
                      <p:cNvSpPr/>
                      <p:nvPr/>
                    </p:nvSpPr>
                    <p:spPr>
                      <a:xfrm>
                        <a:off x="2656440" y="4137120"/>
                        <a:ext cx="3643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6" name=""/>
                      <p:cNvSpPr/>
                      <p:nvPr/>
                    </p:nvSpPr>
                    <p:spPr>
                      <a:xfrm>
                        <a:off x="2656440" y="5276160"/>
                        <a:ext cx="3643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7" name=""/>
                      <p:cNvSpPr/>
                      <p:nvPr/>
                    </p:nvSpPr>
                    <p:spPr>
                      <a:xfrm>
                        <a:off x="2838600" y="3698640"/>
                        <a:ext cx="36720" cy="2511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14145"/>
                          </a:gs>
                          <a:gs pos="50000">
                            <a:srgbClr val="9caaac"/>
                          </a:gs>
                          <a:gs pos="100000">
                            <a:srgbClr val="214145"/>
                          </a:gs>
                        </a:gsLst>
                        <a:lin ang="10800000"/>
                      </a:gra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48" name=""/>
                  <p:cNvSpPr/>
                  <p:nvPr/>
                </p:nvSpPr>
                <p:spPr>
                  <a:xfrm>
                    <a:off x="2656440" y="3152880"/>
                    <a:ext cx="36432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9" name=""/>
                <p:cNvGrpSpPr/>
                <p:nvPr/>
              </p:nvGrpSpPr>
              <p:grpSpPr>
                <a:xfrm>
                  <a:off x="1866960" y="3152880"/>
                  <a:ext cx="364320" cy="3579480"/>
                  <a:chOff x="1866960" y="3152880"/>
                  <a:chExt cx="364320" cy="3579480"/>
                </a:xfrm>
              </p:grpSpPr>
              <p:grpSp>
                <p:nvGrpSpPr>
                  <p:cNvPr id="2150" name=""/>
                  <p:cNvGrpSpPr/>
                  <p:nvPr/>
                </p:nvGrpSpPr>
                <p:grpSpPr>
                  <a:xfrm>
                    <a:off x="1866960" y="3638160"/>
                    <a:ext cx="364320" cy="3094200"/>
                    <a:chOff x="1866960" y="3638160"/>
                    <a:chExt cx="364320" cy="3094200"/>
                  </a:xfrm>
                </p:grpSpPr>
                <p:sp>
                  <p:nvSpPr>
                    <p:cNvPr id="2151" name=""/>
                    <p:cNvSpPr/>
                    <p:nvPr/>
                  </p:nvSpPr>
                  <p:spPr>
                    <a:xfrm>
                      <a:off x="1945080" y="6579360"/>
                      <a:ext cx="2023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2">
                          <a:moveTo>
                            <a:pt x="95" y="0"/>
                          </a:moveTo>
                          <a:lnTo>
                            <a:pt x="113" y="42"/>
                          </a:lnTo>
                          <a:lnTo>
                            <a:pt x="126" y="102"/>
                          </a:lnTo>
                          <a:lnTo>
                            <a:pt x="0" y="102"/>
                          </a:lnTo>
                          <a:lnTo>
                            <a:pt x="16" y="42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2" name=""/>
                    <p:cNvSpPr/>
                    <p:nvPr/>
                  </p:nvSpPr>
                  <p:spPr>
                    <a:xfrm>
                      <a:off x="1866960" y="6326640"/>
                      <a:ext cx="364320" cy="254160"/>
                    </a:xfrm>
                    <a:custGeom>
                      <a:avLst/>
                      <a:gdLst>
                        <a:gd name="textAreaLeft" fmla="*/ 104040 w 364320"/>
                        <a:gd name="textAreaRight" fmla="*/ 260280 w 364320"/>
                        <a:gd name="textAreaTop" fmla="*/ 72360 h 254160"/>
                        <a:gd name="textAreaBottom" fmla="*/ 181800 h 254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3650" y="21600"/>
                          </a:lnTo>
                          <a:lnTo>
                            <a:pt x="795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/>
                    <p:nvPr/>
                  </p:nvSpPr>
                  <p:spPr>
                    <a:xfrm>
                      <a:off x="1866960" y="448740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4" name=""/>
                    <p:cNvSpPr/>
                    <p:nvPr/>
                  </p:nvSpPr>
                  <p:spPr>
                    <a:xfrm>
                      <a:off x="1866960" y="594360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5" name=""/>
                    <p:cNvSpPr/>
                    <p:nvPr/>
                  </p:nvSpPr>
                  <p:spPr>
                    <a:xfrm>
                      <a:off x="1866960" y="4609080"/>
                      <a:ext cx="364320" cy="1456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/>
                    <p:nvPr/>
                  </p:nvSpPr>
                  <p:spPr>
                    <a:xfrm>
                      <a:off x="1866960" y="4244760"/>
                      <a:ext cx="364320" cy="242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7" name=""/>
                    <p:cNvSpPr/>
                    <p:nvPr/>
                  </p:nvSpPr>
                  <p:spPr>
                    <a:xfrm>
                      <a:off x="1866960" y="3638160"/>
                      <a:ext cx="36432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8" name=""/>
                    <p:cNvSpPr/>
                    <p:nvPr/>
                  </p:nvSpPr>
                  <p:spPr>
                    <a:xfrm>
                      <a:off x="1866960" y="3759120"/>
                      <a:ext cx="364320" cy="606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59" name=""/>
                    <p:cNvGrpSpPr/>
                    <p:nvPr/>
                  </p:nvGrpSpPr>
                  <p:grpSpPr>
                    <a:xfrm>
                      <a:off x="1866960" y="4366080"/>
                      <a:ext cx="364320" cy="242640"/>
                      <a:chOff x="1866960" y="4366080"/>
                      <a:chExt cx="364320" cy="242640"/>
                    </a:xfrm>
                  </p:grpSpPr>
                  <p:sp>
                    <p:nvSpPr>
                      <p:cNvPr id="2160" name=""/>
                      <p:cNvSpPr/>
                      <p:nvPr/>
                    </p:nvSpPr>
                    <p:spPr>
                      <a:xfrm>
                        <a:off x="1866960" y="436608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1" name=""/>
                      <p:cNvSpPr/>
                      <p:nvPr/>
                    </p:nvSpPr>
                    <p:spPr>
                      <a:xfrm flipH="1">
                        <a:off x="192744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2" name=""/>
                      <p:cNvSpPr/>
                      <p:nvPr/>
                    </p:nvSpPr>
                    <p:spPr>
                      <a:xfrm>
                        <a:off x="186696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3" name=""/>
                      <p:cNvSpPr/>
                      <p:nvPr/>
                    </p:nvSpPr>
                    <p:spPr>
                      <a:xfrm>
                        <a:off x="198828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4" name=""/>
                      <p:cNvSpPr/>
                      <p:nvPr/>
                    </p:nvSpPr>
                    <p:spPr>
                      <a:xfrm flipH="1">
                        <a:off x="204912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5" name=""/>
                      <p:cNvSpPr/>
                      <p:nvPr/>
                    </p:nvSpPr>
                    <p:spPr>
                      <a:xfrm>
                        <a:off x="210960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6" name=""/>
                      <p:cNvSpPr/>
                      <p:nvPr/>
                    </p:nvSpPr>
                    <p:spPr>
                      <a:xfrm flipH="1">
                        <a:off x="2170440" y="436608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7" name=""/>
                      <p:cNvSpPr/>
                      <p:nvPr/>
                    </p:nvSpPr>
                    <p:spPr>
                      <a:xfrm>
                        <a:off x="2231280" y="436608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68" name=""/>
                    <p:cNvSpPr/>
                    <p:nvPr/>
                  </p:nvSpPr>
                  <p:spPr>
                    <a:xfrm>
                      <a:off x="1866960" y="6125760"/>
                      <a:ext cx="364320" cy="199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/>
                    <p:nvPr/>
                  </p:nvSpPr>
                  <p:spPr>
                    <a:xfrm>
                      <a:off x="1866960" y="6065280"/>
                      <a:ext cx="364320" cy="60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0" name=""/>
                  <p:cNvGrpSpPr/>
                  <p:nvPr/>
                </p:nvGrpSpPr>
                <p:grpSpPr>
                  <a:xfrm>
                    <a:off x="1866960" y="3638160"/>
                    <a:ext cx="364320" cy="2572200"/>
                    <a:chOff x="1866960" y="3638160"/>
                    <a:chExt cx="364320" cy="2572200"/>
                  </a:xfrm>
                </p:grpSpPr>
                <p:sp>
                  <p:nvSpPr>
                    <p:cNvPr id="2171" name=""/>
                    <p:cNvSpPr/>
                    <p:nvPr/>
                  </p:nvSpPr>
                  <p:spPr>
                    <a:xfrm>
                      <a:off x="1866960" y="3638160"/>
                      <a:ext cx="364320" cy="120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/>
                    <p:nvPr/>
                  </p:nvSpPr>
                  <p:spPr>
                    <a:xfrm>
                      <a:off x="1866960" y="4366080"/>
                      <a:ext cx="364320" cy="242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3" name=""/>
                    <p:cNvGrpSpPr/>
                    <p:nvPr/>
                  </p:nvGrpSpPr>
                  <p:grpSpPr>
                    <a:xfrm>
                      <a:off x="1866960" y="3698640"/>
                      <a:ext cx="364320" cy="2511720"/>
                      <a:chOff x="1866960" y="3698640"/>
                      <a:chExt cx="364320" cy="2511720"/>
                    </a:xfrm>
                  </p:grpSpPr>
                  <p:sp>
                    <p:nvSpPr>
                      <p:cNvPr id="2174" name=""/>
                      <p:cNvSpPr/>
                      <p:nvPr/>
                    </p:nvSpPr>
                    <p:spPr>
                      <a:xfrm>
                        <a:off x="1866960" y="4137120"/>
                        <a:ext cx="3643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5" name=""/>
                      <p:cNvSpPr/>
                      <p:nvPr/>
                    </p:nvSpPr>
                    <p:spPr>
                      <a:xfrm>
                        <a:off x="1866960" y="5276160"/>
                        <a:ext cx="3643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6" name=""/>
                      <p:cNvSpPr/>
                      <p:nvPr/>
                    </p:nvSpPr>
                    <p:spPr>
                      <a:xfrm>
                        <a:off x="2049120" y="3698640"/>
                        <a:ext cx="36720" cy="2511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14145"/>
                          </a:gs>
                          <a:gs pos="50000">
                            <a:srgbClr val="9caaac"/>
                          </a:gs>
                          <a:gs pos="100000">
                            <a:srgbClr val="214145"/>
                          </a:gs>
                        </a:gsLst>
                        <a:lin ang="10800000"/>
                      </a:gra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77" name=""/>
                  <p:cNvSpPr/>
                  <p:nvPr/>
                </p:nvSpPr>
                <p:spPr>
                  <a:xfrm>
                    <a:off x="1866960" y="3152880"/>
                    <a:ext cx="36432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8" name=""/>
              <p:cNvGrpSpPr/>
              <p:nvPr/>
            </p:nvGrpSpPr>
            <p:grpSpPr>
              <a:xfrm>
                <a:off x="2261880" y="1271520"/>
                <a:ext cx="363960" cy="5460480"/>
                <a:chOff x="2261880" y="1271520"/>
                <a:chExt cx="363960" cy="5460480"/>
              </a:xfrm>
            </p:grpSpPr>
            <p:grpSp>
              <p:nvGrpSpPr>
                <p:cNvPr id="2179" name=""/>
                <p:cNvGrpSpPr/>
                <p:nvPr/>
              </p:nvGrpSpPr>
              <p:grpSpPr>
                <a:xfrm>
                  <a:off x="2261880" y="3637800"/>
                  <a:ext cx="363960" cy="3094200"/>
                  <a:chOff x="2261880" y="3637800"/>
                  <a:chExt cx="363960" cy="3094200"/>
                </a:xfrm>
              </p:grpSpPr>
              <p:grpSp>
                <p:nvGrpSpPr>
                  <p:cNvPr id="2180" name=""/>
                  <p:cNvGrpSpPr/>
                  <p:nvPr/>
                </p:nvGrpSpPr>
                <p:grpSpPr>
                  <a:xfrm>
                    <a:off x="2262240" y="3637800"/>
                    <a:ext cx="363600" cy="3094200"/>
                    <a:chOff x="2262240" y="3637800"/>
                    <a:chExt cx="363600" cy="3094200"/>
                  </a:xfrm>
                </p:grpSpPr>
                <p:sp>
                  <p:nvSpPr>
                    <p:cNvPr id="2181" name=""/>
                    <p:cNvSpPr/>
                    <p:nvPr/>
                  </p:nvSpPr>
                  <p:spPr>
                    <a:xfrm>
                      <a:off x="2340360" y="6579000"/>
                      <a:ext cx="20196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2">
                          <a:moveTo>
                            <a:pt x="95" y="0"/>
                          </a:moveTo>
                          <a:lnTo>
                            <a:pt x="113" y="42"/>
                          </a:lnTo>
                          <a:lnTo>
                            <a:pt x="126" y="102"/>
                          </a:lnTo>
                          <a:lnTo>
                            <a:pt x="0" y="102"/>
                          </a:lnTo>
                          <a:lnTo>
                            <a:pt x="16" y="42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/>
                    <p:nvPr/>
                  </p:nvSpPr>
                  <p:spPr>
                    <a:xfrm>
                      <a:off x="2262240" y="6326280"/>
                      <a:ext cx="363600" cy="254160"/>
                    </a:xfrm>
                    <a:custGeom>
                      <a:avLst/>
                      <a:gdLst>
                        <a:gd name="textAreaLeft" fmla="*/ 103680 w 363600"/>
                        <a:gd name="textAreaRight" fmla="*/ 259920 w 363600"/>
                        <a:gd name="textAreaTop" fmla="*/ 72360 h 254160"/>
                        <a:gd name="textAreaBottom" fmla="*/ 181800 h 2541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3650" y="21600"/>
                          </a:lnTo>
                          <a:lnTo>
                            <a:pt x="795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dddddd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3" name=""/>
                    <p:cNvSpPr/>
                    <p:nvPr/>
                  </p:nvSpPr>
                  <p:spPr>
                    <a:xfrm>
                      <a:off x="2262240" y="4487040"/>
                      <a:ext cx="36360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4" name=""/>
                    <p:cNvSpPr/>
                    <p:nvPr/>
                  </p:nvSpPr>
                  <p:spPr>
                    <a:xfrm>
                      <a:off x="2262240" y="5943240"/>
                      <a:ext cx="36360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2262240" y="4608720"/>
                      <a:ext cx="363600" cy="1456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6" name=""/>
                    <p:cNvSpPr/>
                    <p:nvPr/>
                  </p:nvSpPr>
                  <p:spPr>
                    <a:xfrm>
                      <a:off x="2262240" y="4244400"/>
                      <a:ext cx="363600" cy="242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7" name=""/>
                    <p:cNvSpPr/>
                    <p:nvPr/>
                  </p:nvSpPr>
                  <p:spPr>
                    <a:xfrm>
                      <a:off x="2262240" y="3637800"/>
                      <a:ext cx="363600" cy="242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5f5f5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8" name=""/>
                    <p:cNvSpPr/>
                    <p:nvPr/>
                  </p:nvSpPr>
                  <p:spPr>
                    <a:xfrm>
                      <a:off x="2262240" y="3758760"/>
                      <a:ext cx="363600" cy="606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89" name=""/>
                    <p:cNvGrpSpPr/>
                    <p:nvPr/>
                  </p:nvGrpSpPr>
                  <p:grpSpPr>
                    <a:xfrm>
                      <a:off x="2262240" y="4365720"/>
                      <a:ext cx="363600" cy="242640"/>
                      <a:chOff x="2262240" y="4365720"/>
                      <a:chExt cx="363600" cy="242640"/>
                    </a:xfrm>
                  </p:grpSpPr>
                  <p:sp>
                    <p:nvSpPr>
                      <p:cNvPr id="2190" name=""/>
                      <p:cNvSpPr/>
                      <p:nvPr/>
                    </p:nvSpPr>
                    <p:spPr>
                      <a:xfrm>
                        <a:off x="2262240" y="436572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1" name=""/>
                      <p:cNvSpPr/>
                      <p:nvPr/>
                    </p:nvSpPr>
                    <p:spPr>
                      <a:xfrm flipH="1">
                        <a:off x="2322360" y="436572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2" name=""/>
                      <p:cNvSpPr/>
                      <p:nvPr/>
                    </p:nvSpPr>
                    <p:spPr>
                      <a:xfrm>
                        <a:off x="2262240" y="4365720"/>
                        <a:ext cx="6012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3" name=""/>
                      <p:cNvSpPr/>
                      <p:nvPr/>
                    </p:nvSpPr>
                    <p:spPr>
                      <a:xfrm>
                        <a:off x="2383200" y="436572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4" name=""/>
                      <p:cNvSpPr/>
                      <p:nvPr/>
                    </p:nvSpPr>
                    <p:spPr>
                      <a:xfrm flipH="1">
                        <a:off x="2443680" y="4365720"/>
                        <a:ext cx="6012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5" name=""/>
                      <p:cNvSpPr/>
                      <p:nvPr/>
                    </p:nvSpPr>
                    <p:spPr>
                      <a:xfrm>
                        <a:off x="2504160" y="436572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6" name=""/>
                      <p:cNvSpPr/>
                      <p:nvPr/>
                    </p:nvSpPr>
                    <p:spPr>
                      <a:xfrm flipH="1">
                        <a:off x="2565000" y="4365720"/>
                        <a:ext cx="6048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7" name=""/>
                      <p:cNvSpPr/>
                      <p:nvPr/>
                    </p:nvSpPr>
                    <p:spPr>
                      <a:xfrm>
                        <a:off x="2625840" y="4365720"/>
                        <a:ext cx="0" cy="24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98" name=""/>
                    <p:cNvSpPr/>
                    <p:nvPr/>
                  </p:nvSpPr>
                  <p:spPr>
                    <a:xfrm>
                      <a:off x="2262240" y="6125400"/>
                      <a:ext cx="363600" cy="199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9" name=""/>
                    <p:cNvSpPr/>
                    <p:nvPr/>
                  </p:nvSpPr>
                  <p:spPr>
                    <a:xfrm>
                      <a:off x="2262240" y="6064920"/>
                      <a:ext cx="363600" cy="60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0" name=""/>
                  <p:cNvGrpSpPr/>
                  <p:nvPr/>
                </p:nvGrpSpPr>
                <p:grpSpPr>
                  <a:xfrm>
                    <a:off x="2261880" y="3637800"/>
                    <a:ext cx="363600" cy="120960"/>
                    <a:chOff x="2261880" y="3637800"/>
                    <a:chExt cx="363600" cy="120960"/>
                  </a:xfrm>
                </p:grpSpPr>
                <p:sp>
                  <p:nvSpPr>
                    <p:cNvPr id="2201" name=""/>
                    <p:cNvSpPr/>
                    <p:nvPr/>
                  </p:nvSpPr>
                  <p:spPr>
                    <a:xfrm flipH="1">
                      <a:off x="2261880" y="3637800"/>
                      <a:ext cx="6012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2" name=""/>
                    <p:cNvSpPr/>
                    <p:nvPr/>
                  </p:nvSpPr>
                  <p:spPr>
                    <a:xfrm flipH="1">
                      <a:off x="2383200" y="3637800"/>
                      <a:ext cx="6048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3" name=""/>
                    <p:cNvSpPr/>
                    <p:nvPr/>
                  </p:nvSpPr>
                  <p:spPr>
                    <a:xfrm>
                      <a:off x="2322360" y="3637800"/>
                      <a:ext cx="6048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/>
                    <p:nvPr/>
                  </p:nvSpPr>
                  <p:spPr>
                    <a:xfrm flipH="1">
                      <a:off x="2504160" y="3637800"/>
                      <a:ext cx="6048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2444040" y="3637800"/>
                      <a:ext cx="6012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6" name=""/>
                    <p:cNvSpPr/>
                    <p:nvPr/>
                  </p:nvSpPr>
                  <p:spPr>
                    <a:xfrm>
                      <a:off x="2565000" y="3637800"/>
                      <a:ext cx="60480" cy="120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/>
                    <p:nvPr/>
                  </p:nvSpPr>
                  <p:spPr>
                    <a:xfrm flipH="1">
                      <a:off x="2322000" y="3637800"/>
                      <a:ext cx="24228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8" name=""/>
                <p:cNvGrpSpPr/>
                <p:nvPr/>
              </p:nvGrpSpPr>
              <p:grpSpPr>
                <a:xfrm>
                  <a:off x="2262240" y="1271520"/>
                  <a:ext cx="363600" cy="4938480"/>
                  <a:chOff x="2262240" y="1271520"/>
                  <a:chExt cx="363600" cy="4938480"/>
                </a:xfrm>
              </p:grpSpPr>
              <p:grpSp>
                <p:nvGrpSpPr>
                  <p:cNvPr id="2209" name=""/>
                  <p:cNvGrpSpPr/>
                  <p:nvPr/>
                </p:nvGrpSpPr>
                <p:grpSpPr>
                  <a:xfrm>
                    <a:off x="2262240" y="1271520"/>
                    <a:ext cx="363600" cy="2365920"/>
                    <a:chOff x="2262240" y="1271520"/>
                    <a:chExt cx="363600" cy="2365920"/>
                  </a:xfrm>
                </p:grpSpPr>
                <p:sp>
                  <p:nvSpPr>
                    <p:cNvPr id="2210" name=""/>
                    <p:cNvSpPr/>
                    <p:nvPr/>
                  </p:nvSpPr>
                  <p:spPr>
                    <a:xfrm>
                      <a:off x="2262240" y="1822680"/>
                      <a:ext cx="363600" cy="1814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e6e6e6"/>
                        </a:gs>
                        <a:gs pos="100000">
                          <a:srgbClr val="b2b2b2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1" name=""/>
                    <p:cNvSpPr/>
                    <p:nvPr/>
                  </p:nvSpPr>
                  <p:spPr>
                    <a:xfrm>
                      <a:off x="2262240" y="1271520"/>
                      <a:ext cx="363600" cy="57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517">
                          <a:moveTo>
                            <a:pt x="0" y="517"/>
                          </a:moveTo>
                          <a:lnTo>
                            <a:pt x="13" y="340"/>
                          </a:lnTo>
                          <a:lnTo>
                            <a:pt x="38" y="194"/>
                          </a:lnTo>
                          <a:lnTo>
                            <a:pt x="80" y="83"/>
                          </a:lnTo>
                          <a:lnTo>
                            <a:pt x="128" y="12"/>
                          </a:lnTo>
                          <a:lnTo>
                            <a:pt x="160" y="0"/>
                          </a:lnTo>
                          <a:lnTo>
                            <a:pt x="189" y="12"/>
                          </a:lnTo>
                          <a:lnTo>
                            <a:pt x="228" y="80"/>
                          </a:lnTo>
                          <a:lnTo>
                            <a:pt x="271" y="194"/>
                          </a:lnTo>
                          <a:lnTo>
                            <a:pt x="296" y="338"/>
                          </a:lnTo>
                          <a:lnTo>
                            <a:pt x="308" y="51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e6e6e6"/>
                        </a:gs>
                        <a:gs pos="100000">
                          <a:srgbClr val="b2b2b2"/>
                        </a:gs>
                      </a:gsLst>
                      <a:lin ang="108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2" name=""/>
                  <p:cNvGrpSpPr/>
                  <p:nvPr/>
                </p:nvGrpSpPr>
                <p:grpSpPr>
                  <a:xfrm>
                    <a:off x="2262240" y="3637800"/>
                    <a:ext cx="363600" cy="2572200"/>
                    <a:chOff x="2262240" y="3637800"/>
                    <a:chExt cx="363600" cy="2572200"/>
                  </a:xfrm>
                </p:grpSpPr>
                <p:sp>
                  <p:nvSpPr>
                    <p:cNvPr id="2213" name=""/>
                    <p:cNvSpPr/>
                    <p:nvPr/>
                  </p:nvSpPr>
                  <p:spPr>
                    <a:xfrm>
                      <a:off x="2262240" y="3637800"/>
                      <a:ext cx="363600" cy="120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4" name=""/>
                    <p:cNvSpPr/>
                    <p:nvPr/>
                  </p:nvSpPr>
                  <p:spPr>
                    <a:xfrm>
                      <a:off x="2262240" y="4365720"/>
                      <a:ext cx="363600" cy="242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15" name=""/>
                    <p:cNvGrpSpPr/>
                    <p:nvPr/>
                  </p:nvGrpSpPr>
                  <p:grpSpPr>
                    <a:xfrm>
                      <a:off x="2262240" y="3698280"/>
                      <a:ext cx="363600" cy="2511720"/>
                      <a:chOff x="2262240" y="3698280"/>
                      <a:chExt cx="363600" cy="2511720"/>
                    </a:xfrm>
                  </p:grpSpPr>
                  <p:sp>
                    <p:nvSpPr>
                      <p:cNvPr id="2216" name=""/>
                      <p:cNvSpPr/>
                      <p:nvPr/>
                    </p:nvSpPr>
                    <p:spPr>
                      <a:xfrm>
                        <a:off x="2262240" y="4136760"/>
                        <a:ext cx="36360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>
                        <a:off x="2262240" y="5275800"/>
                        <a:ext cx="36360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8" name=""/>
                      <p:cNvSpPr/>
                      <p:nvPr/>
                    </p:nvSpPr>
                    <p:spPr>
                      <a:xfrm>
                        <a:off x="2444040" y="3698280"/>
                        <a:ext cx="36360" cy="2511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14145"/>
                          </a:gs>
                          <a:gs pos="50000">
                            <a:srgbClr val="9caaac"/>
                          </a:gs>
                          <a:gs pos="100000">
                            <a:srgbClr val="214145"/>
                          </a:gs>
                        </a:gsLst>
                        <a:lin ang="10800000"/>
                      </a:gra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219" name=""/>
          <p:cNvSpPr/>
          <p:nvPr/>
        </p:nvSpPr>
        <p:spPr>
          <a:xfrm>
            <a:off x="2133720" y="3581280"/>
            <a:ext cx="609480" cy="289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33520" y="2666880"/>
            <a:ext cx="838080" cy="3810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133720" y="2438280"/>
            <a:ext cx="6094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886200" y="3809880"/>
            <a:ext cx="5335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0" y="679320"/>
            <a:ext cx="9144000" cy="6172200"/>
            <a:chOff x="0" y="679320"/>
            <a:chExt cx="9144000" cy="6172200"/>
          </a:xfrm>
        </p:grpSpPr>
        <p:grpSp>
          <p:nvGrpSpPr>
            <p:cNvPr id="2224" name=""/>
            <p:cNvGrpSpPr/>
            <p:nvPr/>
          </p:nvGrpSpPr>
          <p:grpSpPr>
            <a:xfrm>
              <a:off x="0" y="679320"/>
              <a:ext cx="9144000" cy="6172200"/>
              <a:chOff x="0" y="679320"/>
              <a:chExt cx="9144000" cy="6172200"/>
            </a:xfrm>
          </p:grpSpPr>
          <p:sp>
            <p:nvSpPr>
              <p:cNvPr id="2225" name=""/>
              <p:cNvSpPr/>
              <p:nvPr/>
            </p:nvSpPr>
            <p:spPr>
              <a:xfrm>
                <a:off x="0" y="679320"/>
                <a:ext cx="9144000" cy="617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600120" y="2505240"/>
                <a:ext cx="712800" cy="3826800"/>
                <a:chOff x="600120" y="2505240"/>
                <a:chExt cx="712800" cy="382680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600120" y="5672520"/>
                  <a:ext cx="710640" cy="65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00120" y="3494880"/>
                  <a:ext cx="712800" cy="604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13b00"/>
                    </a:gs>
                    <a:gs pos="50000">
                      <a:srgbClr val="b08200"/>
                    </a:gs>
                    <a:gs pos="100000">
                      <a:srgbClr val="513b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V="1">
                  <a:off x="600120" y="3494160"/>
                  <a:ext cx="712800" cy="2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600120" y="4073400"/>
                  <a:ext cx="712800" cy="2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600120" y="2505240"/>
                  <a:ext cx="712800" cy="990720"/>
                </a:xfrm>
                <a:custGeom>
                  <a:avLst/>
                  <a:gdLst/>
                  <a:ahLst/>
                  <a:rect l="l" t="t" r="r" b="b"/>
                  <a:pathLst>
                    <a:path w="624" h="865">
                      <a:moveTo>
                        <a:pt x="0" y="864"/>
                      </a:moveTo>
                      <a:cubicBezTo>
                        <a:pt x="0" y="795"/>
                        <a:pt x="0" y="763"/>
                        <a:pt x="2" y="727"/>
                      </a:cubicBezTo>
                      <a:lnTo>
                        <a:pt x="9" y="646"/>
                      </a:lnTo>
                      <a:lnTo>
                        <a:pt x="17" y="585"/>
                      </a:lnTo>
                      <a:lnTo>
                        <a:pt x="30" y="523"/>
                      </a:lnTo>
                      <a:lnTo>
                        <a:pt x="48" y="442"/>
                      </a:lnTo>
                      <a:lnTo>
                        <a:pt x="72" y="369"/>
                      </a:lnTo>
                      <a:lnTo>
                        <a:pt x="104" y="298"/>
                      </a:lnTo>
                      <a:lnTo>
                        <a:pt x="138" y="243"/>
                      </a:lnTo>
                      <a:lnTo>
                        <a:pt x="183" y="177"/>
                      </a:lnTo>
                      <a:lnTo>
                        <a:pt x="227" y="127"/>
                      </a:lnTo>
                      <a:lnTo>
                        <a:pt x="275" y="76"/>
                      </a:lnTo>
                      <a:lnTo>
                        <a:pt x="294" y="40"/>
                      </a:lnTo>
                      <a:lnTo>
                        <a:pt x="312" y="0"/>
                      </a:lnTo>
                      <a:lnTo>
                        <a:pt x="330" y="42"/>
                      </a:lnTo>
                      <a:lnTo>
                        <a:pt x="350" y="76"/>
                      </a:lnTo>
                      <a:lnTo>
                        <a:pt x="405" y="135"/>
                      </a:lnTo>
                      <a:lnTo>
                        <a:pt x="441" y="177"/>
                      </a:lnTo>
                      <a:lnTo>
                        <a:pt x="489" y="246"/>
                      </a:lnTo>
                      <a:lnTo>
                        <a:pt x="521" y="300"/>
                      </a:lnTo>
                      <a:lnTo>
                        <a:pt x="548" y="360"/>
                      </a:lnTo>
                      <a:lnTo>
                        <a:pt x="575" y="438"/>
                      </a:lnTo>
                      <a:lnTo>
                        <a:pt x="593" y="508"/>
                      </a:lnTo>
                      <a:lnTo>
                        <a:pt x="606" y="580"/>
                      </a:lnTo>
                      <a:lnTo>
                        <a:pt x="615" y="651"/>
                      </a:lnTo>
                      <a:lnTo>
                        <a:pt x="623" y="732"/>
                      </a:lnTo>
                      <a:lnTo>
                        <a:pt x="624" y="865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f4c19"/>
                    </a:gs>
                    <a:gs pos="50000">
                      <a:srgbClr val="ff9933"/>
                    </a:gs>
                    <a:gs pos="100000">
                      <a:srgbClr val="7f4c19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>
                  <a:off x="955440" y="2505240"/>
                  <a:ext cx="192240" cy="989640"/>
                </a:xfrm>
                <a:custGeom>
                  <a:avLst/>
                  <a:gdLst/>
                  <a:ahLst/>
                  <a:rect l="l" t="t" r="r" b="b"/>
                  <a:pathLst>
                    <a:path w="298" h="841">
                      <a:moveTo>
                        <a:pt x="3" y="841"/>
                      </a:moveTo>
                      <a:cubicBezTo>
                        <a:pt x="3" y="817"/>
                        <a:pt x="0" y="747"/>
                        <a:pt x="3" y="694"/>
                      </a:cubicBezTo>
                      <a:cubicBezTo>
                        <a:pt x="6" y="641"/>
                        <a:pt x="13" y="579"/>
                        <a:pt x="24" y="525"/>
                      </a:cubicBezTo>
                      <a:cubicBezTo>
                        <a:pt x="35" y="471"/>
                        <a:pt x="51" y="415"/>
                        <a:pt x="67" y="370"/>
                      </a:cubicBezTo>
                      <a:cubicBezTo>
                        <a:pt x="83" y="325"/>
                        <a:pt x="100" y="291"/>
                        <a:pt x="121" y="253"/>
                      </a:cubicBezTo>
                      <a:cubicBezTo>
                        <a:pt x="142" y="215"/>
                        <a:pt x="173" y="175"/>
                        <a:pt x="196" y="145"/>
                      </a:cubicBezTo>
                      <a:cubicBezTo>
                        <a:pt x="219" y="115"/>
                        <a:pt x="244" y="99"/>
                        <a:pt x="261" y="75"/>
                      </a:cubicBezTo>
                      <a:cubicBezTo>
                        <a:pt x="278" y="51"/>
                        <a:pt x="290" y="16"/>
                        <a:pt x="298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600120" y="4069800"/>
                  <a:ext cx="712800" cy="19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148040" y="3494880"/>
                  <a:ext cx="0" cy="2507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4021200" y="3795840"/>
                <a:ext cx="268200" cy="885600"/>
                <a:chOff x="4021200" y="3795840"/>
                <a:chExt cx="268200" cy="88560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4021200" y="3892680"/>
                  <a:ext cx="2671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4021200" y="3904920"/>
                  <a:ext cx="267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V="1">
                  <a:off x="4021200" y="3832200"/>
                  <a:ext cx="268200" cy="60480"/>
                </a:xfrm>
                <a:custGeom>
                  <a:avLst/>
                  <a:gdLst>
                    <a:gd name="textAreaLeft" fmla="*/ 67680 w 268200"/>
                    <a:gd name="textAreaRight" fmla="*/ 200520 w 268200"/>
                    <a:gd name="textAreaTop" fmla="*/ 15120 h 60480"/>
                    <a:gd name="textAreaBottom" fmla="*/ 45360 h 60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909" y="21600"/>
                      </a:lnTo>
                      <a:lnTo>
                        <a:pt x="6691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4102920" y="3795840"/>
                  <a:ext cx="104760" cy="3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044240" y="4499640"/>
                  <a:ext cx="221760" cy="48240"/>
                </a:xfrm>
                <a:custGeom>
                  <a:avLst/>
                  <a:gdLst>
                    <a:gd name="textAreaLeft" fmla="*/ 32040 w 221760"/>
                    <a:gd name="textAreaRight" fmla="*/ 189720 w 221760"/>
                    <a:gd name="textAreaTop" fmla="*/ 6840 h 48240"/>
                    <a:gd name="textAreaBottom" fmla="*/ 41400 h 4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137" y="21600"/>
                      </a:lnTo>
                      <a:lnTo>
                        <a:pt x="246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021200" y="4317480"/>
                  <a:ext cx="268200" cy="2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4021200" y="3953520"/>
                  <a:ext cx="268200" cy="48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a4723"/>
                    </a:gs>
                    <a:gs pos="50000">
                      <a:srgbClr val="b69148"/>
                    </a:gs>
                    <a:gs pos="100000">
                      <a:srgbClr val="5a472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4141440" y="4581360"/>
                  <a:ext cx="349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4118760" y="4545000"/>
                  <a:ext cx="349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4061880" y="4565880"/>
                  <a:ext cx="46440" cy="4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V="1">
                  <a:off x="4044240" y="4596480"/>
                  <a:ext cx="81720" cy="84960"/>
                </a:xfrm>
                <a:custGeom>
                  <a:avLst/>
                  <a:gdLst>
                    <a:gd name="textAreaLeft" fmla="*/ 18000 w 81720"/>
                    <a:gd name="textAreaRight" fmla="*/ 63720 w 81720"/>
                    <a:gd name="textAreaTop" fmla="*/ 18720 h 84960"/>
                    <a:gd name="textAreaBottom" fmla="*/ 66240 h 8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4067640" y="4548240"/>
                  <a:ext cx="34920" cy="24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4201920" y="4565880"/>
                  <a:ext cx="46440" cy="4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V="1">
                  <a:off x="4184280" y="4596480"/>
                  <a:ext cx="81720" cy="84960"/>
                </a:xfrm>
                <a:custGeom>
                  <a:avLst/>
                  <a:gdLst>
                    <a:gd name="textAreaLeft" fmla="*/ 18000 w 81720"/>
                    <a:gd name="textAreaRight" fmla="*/ 63720 w 81720"/>
                    <a:gd name="textAreaTop" fmla="*/ 18720 h 84960"/>
                    <a:gd name="textAreaBottom" fmla="*/ 66240 h 8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4207680" y="4548240"/>
                  <a:ext cx="34920" cy="24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4149360" y="4523760"/>
                  <a:ext cx="69840" cy="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cfcfc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67640" y="4544640"/>
                  <a:ext cx="17496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2261160" y="2546280"/>
                <a:ext cx="364320" cy="1067760"/>
                <a:chOff x="2261160" y="2546280"/>
                <a:chExt cx="364320" cy="106776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2261520" y="2606760"/>
                  <a:ext cx="3639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474640" y="3342960"/>
                  <a:ext cx="6048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fedbb9"/>
                    </a:gs>
                    <a:gs pos="100000">
                      <a:srgbClr val="ff993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261520" y="2897640"/>
                  <a:ext cx="363960" cy="1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292120" y="3142440"/>
                  <a:ext cx="303480" cy="20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292120" y="3066840"/>
                  <a:ext cx="303480" cy="1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9" name=""/>
                <p:cNvGrpSpPr/>
                <p:nvPr/>
              </p:nvGrpSpPr>
              <p:grpSpPr>
                <a:xfrm>
                  <a:off x="2337480" y="3342960"/>
                  <a:ext cx="197640" cy="271080"/>
                  <a:chOff x="2337480" y="3342960"/>
                  <a:chExt cx="197640" cy="271080"/>
                </a:xfrm>
              </p:grpSpPr>
              <p:sp>
                <p:nvSpPr>
                  <p:cNvPr id="2260" name=""/>
                  <p:cNvSpPr/>
                  <p:nvPr/>
                </p:nvSpPr>
                <p:spPr>
                  <a:xfrm>
                    <a:off x="2359800" y="3342960"/>
                    <a:ext cx="159840" cy="29880"/>
                  </a:xfrm>
                  <a:custGeom>
                    <a:avLst/>
                    <a:gdLst>
                      <a:gd name="textAreaLeft" fmla="*/ 47520 w 159840"/>
                      <a:gd name="textAreaRight" fmla="*/ 112320 w 159840"/>
                      <a:gd name="textAreaTop" fmla="*/ 8640 h 29880"/>
                      <a:gd name="textAreaBottom" fmla="*/ 21240 h 29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207" y="21600"/>
                        </a:lnTo>
                        <a:lnTo>
                          <a:pt x="8393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4e4e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2337480" y="3432240"/>
                    <a:ext cx="19764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 flipV="1">
                    <a:off x="2395080" y="3372840"/>
                    <a:ext cx="90720" cy="60480"/>
                  </a:xfrm>
                  <a:custGeom>
                    <a:avLst/>
                    <a:gdLst>
                      <a:gd name="textAreaLeft" fmla="*/ 23040 w 90720"/>
                      <a:gd name="textAreaRight" fmla="*/ 67680 w 90720"/>
                      <a:gd name="textAreaTop" fmla="*/ 15120 h 60480"/>
                      <a:gd name="textAreaBottom" fmla="*/ 45360 h 6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4909" y="21600"/>
                        </a:lnTo>
                        <a:lnTo>
                          <a:pt x="6691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4e4e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2373480" y="3483000"/>
                    <a:ext cx="13104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2358360" y="3533400"/>
                    <a:ext cx="1612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2345760" y="3583080"/>
                    <a:ext cx="1810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6" name=""/>
                <p:cNvSpPr/>
                <p:nvPr/>
              </p:nvSpPr>
              <p:spPr>
                <a:xfrm>
                  <a:off x="2292120" y="3234600"/>
                  <a:ext cx="30348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50000">
                      <a:srgbClr val="cde5d9"/>
                    </a:gs>
                    <a:gs pos="100000">
                      <a:srgbClr val="33996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2322360" y="3006000"/>
                  <a:ext cx="6012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fedbb9"/>
                    </a:gs>
                    <a:gs pos="100000">
                      <a:srgbClr val="ff993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8" name=""/>
                <p:cNvGrpSpPr/>
                <p:nvPr/>
              </p:nvGrpSpPr>
              <p:grpSpPr>
                <a:xfrm>
                  <a:off x="2292120" y="3234600"/>
                  <a:ext cx="303480" cy="30960"/>
                  <a:chOff x="2292120" y="3234600"/>
                  <a:chExt cx="303480" cy="30960"/>
                </a:xfrm>
              </p:grpSpPr>
              <p:sp>
                <p:nvSpPr>
                  <p:cNvPr id="2269" name=""/>
                  <p:cNvSpPr/>
                  <p:nvPr/>
                </p:nvSpPr>
                <p:spPr>
                  <a:xfrm>
                    <a:off x="229212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23216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235728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23990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244080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248256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252432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255996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2589840" y="3234600"/>
                    <a:ext cx="5760" cy="3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8" name=""/>
                <p:cNvGrpSpPr/>
                <p:nvPr/>
              </p:nvGrpSpPr>
              <p:grpSpPr>
                <a:xfrm>
                  <a:off x="2263320" y="3012840"/>
                  <a:ext cx="360360" cy="331920"/>
                  <a:chOff x="2263320" y="3012840"/>
                  <a:chExt cx="360360" cy="331920"/>
                </a:xfrm>
              </p:grpSpPr>
              <p:grpSp>
                <p:nvGrpSpPr>
                  <p:cNvPr id="2279" name=""/>
                  <p:cNvGrpSpPr/>
                  <p:nvPr/>
                </p:nvGrpSpPr>
                <p:grpSpPr>
                  <a:xfrm>
                    <a:off x="2263320" y="3012840"/>
                    <a:ext cx="182160" cy="148320"/>
                    <a:chOff x="2263320" y="3012840"/>
                    <a:chExt cx="182160" cy="148320"/>
                  </a:xfrm>
                </p:grpSpPr>
                <p:sp>
                  <p:nvSpPr>
                    <p:cNvPr id="2280" name=""/>
                    <p:cNvSpPr/>
                    <p:nvPr/>
                  </p:nvSpPr>
                  <p:spPr>
                    <a:xfrm rot="14750400">
                      <a:off x="2273760" y="30870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1" name=""/>
                    <p:cNvSpPr/>
                    <p:nvPr/>
                  </p:nvSpPr>
                  <p:spPr>
                    <a:xfrm flipH="1" rot="6849600">
                      <a:off x="2333520" y="30870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2" name=""/>
                    <p:cNvSpPr/>
                    <p:nvPr/>
                  </p:nvSpPr>
                  <p:spPr>
                    <a:xfrm flipH="1" rot="6108600">
                      <a:off x="2235960" y="308268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/>
                    <p:nvPr/>
                  </p:nvSpPr>
                  <p:spPr>
                    <a:xfrm rot="15491400">
                      <a:off x="2206800" y="3085560"/>
                      <a:ext cx="14652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4" name=""/>
                  <p:cNvGrpSpPr/>
                  <p:nvPr/>
                </p:nvGrpSpPr>
                <p:grpSpPr>
                  <a:xfrm>
                    <a:off x="2441520" y="3014280"/>
                    <a:ext cx="182160" cy="148680"/>
                    <a:chOff x="2441520" y="3014280"/>
                    <a:chExt cx="182160" cy="148680"/>
                  </a:xfrm>
                </p:grpSpPr>
                <p:sp>
                  <p:nvSpPr>
                    <p:cNvPr id="2285" name=""/>
                    <p:cNvSpPr/>
                    <p:nvPr/>
                  </p:nvSpPr>
                  <p:spPr>
                    <a:xfrm flipH="1" rot="6849600">
                      <a:off x="2457000" y="30888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 rot="14750400">
                      <a:off x="2397240" y="3088800"/>
                      <a:ext cx="155160" cy="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7" name=""/>
                    <p:cNvSpPr/>
                    <p:nvPr/>
                  </p:nvSpPr>
                  <p:spPr>
                    <a:xfrm rot="15491400">
                      <a:off x="2504160" y="308448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8" name=""/>
                    <p:cNvSpPr/>
                    <p:nvPr/>
                  </p:nvSpPr>
                  <p:spPr>
                    <a:xfrm flipH="1" rot="6108600">
                      <a:off x="2533320" y="3087720"/>
                      <a:ext cx="146520" cy="3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9" name=""/>
                  <p:cNvGrpSpPr/>
                  <p:nvPr/>
                </p:nvGrpSpPr>
                <p:grpSpPr>
                  <a:xfrm>
                    <a:off x="2293560" y="3265200"/>
                    <a:ext cx="150480" cy="79560"/>
                    <a:chOff x="2293560" y="3265200"/>
                    <a:chExt cx="150480" cy="79560"/>
                  </a:xfrm>
                </p:grpSpPr>
                <p:sp>
                  <p:nvSpPr>
                    <p:cNvPr id="2290" name=""/>
                    <p:cNvSpPr/>
                    <p:nvPr/>
                  </p:nvSpPr>
                  <p:spPr>
                    <a:xfrm flipH="1" rot="6465000">
                      <a:off x="2284920" y="3304800"/>
                      <a:ext cx="80640" cy="2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1" name=""/>
                    <p:cNvSpPr/>
                    <p:nvPr/>
                  </p:nvSpPr>
                  <p:spPr>
                    <a:xfrm rot="15518400">
                      <a:off x="2262240" y="3303720"/>
                      <a:ext cx="80640" cy="2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/>
                    <p:nvPr/>
                  </p:nvSpPr>
                  <p:spPr>
                    <a:xfrm rot="14176800">
                      <a:off x="2319840" y="330336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3" name=""/>
                    <p:cNvSpPr/>
                    <p:nvPr/>
                  </p:nvSpPr>
                  <p:spPr>
                    <a:xfrm flipH="1" rot="7423200">
                      <a:off x="2370960" y="330372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4" name=""/>
                  <p:cNvGrpSpPr/>
                  <p:nvPr/>
                </p:nvGrpSpPr>
                <p:grpSpPr>
                  <a:xfrm>
                    <a:off x="2442960" y="3263400"/>
                    <a:ext cx="150840" cy="79560"/>
                    <a:chOff x="2442960" y="3263400"/>
                    <a:chExt cx="150840" cy="79560"/>
                  </a:xfrm>
                </p:grpSpPr>
                <p:sp>
                  <p:nvSpPr>
                    <p:cNvPr id="2295" name=""/>
                    <p:cNvSpPr/>
                    <p:nvPr/>
                  </p:nvSpPr>
                  <p:spPr>
                    <a:xfrm rot="15135000">
                      <a:off x="2520720" y="3303000"/>
                      <a:ext cx="80640" cy="2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6" name=""/>
                    <p:cNvSpPr/>
                    <p:nvPr/>
                  </p:nvSpPr>
                  <p:spPr>
                    <a:xfrm flipH="1" rot="6081600">
                      <a:off x="2543760" y="3301560"/>
                      <a:ext cx="80640" cy="2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7" name=""/>
                    <p:cNvSpPr/>
                    <p:nvPr/>
                  </p:nvSpPr>
                  <p:spPr>
                    <a:xfrm flipH="1" rot="7423200">
                      <a:off x="2475360" y="330156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8" name=""/>
                    <p:cNvSpPr/>
                    <p:nvPr/>
                  </p:nvSpPr>
                  <p:spPr>
                    <a:xfrm rot="14176800">
                      <a:off x="2423880" y="3301920"/>
                      <a:ext cx="91440" cy="3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cc"/>
                        </a:gs>
                        <a:gs pos="50000">
                          <a:srgbClr val="7c7cdd"/>
                        </a:gs>
                        <a:gs pos="100000">
                          <a:srgbClr val="3333cc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99" name=""/>
                <p:cNvSpPr/>
                <p:nvPr/>
              </p:nvSpPr>
              <p:spPr>
                <a:xfrm flipH="1" rot="8578200">
                  <a:off x="2246400" y="2606040"/>
                  <a:ext cx="153720" cy="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6200000">
                  <a:off x="2373120" y="2631960"/>
                  <a:ext cx="146520" cy="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13021800">
                  <a:off x="2485440" y="2607840"/>
                  <a:ext cx="15372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7360" y="2546280"/>
                  <a:ext cx="15228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V="1">
                  <a:off x="2261520" y="2652840"/>
                  <a:ext cx="3639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4" name=""/>
                <p:cNvGrpSpPr/>
                <p:nvPr/>
              </p:nvGrpSpPr>
              <p:grpSpPr>
                <a:xfrm>
                  <a:off x="2261520" y="2669400"/>
                  <a:ext cx="363960" cy="677880"/>
                  <a:chOff x="2261520" y="2669400"/>
                  <a:chExt cx="363960" cy="677880"/>
                </a:xfrm>
              </p:grpSpPr>
              <p:sp>
                <p:nvSpPr>
                  <p:cNvPr id="2305" name=""/>
                  <p:cNvSpPr/>
                  <p:nvPr/>
                </p:nvSpPr>
                <p:spPr>
                  <a:xfrm>
                    <a:off x="2291760" y="3159360"/>
                    <a:ext cx="3034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2261520" y="2684520"/>
                    <a:ext cx="363960" cy="33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2261520" y="2944800"/>
                    <a:ext cx="363960" cy="1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2261520" y="2715120"/>
                    <a:ext cx="363960" cy="1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2337120" y="2669400"/>
                    <a:ext cx="30240" cy="36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7f7f7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2310840" y="3342960"/>
                    <a:ext cx="26748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77777"/>
                      </a:gs>
                      <a:gs pos="50000">
                        <a:srgbClr val="a7a7a7"/>
                      </a:gs>
                      <a:gs pos="100000">
                        <a:srgbClr val="777777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2291760" y="3266280"/>
                    <a:ext cx="30384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50000">
                        <a:srgbClr val="fed9c1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2" name=""/>
              <p:cNvGrpSpPr/>
              <p:nvPr/>
            </p:nvGrpSpPr>
            <p:grpSpPr>
              <a:xfrm>
                <a:off x="2261880" y="3638520"/>
                <a:ext cx="363960" cy="3094200"/>
                <a:chOff x="2261880" y="3638520"/>
                <a:chExt cx="363960" cy="3094200"/>
              </a:xfrm>
            </p:grpSpPr>
            <p:grpSp>
              <p:nvGrpSpPr>
                <p:cNvPr id="2313" name=""/>
                <p:cNvGrpSpPr/>
                <p:nvPr/>
              </p:nvGrpSpPr>
              <p:grpSpPr>
                <a:xfrm>
                  <a:off x="2262240" y="3638520"/>
                  <a:ext cx="363600" cy="3094200"/>
                  <a:chOff x="2262240" y="3638520"/>
                  <a:chExt cx="363600" cy="309420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2340360" y="6579720"/>
                    <a:ext cx="2019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262240" y="6326640"/>
                    <a:ext cx="363600" cy="254160"/>
                  </a:xfrm>
                  <a:custGeom>
                    <a:avLst/>
                    <a:gdLst>
                      <a:gd name="textAreaLeft" fmla="*/ 103680 w 363600"/>
                      <a:gd name="textAreaRight" fmla="*/ 259920 w 363600"/>
                      <a:gd name="textAreaTop" fmla="*/ 72360 h 254160"/>
                      <a:gd name="textAreaBottom" fmla="*/ 181800 h 254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262240" y="448776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2262240" y="594396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262240" y="4609080"/>
                    <a:ext cx="363600" cy="1455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2262240" y="4245120"/>
                    <a:ext cx="363600" cy="24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2262240" y="363852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2262240" y="3759480"/>
                    <a:ext cx="363600" cy="60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2" name=""/>
                  <p:cNvGrpSpPr/>
                  <p:nvPr/>
                </p:nvGrpSpPr>
                <p:grpSpPr>
                  <a:xfrm>
                    <a:off x="2262240" y="4366440"/>
                    <a:ext cx="363600" cy="242640"/>
                    <a:chOff x="2262240" y="4366440"/>
                    <a:chExt cx="363600" cy="242640"/>
                  </a:xfrm>
                </p:grpSpPr>
                <p:sp>
                  <p:nvSpPr>
                    <p:cNvPr id="2323" name=""/>
                    <p:cNvSpPr/>
                    <p:nvPr/>
                  </p:nvSpPr>
                  <p:spPr>
                    <a:xfrm>
                      <a:off x="2262240" y="436644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"/>
                    <p:cNvSpPr/>
                    <p:nvPr/>
                  </p:nvSpPr>
                  <p:spPr>
                    <a:xfrm flipH="1">
                      <a:off x="2322360" y="436644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5" name=""/>
                    <p:cNvSpPr/>
                    <p:nvPr/>
                  </p:nvSpPr>
                  <p:spPr>
                    <a:xfrm>
                      <a:off x="2262240" y="4366440"/>
                      <a:ext cx="6012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6" name=""/>
                    <p:cNvSpPr/>
                    <p:nvPr/>
                  </p:nvSpPr>
                  <p:spPr>
                    <a:xfrm>
                      <a:off x="2383200" y="436644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7" name=""/>
                    <p:cNvSpPr/>
                    <p:nvPr/>
                  </p:nvSpPr>
                  <p:spPr>
                    <a:xfrm flipH="1">
                      <a:off x="2443680" y="4366440"/>
                      <a:ext cx="6012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8" name=""/>
                    <p:cNvSpPr/>
                    <p:nvPr/>
                  </p:nvSpPr>
                  <p:spPr>
                    <a:xfrm>
                      <a:off x="2504160" y="436644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9" name=""/>
                    <p:cNvSpPr/>
                    <p:nvPr/>
                  </p:nvSpPr>
                  <p:spPr>
                    <a:xfrm flipH="1">
                      <a:off x="2565000" y="436644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2625840" y="436644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1" name=""/>
                  <p:cNvSpPr/>
                  <p:nvPr/>
                </p:nvSpPr>
                <p:spPr>
                  <a:xfrm>
                    <a:off x="2262240" y="6125760"/>
                    <a:ext cx="363600" cy="199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2262240" y="6065280"/>
                    <a:ext cx="363600" cy="6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3" name=""/>
                <p:cNvGrpSpPr/>
                <p:nvPr/>
              </p:nvGrpSpPr>
              <p:grpSpPr>
                <a:xfrm>
                  <a:off x="2261880" y="3638520"/>
                  <a:ext cx="363600" cy="120960"/>
                  <a:chOff x="2261880" y="3638520"/>
                  <a:chExt cx="363600" cy="120960"/>
                </a:xfrm>
              </p:grpSpPr>
              <p:sp>
                <p:nvSpPr>
                  <p:cNvPr id="2334" name=""/>
                  <p:cNvSpPr/>
                  <p:nvPr/>
                </p:nvSpPr>
                <p:spPr>
                  <a:xfrm flipH="1">
                    <a:off x="2261880" y="3638520"/>
                    <a:ext cx="6012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H="1">
                    <a:off x="2383200" y="363852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2322360" y="363852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 flipH="1">
                    <a:off x="2504160" y="363852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2444040" y="3638520"/>
                    <a:ext cx="6012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565000" y="363852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 flipH="1">
                    <a:off x="2322000" y="3638520"/>
                    <a:ext cx="2422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1" name=""/>
            <p:cNvGrpSpPr/>
            <p:nvPr/>
          </p:nvGrpSpPr>
          <p:grpSpPr>
            <a:xfrm>
              <a:off x="1218960" y="1066680"/>
              <a:ext cx="4115160" cy="5214600"/>
              <a:chOff x="1218960" y="1066680"/>
              <a:chExt cx="4115160" cy="5214600"/>
            </a:xfrm>
          </p:grpSpPr>
          <p:sp>
            <p:nvSpPr>
              <p:cNvPr id="2342" name=""/>
              <p:cNvSpPr/>
              <p:nvPr/>
            </p:nvSpPr>
            <p:spPr>
              <a:xfrm flipH="1">
                <a:off x="1218960" y="1752480"/>
                <a:ext cx="68580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flipV="1">
                <a:off x="2742840" y="2971800"/>
                <a:ext cx="7621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2743200" y="3352680"/>
                <a:ext cx="83808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4191120" y="4800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905120" y="1066680"/>
                <a:ext cx="144756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uttl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ternal ta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581280" y="2133720"/>
                <a:ext cx="1600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eing Delta I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pper stage &amp; Core booste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00400" y="5181480"/>
                <a:ext cx="2133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kheed-Martin Atlas 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ntaur upper st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" descr="Centaur"/>
          <p:cNvPicPr/>
          <p:nvPr/>
        </p:nvPicPr>
        <p:blipFill>
          <a:blip r:embed="rId1"/>
          <a:stretch/>
        </p:blipFill>
        <p:spPr>
          <a:xfrm>
            <a:off x="6642000" y="1219320"/>
            <a:ext cx="2349720" cy="5422680"/>
          </a:xfrm>
          <a:prstGeom prst="rect">
            <a:avLst/>
          </a:prstGeom>
          <a:ln w="0">
            <a:noFill/>
          </a:ln>
        </p:spPr>
      </p:pic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entaur Upper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1" name="" descr=""/>
          <p:cNvPicPr/>
          <p:nvPr/>
        </p:nvPicPr>
        <p:blipFill>
          <a:blip r:embed="rId2"/>
          <a:srcRect l="22499" t="3022" r="23887" b="16767"/>
          <a:stretch/>
        </p:blipFill>
        <p:spPr>
          <a:xfrm>
            <a:off x="0" y="0"/>
            <a:ext cx="30542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2" name="" descr="Centaur"/>
          <p:cNvPicPr/>
          <p:nvPr/>
        </p:nvPicPr>
        <p:blipFill>
          <a:blip r:embed="rId3">
            <a:grayscl/>
          </a:blip>
          <a:srcRect l="31338" t="16131" r="41104" b="9672"/>
          <a:stretch/>
        </p:blipFill>
        <p:spPr>
          <a:xfrm>
            <a:off x="0" y="0"/>
            <a:ext cx="8017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3276720" y="11430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rently discarded when emp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las Centaur II-A upper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,100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ty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300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llant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,800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9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payload to 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8,600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las IIAS, standard conf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5243400" y="0"/>
            <a:ext cx="3900600" cy="6881760"/>
          </a:xfrm>
          <a:prstGeom prst="rect">
            <a:avLst/>
          </a:prstGeom>
          <a:ln w="0">
            <a:noFill/>
          </a:ln>
        </p:spPr>
      </p:pic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aur R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4876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pproximate payload of a fully fueled Centaur IIA in 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GEO – 7,700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LLO – 8,900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aur upper stages are currently classified as “orbital debr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entaurs remaining in orbit &gt; 9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ut of more than 170 launch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ation infrastructure is already accumulating in Earth or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ld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and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7" name="" descr="Centaur"/>
          <p:cNvPicPr/>
          <p:nvPr/>
        </p:nvPicPr>
        <p:blipFill>
          <a:blip r:embed="rId2"/>
          <a:stretch/>
        </p:blipFill>
        <p:spPr>
          <a:xfrm>
            <a:off x="6647040" y="1219320"/>
            <a:ext cx="2344680" cy="5410080"/>
          </a:xfrm>
          <a:prstGeom prst="rect">
            <a:avLst/>
          </a:prstGeom>
          <a:ln w="0">
            <a:noFill/>
          </a:ln>
        </p:spPr>
      </p:pic>
      <p:pic>
        <p:nvPicPr>
          <p:cNvPr id="2358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4572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/>
          </p:nvPr>
        </p:nvSpPr>
        <p:spPr>
          <a:xfrm>
            <a:off x="1600200" y="106632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vehicle in the international launch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omponents utilize LOX/LH2 cryogenic propel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DCUS upper stage is potentially re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ral core stage can be put into LEO, and is also a candidate for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tential LLO payload of a LEO refueled Delta-IV core booster is more than 3x the LLO payload of the Satur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0" y="2362320"/>
            <a:ext cx="1448640" cy="4495680"/>
            <a:chOff x="0" y="2362320"/>
            <a:chExt cx="1448640" cy="4495680"/>
          </a:xfrm>
        </p:grpSpPr>
        <p:sp>
          <p:nvSpPr>
            <p:cNvPr id="2361" name=""/>
            <p:cNvSpPr/>
            <p:nvPr/>
          </p:nvSpPr>
          <p:spPr>
            <a:xfrm>
              <a:off x="457560" y="6172200"/>
              <a:ext cx="533520" cy="1522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57560" y="2971800"/>
              <a:ext cx="533520" cy="763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3" name=""/>
            <p:cNvGrpSpPr/>
            <p:nvPr/>
          </p:nvGrpSpPr>
          <p:grpSpPr>
            <a:xfrm>
              <a:off x="991440" y="2362320"/>
              <a:ext cx="457200" cy="4495680"/>
              <a:chOff x="991440" y="2362320"/>
              <a:chExt cx="457200" cy="4495680"/>
            </a:xfrm>
          </p:grpSpPr>
          <p:grpSp>
            <p:nvGrpSpPr>
              <p:cNvPr id="2364" name=""/>
              <p:cNvGrpSpPr/>
              <p:nvPr/>
            </p:nvGrpSpPr>
            <p:grpSpPr>
              <a:xfrm>
                <a:off x="991440" y="2971800"/>
                <a:ext cx="457200" cy="3886200"/>
                <a:chOff x="991440" y="2971800"/>
                <a:chExt cx="457200" cy="388620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1089720" y="666576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991440" y="634824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991440" y="403848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991440" y="586728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991440" y="419112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991440" y="373392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991440" y="2971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991440" y="312408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3" name=""/>
                <p:cNvGrpSpPr/>
                <p:nvPr/>
              </p:nvGrpSpPr>
              <p:grpSpPr>
                <a:xfrm>
                  <a:off x="991440" y="3886200"/>
                  <a:ext cx="457200" cy="304920"/>
                  <a:chOff x="991440" y="3886200"/>
                  <a:chExt cx="457200" cy="304920"/>
                </a:xfrm>
              </p:grpSpPr>
              <p:sp>
                <p:nvSpPr>
                  <p:cNvPr id="2374" name=""/>
                  <p:cNvSpPr/>
                  <p:nvPr/>
                </p:nvSpPr>
                <p:spPr>
                  <a:xfrm>
                    <a:off x="99144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 flipH="1">
                    <a:off x="106740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99144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114372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H="1">
                    <a:off x="12196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129600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 flipH="1">
                    <a:off x="137232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144864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2" name=""/>
                <p:cNvSpPr/>
                <p:nvPr/>
              </p:nvSpPr>
              <p:spPr>
                <a:xfrm>
                  <a:off x="991440" y="609588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991440" y="601992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4" name=""/>
              <p:cNvGrpSpPr/>
              <p:nvPr/>
            </p:nvGrpSpPr>
            <p:grpSpPr>
              <a:xfrm>
                <a:off x="991440" y="2971800"/>
                <a:ext cx="457200" cy="3230640"/>
                <a:chOff x="991440" y="2971800"/>
                <a:chExt cx="457200" cy="3230640"/>
              </a:xfrm>
            </p:grpSpPr>
            <p:sp>
              <p:nvSpPr>
                <p:cNvPr id="2385" name=""/>
                <p:cNvSpPr/>
                <p:nvPr/>
              </p:nvSpPr>
              <p:spPr>
                <a:xfrm>
                  <a:off x="991440" y="297180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991440" y="388620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7" name=""/>
                <p:cNvGrpSpPr/>
                <p:nvPr/>
              </p:nvGrpSpPr>
              <p:grpSpPr>
                <a:xfrm>
                  <a:off x="991440" y="3048120"/>
                  <a:ext cx="457200" cy="3154320"/>
                  <a:chOff x="991440" y="3048120"/>
                  <a:chExt cx="457200" cy="3154320"/>
                </a:xfrm>
              </p:grpSpPr>
              <p:sp>
                <p:nvSpPr>
                  <p:cNvPr id="2388" name=""/>
                  <p:cNvSpPr/>
                  <p:nvPr/>
                </p:nvSpPr>
                <p:spPr>
                  <a:xfrm>
                    <a:off x="991440" y="35989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991440" y="502920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1220040" y="304812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1" name=""/>
              <p:cNvSpPr/>
              <p:nvPr/>
            </p:nvSpPr>
            <p:spPr>
              <a:xfrm>
                <a:off x="991440" y="236232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2362320"/>
              <a:ext cx="457200" cy="4495680"/>
              <a:chOff x="0" y="2362320"/>
              <a:chExt cx="457200" cy="4495680"/>
            </a:xfrm>
          </p:grpSpPr>
          <p:grpSp>
            <p:nvGrpSpPr>
              <p:cNvPr id="2393" name=""/>
              <p:cNvGrpSpPr/>
              <p:nvPr/>
            </p:nvGrpSpPr>
            <p:grpSpPr>
              <a:xfrm>
                <a:off x="0" y="2971800"/>
                <a:ext cx="457200" cy="3886200"/>
                <a:chOff x="0" y="2971800"/>
                <a:chExt cx="457200" cy="388620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98280" y="666576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0" y="634824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0" y="403848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0" y="586728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0" y="419112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0" y="373392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0" y="2971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0" y="312408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2" name=""/>
                <p:cNvGrpSpPr/>
                <p:nvPr/>
              </p:nvGrpSpPr>
              <p:grpSpPr>
                <a:xfrm>
                  <a:off x="0" y="3886200"/>
                  <a:ext cx="457200" cy="304920"/>
                  <a:chOff x="0" y="3886200"/>
                  <a:chExt cx="457200" cy="304920"/>
                </a:xfrm>
              </p:grpSpPr>
              <p:sp>
                <p:nvSpPr>
                  <p:cNvPr id="2403" name=""/>
                  <p:cNvSpPr/>
                  <p:nvPr/>
                </p:nvSpPr>
                <p:spPr>
                  <a:xfrm>
                    <a:off x="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 flipH="1">
                    <a:off x="7596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15228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 flipH="1">
                    <a:off x="22824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30456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 flipH="1">
                    <a:off x="380880" y="388620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45720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1" name=""/>
                <p:cNvSpPr/>
                <p:nvPr/>
              </p:nvSpPr>
              <p:spPr>
                <a:xfrm>
                  <a:off x="0" y="609588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0" y="601992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0" y="2971800"/>
                <a:ext cx="457200" cy="3230640"/>
                <a:chOff x="0" y="2971800"/>
                <a:chExt cx="457200" cy="323064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0" y="297180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0" y="388620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6" name=""/>
                <p:cNvGrpSpPr/>
                <p:nvPr/>
              </p:nvGrpSpPr>
              <p:grpSpPr>
                <a:xfrm>
                  <a:off x="0" y="3048120"/>
                  <a:ext cx="457200" cy="3154320"/>
                  <a:chOff x="0" y="3048120"/>
                  <a:chExt cx="457200" cy="3154320"/>
                </a:xfrm>
              </p:grpSpPr>
              <p:sp>
                <p:nvSpPr>
                  <p:cNvPr id="2417" name=""/>
                  <p:cNvSpPr/>
                  <p:nvPr/>
                </p:nvSpPr>
                <p:spPr>
                  <a:xfrm>
                    <a:off x="0" y="35989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0" y="502920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228600" y="304812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20" name=""/>
              <p:cNvSpPr/>
              <p:nvPr/>
            </p:nvSpPr>
            <p:spPr>
              <a:xfrm>
                <a:off x="0" y="236232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1" name=""/>
          <p:cNvGrpSpPr/>
          <p:nvPr/>
        </p:nvGrpSpPr>
        <p:grpSpPr>
          <a:xfrm>
            <a:off x="496800" y="0"/>
            <a:ext cx="455760" cy="6858000"/>
            <a:chOff x="496800" y="0"/>
            <a:chExt cx="455760" cy="6858000"/>
          </a:xfrm>
        </p:grpSpPr>
        <p:grpSp>
          <p:nvGrpSpPr>
            <p:cNvPr id="2422" name=""/>
            <p:cNvGrpSpPr/>
            <p:nvPr/>
          </p:nvGrpSpPr>
          <p:grpSpPr>
            <a:xfrm>
              <a:off x="496800" y="2971800"/>
              <a:ext cx="455760" cy="3886200"/>
              <a:chOff x="496800" y="2971800"/>
              <a:chExt cx="455760" cy="3886200"/>
            </a:xfrm>
          </p:grpSpPr>
          <p:grpSp>
            <p:nvGrpSpPr>
              <p:cNvPr id="2423" name=""/>
              <p:cNvGrpSpPr/>
              <p:nvPr/>
            </p:nvGrpSpPr>
            <p:grpSpPr>
              <a:xfrm>
                <a:off x="496800" y="2971800"/>
                <a:ext cx="455760" cy="3886200"/>
                <a:chOff x="496800" y="2971800"/>
                <a:chExt cx="455760" cy="388620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594720" y="6665760"/>
                  <a:ext cx="25308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496800" y="6348240"/>
                  <a:ext cx="455760" cy="319320"/>
                </a:xfrm>
                <a:custGeom>
                  <a:avLst/>
                  <a:gdLst>
                    <a:gd name="textAreaLeft" fmla="*/ 129960 w 455760"/>
                    <a:gd name="textAreaRight" fmla="*/ 325800 w 45576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496800" y="40384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496800" y="58672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496800" y="4191120"/>
                  <a:ext cx="45576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96800" y="3733920"/>
                  <a:ext cx="4557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496800" y="297180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496800" y="3124080"/>
                  <a:ext cx="45576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2" name=""/>
                <p:cNvGrpSpPr/>
                <p:nvPr/>
              </p:nvGrpSpPr>
              <p:grpSpPr>
                <a:xfrm>
                  <a:off x="496800" y="3886200"/>
                  <a:ext cx="455760" cy="304920"/>
                  <a:chOff x="496800" y="3886200"/>
                  <a:chExt cx="455760" cy="30492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>
                    <a:off x="49680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 flipH="1">
                    <a:off x="57204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49680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64836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flipH="1">
                    <a:off x="72468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8002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 flipH="1">
                    <a:off x="8758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95256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1" name=""/>
                <p:cNvSpPr/>
                <p:nvPr/>
              </p:nvSpPr>
              <p:spPr>
                <a:xfrm>
                  <a:off x="496800" y="6095880"/>
                  <a:ext cx="45576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96800" y="6019920"/>
                  <a:ext cx="45576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496800" y="2971800"/>
                <a:ext cx="455400" cy="152280"/>
                <a:chOff x="496800" y="2971800"/>
                <a:chExt cx="455400" cy="152280"/>
              </a:xfrm>
            </p:grpSpPr>
            <p:sp>
              <p:nvSpPr>
                <p:cNvPr id="2444" name=""/>
                <p:cNvSpPr/>
                <p:nvPr/>
              </p:nvSpPr>
              <p:spPr>
                <a:xfrm flipH="1">
                  <a:off x="49680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flipH="1">
                  <a:off x="6480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724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H="1">
                  <a:off x="79992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72468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7624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>
                  <a:off x="572400" y="2971800"/>
                  <a:ext cx="303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1" name=""/>
            <p:cNvGrpSpPr/>
            <p:nvPr/>
          </p:nvGrpSpPr>
          <p:grpSpPr>
            <a:xfrm>
              <a:off x="496800" y="0"/>
              <a:ext cx="455760" cy="6202440"/>
              <a:chOff x="496800" y="0"/>
              <a:chExt cx="455760" cy="6202440"/>
            </a:xfrm>
          </p:grpSpPr>
          <p:grpSp>
            <p:nvGrpSpPr>
              <p:cNvPr id="2452" name=""/>
              <p:cNvGrpSpPr/>
              <p:nvPr/>
            </p:nvGrpSpPr>
            <p:grpSpPr>
              <a:xfrm>
                <a:off x="496800" y="0"/>
                <a:ext cx="455760" cy="2971800"/>
                <a:chOff x="496800" y="0"/>
                <a:chExt cx="455760" cy="297180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496800" y="692280"/>
                  <a:ext cx="455760" cy="22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496800" y="0"/>
                  <a:ext cx="455760" cy="71928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496800" y="2971800"/>
                <a:ext cx="455760" cy="3230640"/>
                <a:chOff x="496800" y="2971800"/>
                <a:chExt cx="455760" cy="323064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496800" y="2971800"/>
                  <a:ext cx="4557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96800" y="3886200"/>
                  <a:ext cx="45576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8" name=""/>
                <p:cNvGrpSpPr/>
                <p:nvPr/>
              </p:nvGrpSpPr>
              <p:grpSpPr>
                <a:xfrm>
                  <a:off x="496800" y="3048120"/>
                  <a:ext cx="455760" cy="3154320"/>
                  <a:chOff x="496800" y="3048120"/>
                  <a:chExt cx="455760" cy="315432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>
                    <a:off x="496800" y="359892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96800" y="502920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724680" y="3048120"/>
                    <a:ext cx="4572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eing Delta IV-Heav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3" name="" descr=""/>
          <p:cNvPicPr/>
          <p:nvPr/>
        </p:nvPicPr>
        <p:blipFill>
          <a:blip r:embed="rId1"/>
          <a:srcRect l="16990" t="0" r="20760" b="0"/>
          <a:stretch/>
        </p:blipFill>
        <p:spPr>
          <a:xfrm>
            <a:off x="6961320" y="0"/>
            <a:ext cx="218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"/>
          <p:cNvGrpSpPr/>
          <p:nvPr/>
        </p:nvGrpSpPr>
        <p:grpSpPr>
          <a:xfrm>
            <a:off x="0" y="2355840"/>
            <a:ext cx="1448640" cy="4495680"/>
            <a:chOff x="0" y="2355840"/>
            <a:chExt cx="1448640" cy="4495680"/>
          </a:xfrm>
        </p:grpSpPr>
        <p:sp>
          <p:nvSpPr>
            <p:cNvPr id="2465" name=""/>
            <p:cNvSpPr/>
            <p:nvPr/>
          </p:nvSpPr>
          <p:spPr>
            <a:xfrm>
              <a:off x="457560" y="6165720"/>
              <a:ext cx="533520" cy="1522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57560" y="2965320"/>
              <a:ext cx="533520" cy="763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7" name=""/>
            <p:cNvGrpSpPr/>
            <p:nvPr/>
          </p:nvGrpSpPr>
          <p:grpSpPr>
            <a:xfrm>
              <a:off x="991440" y="2355840"/>
              <a:ext cx="457200" cy="4495680"/>
              <a:chOff x="991440" y="2355840"/>
              <a:chExt cx="457200" cy="4495680"/>
            </a:xfrm>
          </p:grpSpPr>
          <p:grpSp>
            <p:nvGrpSpPr>
              <p:cNvPr id="2468" name=""/>
              <p:cNvGrpSpPr/>
              <p:nvPr/>
            </p:nvGrpSpPr>
            <p:grpSpPr>
              <a:xfrm>
                <a:off x="991440" y="2965320"/>
                <a:ext cx="457200" cy="3886200"/>
                <a:chOff x="991440" y="2965320"/>
                <a:chExt cx="457200" cy="38862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1089720" y="665928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991440" y="634176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991440" y="40320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991440" y="5860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991440" y="418464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991440" y="372744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991440" y="296532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991440" y="311760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7" name=""/>
                <p:cNvGrpSpPr/>
                <p:nvPr/>
              </p:nvGrpSpPr>
              <p:grpSpPr>
                <a:xfrm>
                  <a:off x="991440" y="3879720"/>
                  <a:ext cx="457200" cy="304920"/>
                  <a:chOff x="991440" y="3879720"/>
                  <a:chExt cx="457200" cy="30492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>
                    <a:off x="99144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>
                    <a:off x="106740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99144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114372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>
                    <a:off x="121968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129600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flipH="1">
                    <a:off x="137232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144864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6" name=""/>
                <p:cNvSpPr/>
                <p:nvPr/>
              </p:nvSpPr>
              <p:spPr>
                <a:xfrm>
                  <a:off x="991440" y="608940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991440" y="601344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991440" y="2965320"/>
                <a:ext cx="457200" cy="3230640"/>
                <a:chOff x="991440" y="2965320"/>
                <a:chExt cx="457200" cy="323064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991440" y="296532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991440" y="387972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1" name=""/>
                <p:cNvGrpSpPr/>
                <p:nvPr/>
              </p:nvGrpSpPr>
              <p:grpSpPr>
                <a:xfrm>
                  <a:off x="991440" y="3041640"/>
                  <a:ext cx="457200" cy="3154320"/>
                  <a:chOff x="991440" y="3041640"/>
                  <a:chExt cx="457200" cy="315432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>
                    <a:off x="991440" y="359244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991440" y="50227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1220040" y="304164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5" name=""/>
              <p:cNvSpPr/>
              <p:nvPr/>
            </p:nvSpPr>
            <p:spPr>
              <a:xfrm>
                <a:off x="991440" y="235584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0" y="2355840"/>
              <a:ext cx="457200" cy="4495680"/>
              <a:chOff x="0" y="2355840"/>
              <a:chExt cx="457200" cy="4495680"/>
            </a:xfrm>
          </p:grpSpPr>
          <p:grpSp>
            <p:nvGrpSpPr>
              <p:cNvPr id="2497" name=""/>
              <p:cNvGrpSpPr/>
              <p:nvPr/>
            </p:nvGrpSpPr>
            <p:grpSpPr>
              <a:xfrm>
                <a:off x="0" y="2965320"/>
                <a:ext cx="457200" cy="3886200"/>
                <a:chOff x="0" y="2965320"/>
                <a:chExt cx="457200" cy="3886200"/>
              </a:xfrm>
            </p:grpSpPr>
            <p:sp>
              <p:nvSpPr>
                <p:cNvPr id="2498" name=""/>
                <p:cNvSpPr/>
                <p:nvPr/>
              </p:nvSpPr>
              <p:spPr>
                <a:xfrm>
                  <a:off x="98280" y="665928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0" y="634176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0" y="40320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0" y="5860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0" y="418464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0" y="372744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0" y="296532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0" y="311760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6" name=""/>
                <p:cNvGrpSpPr/>
                <p:nvPr/>
              </p:nvGrpSpPr>
              <p:grpSpPr>
                <a:xfrm>
                  <a:off x="0" y="3879720"/>
                  <a:ext cx="457200" cy="304920"/>
                  <a:chOff x="0" y="3879720"/>
                  <a:chExt cx="457200" cy="304920"/>
                </a:xfrm>
              </p:grpSpPr>
              <p:sp>
                <p:nvSpPr>
                  <p:cNvPr id="2507" name=""/>
                  <p:cNvSpPr/>
                  <p:nvPr/>
                </p:nvSpPr>
                <p:spPr>
                  <a:xfrm>
                    <a:off x="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>
                    <a:off x="7596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15228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flipH="1">
                    <a:off x="22824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30456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>
                    <a:off x="38088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45720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5" name=""/>
                <p:cNvSpPr/>
                <p:nvPr/>
              </p:nvSpPr>
              <p:spPr>
                <a:xfrm>
                  <a:off x="0" y="608940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0" y="601344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0" y="2965320"/>
                <a:ext cx="457200" cy="3230640"/>
                <a:chOff x="0" y="2965320"/>
                <a:chExt cx="457200" cy="323064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0" y="296532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0" y="387972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0" name=""/>
                <p:cNvGrpSpPr/>
                <p:nvPr/>
              </p:nvGrpSpPr>
              <p:grpSpPr>
                <a:xfrm>
                  <a:off x="0" y="3041640"/>
                  <a:ext cx="457200" cy="3154320"/>
                  <a:chOff x="0" y="3041640"/>
                  <a:chExt cx="457200" cy="3154320"/>
                </a:xfrm>
              </p:grpSpPr>
              <p:sp>
                <p:nvSpPr>
                  <p:cNvPr id="2521" name=""/>
                  <p:cNvSpPr/>
                  <p:nvPr/>
                </p:nvSpPr>
                <p:spPr>
                  <a:xfrm>
                    <a:off x="0" y="359244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0" y="50227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228600" y="304164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>
                <a:off x="0" y="235584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5" name=""/>
          <p:cNvGrpSpPr/>
          <p:nvPr/>
        </p:nvGrpSpPr>
        <p:grpSpPr>
          <a:xfrm>
            <a:off x="496800" y="0"/>
            <a:ext cx="455760" cy="6858000"/>
            <a:chOff x="496800" y="0"/>
            <a:chExt cx="455760" cy="6858000"/>
          </a:xfrm>
        </p:grpSpPr>
        <p:grpSp>
          <p:nvGrpSpPr>
            <p:cNvPr id="2526" name=""/>
            <p:cNvGrpSpPr/>
            <p:nvPr/>
          </p:nvGrpSpPr>
          <p:grpSpPr>
            <a:xfrm>
              <a:off x="496800" y="2971800"/>
              <a:ext cx="455760" cy="3886200"/>
              <a:chOff x="496800" y="2971800"/>
              <a:chExt cx="455760" cy="3886200"/>
            </a:xfrm>
          </p:grpSpPr>
          <p:grpSp>
            <p:nvGrpSpPr>
              <p:cNvPr id="2527" name=""/>
              <p:cNvGrpSpPr/>
              <p:nvPr/>
            </p:nvGrpSpPr>
            <p:grpSpPr>
              <a:xfrm>
                <a:off x="496800" y="2971800"/>
                <a:ext cx="455760" cy="3886200"/>
                <a:chOff x="496800" y="2971800"/>
                <a:chExt cx="455760" cy="388620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594720" y="6665760"/>
                  <a:ext cx="25308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496800" y="6348240"/>
                  <a:ext cx="455760" cy="319320"/>
                </a:xfrm>
                <a:custGeom>
                  <a:avLst/>
                  <a:gdLst>
                    <a:gd name="textAreaLeft" fmla="*/ 129960 w 455760"/>
                    <a:gd name="textAreaRight" fmla="*/ 325800 w 45576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496800" y="40384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496800" y="58672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496800" y="4191120"/>
                  <a:ext cx="45576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496800" y="3733920"/>
                  <a:ext cx="4557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96800" y="297180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496800" y="3124080"/>
                  <a:ext cx="45576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6" name=""/>
                <p:cNvGrpSpPr/>
                <p:nvPr/>
              </p:nvGrpSpPr>
              <p:grpSpPr>
                <a:xfrm>
                  <a:off x="496800" y="3886200"/>
                  <a:ext cx="455760" cy="304920"/>
                  <a:chOff x="496800" y="3886200"/>
                  <a:chExt cx="455760" cy="30492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>
                    <a:off x="49680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flipH="1">
                    <a:off x="57204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49680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64836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 flipH="1">
                    <a:off x="72468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8002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 flipH="1">
                    <a:off x="8758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95256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5" name=""/>
                <p:cNvSpPr/>
                <p:nvPr/>
              </p:nvSpPr>
              <p:spPr>
                <a:xfrm>
                  <a:off x="496800" y="6095880"/>
                  <a:ext cx="45576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496800" y="6019920"/>
                  <a:ext cx="45576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496800" y="2971800"/>
                <a:ext cx="455400" cy="152280"/>
                <a:chOff x="496800" y="2971800"/>
                <a:chExt cx="455400" cy="152280"/>
              </a:xfrm>
            </p:grpSpPr>
            <p:sp>
              <p:nvSpPr>
                <p:cNvPr id="2548" name=""/>
                <p:cNvSpPr/>
                <p:nvPr/>
              </p:nvSpPr>
              <p:spPr>
                <a:xfrm flipH="1">
                  <a:off x="49680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>
                  <a:off x="6480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724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H="1">
                  <a:off x="79992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2468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87624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H="1">
                  <a:off x="572400" y="2971800"/>
                  <a:ext cx="303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5" name=""/>
            <p:cNvGrpSpPr/>
            <p:nvPr/>
          </p:nvGrpSpPr>
          <p:grpSpPr>
            <a:xfrm>
              <a:off x="496800" y="0"/>
              <a:ext cx="455760" cy="6202440"/>
              <a:chOff x="496800" y="0"/>
              <a:chExt cx="455760" cy="6202440"/>
            </a:xfrm>
          </p:grpSpPr>
          <p:grpSp>
            <p:nvGrpSpPr>
              <p:cNvPr id="2556" name=""/>
              <p:cNvGrpSpPr/>
              <p:nvPr/>
            </p:nvGrpSpPr>
            <p:grpSpPr>
              <a:xfrm>
                <a:off x="496800" y="0"/>
                <a:ext cx="455760" cy="2971800"/>
                <a:chOff x="496800" y="0"/>
                <a:chExt cx="455760" cy="297180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496800" y="692280"/>
                  <a:ext cx="455760" cy="22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96800" y="0"/>
                  <a:ext cx="455760" cy="71928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496800" y="2971800"/>
                <a:ext cx="455760" cy="3230640"/>
                <a:chOff x="496800" y="2971800"/>
                <a:chExt cx="455760" cy="323064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96800" y="2971800"/>
                  <a:ext cx="4557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96800" y="3886200"/>
                  <a:ext cx="45576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2" name=""/>
                <p:cNvGrpSpPr/>
                <p:nvPr/>
              </p:nvGrpSpPr>
              <p:grpSpPr>
                <a:xfrm>
                  <a:off x="496800" y="3048120"/>
                  <a:ext cx="455760" cy="3154320"/>
                  <a:chOff x="496800" y="3048120"/>
                  <a:chExt cx="455760" cy="3154320"/>
                </a:xfrm>
              </p:grpSpPr>
              <p:sp>
                <p:nvSpPr>
                  <p:cNvPr id="2563" name=""/>
                  <p:cNvSpPr/>
                  <p:nvPr/>
                </p:nvSpPr>
                <p:spPr>
                  <a:xfrm>
                    <a:off x="496800" y="359892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496800" y="502920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724680" y="3048120"/>
                    <a:ext cx="4572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eing Delta IV-Heav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Upper S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ss Mass – 30,2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Mass – 3,5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lant Mass – 27,0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– 462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IV Standard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– 25,8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O – 10,8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O – 6,700kg (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496800" y="2971800"/>
            <a:ext cx="455760" cy="3230640"/>
            <a:chOff x="496800" y="2971800"/>
            <a:chExt cx="455760" cy="3230640"/>
          </a:xfrm>
        </p:grpSpPr>
        <p:sp>
          <p:nvSpPr>
            <p:cNvPr id="2569" name=""/>
            <p:cNvSpPr/>
            <p:nvPr/>
          </p:nvSpPr>
          <p:spPr>
            <a:xfrm>
              <a:off x="496800" y="2971800"/>
              <a:ext cx="455760" cy="15228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6800" y="3886200"/>
              <a:ext cx="455760" cy="30492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496800" y="3048120"/>
              <a:ext cx="455760" cy="3154320"/>
              <a:chOff x="496800" y="3048120"/>
              <a:chExt cx="455760" cy="3154320"/>
            </a:xfrm>
          </p:grpSpPr>
          <p:sp>
            <p:nvSpPr>
              <p:cNvPr id="2572" name=""/>
              <p:cNvSpPr/>
              <p:nvPr/>
            </p:nvSpPr>
            <p:spPr>
              <a:xfrm>
                <a:off x="496800" y="3598920"/>
                <a:ext cx="455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96800" y="5029200"/>
                <a:ext cx="455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4680" y="3048120"/>
                <a:ext cx="45720" cy="315432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5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6" name=""/>
          <p:cNvGrpSpPr/>
          <p:nvPr/>
        </p:nvGrpSpPr>
        <p:grpSpPr>
          <a:xfrm>
            <a:off x="495360" y="1600200"/>
            <a:ext cx="458640" cy="1342800"/>
            <a:chOff x="495360" y="1600200"/>
            <a:chExt cx="458640" cy="1342800"/>
          </a:xfrm>
        </p:grpSpPr>
        <p:sp>
          <p:nvSpPr>
            <p:cNvPr id="2577" name=""/>
            <p:cNvSpPr/>
            <p:nvPr/>
          </p:nvSpPr>
          <p:spPr>
            <a:xfrm>
              <a:off x="495360" y="1676160"/>
              <a:ext cx="458640" cy="2127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63560" y="260172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edbb9"/>
                </a:gs>
                <a:gs pos="100000">
                  <a:srgbClr val="ff993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95360" y="2041920"/>
              <a:ext cx="458640" cy="21204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33520" y="2349720"/>
              <a:ext cx="382680" cy="25200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33520" y="2254320"/>
              <a:ext cx="382680" cy="23112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2" name=""/>
            <p:cNvGrpSpPr/>
            <p:nvPr/>
          </p:nvGrpSpPr>
          <p:grpSpPr>
            <a:xfrm>
              <a:off x="590760" y="2601720"/>
              <a:ext cx="249120" cy="341280"/>
              <a:chOff x="590760" y="2601720"/>
              <a:chExt cx="249120" cy="341280"/>
            </a:xfrm>
          </p:grpSpPr>
          <p:sp>
            <p:nvSpPr>
              <p:cNvPr id="2583" name=""/>
              <p:cNvSpPr/>
              <p:nvPr/>
            </p:nvSpPr>
            <p:spPr>
              <a:xfrm>
                <a:off x="619200" y="2601720"/>
                <a:ext cx="201600" cy="37440"/>
              </a:xfrm>
              <a:custGeom>
                <a:avLst/>
                <a:gdLst>
                  <a:gd name="textAreaLeft" fmla="*/ 59760 w 201600"/>
                  <a:gd name="textAreaRight" fmla="*/ 141840 w 201600"/>
                  <a:gd name="textAreaTop" fmla="*/ 11160 h 37440"/>
                  <a:gd name="textAreaBottom" fmla="*/ 26280 h 3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07" y="21600"/>
                    </a:lnTo>
                    <a:lnTo>
                      <a:pt x="839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90760" y="2714040"/>
                <a:ext cx="249120" cy="22896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95" y="0"/>
                    </a:moveTo>
                    <a:lnTo>
                      <a:pt x="113" y="42"/>
                    </a:lnTo>
                    <a:lnTo>
                      <a:pt x="126" y="102"/>
                    </a:lnTo>
                    <a:lnTo>
                      <a:pt x="0" y="102"/>
                    </a:lnTo>
                    <a:lnTo>
                      <a:pt x="16" y="42"/>
                    </a:lnTo>
                    <a:lnTo>
                      <a:pt x="3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663480" y="2638440"/>
                <a:ext cx="114480" cy="75960"/>
              </a:xfrm>
              <a:custGeom>
                <a:avLst/>
                <a:gdLst>
                  <a:gd name="textAreaLeft" fmla="*/ 28800 w 114480"/>
                  <a:gd name="textAreaRight" fmla="*/ 85680 w 114480"/>
                  <a:gd name="textAreaTop" fmla="*/ 19080 h 75960"/>
                  <a:gd name="textAreaBottom" fmla="*/ 568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09" y="21600"/>
                    </a:lnTo>
                    <a:lnTo>
                      <a:pt x="669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36480" y="2777760"/>
                <a:ext cx="165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7400" y="2841480"/>
                <a:ext cx="203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01560" y="2903760"/>
                <a:ext cx="228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533520" y="2465640"/>
              <a:ext cx="382680" cy="38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71680" y="21783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edbb9"/>
                </a:gs>
                <a:gs pos="100000">
                  <a:srgbClr val="ff993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1" name=""/>
            <p:cNvGrpSpPr/>
            <p:nvPr/>
          </p:nvGrpSpPr>
          <p:grpSpPr>
            <a:xfrm>
              <a:off x="533520" y="2465640"/>
              <a:ext cx="382680" cy="38880"/>
              <a:chOff x="533520" y="2465640"/>
              <a:chExt cx="382680" cy="38880"/>
            </a:xfrm>
          </p:grpSpPr>
          <p:sp>
            <p:nvSpPr>
              <p:cNvPr id="2592" name=""/>
              <p:cNvSpPr/>
              <p:nvPr/>
            </p:nvSpPr>
            <p:spPr>
              <a:xfrm>
                <a:off x="53352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7096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1596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52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2108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7364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262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12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9090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"/>
            <p:cNvGrpSpPr/>
            <p:nvPr/>
          </p:nvGrpSpPr>
          <p:grpSpPr>
            <a:xfrm>
              <a:off x="497160" y="2187000"/>
              <a:ext cx="454680" cy="416520"/>
              <a:chOff x="497160" y="2187000"/>
              <a:chExt cx="454680" cy="416520"/>
            </a:xfrm>
          </p:grpSpPr>
          <p:grpSp>
            <p:nvGrpSpPr>
              <p:cNvPr id="2602" name=""/>
              <p:cNvGrpSpPr/>
              <p:nvPr/>
            </p:nvGrpSpPr>
            <p:grpSpPr>
              <a:xfrm>
                <a:off x="497160" y="2187000"/>
                <a:ext cx="230400" cy="186840"/>
                <a:chOff x="497160" y="2187000"/>
                <a:chExt cx="230400" cy="186840"/>
              </a:xfrm>
            </p:grpSpPr>
            <p:sp>
              <p:nvSpPr>
                <p:cNvPr id="2603" name=""/>
                <p:cNvSpPr/>
                <p:nvPr/>
              </p:nvSpPr>
              <p:spPr>
                <a:xfrm rot="14750400">
                  <a:off x="510840" y="228060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rot="6849600">
                  <a:off x="587160" y="228060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6108600">
                  <a:off x="462960" y="227484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5491400">
                  <a:off x="426240" y="227916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721440" y="2189160"/>
                <a:ext cx="230400" cy="186840"/>
                <a:chOff x="721440" y="2189160"/>
                <a:chExt cx="230400" cy="186840"/>
              </a:xfrm>
            </p:grpSpPr>
            <p:sp>
              <p:nvSpPr>
                <p:cNvPr id="2608" name=""/>
                <p:cNvSpPr/>
                <p:nvPr/>
              </p:nvSpPr>
              <p:spPr>
                <a:xfrm flipH="1" rot="6849600">
                  <a:off x="742320" y="228276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4750400">
                  <a:off x="666000" y="228276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5491400">
                  <a:off x="801000" y="227700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 rot="6108600">
                  <a:off x="837720" y="228132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535680" y="2504160"/>
                <a:ext cx="189360" cy="99360"/>
                <a:chOff x="535680" y="2504160"/>
                <a:chExt cx="189360" cy="99360"/>
              </a:xfrm>
            </p:grpSpPr>
            <p:sp>
              <p:nvSpPr>
                <p:cNvPr id="2613" name=""/>
                <p:cNvSpPr/>
                <p:nvPr/>
              </p:nvSpPr>
              <p:spPr>
                <a:xfrm flipH="1" rot="6465000">
                  <a:off x="525600" y="2553120"/>
                  <a:ext cx="10080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5518400">
                  <a:off x="496800" y="2551680"/>
                  <a:ext cx="100800" cy="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4176800">
                  <a:off x="568800" y="255168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 rot="7423200">
                  <a:off x="633240" y="255240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723600" y="2501640"/>
                <a:ext cx="189360" cy="99720"/>
                <a:chOff x="723600" y="2501640"/>
                <a:chExt cx="189360" cy="99720"/>
              </a:xfrm>
            </p:grpSpPr>
            <p:sp>
              <p:nvSpPr>
                <p:cNvPr id="2618" name=""/>
                <p:cNvSpPr/>
                <p:nvPr/>
              </p:nvSpPr>
              <p:spPr>
                <a:xfrm rot="15135000">
                  <a:off x="821520" y="2550960"/>
                  <a:ext cx="10080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H="1" rot="6081600">
                  <a:off x="850320" y="2549520"/>
                  <a:ext cx="100800" cy="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 rot="7423200">
                  <a:off x="763920" y="254952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4176800">
                  <a:off x="699480" y="255024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2" name=""/>
            <p:cNvSpPr/>
            <p:nvPr/>
          </p:nvSpPr>
          <p:spPr>
            <a:xfrm flipH="1" rot="8578200">
              <a:off x="477360" y="1675800"/>
              <a:ext cx="193680" cy="57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rot="16200000">
              <a:off x="635760" y="1708200"/>
              <a:ext cx="184320" cy="5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rot="13021800">
              <a:off x="777960" y="1677960"/>
              <a:ext cx="193680" cy="5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28560" y="1600200"/>
              <a:ext cx="192240" cy="3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495360" y="1733400"/>
              <a:ext cx="458640" cy="39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495360" y="1755000"/>
              <a:ext cx="458640" cy="852120"/>
              <a:chOff x="495360" y="1755000"/>
              <a:chExt cx="458640" cy="852120"/>
            </a:xfrm>
          </p:grpSpPr>
          <p:sp>
            <p:nvSpPr>
              <p:cNvPr id="2628" name=""/>
              <p:cNvSpPr/>
              <p:nvPr/>
            </p:nvSpPr>
            <p:spPr>
              <a:xfrm>
                <a:off x="533520" y="2370600"/>
                <a:ext cx="382320" cy="9612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95360" y="1774080"/>
                <a:ext cx="458640" cy="42336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95360" y="2101320"/>
                <a:ext cx="458640" cy="190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95360" y="1812600"/>
                <a:ext cx="458640" cy="190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90760" y="1755000"/>
                <a:ext cx="38160" cy="4618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57280" y="2601720"/>
                <a:ext cx="336960" cy="540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33520" y="2505240"/>
                <a:ext cx="383040" cy="540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5" name=""/>
          <p:cNvSpPr/>
          <p:nvPr/>
        </p:nvSpPr>
        <p:spPr>
          <a:xfrm>
            <a:off x="5486400" y="4292640"/>
            <a:ext cx="30481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ueled in LEO: Extended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O – 13,2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LO – 15,0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1 – 17,0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6" name="" descr=""/>
          <p:cNvPicPr/>
          <p:nvPr/>
        </p:nvPicPr>
        <p:blipFill>
          <a:blip r:embed="rId1"/>
          <a:srcRect l="46924" t="0" r="0" b="0"/>
          <a:stretch/>
        </p:blipFill>
        <p:spPr>
          <a:xfrm>
            <a:off x="6205680" y="1066680"/>
            <a:ext cx="24048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7" name=""/>
          <p:cNvGrpSpPr/>
          <p:nvPr/>
        </p:nvGrpSpPr>
        <p:grpSpPr>
          <a:xfrm>
            <a:off x="0" y="2355840"/>
            <a:ext cx="1448640" cy="4495680"/>
            <a:chOff x="0" y="2355840"/>
            <a:chExt cx="1448640" cy="4495680"/>
          </a:xfrm>
        </p:grpSpPr>
        <p:sp>
          <p:nvSpPr>
            <p:cNvPr id="2638" name=""/>
            <p:cNvSpPr/>
            <p:nvPr/>
          </p:nvSpPr>
          <p:spPr>
            <a:xfrm>
              <a:off x="457560" y="6165720"/>
              <a:ext cx="533520" cy="1522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57560" y="2965320"/>
              <a:ext cx="533520" cy="763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0" name=""/>
            <p:cNvGrpSpPr/>
            <p:nvPr/>
          </p:nvGrpSpPr>
          <p:grpSpPr>
            <a:xfrm>
              <a:off x="991440" y="2355840"/>
              <a:ext cx="457200" cy="4495680"/>
              <a:chOff x="991440" y="2355840"/>
              <a:chExt cx="457200" cy="4495680"/>
            </a:xfrm>
          </p:grpSpPr>
          <p:grpSp>
            <p:nvGrpSpPr>
              <p:cNvPr id="2641" name=""/>
              <p:cNvGrpSpPr/>
              <p:nvPr/>
            </p:nvGrpSpPr>
            <p:grpSpPr>
              <a:xfrm>
                <a:off x="991440" y="2965320"/>
                <a:ext cx="457200" cy="3886200"/>
                <a:chOff x="991440" y="2965320"/>
                <a:chExt cx="457200" cy="3886200"/>
              </a:xfrm>
            </p:grpSpPr>
            <p:sp>
              <p:nvSpPr>
                <p:cNvPr id="2642" name=""/>
                <p:cNvSpPr/>
                <p:nvPr/>
              </p:nvSpPr>
              <p:spPr>
                <a:xfrm>
                  <a:off x="1089720" y="665928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991440" y="634176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991440" y="40320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991440" y="5860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991440" y="418464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991440" y="372744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991440" y="296532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991440" y="311760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0" name=""/>
                <p:cNvGrpSpPr/>
                <p:nvPr/>
              </p:nvGrpSpPr>
              <p:grpSpPr>
                <a:xfrm>
                  <a:off x="991440" y="3879720"/>
                  <a:ext cx="457200" cy="304920"/>
                  <a:chOff x="991440" y="3879720"/>
                  <a:chExt cx="457200" cy="30492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99144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>
                    <a:off x="106740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99144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114372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>
                    <a:off x="121968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129600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137232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144864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9" name=""/>
                <p:cNvSpPr/>
                <p:nvPr/>
              </p:nvSpPr>
              <p:spPr>
                <a:xfrm>
                  <a:off x="991440" y="608940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991440" y="601344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991440" y="2965320"/>
                <a:ext cx="457200" cy="3230640"/>
                <a:chOff x="991440" y="2965320"/>
                <a:chExt cx="457200" cy="323064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991440" y="296532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991440" y="387972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4" name=""/>
                <p:cNvGrpSpPr/>
                <p:nvPr/>
              </p:nvGrpSpPr>
              <p:grpSpPr>
                <a:xfrm>
                  <a:off x="991440" y="3041640"/>
                  <a:ext cx="457200" cy="3154320"/>
                  <a:chOff x="991440" y="3041640"/>
                  <a:chExt cx="457200" cy="3154320"/>
                </a:xfrm>
              </p:grpSpPr>
              <p:sp>
                <p:nvSpPr>
                  <p:cNvPr id="2665" name=""/>
                  <p:cNvSpPr/>
                  <p:nvPr/>
                </p:nvSpPr>
                <p:spPr>
                  <a:xfrm>
                    <a:off x="991440" y="359244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991440" y="50227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1220040" y="304164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68" name=""/>
              <p:cNvSpPr/>
              <p:nvPr/>
            </p:nvSpPr>
            <p:spPr>
              <a:xfrm>
                <a:off x="991440" y="235584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0" y="2355840"/>
              <a:ext cx="457200" cy="4495680"/>
              <a:chOff x="0" y="2355840"/>
              <a:chExt cx="457200" cy="4495680"/>
            </a:xfrm>
          </p:grpSpPr>
          <p:grpSp>
            <p:nvGrpSpPr>
              <p:cNvPr id="2670" name=""/>
              <p:cNvGrpSpPr/>
              <p:nvPr/>
            </p:nvGrpSpPr>
            <p:grpSpPr>
              <a:xfrm>
                <a:off x="0" y="2965320"/>
                <a:ext cx="457200" cy="3886200"/>
                <a:chOff x="0" y="2965320"/>
                <a:chExt cx="457200" cy="388620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98280" y="6659280"/>
                  <a:ext cx="25416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0" y="6341760"/>
                  <a:ext cx="457200" cy="319320"/>
                </a:xfrm>
                <a:custGeom>
                  <a:avLst/>
                  <a:gdLst>
                    <a:gd name="textAreaLeft" fmla="*/ 130320 w 457200"/>
                    <a:gd name="textAreaRight" fmla="*/ 326880 w 45720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0" y="40320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0" y="586080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0" y="4184640"/>
                  <a:ext cx="45720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0" y="3727440"/>
                  <a:ext cx="4572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0" y="2965320"/>
                  <a:ext cx="45720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0" y="3117600"/>
                  <a:ext cx="45720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9" name=""/>
                <p:cNvGrpSpPr/>
                <p:nvPr/>
              </p:nvGrpSpPr>
              <p:grpSpPr>
                <a:xfrm>
                  <a:off x="0" y="3879720"/>
                  <a:ext cx="457200" cy="304920"/>
                  <a:chOff x="0" y="3879720"/>
                  <a:chExt cx="457200" cy="304920"/>
                </a:xfrm>
              </p:grpSpPr>
              <p:sp>
                <p:nvSpPr>
                  <p:cNvPr id="2680" name=""/>
                  <p:cNvSpPr/>
                  <p:nvPr/>
                </p:nvSpPr>
                <p:spPr>
                  <a:xfrm>
                    <a:off x="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H="1">
                    <a:off x="7596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15228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H="1">
                    <a:off x="228240" y="387972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30456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H="1">
                    <a:off x="380880" y="3879720"/>
                    <a:ext cx="7632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457200" y="387972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8" name=""/>
                <p:cNvSpPr/>
                <p:nvPr/>
              </p:nvSpPr>
              <p:spPr>
                <a:xfrm>
                  <a:off x="0" y="6089400"/>
                  <a:ext cx="45720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0" y="6013440"/>
                  <a:ext cx="45720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0" y="2965320"/>
                <a:ext cx="457200" cy="3230640"/>
                <a:chOff x="0" y="2965320"/>
                <a:chExt cx="457200" cy="32306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0" y="2965320"/>
                  <a:ext cx="45720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0" y="3879720"/>
                  <a:ext cx="45720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3" name=""/>
                <p:cNvGrpSpPr/>
                <p:nvPr/>
              </p:nvGrpSpPr>
              <p:grpSpPr>
                <a:xfrm>
                  <a:off x="0" y="3041640"/>
                  <a:ext cx="457200" cy="3154320"/>
                  <a:chOff x="0" y="3041640"/>
                  <a:chExt cx="457200" cy="3154320"/>
                </a:xfrm>
              </p:grpSpPr>
              <p:sp>
                <p:nvSpPr>
                  <p:cNvPr id="2694" name=""/>
                  <p:cNvSpPr/>
                  <p:nvPr/>
                </p:nvSpPr>
                <p:spPr>
                  <a:xfrm>
                    <a:off x="0" y="359244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0" y="5022720"/>
                    <a:ext cx="4572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228600" y="3041640"/>
                    <a:ext cx="4608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97" name=""/>
              <p:cNvSpPr/>
              <p:nvPr/>
            </p:nvSpPr>
            <p:spPr>
              <a:xfrm>
                <a:off x="0" y="2355840"/>
                <a:ext cx="457200" cy="614160"/>
              </a:xfrm>
              <a:custGeom>
                <a:avLst/>
                <a:gdLst/>
                <a:ahLst/>
                <a:rect l="l" t="t" r="r" b="b"/>
                <a:pathLst>
                  <a:path w="308" h="517">
                    <a:moveTo>
                      <a:pt x="0" y="517"/>
                    </a:moveTo>
                    <a:lnTo>
                      <a:pt x="13" y="340"/>
                    </a:lnTo>
                    <a:lnTo>
                      <a:pt x="38" y="194"/>
                    </a:lnTo>
                    <a:lnTo>
                      <a:pt x="80" y="83"/>
                    </a:lnTo>
                    <a:lnTo>
                      <a:pt x="128" y="12"/>
                    </a:lnTo>
                    <a:lnTo>
                      <a:pt x="160" y="0"/>
                    </a:lnTo>
                    <a:lnTo>
                      <a:pt x="189" y="12"/>
                    </a:lnTo>
                    <a:lnTo>
                      <a:pt x="228" y="80"/>
                    </a:lnTo>
                    <a:lnTo>
                      <a:pt x="271" y="194"/>
                    </a:lnTo>
                    <a:lnTo>
                      <a:pt x="296" y="338"/>
                    </a:lnTo>
                    <a:lnTo>
                      <a:pt x="308" y="512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8" name=""/>
          <p:cNvGrpSpPr/>
          <p:nvPr/>
        </p:nvGrpSpPr>
        <p:grpSpPr>
          <a:xfrm>
            <a:off x="496800" y="0"/>
            <a:ext cx="455760" cy="6858000"/>
            <a:chOff x="496800" y="0"/>
            <a:chExt cx="455760" cy="6858000"/>
          </a:xfrm>
        </p:grpSpPr>
        <p:grpSp>
          <p:nvGrpSpPr>
            <p:cNvPr id="2699" name=""/>
            <p:cNvGrpSpPr/>
            <p:nvPr/>
          </p:nvGrpSpPr>
          <p:grpSpPr>
            <a:xfrm>
              <a:off x="496800" y="2971800"/>
              <a:ext cx="455760" cy="3886200"/>
              <a:chOff x="496800" y="2971800"/>
              <a:chExt cx="455760" cy="3886200"/>
            </a:xfrm>
          </p:grpSpPr>
          <p:grpSp>
            <p:nvGrpSpPr>
              <p:cNvPr id="2700" name=""/>
              <p:cNvGrpSpPr/>
              <p:nvPr/>
            </p:nvGrpSpPr>
            <p:grpSpPr>
              <a:xfrm>
                <a:off x="496800" y="2971800"/>
                <a:ext cx="455760" cy="3886200"/>
                <a:chOff x="496800" y="2971800"/>
                <a:chExt cx="455760" cy="388620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594720" y="6665760"/>
                  <a:ext cx="253080" cy="19224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496800" y="6348240"/>
                  <a:ext cx="455760" cy="319320"/>
                </a:xfrm>
                <a:custGeom>
                  <a:avLst/>
                  <a:gdLst>
                    <a:gd name="textAreaLeft" fmla="*/ 129960 w 455760"/>
                    <a:gd name="textAreaRight" fmla="*/ 325800 w 455760"/>
                    <a:gd name="textAreaTop" fmla="*/ 91080 h 319320"/>
                    <a:gd name="textAreaBottom" fmla="*/ 228240 h 3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496800" y="40384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496800" y="586728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496800" y="4191120"/>
                  <a:ext cx="455760" cy="182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496800" y="3733920"/>
                  <a:ext cx="4557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496800" y="2971800"/>
                  <a:ext cx="45576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496800" y="3124080"/>
                  <a:ext cx="45576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9" name=""/>
                <p:cNvGrpSpPr/>
                <p:nvPr/>
              </p:nvGrpSpPr>
              <p:grpSpPr>
                <a:xfrm>
                  <a:off x="496800" y="3886200"/>
                  <a:ext cx="455760" cy="304920"/>
                  <a:chOff x="496800" y="3886200"/>
                  <a:chExt cx="455760" cy="304920"/>
                </a:xfrm>
              </p:grpSpPr>
              <p:sp>
                <p:nvSpPr>
                  <p:cNvPr id="2710" name=""/>
                  <p:cNvSpPr/>
                  <p:nvPr/>
                </p:nvSpPr>
                <p:spPr>
                  <a:xfrm>
                    <a:off x="49680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>
                    <a:off x="57204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49680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64836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H="1">
                    <a:off x="724680" y="3886200"/>
                    <a:ext cx="7560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8002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H="1">
                    <a:off x="875880" y="3886200"/>
                    <a:ext cx="7596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952560" y="3886200"/>
                    <a:ext cx="0" cy="30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8" name=""/>
                <p:cNvSpPr/>
                <p:nvPr/>
              </p:nvSpPr>
              <p:spPr>
                <a:xfrm>
                  <a:off x="496800" y="6095880"/>
                  <a:ext cx="455760" cy="25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96800" y="6019920"/>
                  <a:ext cx="455760" cy="75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496800" y="2971800"/>
                <a:ext cx="455400" cy="152280"/>
                <a:chOff x="496800" y="2971800"/>
                <a:chExt cx="455400" cy="152280"/>
              </a:xfrm>
            </p:grpSpPr>
            <p:sp>
              <p:nvSpPr>
                <p:cNvPr id="2721" name=""/>
                <p:cNvSpPr/>
                <p:nvPr/>
              </p:nvSpPr>
              <p:spPr>
                <a:xfrm flipH="1">
                  <a:off x="49680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>
                  <a:off x="6480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57240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>
                  <a:off x="79992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24680" y="2971800"/>
                  <a:ext cx="756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76240" y="2971800"/>
                  <a:ext cx="759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>
                  <a:off x="572400" y="2971800"/>
                  <a:ext cx="3038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8" name=""/>
            <p:cNvGrpSpPr/>
            <p:nvPr/>
          </p:nvGrpSpPr>
          <p:grpSpPr>
            <a:xfrm>
              <a:off x="496800" y="0"/>
              <a:ext cx="455760" cy="6202440"/>
              <a:chOff x="496800" y="0"/>
              <a:chExt cx="455760" cy="620244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496800" y="0"/>
                <a:ext cx="455760" cy="2971800"/>
                <a:chOff x="496800" y="0"/>
                <a:chExt cx="455760" cy="29718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496800" y="692280"/>
                  <a:ext cx="455760" cy="227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496800" y="0"/>
                  <a:ext cx="455760" cy="71928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496800" y="2971800"/>
                <a:ext cx="455760" cy="3230640"/>
                <a:chOff x="496800" y="2971800"/>
                <a:chExt cx="455760" cy="323064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496800" y="2971800"/>
                  <a:ext cx="4557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496800" y="3886200"/>
                  <a:ext cx="455760" cy="30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5" name=""/>
                <p:cNvGrpSpPr/>
                <p:nvPr/>
              </p:nvGrpSpPr>
              <p:grpSpPr>
                <a:xfrm>
                  <a:off x="496800" y="3048120"/>
                  <a:ext cx="455760" cy="3154320"/>
                  <a:chOff x="496800" y="3048120"/>
                  <a:chExt cx="455760" cy="3154320"/>
                </a:xfrm>
              </p:grpSpPr>
              <p:sp>
                <p:nvSpPr>
                  <p:cNvPr id="2736" name=""/>
                  <p:cNvSpPr/>
                  <p:nvPr/>
                </p:nvSpPr>
                <p:spPr>
                  <a:xfrm>
                    <a:off x="496800" y="359892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496800" y="5029200"/>
                    <a:ext cx="4557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724680" y="3048120"/>
                    <a:ext cx="45720" cy="315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eing Delta IV-Heav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re Boo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ss Mass – 226,4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Mass – 26,8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lant Mass – 199,6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– 42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IV Standard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– 25,8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O – 10,8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O – 6,700kg (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495360" y="1600200"/>
            <a:ext cx="458640" cy="1342800"/>
            <a:chOff x="495360" y="1600200"/>
            <a:chExt cx="458640" cy="1342800"/>
          </a:xfrm>
        </p:grpSpPr>
        <p:sp>
          <p:nvSpPr>
            <p:cNvPr id="2742" name=""/>
            <p:cNvSpPr/>
            <p:nvPr/>
          </p:nvSpPr>
          <p:spPr>
            <a:xfrm>
              <a:off x="495360" y="1676160"/>
              <a:ext cx="458640" cy="2127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63560" y="260172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edbb9"/>
                </a:gs>
                <a:gs pos="100000">
                  <a:srgbClr val="ff993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95360" y="2041920"/>
              <a:ext cx="458640" cy="21204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3520" y="2349720"/>
              <a:ext cx="382680" cy="25200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33520" y="2254320"/>
              <a:ext cx="382680" cy="23112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7" name=""/>
            <p:cNvGrpSpPr/>
            <p:nvPr/>
          </p:nvGrpSpPr>
          <p:grpSpPr>
            <a:xfrm>
              <a:off x="590760" y="2601720"/>
              <a:ext cx="249120" cy="341280"/>
              <a:chOff x="590760" y="2601720"/>
              <a:chExt cx="249120" cy="341280"/>
            </a:xfrm>
          </p:grpSpPr>
          <p:sp>
            <p:nvSpPr>
              <p:cNvPr id="2748" name=""/>
              <p:cNvSpPr/>
              <p:nvPr/>
            </p:nvSpPr>
            <p:spPr>
              <a:xfrm>
                <a:off x="619200" y="2601720"/>
                <a:ext cx="201600" cy="37440"/>
              </a:xfrm>
              <a:custGeom>
                <a:avLst/>
                <a:gdLst>
                  <a:gd name="textAreaLeft" fmla="*/ 59760 w 201600"/>
                  <a:gd name="textAreaRight" fmla="*/ 141840 w 201600"/>
                  <a:gd name="textAreaTop" fmla="*/ 11160 h 37440"/>
                  <a:gd name="textAreaBottom" fmla="*/ 26280 h 3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07" y="21600"/>
                    </a:lnTo>
                    <a:lnTo>
                      <a:pt x="839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90760" y="2714040"/>
                <a:ext cx="249120" cy="22896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95" y="0"/>
                    </a:moveTo>
                    <a:lnTo>
                      <a:pt x="113" y="42"/>
                    </a:lnTo>
                    <a:lnTo>
                      <a:pt x="126" y="102"/>
                    </a:lnTo>
                    <a:lnTo>
                      <a:pt x="0" y="102"/>
                    </a:lnTo>
                    <a:lnTo>
                      <a:pt x="16" y="42"/>
                    </a:lnTo>
                    <a:lnTo>
                      <a:pt x="3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663480" y="2638440"/>
                <a:ext cx="114480" cy="75960"/>
              </a:xfrm>
              <a:custGeom>
                <a:avLst/>
                <a:gdLst>
                  <a:gd name="textAreaLeft" fmla="*/ 28800 w 114480"/>
                  <a:gd name="textAreaRight" fmla="*/ 85680 w 114480"/>
                  <a:gd name="textAreaTop" fmla="*/ 19080 h 75960"/>
                  <a:gd name="textAreaBottom" fmla="*/ 568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09" y="21600"/>
                    </a:lnTo>
                    <a:lnTo>
                      <a:pt x="669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36480" y="2777760"/>
                <a:ext cx="165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17400" y="2841480"/>
                <a:ext cx="203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01560" y="2903760"/>
                <a:ext cx="228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>
              <a:off x="533520" y="2465640"/>
              <a:ext cx="382680" cy="38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cde5d9"/>
                </a:gs>
                <a:gs pos="100000">
                  <a:srgbClr val="33996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71680" y="21783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edbb9"/>
                </a:gs>
                <a:gs pos="100000">
                  <a:srgbClr val="ff993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6" name=""/>
            <p:cNvGrpSpPr/>
            <p:nvPr/>
          </p:nvGrpSpPr>
          <p:grpSpPr>
            <a:xfrm>
              <a:off x="533520" y="2465640"/>
              <a:ext cx="382680" cy="38880"/>
              <a:chOff x="533520" y="2465640"/>
              <a:chExt cx="382680" cy="38880"/>
            </a:xfrm>
          </p:grpSpPr>
          <p:sp>
            <p:nvSpPr>
              <p:cNvPr id="2757" name=""/>
              <p:cNvSpPr/>
              <p:nvPr/>
            </p:nvSpPr>
            <p:spPr>
              <a:xfrm>
                <a:off x="53352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7096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1596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6852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2108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7364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262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712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909000" y="2465640"/>
                <a:ext cx="7200" cy="388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497160" y="2187000"/>
              <a:ext cx="454680" cy="416520"/>
              <a:chOff x="497160" y="2187000"/>
              <a:chExt cx="454680" cy="416520"/>
            </a:xfrm>
          </p:grpSpPr>
          <p:grpSp>
            <p:nvGrpSpPr>
              <p:cNvPr id="2767" name=""/>
              <p:cNvGrpSpPr/>
              <p:nvPr/>
            </p:nvGrpSpPr>
            <p:grpSpPr>
              <a:xfrm>
                <a:off x="497160" y="2187000"/>
                <a:ext cx="230400" cy="186840"/>
                <a:chOff x="497160" y="2187000"/>
                <a:chExt cx="230400" cy="186840"/>
              </a:xfrm>
            </p:grpSpPr>
            <p:sp>
              <p:nvSpPr>
                <p:cNvPr id="2768" name=""/>
                <p:cNvSpPr/>
                <p:nvPr/>
              </p:nvSpPr>
              <p:spPr>
                <a:xfrm rot="14750400">
                  <a:off x="510840" y="228060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rot="6849600">
                  <a:off x="587160" y="228060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 rot="6108600">
                  <a:off x="462960" y="227484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15491400">
                  <a:off x="426240" y="227916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721440" y="2189160"/>
                <a:ext cx="230400" cy="186840"/>
                <a:chOff x="721440" y="2189160"/>
                <a:chExt cx="230400" cy="186840"/>
              </a:xfrm>
            </p:grpSpPr>
            <p:sp>
              <p:nvSpPr>
                <p:cNvPr id="2773" name=""/>
                <p:cNvSpPr/>
                <p:nvPr/>
              </p:nvSpPr>
              <p:spPr>
                <a:xfrm flipH="1" rot="6849600">
                  <a:off x="742320" y="228276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14750400">
                  <a:off x="666000" y="2282760"/>
                  <a:ext cx="19548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15491400">
                  <a:off x="801000" y="227700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 rot="6108600">
                  <a:off x="837720" y="2281320"/>
                  <a:ext cx="184320" cy="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535680" y="2504160"/>
                <a:ext cx="189360" cy="99360"/>
                <a:chOff x="535680" y="2504160"/>
                <a:chExt cx="189360" cy="99360"/>
              </a:xfrm>
            </p:grpSpPr>
            <p:sp>
              <p:nvSpPr>
                <p:cNvPr id="2778" name=""/>
                <p:cNvSpPr/>
                <p:nvPr/>
              </p:nvSpPr>
              <p:spPr>
                <a:xfrm flipH="1" rot="6465000">
                  <a:off x="525600" y="2553120"/>
                  <a:ext cx="10080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15518400">
                  <a:off x="496800" y="2551680"/>
                  <a:ext cx="100800" cy="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14176800">
                  <a:off x="568800" y="255168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H="1" rot="7423200">
                  <a:off x="633240" y="255240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723600" y="2501640"/>
                <a:ext cx="189360" cy="99720"/>
                <a:chOff x="723600" y="2501640"/>
                <a:chExt cx="189360" cy="99720"/>
              </a:xfrm>
            </p:grpSpPr>
            <p:sp>
              <p:nvSpPr>
                <p:cNvPr id="2783" name=""/>
                <p:cNvSpPr/>
                <p:nvPr/>
              </p:nvSpPr>
              <p:spPr>
                <a:xfrm rot="15135000">
                  <a:off x="821520" y="2550960"/>
                  <a:ext cx="100800" cy="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 rot="6081600">
                  <a:off x="850320" y="2549520"/>
                  <a:ext cx="100800" cy="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 rot="7423200">
                  <a:off x="763920" y="254952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14176800">
                  <a:off x="699480" y="2550240"/>
                  <a:ext cx="114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7c7cdd"/>
                    </a:gs>
                    <a:gs pos="100000">
                      <a:srgbClr val="3333c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87" name=""/>
            <p:cNvSpPr/>
            <p:nvPr/>
          </p:nvSpPr>
          <p:spPr>
            <a:xfrm flipH="1" rot="8578200">
              <a:off x="477360" y="1675800"/>
              <a:ext cx="193680" cy="57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rot="16200000">
              <a:off x="635760" y="1708200"/>
              <a:ext cx="184320" cy="5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rot="13021800">
              <a:off x="777960" y="1677960"/>
              <a:ext cx="193680" cy="5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a7a7a7"/>
                </a:gs>
                <a:gs pos="100000">
                  <a:srgbClr val="77777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28560" y="1600200"/>
              <a:ext cx="192240" cy="38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95360" y="1733400"/>
              <a:ext cx="458640" cy="39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2" name=""/>
            <p:cNvGrpSpPr/>
            <p:nvPr/>
          </p:nvGrpSpPr>
          <p:grpSpPr>
            <a:xfrm>
              <a:off x="495360" y="1755000"/>
              <a:ext cx="458640" cy="852120"/>
              <a:chOff x="495360" y="1755000"/>
              <a:chExt cx="458640" cy="852120"/>
            </a:xfrm>
          </p:grpSpPr>
          <p:sp>
            <p:nvSpPr>
              <p:cNvPr id="2793" name=""/>
              <p:cNvSpPr/>
              <p:nvPr/>
            </p:nvSpPr>
            <p:spPr>
              <a:xfrm>
                <a:off x="533520" y="2370600"/>
                <a:ext cx="382320" cy="9612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95360" y="1774080"/>
                <a:ext cx="458640" cy="42336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95360" y="2101320"/>
                <a:ext cx="458640" cy="190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95360" y="1812600"/>
                <a:ext cx="458640" cy="190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0760" y="1755000"/>
                <a:ext cx="38160" cy="46188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57280" y="2601720"/>
                <a:ext cx="336960" cy="540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33520" y="2505240"/>
                <a:ext cx="383040" cy="540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ed9c1"/>
                  </a:gs>
                  <a:gs pos="100000">
                    <a:srgbClr val="ff66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0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496800" y="2965320"/>
            <a:ext cx="455760" cy="3886200"/>
            <a:chOff x="496800" y="2965320"/>
            <a:chExt cx="455760" cy="3886200"/>
          </a:xfrm>
        </p:grpSpPr>
        <p:grpSp>
          <p:nvGrpSpPr>
            <p:cNvPr id="2802" name=""/>
            <p:cNvGrpSpPr/>
            <p:nvPr/>
          </p:nvGrpSpPr>
          <p:grpSpPr>
            <a:xfrm>
              <a:off x="496800" y="2965320"/>
              <a:ext cx="455760" cy="3886200"/>
              <a:chOff x="496800" y="2965320"/>
              <a:chExt cx="455760" cy="3886200"/>
            </a:xfrm>
          </p:grpSpPr>
          <p:sp>
            <p:nvSpPr>
              <p:cNvPr id="2803" name=""/>
              <p:cNvSpPr/>
              <p:nvPr/>
            </p:nvSpPr>
            <p:spPr>
              <a:xfrm>
                <a:off x="594720" y="6659280"/>
                <a:ext cx="253080" cy="1922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95" y="0"/>
                    </a:moveTo>
                    <a:lnTo>
                      <a:pt x="113" y="42"/>
                    </a:lnTo>
                    <a:lnTo>
                      <a:pt x="126" y="102"/>
                    </a:lnTo>
                    <a:lnTo>
                      <a:pt x="0" y="102"/>
                    </a:lnTo>
                    <a:lnTo>
                      <a:pt x="16" y="42"/>
                    </a:lnTo>
                    <a:lnTo>
                      <a:pt x="3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96800" y="6341760"/>
                <a:ext cx="455760" cy="319320"/>
              </a:xfrm>
              <a:custGeom>
                <a:avLst/>
                <a:gdLst>
                  <a:gd name="textAreaLeft" fmla="*/ 129960 w 455760"/>
                  <a:gd name="textAreaRight" fmla="*/ 325800 w 455760"/>
                  <a:gd name="textAreaTop" fmla="*/ 91080 h 319320"/>
                  <a:gd name="textAreaBottom" fmla="*/ 228240 h 3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50" y="21600"/>
                    </a:lnTo>
                    <a:lnTo>
                      <a:pt x="795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96800" y="4032000"/>
                <a:ext cx="455760" cy="304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96800" y="5860800"/>
                <a:ext cx="455760" cy="304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96800" y="4184640"/>
                <a:ext cx="455760" cy="182880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96800" y="3727440"/>
                <a:ext cx="455760" cy="304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96800" y="2965320"/>
                <a:ext cx="455760" cy="304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96800" y="3117600"/>
                <a:ext cx="455760" cy="76212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1" name=""/>
              <p:cNvGrpSpPr/>
              <p:nvPr/>
            </p:nvGrpSpPr>
            <p:grpSpPr>
              <a:xfrm>
                <a:off x="496800" y="3879720"/>
                <a:ext cx="455760" cy="304920"/>
                <a:chOff x="496800" y="3879720"/>
                <a:chExt cx="455760" cy="30492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496800" y="3879720"/>
                  <a:ext cx="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572040" y="3879720"/>
                  <a:ext cx="7596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496800" y="3879720"/>
                  <a:ext cx="7560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48360" y="3879720"/>
                  <a:ext cx="7596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724680" y="3879720"/>
                  <a:ext cx="7560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800280" y="3879720"/>
                  <a:ext cx="7596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875880" y="3879720"/>
                  <a:ext cx="7596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952560" y="3879720"/>
                  <a:ext cx="0" cy="30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0" name=""/>
              <p:cNvSpPr/>
              <p:nvPr/>
            </p:nvSpPr>
            <p:spPr>
              <a:xfrm>
                <a:off x="496800" y="6089400"/>
                <a:ext cx="455760" cy="25092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6800" y="6013440"/>
                <a:ext cx="455760" cy="7596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2" name=""/>
            <p:cNvGrpSpPr/>
            <p:nvPr/>
          </p:nvGrpSpPr>
          <p:grpSpPr>
            <a:xfrm>
              <a:off x="496800" y="2965320"/>
              <a:ext cx="455400" cy="152280"/>
              <a:chOff x="496800" y="2965320"/>
              <a:chExt cx="455400" cy="152280"/>
            </a:xfrm>
          </p:grpSpPr>
          <p:sp>
            <p:nvSpPr>
              <p:cNvPr id="2823" name=""/>
              <p:cNvSpPr/>
              <p:nvPr/>
            </p:nvSpPr>
            <p:spPr>
              <a:xfrm flipH="1">
                <a:off x="496800" y="2965320"/>
                <a:ext cx="7560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>
                <a:off x="648000" y="2965320"/>
                <a:ext cx="7596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72400" y="2965320"/>
                <a:ext cx="7596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799920" y="2965320"/>
                <a:ext cx="7596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24680" y="2965320"/>
                <a:ext cx="7560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76240" y="2965320"/>
                <a:ext cx="7596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572400" y="2965320"/>
                <a:ext cx="303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0" name=""/>
          <p:cNvSpPr/>
          <p:nvPr/>
        </p:nvSpPr>
        <p:spPr>
          <a:xfrm>
            <a:off x="5486400" y="4292640"/>
            <a:ext cx="30481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ueled in LEO: Extended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O – 80,6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LO – 93,100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1 – 106,600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1" name="" descr="Delta 4 Heavy rollout"/>
          <p:cNvPicPr/>
          <p:nvPr/>
        </p:nvPicPr>
        <p:blipFill>
          <a:blip r:embed="rId1"/>
          <a:srcRect l="32354" t="0" r="7351" b="0"/>
          <a:stretch/>
        </p:blipFill>
        <p:spPr>
          <a:xfrm>
            <a:off x="6005520" y="1076400"/>
            <a:ext cx="27669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tility of the Shuttle External T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ttle ET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0 tons fue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tons dry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irectly inserted into LEO 28.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lant depot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off-the-shelf tank transported to 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for short-term storage of LOX &amp; L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utilization could store propellants as a pressurized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MMOD shielding + MLI, cryocoolers, power, electrolysis, fluid handling &amp;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launched as a separate payload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use of the Shuttle ET for propellant storage could provide significant savings to fuel depo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152280" y="152280"/>
            <a:ext cx="1257120" cy="6522480"/>
            <a:chOff x="152280" y="152280"/>
            <a:chExt cx="1257120" cy="6522480"/>
          </a:xfrm>
        </p:grpSpPr>
        <p:sp>
          <p:nvSpPr>
            <p:cNvPr id="2835" name=""/>
            <p:cNvSpPr/>
            <p:nvPr/>
          </p:nvSpPr>
          <p:spPr>
            <a:xfrm>
              <a:off x="152280" y="5550480"/>
              <a:ext cx="1253160" cy="112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52280" y="1838880"/>
              <a:ext cx="1257120" cy="1031040"/>
            </a:xfrm>
            <a:prstGeom prst="rect">
              <a:avLst/>
            </a:prstGeom>
            <a:gradFill rotWithShape="0">
              <a:gsLst>
                <a:gs pos="0">
                  <a:srgbClr val="513b00"/>
                </a:gs>
                <a:gs pos="50000">
                  <a:srgbClr val="b08200"/>
                </a:gs>
                <a:gs pos="100000">
                  <a:srgbClr val="51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152280" y="1838160"/>
              <a:ext cx="1257120" cy="450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52280" y="2824920"/>
              <a:ext cx="1257120" cy="450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52280" y="152280"/>
              <a:ext cx="1257120" cy="1688760"/>
            </a:xfrm>
            <a:custGeom>
              <a:avLst/>
              <a:gdLst/>
              <a:ahLst/>
              <a:rect l="l" t="t" r="r" b="b"/>
              <a:pathLst>
                <a:path w="624" h="865">
                  <a:moveTo>
                    <a:pt x="0" y="864"/>
                  </a:moveTo>
                  <a:cubicBezTo>
                    <a:pt x="0" y="795"/>
                    <a:pt x="0" y="763"/>
                    <a:pt x="2" y="727"/>
                  </a:cubicBezTo>
                  <a:lnTo>
                    <a:pt x="9" y="646"/>
                  </a:lnTo>
                  <a:lnTo>
                    <a:pt x="17" y="585"/>
                  </a:lnTo>
                  <a:lnTo>
                    <a:pt x="30" y="523"/>
                  </a:lnTo>
                  <a:lnTo>
                    <a:pt x="48" y="442"/>
                  </a:lnTo>
                  <a:lnTo>
                    <a:pt x="72" y="369"/>
                  </a:lnTo>
                  <a:lnTo>
                    <a:pt x="104" y="298"/>
                  </a:lnTo>
                  <a:lnTo>
                    <a:pt x="138" y="243"/>
                  </a:lnTo>
                  <a:lnTo>
                    <a:pt x="183" y="177"/>
                  </a:lnTo>
                  <a:lnTo>
                    <a:pt x="227" y="127"/>
                  </a:lnTo>
                  <a:lnTo>
                    <a:pt x="275" y="76"/>
                  </a:lnTo>
                  <a:lnTo>
                    <a:pt x="294" y="40"/>
                  </a:lnTo>
                  <a:lnTo>
                    <a:pt x="312" y="0"/>
                  </a:lnTo>
                  <a:lnTo>
                    <a:pt x="330" y="42"/>
                  </a:lnTo>
                  <a:lnTo>
                    <a:pt x="350" y="76"/>
                  </a:lnTo>
                  <a:lnTo>
                    <a:pt x="405" y="135"/>
                  </a:lnTo>
                  <a:lnTo>
                    <a:pt x="441" y="177"/>
                  </a:lnTo>
                  <a:lnTo>
                    <a:pt x="489" y="246"/>
                  </a:lnTo>
                  <a:lnTo>
                    <a:pt x="521" y="300"/>
                  </a:lnTo>
                  <a:lnTo>
                    <a:pt x="548" y="360"/>
                  </a:lnTo>
                  <a:lnTo>
                    <a:pt x="575" y="438"/>
                  </a:lnTo>
                  <a:lnTo>
                    <a:pt x="593" y="508"/>
                  </a:lnTo>
                  <a:lnTo>
                    <a:pt x="606" y="580"/>
                  </a:lnTo>
                  <a:lnTo>
                    <a:pt x="615" y="651"/>
                  </a:lnTo>
                  <a:lnTo>
                    <a:pt x="623" y="732"/>
                  </a:lnTo>
                  <a:lnTo>
                    <a:pt x="624" y="865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>
              <a:off x="778320" y="152280"/>
              <a:ext cx="339480" cy="1686600"/>
            </a:xfrm>
            <a:custGeom>
              <a:avLst/>
              <a:gdLst/>
              <a:ahLst/>
              <a:rect l="l" t="t" r="r" b="b"/>
              <a:pathLst>
                <a:path w="298" h="841">
                  <a:moveTo>
                    <a:pt x="3" y="841"/>
                  </a:moveTo>
                  <a:cubicBezTo>
                    <a:pt x="3" y="817"/>
                    <a:pt x="0" y="747"/>
                    <a:pt x="3" y="694"/>
                  </a:cubicBezTo>
                  <a:cubicBezTo>
                    <a:pt x="6" y="641"/>
                    <a:pt x="13" y="579"/>
                    <a:pt x="24" y="525"/>
                  </a:cubicBezTo>
                  <a:cubicBezTo>
                    <a:pt x="35" y="471"/>
                    <a:pt x="51" y="415"/>
                    <a:pt x="67" y="370"/>
                  </a:cubicBezTo>
                  <a:cubicBezTo>
                    <a:pt x="83" y="325"/>
                    <a:pt x="100" y="291"/>
                    <a:pt x="121" y="253"/>
                  </a:cubicBezTo>
                  <a:cubicBezTo>
                    <a:pt x="142" y="215"/>
                    <a:pt x="173" y="175"/>
                    <a:pt x="196" y="145"/>
                  </a:cubicBezTo>
                  <a:cubicBezTo>
                    <a:pt x="219" y="115"/>
                    <a:pt x="244" y="99"/>
                    <a:pt x="261" y="75"/>
                  </a:cubicBezTo>
                  <a:cubicBezTo>
                    <a:pt x="278" y="51"/>
                    <a:pt x="290" y="16"/>
                    <a:pt x="298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52280" y="2819160"/>
              <a:ext cx="1257120" cy="329364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118520" y="1838880"/>
              <a:ext cx="0" cy="4273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3" name=""/>
          <p:cNvGrpSpPr/>
          <p:nvPr/>
        </p:nvGrpSpPr>
        <p:grpSpPr>
          <a:xfrm>
            <a:off x="1219320" y="2971800"/>
            <a:ext cx="804600" cy="3809520"/>
            <a:chOff x="1219320" y="2971800"/>
            <a:chExt cx="804600" cy="3809520"/>
          </a:xfrm>
        </p:grpSpPr>
        <p:grpSp>
          <p:nvGrpSpPr>
            <p:cNvPr id="2844" name=""/>
            <p:cNvGrpSpPr/>
            <p:nvPr/>
          </p:nvGrpSpPr>
          <p:grpSpPr>
            <a:xfrm>
              <a:off x="1494000" y="3860640"/>
              <a:ext cx="254880" cy="745920"/>
              <a:chOff x="1494000" y="3860640"/>
              <a:chExt cx="254880" cy="745920"/>
            </a:xfrm>
          </p:grpSpPr>
          <p:sp>
            <p:nvSpPr>
              <p:cNvPr id="2845" name=""/>
              <p:cNvSpPr/>
              <p:nvPr/>
            </p:nvSpPr>
            <p:spPr>
              <a:xfrm>
                <a:off x="1494000" y="3902760"/>
                <a:ext cx="254880" cy="1180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1643040" y="4417200"/>
                <a:ext cx="42120" cy="421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1494000" y="4106160"/>
                <a:ext cx="254880" cy="11772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1515240" y="4277160"/>
                <a:ext cx="212760" cy="14004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1515240" y="4224240"/>
                <a:ext cx="212760" cy="12852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0" name=""/>
              <p:cNvGrpSpPr/>
              <p:nvPr/>
            </p:nvGrpSpPr>
            <p:grpSpPr>
              <a:xfrm>
                <a:off x="1546920" y="4417200"/>
                <a:ext cx="138600" cy="189360"/>
                <a:chOff x="1546920" y="4417200"/>
                <a:chExt cx="138600" cy="18936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1562760" y="4417200"/>
                  <a:ext cx="111960" cy="20880"/>
                </a:xfrm>
                <a:custGeom>
                  <a:avLst/>
                  <a:gdLst>
                    <a:gd name="textAreaLeft" fmla="*/ 33120 w 111960"/>
                    <a:gd name="textAreaRight" fmla="*/ 78840 w 111960"/>
                    <a:gd name="textAreaTop" fmla="*/ 6120 h 20880"/>
                    <a:gd name="textAreaBottom" fmla="*/ 14760 h 2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207" y="21600"/>
                      </a:lnTo>
                      <a:lnTo>
                        <a:pt x="839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1546920" y="4479480"/>
                  <a:ext cx="138600" cy="12708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1587240" y="4437360"/>
                  <a:ext cx="63720" cy="42120"/>
                </a:xfrm>
                <a:custGeom>
                  <a:avLst/>
                  <a:gdLst>
                    <a:gd name="textAreaLeft" fmla="*/ 16200 w 63720"/>
                    <a:gd name="textAreaRight" fmla="*/ 47520 w 63720"/>
                    <a:gd name="textAreaTop" fmla="*/ 10440 h 42120"/>
                    <a:gd name="textAreaBottom" fmla="*/ 31680 h 4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909" y="21600"/>
                      </a:lnTo>
                      <a:lnTo>
                        <a:pt x="6691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1572120" y="4514760"/>
                  <a:ext cx="9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1561680" y="4550040"/>
                  <a:ext cx="1130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1552680" y="4584960"/>
                  <a:ext cx="127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7" name=""/>
              <p:cNvSpPr/>
              <p:nvPr/>
            </p:nvSpPr>
            <p:spPr>
              <a:xfrm>
                <a:off x="1515240" y="4341600"/>
                <a:ext cx="212760" cy="2160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536480" y="4181760"/>
                <a:ext cx="42120" cy="421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9" name=""/>
              <p:cNvGrpSpPr/>
              <p:nvPr/>
            </p:nvGrpSpPr>
            <p:grpSpPr>
              <a:xfrm>
                <a:off x="1515240" y="4341600"/>
                <a:ext cx="212760" cy="21600"/>
                <a:chOff x="1515240" y="4341600"/>
                <a:chExt cx="212760" cy="2160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15152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153612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15609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159012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16196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164880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16779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17031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17240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9" name=""/>
              <p:cNvGrpSpPr/>
              <p:nvPr/>
            </p:nvGrpSpPr>
            <p:grpSpPr>
              <a:xfrm>
                <a:off x="1494720" y="4186080"/>
                <a:ext cx="252720" cy="232200"/>
                <a:chOff x="1494720" y="4186080"/>
                <a:chExt cx="252720" cy="232200"/>
              </a:xfrm>
            </p:grpSpPr>
            <p:grpSp>
              <p:nvGrpSpPr>
                <p:cNvPr id="2870" name=""/>
                <p:cNvGrpSpPr/>
                <p:nvPr/>
              </p:nvGrpSpPr>
              <p:grpSpPr>
                <a:xfrm>
                  <a:off x="1494720" y="4186080"/>
                  <a:ext cx="127440" cy="104400"/>
                  <a:chOff x="1494720" y="4186080"/>
                  <a:chExt cx="127440" cy="104400"/>
                </a:xfrm>
              </p:grpSpPr>
              <p:sp>
                <p:nvSpPr>
                  <p:cNvPr id="2871" name=""/>
                  <p:cNvSpPr/>
                  <p:nvPr/>
                </p:nvSpPr>
                <p:spPr>
                  <a:xfrm rot="14750400">
                    <a:off x="1501920" y="4238640"/>
                    <a:ext cx="10872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 flipH="1" rot="6849600">
                    <a:off x="1543680" y="423828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 flipH="1" rot="6108600">
                    <a:off x="1475640" y="423504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 rot="15491400">
                    <a:off x="1455120" y="423720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5" name=""/>
                <p:cNvGrpSpPr/>
                <p:nvPr/>
              </p:nvGrpSpPr>
              <p:grpSpPr>
                <a:xfrm>
                  <a:off x="1620000" y="4187160"/>
                  <a:ext cx="127440" cy="104400"/>
                  <a:chOff x="1620000" y="4187160"/>
                  <a:chExt cx="127440" cy="10440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 flipH="1" rot="6849600">
                    <a:off x="1630800" y="423936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rot="14750400">
                    <a:off x="1589040" y="423936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rot="15491400">
                    <a:off x="1663560" y="423612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rot="6108600">
                    <a:off x="1684080" y="423828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1515960" y="4362840"/>
                  <a:ext cx="106200" cy="55440"/>
                  <a:chOff x="1515960" y="4362840"/>
                  <a:chExt cx="106200" cy="5544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flipH="1" rot="6465000">
                    <a:off x="1509480" y="4389840"/>
                    <a:ext cx="5652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rot="15518400">
                    <a:off x="1494360" y="4389480"/>
                    <a:ext cx="5616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rot="14176800">
                    <a:off x="1534680" y="4389480"/>
                    <a:ext cx="6408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 rot="7423200">
                    <a:off x="1571400" y="4389840"/>
                    <a:ext cx="6408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1621080" y="4361760"/>
                  <a:ext cx="105480" cy="55440"/>
                  <a:chOff x="1621080" y="4361760"/>
                  <a:chExt cx="105480" cy="5544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 rot="15135000">
                    <a:off x="1675440" y="4388760"/>
                    <a:ext cx="5652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rot="6081600">
                    <a:off x="1691640" y="4388400"/>
                    <a:ext cx="5616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 rot="7423200">
                    <a:off x="1643400" y="4387680"/>
                    <a:ext cx="6372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rot="14176800">
                    <a:off x="1607400" y="4388040"/>
                    <a:ext cx="6372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90" name=""/>
              <p:cNvSpPr/>
              <p:nvPr/>
            </p:nvSpPr>
            <p:spPr>
              <a:xfrm flipH="1" rot="8578200">
                <a:off x="1483920" y="3902040"/>
                <a:ext cx="107640" cy="324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rot="16200000">
                <a:off x="1571760" y="3920400"/>
                <a:ext cx="102240" cy="252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rot="13021800">
                <a:off x="1650960" y="3903480"/>
                <a:ext cx="107640" cy="288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568160" y="3860640"/>
                <a:ext cx="106920" cy="216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494000" y="3935160"/>
                <a:ext cx="254880" cy="216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5" name=""/>
              <p:cNvGrpSpPr/>
              <p:nvPr/>
            </p:nvGrpSpPr>
            <p:grpSpPr>
              <a:xfrm>
                <a:off x="1494000" y="3946680"/>
                <a:ext cx="254880" cy="473400"/>
                <a:chOff x="1494000" y="3946680"/>
                <a:chExt cx="254880" cy="47340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1515240" y="4288680"/>
                  <a:ext cx="212400" cy="5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1494000" y="3957120"/>
                  <a:ext cx="25488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1494000" y="4138920"/>
                  <a:ext cx="254880" cy="1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1494000" y="3978720"/>
                  <a:ext cx="254880" cy="1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1546920" y="3946680"/>
                  <a:ext cx="21240" cy="25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1528560" y="4417200"/>
                  <a:ext cx="187200" cy="2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1515240" y="4363560"/>
                  <a:ext cx="212760" cy="2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3" name=""/>
            <p:cNvGrpSpPr/>
            <p:nvPr/>
          </p:nvGrpSpPr>
          <p:grpSpPr>
            <a:xfrm>
              <a:off x="1219320" y="4284720"/>
              <a:ext cx="804600" cy="2496600"/>
              <a:chOff x="1219320" y="4284720"/>
              <a:chExt cx="804600" cy="2496600"/>
            </a:xfrm>
          </p:grpSpPr>
          <p:sp>
            <p:nvSpPr>
              <p:cNvPr id="2904" name=""/>
              <p:cNvSpPr/>
              <p:nvPr/>
            </p:nvSpPr>
            <p:spPr>
              <a:xfrm>
                <a:off x="1473480" y="6400800"/>
                <a:ext cx="296280" cy="842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473480" y="4623120"/>
                <a:ext cx="296280" cy="4212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6" name=""/>
              <p:cNvGrpSpPr/>
              <p:nvPr/>
            </p:nvGrpSpPr>
            <p:grpSpPr>
              <a:xfrm>
                <a:off x="1769760" y="4284720"/>
                <a:ext cx="254160" cy="2496600"/>
                <a:chOff x="1769760" y="4284720"/>
                <a:chExt cx="254160" cy="2496600"/>
              </a:xfrm>
            </p:grpSpPr>
            <p:grpSp>
              <p:nvGrpSpPr>
                <p:cNvPr id="2907" name=""/>
                <p:cNvGrpSpPr/>
                <p:nvPr/>
              </p:nvGrpSpPr>
              <p:grpSpPr>
                <a:xfrm>
                  <a:off x="1769760" y="4623120"/>
                  <a:ext cx="254160" cy="2158200"/>
                  <a:chOff x="1769760" y="4623120"/>
                  <a:chExt cx="254160" cy="2158200"/>
                </a:xfrm>
              </p:grpSpPr>
              <p:sp>
                <p:nvSpPr>
                  <p:cNvPr id="2908" name=""/>
                  <p:cNvSpPr/>
                  <p:nvPr/>
                </p:nvSpPr>
                <p:spPr>
                  <a:xfrm>
                    <a:off x="1824120" y="6674760"/>
                    <a:ext cx="1411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1769760" y="6498360"/>
                    <a:ext cx="254160" cy="177120"/>
                  </a:xfrm>
                  <a:custGeom>
                    <a:avLst/>
                    <a:gdLst>
                      <a:gd name="textAreaLeft" fmla="*/ 72360 w 254160"/>
                      <a:gd name="textAreaRight" fmla="*/ 181800 w 254160"/>
                      <a:gd name="textAreaTop" fmla="*/ 50400 h 177120"/>
                      <a:gd name="textAreaBottom" fmla="*/ 126720 h 177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1769760" y="521532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1769760" y="623124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1769760" y="5300280"/>
                    <a:ext cx="254160" cy="1015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1769760" y="5046120"/>
                    <a:ext cx="254160" cy="16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1769760" y="462312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1769760" y="4707360"/>
                    <a:ext cx="254160" cy="423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16" name=""/>
                  <p:cNvGrpSpPr/>
                  <p:nvPr/>
                </p:nvGrpSpPr>
                <p:grpSpPr>
                  <a:xfrm>
                    <a:off x="1769760" y="5130720"/>
                    <a:ext cx="254160" cy="169200"/>
                    <a:chOff x="1769760" y="5130720"/>
                    <a:chExt cx="254160" cy="169200"/>
                  </a:xfrm>
                </p:grpSpPr>
                <p:sp>
                  <p:nvSpPr>
                    <p:cNvPr id="2917" name=""/>
                    <p:cNvSpPr/>
                    <p:nvPr/>
                  </p:nvSpPr>
                  <p:spPr>
                    <a:xfrm>
                      <a:off x="176976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 flipH="1">
                      <a:off x="18115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>
                      <a:off x="176976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0" name=""/>
                    <p:cNvSpPr/>
                    <p:nvPr/>
                  </p:nvSpPr>
                  <p:spPr>
                    <a:xfrm>
                      <a:off x="185436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 flipH="1">
                      <a:off x="189648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193896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 flipH="1">
                      <a:off x="198108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>
                      <a:off x="202392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5" name=""/>
                  <p:cNvSpPr/>
                  <p:nvPr/>
                </p:nvSpPr>
                <p:spPr>
                  <a:xfrm>
                    <a:off x="1769760" y="6358320"/>
                    <a:ext cx="254160" cy="139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>
                    <a:off x="1769760" y="6316200"/>
                    <a:ext cx="254160" cy="4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7" name=""/>
                <p:cNvGrpSpPr/>
                <p:nvPr/>
              </p:nvGrpSpPr>
              <p:grpSpPr>
                <a:xfrm>
                  <a:off x="1769760" y="4623120"/>
                  <a:ext cx="254160" cy="1793880"/>
                  <a:chOff x="1769760" y="4623120"/>
                  <a:chExt cx="254160" cy="1793880"/>
                </a:xfrm>
              </p:grpSpPr>
              <p:sp>
                <p:nvSpPr>
                  <p:cNvPr id="2928" name=""/>
                  <p:cNvSpPr/>
                  <p:nvPr/>
                </p:nvSpPr>
                <p:spPr>
                  <a:xfrm>
                    <a:off x="1769760" y="4623120"/>
                    <a:ext cx="254160" cy="84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1769760" y="5130720"/>
                    <a:ext cx="254160" cy="16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30" name=""/>
                  <p:cNvGrpSpPr/>
                  <p:nvPr/>
                </p:nvGrpSpPr>
                <p:grpSpPr>
                  <a:xfrm>
                    <a:off x="1769760" y="4665240"/>
                    <a:ext cx="254160" cy="1751760"/>
                    <a:chOff x="1769760" y="4665240"/>
                    <a:chExt cx="254160" cy="1751760"/>
                  </a:xfrm>
                </p:grpSpPr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1769760" y="4970880"/>
                      <a:ext cx="2541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1769760" y="5765400"/>
                      <a:ext cx="2541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1896840" y="4665240"/>
                      <a:ext cx="25560" cy="1751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34" name=""/>
                <p:cNvSpPr/>
                <p:nvPr/>
              </p:nvSpPr>
              <p:spPr>
                <a:xfrm>
                  <a:off x="1769760" y="4284720"/>
                  <a:ext cx="254160" cy="34092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5" name=""/>
              <p:cNvGrpSpPr/>
              <p:nvPr/>
            </p:nvGrpSpPr>
            <p:grpSpPr>
              <a:xfrm>
                <a:off x="1219320" y="4284720"/>
                <a:ext cx="254160" cy="2496600"/>
                <a:chOff x="1219320" y="4284720"/>
                <a:chExt cx="254160" cy="2496600"/>
              </a:xfrm>
            </p:grpSpPr>
            <p:grpSp>
              <p:nvGrpSpPr>
                <p:cNvPr id="2936" name=""/>
                <p:cNvGrpSpPr/>
                <p:nvPr/>
              </p:nvGrpSpPr>
              <p:grpSpPr>
                <a:xfrm>
                  <a:off x="1219320" y="4623120"/>
                  <a:ext cx="254160" cy="2158200"/>
                  <a:chOff x="1219320" y="4623120"/>
                  <a:chExt cx="254160" cy="2158200"/>
                </a:xfrm>
              </p:grpSpPr>
              <p:sp>
                <p:nvSpPr>
                  <p:cNvPr id="2937" name=""/>
                  <p:cNvSpPr/>
                  <p:nvPr/>
                </p:nvSpPr>
                <p:spPr>
                  <a:xfrm>
                    <a:off x="1273680" y="6674760"/>
                    <a:ext cx="1411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1219320" y="6498360"/>
                    <a:ext cx="254160" cy="177120"/>
                  </a:xfrm>
                  <a:custGeom>
                    <a:avLst/>
                    <a:gdLst>
                      <a:gd name="textAreaLeft" fmla="*/ 72360 w 254160"/>
                      <a:gd name="textAreaRight" fmla="*/ 181800 w 254160"/>
                      <a:gd name="textAreaTop" fmla="*/ 50400 h 177120"/>
                      <a:gd name="textAreaBottom" fmla="*/ 126720 h 177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1219320" y="521532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1219320" y="623124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1219320" y="5300280"/>
                    <a:ext cx="254160" cy="1015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1219320" y="5046120"/>
                    <a:ext cx="254160" cy="16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1219320" y="4623120"/>
                    <a:ext cx="2541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1219320" y="4707360"/>
                    <a:ext cx="254160" cy="423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45" name=""/>
                  <p:cNvGrpSpPr/>
                  <p:nvPr/>
                </p:nvGrpSpPr>
                <p:grpSpPr>
                  <a:xfrm>
                    <a:off x="1219320" y="5130720"/>
                    <a:ext cx="254160" cy="169200"/>
                    <a:chOff x="1219320" y="5130720"/>
                    <a:chExt cx="254160" cy="169200"/>
                  </a:xfrm>
                </p:grpSpPr>
                <p:sp>
                  <p:nvSpPr>
                    <p:cNvPr id="2946" name=""/>
                    <p:cNvSpPr/>
                    <p:nvPr/>
                  </p:nvSpPr>
                  <p:spPr>
                    <a:xfrm>
                      <a:off x="121932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"/>
                    <p:cNvSpPr/>
                    <p:nvPr/>
                  </p:nvSpPr>
                  <p:spPr>
                    <a:xfrm flipH="1">
                      <a:off x="126108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"/>
                    <p:cNvSpPr/>
                    <p:nvPr/>
                  </p:nvSpPr>
                  <p:spPr>
                    <a:xfrm>
                      <a:off x="12193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"/>
                    <p:cNvSpPr/>
                    <p:nvPr/>
                  </p:nvSpPr>
                  <p:spPr>
                    <a:xfrm>
                      <a:off x="13039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"/>
                    <p:cNvSpPr/>
                    <p:nvPr/>
                  </p:nvSpPr>
                  <p:spPr>
                    <a:xfrm flipH="1">
                      <a:off x="134604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/>
                    <p:nvPr/>
                  </p:nvSpPr>
                  <p:spPr>
                    <a:xfrm>
                      <a:off x="13885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2" name=""/>
                    <p:cNvSpPr/>
                    <p:nvPr/>
                  </p:nvSpPr>
                  <p:spPr>
                    <a:xfrm flipH="1">
                      <a:off x="143064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3" name=""/>
                    <p:cNvSpPr/>
                    <p:nvPr/>
                  </p:nvSpPr>
                  <p:spPr>
                    <a:xfrm>
                      <a:off x="147348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54" name=""/>
                  <p:cNvSpPr/>
                  <p:nvPr/>
                </p:nvSpPr>
                <p:spPr>
                  <a:xfrm>
                    <a:off x="1219320" y="6358320"/>
                    <a:ext cx="254160" cy="139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1219320" y="6316200"/>
                    <a:ext cx="254160" cy="4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6" name=""/>
                <p:cNvGrpSpPr/>
                <p:nvPr/>
              </p:nvGrpSpPr>
              <p:grpSpPr>
                <a:xfrm>
                  <a:off x="1219320" y="4623120"/>
                  <a:ext cx="254160" cy="1793880"/>
                  <a:chOff x="1219320" y="4623120"/>
                  <a:chExt cx="254160" cy="1793880"/>
                </a:xfrm>
              </p:grpSpPr>
              <p:sp>
                <p:nvSpPr>
                  <p:cNvPr id="2957" name=""/>
                  <p:cNvSpPr/>
                  <p:nvPr/>
                </p:nvSpPr>
                <p:spPr>
                  <a:xfrm>
                    <a:off x="1219320" y="4623120"/>
                    <a:ext cx="254160" cy="84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1219320" y="5130720"/>
                    <a:ext cx="254160" cy="16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59" name=""/>
                  <p:cNvGrpSpPr/>
                  <p:nvPr/>
                </p:nvGrpSpPr>
                <p:grpSpPr>
                  <a:xfrm>
                    <a:off x="1219320" y="4665240"/>
                    <a:ext cx="254160" cy="1751760"/>
                    <a:chOff x="1219320" y="4665240"/>
                    <a:chExt cx="254160" cy="1751760"/>
                  </a:xfrm>
                </p:grpSpPr>
                <p:sp>
                  <p:nvSpPr>
                    <p:cNvPr id="2960" name=""/>
                    <p:cNvSpPr/>
                    <p:nvPr/>
                  </p:nvSpPr>
                  <p:spPr>
                    <a:xfrm>
                      <a:off x="1219320" y="4970880"/>
                      <a:ext cx="2541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"/>
                    <p:cNvSpPr/>
                    <p:nvPr/>
                  </p:nvSpPr>
                  <p:spPr>
                    <a:xfrm>
                      <a:off x="1219320" y="5765400"/>
                      <a:ext cx="2541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"/>
                    <p:cNvSpPr/>
                    <p:nvPr/>
                  </p:nvSpPr>
                  <p:spPr>
                    <a:xfrm>
                      <a:off x="1346400" y="4665240"/>
                      <a:ext cx="25560" cy="1751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63" name=""/>
                <p:cNvSpPr/>
                <p:nvPr/>
              </p:nvSpPr>
              <p:spPr>
                <a:xfrm>
                  <a:off x="1219320" y="4284720"/>
                  <a:ext cx="254160" cy="34092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4" name=""/>
            <p:cNvGrpSpPr/>
            <p:nvPr/>
          </p:nvGrpSpPr>
          <p:grpSpPr>
            <a:xfrm>
              <a:off x="1495440" y="2971800"/>
              <a:ext cx="252360" cy="3809520"/>
              <a:chOff x="1495440" y="2971800"/>
              <a:chExt cx="252360" cy="3809520"/>
            </a:xfrm>
          </p:grpSpPr>
          <p:grpSp>
            <p:nvGrpSpPr>
              <p:cNvPr id="2965" name=""/>
              <p:cNvGrpSpPr/>
              <p:nvPr/>
            </p:nvGrpSpPr>
            <p:grpSpPr>
              <a:xfrm>
                <a:off x="1495440" y="4622760"/>
                <a:ext cx="252360" cy="2158560"/>
                <a:chOff x="1495440" y="4622760"/>
                <a:chExt cx="252360" cy="2158560"/>
              </a:xfrm>
            </p:grpSpPr>
            <p:grpSp>
              <p:nvGrpSpPr>
                <p:cNvPr id="2966" name=""/>
                <p:cNvGrpSpPr/>
                <p:nvPr/>
              </p:nvGrpSpPr>
              <p:grpSpPr>
                <a:xfrm>
                  <a:off x="1495440" y="4622760"/>
                  <a:ext cx="252360" cy="2158560"/>
                  <a:chOff x="1495440" y="4622760"/>
                  <a:chExt cx="252360" cy="2158560"/>
                </a:xfrm>
              </p:grpSpPr>
              <p:sp>
                <p:nvSpPr>
                  <p:cNvPr id="2967" name=""/>
                  <p:cNvSpPr/>
                  <p:nvPr/>
                </p:nvSpPr>
                <p:spPr>
                  <a:xfrm>
                    <a:off x="1549440" y="6674760"/>
                    <a:ext cx="140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1495440" y="6498360"/>
                    <a:ext cx="252360" cy="177120"/>
                  </a:xfrm>
                  <a:custGeom>
                    <a:avLst/>
                    <a:gdLst>
                      <a:gd name="textAreaLeft" fmla="*/ 72000 w 252360"/>
                      <a:gd name="textAreaRight" fmla="*/ 180360 w 252360"/>
                      <a:gd name="textAreaTop" fmla="*/ 50400 h 177120"/>
                      <a:gd name="textAreaBottom" fmla="*/ 126720 h 177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1495440" y="5215320"/>
                    <a:ext cx="2523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1495440" y="6231240"/>
                    <a:ext cx="2523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1495440" y="5299920"/>
                    <a:ext cx="252360" cy="10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1495440" y="5046120"/>
                    <a:ext cx="2523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1495440" y="4622760"/>
                    <a:ext cx="252360" cy="169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1495440" y="4707360"/>
                    <a:ext cx="252360" cy="423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5" name=""/>
                  <p:cNvGrpSpPr/>
                  <p:nvPr/>
                </p:nvGrpSpPr>
                <p:grpSpPr>
                  <a:xfrm>
                    <a:off x="1495440" y="5130720"/>
                    <a:ext cx="252360" cy="169200"/>
                    <a:chOff x="1495440" y="5130720"/>
                    <a:chExt cx="252360" cy="169200"/>
                  </a:xfrm>
                </p:grpSpPr>
                <p:sp>
                  <p:nvSpPr>
                    <p:cNvPr id="2976" name=""/>
                    <p:cNvSpPr/>
                    <p:nvPr/>
                  </p:nvSpPr>
                  <p:spPr>
                    <a:xfrm>
                      <a:off x="149544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"/>
                    <p:cNvSpPr/>
                    <p:nvPr/>
                  </p:nvSpPr>
                  <p:spPr>
                    <a:xfrm flipH="1">
                      <a:off x="153684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8" name=""/>
                    <p:cNvSpPr/>
                    <p:nvPr/>
                  </p:nvSpPr>
                  <p:spPr>
                    <a:xfrm>
                      <a:off x="1495440" y="5130720"/>
                      <a:ext cx="4176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9" name=""/>
                    <p:cNvSpPr/>
                    <p:nvPr/>
                  </p:nvSpPr>
                  <p:spPr>
                    <a:xfrm>
                      <a:off x="15793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"/>
                    <p:cNvSpPr/>
                    <p:nvPr/>
                  </p:nvSpPr>
                  <p:spPr>
                    <a:xfrm flipH="1">
                      <a:off x="1621440" y="5130720"/>
                      <a:ext cx="4176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"/>
                    <p:cNvSpPr/>
                    <p:nvPr/>
                  </p:nvSpPr>
                  <p:spPr>
                    <a:xfrm>
                      <a:off x="166356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 flipH="1">
                      <a:off x="1705320" y="5130720"/>
                      <a:ext cx="4212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"/>
                    <p:cNvSpPr/>
                    <p:nvPr/>
                  </p:nvSpPr>
                  <p:spPr>
                    <a:xfrm>
                      <a:off x="1747800" y="5130720"/>
                      <a:ext cx="0" cy="169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4" name=""/>
                  <p:cNvSpPr/>
                  <p:nvPr/>
                </p:nvSpPr>
                <p:spPr>
                  <a:xfrm>
                    <a:off x="1495440" y="6358320"/>
                    <a:ext cx="252360" cy="139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1495440" y="6316200"/>
                    <a:ext cx="252360" cy="4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6" name=""/>
                <p:cNvGrpSpPr/>
                <p:nvPr/>
              </p:nvGrpSpPr>
              <p:grpSpPr>
                <a:xfrm>
                  <a:off x="1495440" y="4622760"/>
                  <a:ext cx="252360" cy="84600"/>
                  <a:chOff x="1495440" y="4622760"/>
                  <a:chExt cx="252360" cy="84600"/>
                </a:xfrm>
              </p:grpSpPr>
              <p:sp>
                <p:nvSpPr>
                  <p:cNvPr id="2987" name=""/>
                  <p:cNvSpPr/>
                  <p:nvPr/>
                </p:nvSpPr>
                <p:spPr>
                  <a:xfrm flipH="1">
                    <a:off x="1495440" y="4622760"/>
                    <a:ext cx="4176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1578960" y="4622760"/>
                    <a:ext cx="4212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537200" y="4622760"/>
                    <a:ext cx="4212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H="1">
                    <a:off x="1663200" y="4622760"/>
                    <a:ext cx="4212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1621440" y="4622760"/>
                    <a:ext cx="4176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1705680" y="4622760"/>
                    <a:ext cx="42120" cy="84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H="1">
                    <a:off x="1536840" y="4622760"/>
                    <a:ext cx="168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4" name=""/>
              <p:cNvGrpSpPr/>
              <p:nvPr/>
            </p:nvGrpSpPr>
            <p:grpSpPr>
              <a:xfrm>
                <a:off x="1495440" y="2971800"/>
                <a:ext cx="252360" cy="3445200"/>
                <a:chOff x="1495440" y="2971800"/>
                <a:chExt cx="252360" cy="3445200"/>
              </a:xfrm>
            </p:grpSpPr>
            <p:grpSp>
              <p:nvGrpSpPr>
                <p:cNvPr id="2995" name=""/>
                <p:cNvGrpSpPr/>
                <p:nvPr/>
              </p:nvGrpSpPr>
              <p:grpSpPr>
                <a:xfrm>
                  <a:off x="1495440" y="2971800"/>
                  <a:ext cx="252360" cy="1650960"/>
                  <a:chOff x="1495440" y="2971800"/>
                  <a:chExt cx="252360" cy="1650960"/>
                </a:xfrm>
              </p:grpSpPr>
              <p:sp>
                <p:nvSpPr>
                  <p:cNvPr id="2996" name=""/>
                  <p:cNvSpPr/>
                  <p:nvPr/>
                </p:nvSpPr>
                <p:spPr>
                  <a:xfrm>
                    <a:off x="1495440" y="3356280"/>
                    <a:ext cx="252360" cy="1266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1495440" y="2971800"/>
                    <a:ext cx="252360" cy="39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8" name=""/>
                <p:cNvGrpSpPr/>
                <p:nvPr/>
              </p:nvGrpSpPr>
              <p:grpSpPr>
                <a:xfrm>
                  <a:off x="1495440" y="4622760"/>
                  <a:ext cx="252360" cy="1794240"/>
                  <a:chOff x="1495440" y="4622760"/>
                  <a:chExt cx="252360" cy="1794240"/>
                </a:xfrm>
              </p:grpSpPr>
              <p:sp>
                <p:nvSpPr>
                  <p:cNvPr id="2999" name=""/>
                  <p:cNvSpPr/>
                  <p:nvPr/>
                </p:nvSpPr>
                <p:spPr>
                  <a:xfrm>
                    <a:off x="1495440" y="4622760"/>
                    <a:ext cx="252360" cy="84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1495440" y="5130720"/>
                    <a:ext cx="252360" cy="16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01" name=""/>
                  <p:cNvGrpSpPr/>
                  <p:nvPr/>
                </p:nvGrpSpPr>
                <p:grpSpPr>
                  <a:xfrm>
                    <a:off x="1495440" y="4664880"/>
                    <a:ext cx="252360" cy="1752120"/>
                    <a:chOff x="1495440" y="4664880"/>
                    <a:chExt cx="252360" cy="1752120"/>
                  </a:xfrm>
                </p:grpSpPr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1495440" y="4970520"/>
                      <a:ext cx="2523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"/>
                    <p:cNvSpPr/>
                    <p:nvPr/>
                  </p:nvSpPr>
                  <p:spPr>
                    <a:xfrm>
                      <a:off x="1495440" y="5765400"/>
                      <a:ext cx="25236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"/>
                    <p:cNvSpPr/>
                    <p:nvPr/>
                  </p:nvSpPr>
                  <p:spPr>
                    <a:xfrm>
                      <a:off x="1621440" y="4664880"/>
                      <a:ext cx="25200" cy="1752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2209320" y="76320"/>
            <a:ext cx="61722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ing the ‘reach’ of existing launch as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0" y="853920"/>
            <a:ext cx="1091520" cy="5883840"/>
            <a:chOff x="0" y="853920"/>
            <a:chExt cx="1091520" cy="5883840"/>
          </a:xfrm>
        </p:grpSpPr>
        <p:grpSp>
          <p:nvGrpSpPr>
            <p:cNvPr id="3007" name=""/>
            <p:cNvGrpSpPr/>
            <p:nvPr/>
          </p:nvGrpSpPr>
          <p:grpSpPr>
            <a:xfrm>
              <a:off x="506520" y="853920"/>
              <a:ext cx="75240" cy="547560"/>
              <a:chOff x="506520" y="853920"/>
              <a:chExt cx="75240" cy="547560"/>
            </a:xfrm>
          </p:grpSpPr>
          <p:sp>
            <p:nvSpPr>
              <p:cNvPr id="3008" name=""/>
              <p:cNvSpPr/>
              <p:nvPr/>
            </p:nvSpPr>
            <p:spPr>
              <a:xfrm>
                <a:off x="523080" y="898920"/>
                <a:ext cx="43560" cy="2728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506520" y="1173960"/>
                <a:ext cx="75240" cy="43200"/>
              </a:xfrm>
              <a:custGeom>
                <a:avLst/>
                <a:gdLst>
                  <a:gd name="textAreaLeft" fmla="*/ 14400 w 75240"/>
                  <a:gd name="textAreaRight" fmla="*/ 60840 w 75240"/>
                  <a:gd name="textAreaTop" fmla="*/ 8280 h 43200"/>
                  <a:gd name="textAreaBottom" fmla="*/ 3492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81" y="21600"/>
                    </a:lnTo>
                    <a:lnTo>
                      <a:pt x="431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23080" y="853920"/>
                <a:ext cx="43560" cy="432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1" name=""/>
              <p:cNvGrpSpPr/>
              <p:nvPr/>
            </p:nvGrpSpPr>
            <p:grpSpPr>
              <a:xfrm>
                <a:off x="506520" y="1219320"/>
                <a:ext cx="75240" cy="182160"/>
                <a:chOff x="506520" y="1219320"/>
                <a:chExt cx="75240" cy="18216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506520" y="1219680"/>
                  <a:ext cx="75240" cy="181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506520" y="1341000"/>
                  <a:ext cx="75240" cy="60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506520" y="1341000"/>
                  <a:ext cx="75240" cy="60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V="1">
                  <a:off x="506520" y="1219320"/>
                  <a:ext cx="75240" cy="121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506520" y="1219680"/>
                  <a:ext cx="75240" cy="121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506520" y="1280160"/>
                  <a:ext cx="7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506520" y="1341000"/>
                  <a:ext cx="752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9" name=""/>
            <p:cNvGrpSpPr/>
            <p:nvPr/>
          </p:nvGrpSpPr>
          <p:grpSpPr>
            <a:xfrm>
              <a:off x="441720" y="1367640"/>
              <a:ext cx="209880" cy="453960"/>
              <a:chOff x="441720" y="1367640"/>
              <a:chExt cx="209880" cy="453960"/>
            </a:xfrm>
          </p:grpSpPr>
          <p:sp>
            <p:nvSpPr>
              <p:cNvPr id="3020" name=""/>
              <p:cNvSpPr/>
              <p:nvPr/>
            </p:nvSpPr>
            <p:spPr>
              <a:xfrm>
                <a:off x="455040" y="1458000"/>
                <a:ext cx="181800" cy="27252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500400" y="1730160"/>
                <a:ext cx="90360" cy="91080"/>
              </a:xfrm>
              <a:custGeom>
                <a:avLst/>
                <a:gdLst>
                  <a:gd name="textAreaLeft" fmla="*/ 24120 w 90360"/>
                  <a:gd name="textAreaRight" fmla="*/ 66240 w 90360"/>
                  <a:gd name="textAreaTop" fmla="*/ 24120 h 91080"/>
                  <a:gd name="textAreaBottom" fmla="*/ 6696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5040" y="1367640"/>
                <a:ext cx="181800" cy="90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1720" y="1488600"/>
                <a:ext cx="13320" cy="43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4" name=""/>
              <p:cNvGrpSpPr/>
              <p:nvPr/>
            </p:nvGrpSpPr>
            <p:grpSpPr>
              <a:xfrm>
                <a:off x="526680" y="1490400"/>
                <a:ext cx="43560" cy="43560"/>
                <a:chOff x="526680" y="1490400"/>
                <a:chExt cx="43560" cy="43560"/>
              </a:xfrm>
            </p:grpSpPr>
            <p:sp>
              <p:nvSpPr>
                <p:cNvPr id="3025" name=""/>
                <p:cNvSpPr/>
                <p:nvPr/>
              </p:nvSpPr>
              <p:spPr>
                <a:xfrm>
                  <a:off x="541080" y="1490400"/>
                  <a:ext cx="14400" cy="43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526680" y="1504800"/>
                  <a:ext cx="43560" cy="1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7" name=""/>
              <p:cNvSpPr/>
              <p:nvPr/>
            </p:nvSpPr>
            <p:spPr>
              <a:xfrm>
                <a:off x="638280" y="1488600"/>
                <a:ext cx="13320" cy="43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8" name=""/>
            <p:cNvGrpSpPr/>
            <p:nvPr/>
          </p:nvGrpSpPr>
          <p:grpSpPr>
            <a:xfrm>
              <a:off x="363960" y="1731240"/>
              <a:ext cx="363600" cy="1274760"/>
              <a:chOff x="363960" y="1731240"/>
              <a:chExt cx="363600" cy="1274760"/>
            </a:xfrm>
          </p:grpSpPr>
          <p:sp>
            <p:nvSpPr>
              <p:cNvPr id="3029" name=""/>
              <p:cNvSpPr/>
              <p:nvPr/>
            </p:nvSpPr>
            <p:spPr>
              <a:xfrm>
                <a:off x="363960" y="2187000"/>
                <a:ext cx="363600" cy="63684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462240" y="2823840"/>
                <a:ext cx="163080" cy="182160"/>
              </a:xfrm>
              <a:custGeom>
                <a:avLst/>
                <a:gdLst>
                  <a:gd name="textAreaLeft" fmla="*/ 43200 w 163080"/>
                  <a:gd name="textAreaRight" fmla="*/ 119880 w 163080"/>
                  <a:gd name="textAreaTop" fmla="*/ 48240 h 182160"/>
                  <a:gd name="textAreaBottom" fmla="*/ 133920 h 18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363960" y="1730880"/>
                <a:ext cx="363600" cy="455400"/>
              </a:xfrm>
              <a:custGeom>
                <a:avLst/>
                <a:gdLst>
                  <a:gd name="textAreaLeft" fmla="*/ 79920 w 363600"/>
                  <a:gd name="textAreaRight" fmla="*/ 283680 w 363600"/>
                  <a:gd name="textAreaTop" fmla="*/ 100080 h 455400"/>
                  <a:gd name="textAreaBottom" fmla="*/ 355320 h 45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63960" y="2187000"/>
                <a:ext cx="363600" cy="907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272880" y="2823480"/>
              <a:ext cx="545400" cy="1547640"/>
              <a:chOff x="272880" y="2823480"/>
              <a:chExt cx="545400" cy="1547640"/>
            </a:xfrm>
          </p:grpSpPr>
          <p:sp>
            <p:nvSpPr>
              <p:cNvPr id="3034" name=""/>
              <p:cNvSpPr/>
              <p:nvPr/>
            </p:nvSpPr>
            <p:spPr>
              <a:xfrm>
                <a:off x="272880" y="3187800"/>
                <a:ext cx="545400" cy="10008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68360" y="4188960"/>
                <a:ext cx="156960" cy="182160"/>
              </a:xfrm>
              <a:custGeom>
                <a:avLst/>
                <a:gdLst>
                  <a:gd name="textAreaLeft" fmla="*/ 41760 w 156960"/>
                  <a:gd name="textAreaRight" fmla="*/ 115200 w 156960"/>
                  <a:gd name="textAreaTop" fmla="*/ 48240 h 182160"/>
                  <a:gd name="textAreaBottom" fmla="*/ 133920 h 18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651600" y="4188960"/>
                <a:ext cx="149760" cy="182160"/>
              </a:xfrm>
              <a:custGeom>
                <a:avLst/>
                <a:gdLst>
                  <a:gd name="textAreaLeft" fmla="*/ 39600 w 149760"/>
                  <a:gd name="textAreaRight" fmla="*/ 110160 w 149760"/>
                  <a:gd name="textAreaTop" fmla="*/ 48240 h 182160"/>
                  <a:gd name="textAreaBottom" fmla="*/ 133920 h 18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286200" y="4188960"/>
                <a:ext cx="159120" cy="182160"/>
              </a:xfrm>
              <a:custGeom>
                <a:avLst/>
                <a:gdLst>
                  <a:gd name="textAreaLeft" fmla="*/ 42120 w 159120"/>
                  <a:gd name="textAreaRight" fmla="*/ 117000 w 159120"/>
                  <a:gd name="textAreaTop" fmla="*/ 48240 h 182160"/>
                  <a:gd name="textAreaBottom" fmla="*/ 133920 h 18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272880" y="2823120"/>
                <a:ext cx="545400" cy="363960"/>
              </a:xfrm>
              <a:custGeom>
                <a:avLst/>
                <a:gdLst>
                  <a:gd name="textAreaLeft" fmla="*/ 93600 w 545400"/>
                  <a:gd name="textAreaRight" fmla="*/ 451800 w 545400"/>
                  <a:gd name="textAreaTop" fmla="*/ 62280 h 363960"/>
                  <a:gd name="textAreaBottom" fmla="*/ 30168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76" y="21600"/>
                    </a:lnTo>
                    <a:lnTo>
                      <a:pt x="352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63960" y="3006000"/>
                <a:ext cx="91080" cy="181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272880" y="3005280"/>
                <a:ext cx="182160" cy="181800"/>
              </a:xfrm>
              <a:custGeom>
                <a:avLst/>
                <a:gdLst>
                  <a:gd name="textAreaLeft" fmla="*/ 38880 w 182160"/>
                  <a:gd name="textAreaRight" fmla="*/ 143280 w 182160"/>
                  <a:gd name="textAreaTop" fmla="*/ 38880 h 181800"/>
                  <a:gd name="textAreaBottom" fmla="*/ 142920 h 18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26" y="21600"/>
                    </a:lnTo>
                    <a:lnTo>
                      <a:pt x="517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84000" y="2823840"/>
                <a:ext cx="134280" cy="3639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192"/>
                    </a:moveTo>
                    <a:lnTo>
                      <a:pt x="96" y="19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4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0" y="4189320"/>
              <a:ext cx="1091520" cy="2548440"/>
              <a:chOff x="0" y="4189320"/>
              <a:chExt cx="1091520" cy="2548440"/>
            </a:xfrm>
          </p:grpSpPr>
          <p:sp>
            <p:nvSpPr>
              <p:cNvPr id="3043" name=""/>
              <p:cNvSpPr/>
              <p:nvPr/>
            </p:nvSpPr>
            <p:spPr>
              <a:xfrm flipV="1">
                <a:off x="697320" y="6464880"/>
                <a:ext cx="212040" cy="272880"/>
              </a:xfrm>
              <a:custGeom>
                <a:avLst/>
                <a:gdLst>
                  <a:gd name="textAreaLeft" fmla="*/ 56520 w 212040"/>
                  <a:gd name="textAreaRight" fmla="*/ 155520 w 212040"/>
                  <a:gd name="textAreaTop" fmla="*/ 72720 h 272880"/>
                  <a:gd name="textAreaBottom" fmla="*/ 200160 h 27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35960" y="6464880"/>
                <a:ext cx="223200" cy="272880"/>
              </a:xfrm>
              <a:custGeom>
                <a:avLst/>
                <a:gdLst>
                  <a:gd name="textAreaLeft" fmla="*/ 59400 w 223200"/>
                  <a:gd name="textAreaRight" fmla="*/ 163800 w 223200"/>
                  <a:gd name="textAreaTop" fmla="*/ 72720 h 272880"/>
                  <a:gd name="textAreaBottom" fmla="*/ 200160 h 27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82160" y="6464880"/>
                <a:ext cx="213840" cy="272880"/>
              </a:xfrm>
              <a:custGeom>
                <a:avLst/>
                <a:gdLst>
                  <a:gd name="textAreaLeft" fmla="*/ 56880 w 213840"/>
                  <a:gd name="textAreaRight" fmla="*/ 156960 w 213840"/>
                  <a:gd name="textAreaTop" fmla="*/ 72720 h 272880"/>
                  <a:gd name="textAreaBottom" fmla="*/ 200160 h 27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72880" y="4462200"/>
                <a:ext cx="545760" cy="200232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0" y="6191640"/>
                <a:ext cx="272880" cy="27288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818640" y="6191640"/>
                <a:ext cx="272880" cy="27288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182160" y="6100560"/>
                <a:ext cx="727560" cy="455040"/>
              </a:xfrm>
              <a:custGeom>
                <a:avLst/>
                <a:gdLst>
                  <a:gd name="textAreaLeft" fmla="*/ 109440 w 727560"/>
                  <a:gd name="textAreaRight" fmla="*/ 618120 w 727560"/>
                  <a:gd name="textAreaTop" fmla="*/ 68400 h 455040"/>
                  <a:gd name="textAreaBottom" fmla="*/ 386640 h 45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01" y="21600"/>
                    </a:lnTo>
                    <a:lnTo>
                      <a:pt x="26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45760" y="6191640"/>
                <a:ext cx="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72880" y="4189320"/>
                <a:ext cx="545760" cy="54612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72880" y="4189320"/>
                <a:ext cx="545760" cy="910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63960" y="4280400"/>
                <a:ext cx="181800" cy="454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27920" y="4280400"/>
                <a:ext cx="90360" cy="454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63960" y="6100560"/>
                <a:ext cx="181800" cy="4550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27920" y="6100560"/>
                <a:ext cx="90360" cy="4550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55040" y="6191640"/>
                <a:ext cx="90360" cy="27288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7440" y="6076080"/>
                <a:ext cx="36360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9" name=""/>
          <p:cNvSpPr/>
          <p:nvPr/>
        </p:nvSpPr>
        <p:spPr>
          <a:xfrm>
            <a:off x="2427840" y="4159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05880" y="762120"/>
            <a:ext cx="141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 tons 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.5 tons 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5 tons Mo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069920" y="25909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IV-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038480" y="1406520"/>
            <a:ext cx="4724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V stages are configured for re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realistic for current fleet elements - actual performance will be somewhat redu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LVs may not be necessary for a human lunar 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engineering for a  refueling depot in LEO is jus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erformance increase supports the busines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depth propellant market &amp; depot cost analysis is jus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3960" y="50148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llo 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1751400" y="2819520"/>
            <a:ext cx="132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.8 tons 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2209680" y="4237200"/>
            <a:ext cx="298440" cy="2543760"/>
            <a:chOff x="2209680" y="4237200"/>
            <a:chExt cx="298440" cy="2543760"/>
          </a:xfrm>
        </p:grpSpPr>
        <p:grpSp>
          <p:nvGrpSpPr>
            <p:cNvPr id="3066" name=""/>
            <p:cNvGrpSpPr/>
            <p:nvPr/>
          </p:nvGrpSpPr>
          <p:grpSpPr>
            <a:xfrm>
              <a:off x="2266920" y="4746600"/>
              <a:ext cx="187200" cy="617040"/>
              <a:chOff x="2266920" y="4746600"/>
              <a:chExt cx="187200" cy="617040"/>
            </a:xfrm>
          </p:grpSpPr>
          <p:sp>
            <p:nvSpPr>
              <p:cNvPr id="3067" name=""/>
              <p:cNvSpPr/>
              <p:nvPr/>
            </p:nvSpPr>
            <p:spPr>
              <a:xfrm>
                <a:off x="2266920" y="4814280"/>
                <a:ext cx="186480" cy="42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266920" y="4822560"/>
                <a:ext cx="186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2266920" y="4771080"/>
                <a:ext cx="187200" cy="42120"/>
              </a:xfrm>
              <a:custGeom>
                <a:avLst/>
                <a:gdLst>
                  <a:gd name="textAreaLeft" fmla="*/ 47160 w 187200"/>
                  <a:gd name="textAreaRight" fmla="*/ 140040 w 187200"/>
                  <a:gd name="textAreaTop" fmla="*/ 10440 h 42120"/>
                  <a:gd name="textAreaBottom" fmla="*/ 3168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09" y="21600"/>
                    </a:lnTo>
                    <a:lnTo>
                      <a:pt x="669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2323800" y="4746600"/>
                <a:ext cx="73080" cy="25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283120" y="5236920"/>
                <a:ext cx="154800" cy="33840"/>
              </a:xfrm>
              <a:custGeom>
                <a:avLst/>
                <a:gdLst>
                  <a:gd name="textAreaLeft" fmla="*/ 22320 w 154800"/>
                  <a:gd name="textAreaRight" fmla="*/ 132480 w 154800"/>
                  <a:gd name="textAreaTop" fmla="*/ 4680 h 33840"/>
                  <a:gd name="textAreaBottom" fmla="*/ 29160 h 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137" y="21600"/>
                    </a:lnTo>
                    <a:lnTo>
                      <a:pt x="246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2266920" y="5110200"/>
                <a:ext cx="187200" cy="168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2266920" y="4856400"/>
                <a:ext cx="187200" cy="338040"/>
              </a:xfrm>
              <a:prstGeom prst="rect">
                <a:avLst/>
              </a:prstGeom>
              <a:gradFill rotWithShape="0">
                <a:gsLst>
                  <a:gs pos="0">
                    <a:srgbClr val="5a4723"/>
                  </a:gs>
                  <a:gs pos="50000">
                    <a:srgbClr val="b69148"/>
                  </a:gs>
                  <a:gs pos="100000">
                    <a:srgbClr val="5a472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2350800" y="5294160"/>
                <a:ext cx="24120" cy="252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334960" y="5268600"/>
                <a:ext cx="24120" cy="252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295360" y="5283360"/>
                <a:ext cx="32400" cy="291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2283120" y="5304600"/>
                <a:ext cx="56880" cy="59040"/>
              </a:xfrm>
              <a:custGeom>
                <a:avLst/>
                <a:gdLst>
                  <a:gd name="textAreaLeft" fmla="*/ 12240 w 56880"/>
                  <a:gd name="textAreaRight" fmla="*/ 44640 w 56880"/>
                  <a:gd name="textAreaTop" fmla="*/ 12960 h 59040"/>
                  <a:gd name="textAreaBottom" fmla="*/ 46080 h 5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299320" y="5270760"/>
                <a:ext cx="24120" cy="165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393280" y="5283360"/>
                <a:ext cx="32400" cy="291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2381040" y="5304600"/>
                <a:ext cx="56880" cy="59040"/>
              </a:xfrm>
              <a:custGeom>
                <a:avLst/>
                <a:gdLst>
                  <a:gd name="textAreaLeft" fmla="*/ 12240 w 56880"/>
                  <a:gd name="textAreaRight" fmla="*/ 44640 w 56880"/>
                  <a:gd name="textAreaTop" fmla="*/ 12960 h 59040"/>
                  <a:gd name="textAreaBottom" fmla="*/ 46080 h 5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397240" y="5270760"/>
                <a:ext cx="24120" cy="165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356560" y="5253840"/>
                <a:ext cx="48600" cy="504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299320" y="5268240"/>
                <a:ext cx="122040" cy="21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4" name=""/>
            <p:cNvGrpSpPr/>
            <p:nvPr/>
          </p:nvGrpSpPr>
          <p:grpSpPr>
            <a:xfrm>
              <a:off x="2209680" y="4237200"/>
              <a:ext cx="298440" cy="2543760"/>
              <a:chOff x="2209680" y="4237200"/>
              <a:chExt cx="298440" cy="254376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2247840" y="4237200"/>
                <a:ext cx="223920" cy="579240"/>
                <a:chOff x="2247840" y="4237200"/>
                <a:chExt cx="223920" cy="57924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2247840" y="4723920"/>
                  <a:ext cx="223920" cy="17640"/>
                </a:xfrm>
                <a:custGeom>
                  <a:avLst/>
                  <a:gdLst>
                    <a:gd name="textAreaLeft" fmla="*/ 28440 w 223920"/>
                    <a:gd name="textAreaRight" fmla="*/ 195480 w 223920"/>
                    <a:gd name="textAreaTop" fmla="*/ 2160 h 17640"/>
                    <a:gd name="textAreaBottom" fmla="*/ 15480 h 17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800" y="21600"/>
                      </a:lnTo>
                      <a:lnTo>
                        <a:pt x="18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7d7d7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2247840" y="4536720"/>
                  <a:ext cx="223920" cy="18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2247840" y="4237200"/>
                  <a:ext cx="223920" cy="29952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2266920" y="4741560"/>
                  <a:ext cx="186120" cy="7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2266920" y="4816440"/>
                  <a:ext cx="186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1" name=""/>
              <p:cNvGrpSpPr/>
              <p:nvPr/>
            </p:nvGrpSpPr>
            <p:grpSpPr>
              <a:xfrm>
                <a:off x="2209680" y="5191200"/>
                <a:ext cx="298440" cy="1589760"/>
                <a:chOff x="2209680" y="5191200"/>
                <a:chExt cx="298440" cy="1589760"/>
              </a:xfrm>
            </p:grpSpPr>
            <p:sp>
              <p:nvSpPr>
                <p:cNvPr id="3092" name=""/>
                <p:cNvSpPr/>
                <p:nvPr/>
              </p:nvSpPr>
              <p:spPr>
                <a:xfrm flipV="1">
                  <a:off x="2209680" y="6699600"/>
                  <a:ext cx="74520" cy="81000"/>
                </a:xfrm>
                <a:custGeom>
                  <a:avLst/>
                  <a:gdLst>
                    <a:gd name="textAreaLeft" fmla="*/ 16200 w 74520"/>
                    <a:gd name="textAreaRight" fmla="*/ 58320 w 74520"/>
                    <a:gd name="textAreaTop" fmla="*/ 17640 h 81000"/>
                    <a:gd name="textAreaBottom" fmla="*/ 63360 h 8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2310840" y="6689520"/>
                  <a:ext cx="95400" cy="91440"/>
                </a:xfrm>
                <a:custGeom>
                  <a:avLst/>
                  <a:gdLst>
                    <a:gd name="textAreaLeft" fmla="*/ 20880 w 95400"/>
                    <a:gd name="textAreaRight" fmla="*/ 74520 w 95400"/>
                    <a:gd name="textAreaTop" fmla="*/ 20160 h 91440"/>
                    <a:gd name="textAreaBottom" fmla="*/ 71280 h 9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2433600" y="6699600"/>
                  <a:ext cx="74520" cy="81000"/>
                </a:xfrm>
                <a:custGeom>
                  <a:avLst/>
                  <a:gdLst>
                    <a:gd name="textAreaLeft" fmla="*/ 16200 w 74520"/>
                    <a:gd name="textAreaRight" fmla="*/ 58320 w 74520"/>
                    <a:gd name="textAreaTop" fmla="*/ 17640 h 81000"/>
                    <a:gd name="textAreaBottom" fmla="*/ 63360 h 8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2266560" y="5415840"/>
                  <a:ext cx="186120" cy="78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d6c63"/>
                    </a:gs>
                    <a:gs pos="50000">
                      <a:srgbClr val="bea596"/>
                    </a:gs>
                    <a:gs pos="100000">
                      <a:srgbClr val="7d6c6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2266560" y="6203160"/>
                  <a:ext cx="18612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24c26"/>
                    </a:gs>
                    <a:gs pos="50000">
                      <a:srgbClr val="dcd3ca"/>
                    </a:gs>
                    <a:gs pos="100000">
                      <a:srgbClr val="724c2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2214360" y="6539400"/>
                  <a:ext cx="289080" cy="176760"/>
                </a:xfrm>
                <a:custGeom>
                  <a:avLst/>
                  <a:gdLst>
                    <a:gd name="textAreaLeft" fmla="*/ 45000 w 289080"/>
                    <a:gd name="textAreaRight" fmla="*/ 244080 w 289080"/>
                    <a:gd name="textAreaTop" fmla="*/ 27360 h 176760"/>
                    <a:gd name="textAreaBottom" fmla="*/ 149400 h 17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97" y="21600"/>
                      </a:lnTo>
                      <a:lnTo>
                        <a:pt x="290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d6c63"/>
                    </a:gs>
                    <a:gs pos="50000">
                      <a:srgbClr val="bea596"/>
                    </a:gs>
                    <a:gs pos="100000">
                      <a:srgbClr val="7d6c6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2266560" y="6615000"/>
                  <a:ext cx="186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2266560" y="6689520"/>
                  <a:ext cx="186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2209680" y="6615000"/>
                  <a:ext cx="112320" cy="112680"/>
                </a:xfrm>
                <a:prstGeom prst="parallelogram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bea596"/>
                    </a:gs>
                    <a:gs pos="100000">
                      <a:srgbClr val="574c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H="1">
                  <a:off x="2396520" y="6615000"/>
                  <a:ext cx="111600" cy="112680"/>
                </a:xfrm>
                <a:prstGeom prst="parallelogram">
                  <a:avLst>
                    <a:gd name="adj" fmla="val 23611"/>
                  </a:avLst>
                </a:prstGeom>
                <a:gradFill rotWithShape="0">
                  <a:gsLst>
                    <a:gs pos="0">
                      <a:srgbClr val="574c45"/>
                    </a:gs>
                    <a:gs pos="100000">
                      <a:srgbClr val="bea596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2284200" y="6240240"/>
                  <a:ext cx="56880" cy="412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2378160" y="6240240"/>
                  <a:ext cx="55080" cy="412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2284920" y="6203160"/>
                  <a:ext cx="56160" cy="367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2378160" y="6203160"/>
                  <a:ext cx="55080" cy="367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 flipV="1">
                  <a:off x="2284920" y="6652800"/>
                  <a:ext cx="56160" cy="50400"/>
                </a:xfrm>
                <a:custGeom>
                  <a:avLst/>
                  <a:gdLst>
                    <a:gd name="textAreaLeft" fmla="*/ 12240 w 56160"/>
                    <a:gd name="textAreaRight" fmla="*/ 43920 w 56160"/>
                    <a:gd name="textAreaTop" fmla="*/ 11160 h 50400"/>
                    <a:gd name="textAreaBottom" fmla="*/ 39240 h 5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V="1">
                  <a:off x="2378160" y="6652800"/>
                  <a:ext cx="56160" cy="50400"/>
                </a:xfrm>
                <a:custGeom>
                  <a:avLst/>
                  <a:gdLst>
                    <a:gd name="textAreaLeft" fmla="*/ 12240 w 56160"/>
                    <a:gd name="textAreaRight" fmla="*/ 43920 w 56160"/>
                    <a:gd name="textAreaTop" fmla="*/ 11160 h 50400"/>
                    <a:gd name="textAreaBottom" fmla="*/ 39240 h 5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2452680" y="6127560"/>
                  <a:ext cx="13320" cy="41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H="1">
                  <a:off x="2252160" y="6427440"/>
                  <a:ext cx="13320" cy="112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2452680" y="6015960"/>
                  <a:ext cx="13320" cy="1116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281a0d"/>
                    </a:gs>
                    <a:gs pos="50000">
                      <a:srgbClr val="996633"/>
                    </a:gs>
                    <a:gs pos="100000">
                      <a:srgbClr val="281a0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2346840" y="5491080"/>
                  <a:ext cx="13320" cy="104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2266560" y="5191200"/>
                  <a:ext cx="186120" cy="22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13" name=""/>
          <p:cNvSpPr/>
          <p:nvPr/>
        </p:nvSpPr>
        <p:spPr>
          <a:xfrm>
            <a:off x="2590920" y="439092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6 tons 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1143000" y="2819520"/>
            <a:ext cx="3124080" cy="4038480"/>
            <a:chOff x="1143000" y="2819520"/>
            <a:chExt cx="3124080" cy="4038480"/>
          </a:xfrm>
        </p:grpSpPr>
        <p:sp>
          <p:nvSpPr>
            <p:cNvPr id="3115" name=""/>
            <p:cNvSpPr/>
            <p:nvPr/>
          </p:nvSpPr>
          <p:spPr>
            <a:xfrm>
              <a:off x="1143000" y="2895480"/>
              <a:ext cx="1371600" cy="3962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749600" y="2819520"/>
              <a:ext cx="132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.8 tons L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752480" y="3247920"/>
              <a:ext cx="21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Refueled upper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15.0 tons 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8" name=""/>
            <p:cNvGrpSpPr/>
            <p:nvPr/>
          </p:nvGrpSpPr>
          <p:grpSpPr>
            <a:xfrm>
              <a:off x="1494000" y="3860640"/>
              <a:ext cx="254880" cy="745920"/>
              <a:chOff x="1494000" y="3860640"/>
              <a:chExt cx="254880" cy="745920"/>
            </a:xfrm>
          </p:grpSpPr>
          <p:sp>
            <p:nvSpPr>
              <p:cNvPr id="3119" name=""/>
              <p:cNvSpPr/>
              <p:nvPr/>
            </p:nvSpPr>
            <p:spPr>
              <a:xfrm>
                <a:off x="1494000" y="3902760"/>
                <a:ext cx="254880" cy="1180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1643040" y="4417200"/>
                <a:ext cx="42120" cy="421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1494000" y="4106160"/>
                <a:ext cx="254880" cy="11772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1515240" y="4277160"/>
                <a:ext cx="212760" cy="14004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1515240" y="4224240"/>
                <a:ext cx="212760" cy="12852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4" name=""/>
              <p:cNvGrpSpPr/>
              <p:nvPr/>
            </p:nvGrpSpPr>
            <p:grpSpPr>
              <a:xfrm>
                <a:off x="1546920" y="4417200"/>
                <a:ext cx="138600" cy="189360"/>
                <a:chOff x="1546920" y="4417200"/>
                <a:chExt cx="138600" cy="189360"/>
              </a:xfrm>
            </p:grpSpPr>
            <p:sp>
              <p:nvSpPr>
                <p:cNvPr id="3125" name=""/>
                <p:cNvSpPr/>
                <p:nvPr/>
              </p:nvSpPr>
              <p:spPr>
                <a:xfrm>
                  <a:off x="1562760" y="4417200"/>
                  <a:ext cx="111960" cy="20880"/>
                </a:xfrm>
                <a:custGeom>
                  <a:avLst/>
                  <a:gdLst>
                    <a:gd name="textAreaLeft" fmla="*/ 33120 w 111960"/>
                    <a:gd name="textAreaRight" fmla="*/ 78840 w 111960"/>
                    <a:gd name="textAreaTop" fmla="*/ 6120 h 20880"/>
                    <a:gd name="textAreaBottom" fmla="*/ 14760 h 2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207" y="21600"/>
                      </a:lnTo>
                      <a:lnTo>
                        <a:pt x="839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1546920" y="4479480"/>
                  <a:ext cx="138600" cy="12708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V="1">
                  <a:off x="1587240" y="4437360"/>
                  <a:ext cx="63720" cy="42120"/>
                </a:xfrm>
                <a:custGeom>
                  <a:avLst/>
                  <a:gdLst>
                    <a:gd name="textAreaLeft" fmla="*/ 16200 w 63720"/>
                    <a:gd name="textAreaRight" fmla="*/ 47520 w 63720"/>
                    <a:gd name="textAreaTop" fmla="*/ 10440 h 42120"/>
                    <a:gd name="textAreaBottom" fmla="*/ 31680 h 4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909" y="21600"/>
                      </a:lnTo>
                      <a:lnTo>
                        <a:pt x="6691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1572120" y="4514760"/>
                  <a:ext cx="9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1561680" y="4550040"/>
                  <a:ext cx="1130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1552680" y="4584960"/>
                  <a:ext cx="127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1" name=""/>
              <p:cNvSpPr/>
              <p:nvPr/>
            </p:nvSpPr>
            <p:spPr>
              <a:xfrm>
                <a:off x="1515240" y="4341600"/>
                <a:ext cx="212760" cy="2160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36480" y="4181760"/>
                <a:ext cx="42120" cy="4212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3" name=""/>
              <p:cNvGrpSpPr/>
              <p:nvPr/>
            </p:nvGrpSpPr>
            <p:grpSpPr>
              <a:xfrm>
                <a:off x="1515240" y="4341600"/>
                <a:ext cx="212760" cy="21600"/>
                <a:chOff x="1515240" y="4341600"/>
                <a:chExt cx="212760" cy="2160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15152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153612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15609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159012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16196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164880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16779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170316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1724040" y="4341600"/>
                  <a:ext cx="3960" cy="2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3" name=""/>
              <p:cNvGrpSpPr/>
              <p:nvPr/>
            </p:nvGrpSpPr>
            <p:grpSpPr>
              <a:xfrm>
                <a:off x="1494720" y="4186080"/>
                <a:ext cx="252720" cy="232200"/>
                <a:chOff x="1494720" y="4186080"/>
                <a:chExt cx="252720" cy="232200"/>
              </a:xfrm>
            </p:grpSpPr>
            <p:grpSp>
              <p:nvGrpSpPr>
                <p:cNvPr id="3144" name=""/>
                <p:cNvGrpSpPr/>
                <p:nvPr/>
              </p:nvGrpSpPr>
              <p:grpSpPr>
                <a:xfrm>
                  <a:off x="1494720" y="4186080"/>
                  <a:ext cx="127440" cy="104400"/>
                  <a:chOff x="1494720" y="4186080"/>
                  <a:chExt cx="127440" cy="104400"/>
                </a:xfrm>
              </p:grpSpPr>
              <p:sp>
                <p:nvSpPr>
                  <p:cNvPr id="3145" name=""/>
                  <p:cNvSpPr/>
                  <p:nvPr/>
                </p:nvSpPr>
                <p:spPr>
                  <a:xfrm rot="14750400">
                    <a:off x="1501920" y="4238640"/>
                    <a:ext cx="10872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 rot="6849600">
                    <a:off x="1543680" y="423828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 rot="6108600">
                    <a:off x="1475640" y="423504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rot="15491400">
                    <a:off x="1455120" y="423720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9" name=""/>
                <p:cNvGrpSpPr/>
                <p:nvPr/>
              </p:nvGrpSpPr>
              <p:grpSpPr>
                <a:xfrm>
                  <a:off x="1620000" y="4187160"/>
                  <a:ext cx="127440" cy="104400"/>
                  <a:chOff x="1620000" y="4187160"/>
                  <a:chExt cx="127440" cy="104400"/>
                </a:xfrm>
              </p:grpSpPr>
              <p:sp>
                <p:nvSpPr>
                  <p:cNvPr id="3150" name=""/>
                  <p:cNvSpPr/>
                  <p:nvPr/>
                </p:nvSpPr>
                <p:spPr>
                  <a:xfrm flipH="1" rot="6849600">
                    <a:off x="1630800" y="423936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rot="14750400">
                    <a:off x="1589040" y="4239360"/>
                    <a:ext cx="10908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rot="15491400">
                    <a:off x="1663560" y="423612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H="1" rot="6108600">
                    <a:off x="1684080" y="4238280"/>
                    <a:ext cx="102600" cy="2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1515960" y="4362840"/>
                  <a:ext cx="106200" cy="55440"/>
                  <a:chOff x="1515960" y="4362840"/>
                  <a:chExt cx="106200" cy="5544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 flipH="1" rot="6465000">
                    <a:off x="1509480" y="4389840"/>
                    <a:ext cx="5652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rot="15518400">
                    <a:off x="1494360" y="4389480"/>
                    <a:ext cx="5616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rot="14176800">
                    <a:off x="1534680" y="4389480"/>
                    <a:ext cx="6408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 rot="7423200">
                    <a:off x="1571400" y="4389840"/>
                    <a:ext cx="6408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9" name=""/>
                <p:cNvGrpSpPr/>
                <p:nvPr/>
              </p:nvGrpSpPr>
              <p:grpSpPr>
                <a:xfrm>
                  <a:off x="1621080" y="4361760"/>
                  <a:ext cx="105480" cy="55440"/>
                  <a:chOff x="1621080" y="4361760"/>
                  <a:chExt cx="105480" cy="55440"/>
                </a:xfrm>
              </p:grpSpPr>
              <p:sp>
                <p:nvSpPr>
                  <p:cNvPr id="3160" name=""/>
                  <p:cNvSpPr/>
                  <p:nvPr/>
                </p:nvSpPr>
                <p:spPr>
                  <a:xfrm rot="15135000">
                    <a:off x="1675440" y="4388760"/>
                    <a:ext cx="5652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 flipH="1" rot="6081600">
                    <a:off x="1691640" y="4388400"/>
                    <a:ext cx="56160" cy="1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 rot="7423200">
                    <a:off x="1643400" y="4387680"/>
                    <a:ext cx="6372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rot="14176800">
                    <a:off x="1607400" y="4388040"/>
                    <a:ext cx="6372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64" name=""/>
              <p:cNvSpPr/>
              <p:nvPr/>
            </p:nvSpPr>
            <p:spPr>
              <a:xfrm flipH="1" rot="8578200">
                <a:off x="1483920" y="3902040"/>
                <a:ext cx="107640" cy="324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rot="16200000">
                <a:off x="1571760" y="3920400"/>
                <a:ext cx="102240" cy="252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rot="13021800">
                <a:off x="1650960" y="3903480"/>
                <a:ext cx="107640" cy="288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568160" y="3860640"/>
                <a:ext cx="106920" cy="216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94000" y="3935160"/>
                <a:ext cx="254880" cy="216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9" name=""/>
              <p:cNvGrpSpPr/>
              <p:nvPr/>
            </p:nvGrpSpPr>
            <p:grpSpPr>
              <a:xfrm>
                <a:off x="1494000" y="3946680"/>
                <a:ext cx="254880" cy="473400"/>
                <a:chOff x="1494000" y="3946680"/>
                <a:chExt cx="254880" cy="47340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1515240" y="4288680"/>
                  <a:ext cx="212400" cy="5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1494000" y="3957120"/>
                  <a:ext cx="254880" cy="23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1494000" y="4138920"/>
                  <a:ext cx="254880" cy="1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1494000" y="3978720"/>
                  <a:ext cx="254880" cy="1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1546920" y="3946680"/>
                  <a:ext cx="21240" cy="25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1528560" y="4417200"/>
                  <a:ext cx="187200" cy="2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1515240" y="4363560"/>
                  <a:ext cx="212760" cy="2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7" name=""/>
            <p:cNvGrpSpPr/>
            <p:nvPr/>
          </p:nvGrpSpPr>
          <p:grpSpPr>
            <a:xfrm>
              <a:off x="2266920" y="4746600"/>
              <a:ext cx="187200" cy="617400"/>
              <a:chOff x="2266920" y="4746600"/>
              <a:chExt cx="187200" cy="617400"/>
            </a:xfrm>
          </p:grpSpPr>
          <p:sp>
            <p:nvSpPr>
              <p:cNvPr id="3178" name=""/>
              <p:cNvSpPr/>
              <p:nvPr/>
            </p:nvSpPr>
            <p:spPr>
              <a:xfrm>
                <a:off x="2266920" y="4814280"/>
                <a:ext cx="186480" cy="42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2266920" y="4822560"/>
                <a:ext cx="186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2266920" y="4771080"/>
                <a:ext cx="187200" cy="42120"/>
              </a:xfrm>
              <a:custGeom>
                <a:avLst/>
                <a:gdLst>
                  <a:gd name="textAreaLeft" fmla="*/ 47160 w 187200"/>
                  <a:gd name="textAreaRight" fmla="*/ 140040 w 187200"/>
                  <a:gd name="textAreaTop" fmla="*/ 10440 h 42120"/>
                  <a:gd name="textAreaBottom" fmla="*/ 31680 h 4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09" y="21600"/>
                    </a:lnTo>
                    <a:lnTo>
                      <a:pt x="669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323800" y="4746600"/>
                <a:ext cx="73080" cy="25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283120" y="5237280"/>
                <a:ext cx="154800" cy="33840"/>
              </a:xfrm>
              <a:custGeom>
                <a:avLst/>
                <a:gdLst>
                  <a:gd name="textAreaLeft" fmla="*/ 22320 w 154800"/>
                  <a:gd name="textAreaRight" fmla="*/ 132480 w 154800"/>
                  <a:gd name="textAreaTop" fmla="*/ 4680 h 33840"/>
                  <a:gd name="textAreaBottom" fmla="*/ 29160 h 3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137" y="21600"/>
                    </a:lnTo>
                    <a:lnTo>
                      <a:pt x="246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266920" y="5110200"/>
                <a:ext cx="187200" cy="169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266920" y="4856400"/>
                <a:ext cx="187200" cy="338400"/>
              </a:xfrm>
              <a:prstGeom prst="rect">
                <a:avLst/>
              </a:prstGeom>
              <a:gradFill rotWithShape="0">
                <a:gsLst>
                  <a:gs pos="0">
                    <a:srgbClr val="5a4723"/>
                  </a:gs>
                  <a:gs pos="50000">
                    <a:srgbClr val="b69148"/>
                  </a:gs>
                  <a:gs pos="100000">
                    <a:srgbClr val="5a472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350800" y="5294520"/>
                <a:ext cx="24120" cy="252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334960" y="5268960"/>
                <a:ext cx="24120" cy="252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295360" y="5283720"/>
                <a:ext cx="32400" cy="291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V="1">
                <a:off x="2283120" y="5304960"/>
                <a:ext cx="56880" cy="59040"/>
              </a:xfrm>
              <a:custGeom>
                <a:avLst/>
                <a:gdLst>
                  <a:gd name="textAreaLeft" fmla="*/ 12240 w 56880"/>
                  <a:gd name="textAreaRight" fmla="*/ 44640 w 56880"/>
                  <a:gd name="textAreaTop" fmla="*/ 12960 h 59040"/>
                  <a:gd name="textAreaBottom" fmla="*/ 46080 h 5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299320" y="5271120"/>
                <a:ext cx="24120" cy="165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393280" y="5283720"/>
                <a:ext cx="32400" cy="291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2381040" y="5304960"/>
                <a:ext cx="56880" cy="59040"/>
              </a:xfrm>
              <a:custGeom>
                <a:avLst/>
                <a:gdLst>
                  <a:gd name="textAreaLeft" fmla="*/ 12240 w 56880"/>
                  <a:gd name="textAreaRight" fmla="*/ 44640 w 56880"/>
                  <a:gd name="textAreaTop" fmla="*/ 12960 h 59040"/>
                  <a:gd name="textAreaBottom" fmla="*/ 46080 h 5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397240" y="5271120"/>
                <a:ext cx="24120" cy="165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356560" y="5254200"/>
                <a:ext cx="48600" cy="507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2299320" y="5268600"/>
                <a:ext cx="122040" cy="21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5" name=""/>
            <p:cNvSpPr/>
            <p:nvPr/>
          </p:nvSpPr>
          <p:spPr>
            <a:xfrm>
              <a:off x="2590920" y="4786200"/>
              <a:ext cx="167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Refuel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entaur I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8.9 tons 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6" name=""/>
          <p:cNvGrpSpPr/>
          <p:nvPr/>
        </p:nvGrpSpPr>
        <p:grpSpPr>
          <a:xfrm>
            <a:off x="1495440" y="3673440"/>
            <a:ext cx="2314440" cy="3107880"/>
            <a:chOff x="1495440" y="3673440"/>
            <a:chExt cx="2314440" cy="3107880"/>
          </a:xfrm>
        </p:grpSpPr>
        <p:grpSp>
          <p:nvGrpSpPr>
            <p:cNvPr id="3197" name=""/>
            <p:cNvGrpSpPr/>
            <p:nvPr/>
          </p:nvGrpSpPr>
          <p:grpSpPr>
            <a:xfrm>
              <a:off x="1495440" y="4622760"/>
              <a:ext cx="252360" cy="2158560"/>
              <a:chOff x="1495440" y="4622760"/>
              <a:chExt cx="252360" cy="2158560"/>
            </a:xfrm>
          </p:grpSpPr>
          <p:grpSp>
            <p:nvGrpSpPr>
              <p:cNvPr id="3198" name=""/>
              <p:cNvGrpSpPr/>
              <p:nvPr/>
            </p:nvGrpSpPr>
            <p:grpSpPr>
              <a:xfrm>
                <a:off x="1495440" y="4622760"/>
                <a:ext cx="252360" cy="2158560"/>
                <a:chOff x="1495440" y="4622760"/>
                <a:chExt cx="252360" cy="2158560"/>
              </a:xfrm>
            </p:grpSpPr>
            <p:sp>
              <p:nvSpPr>
                <p:cNvPr id="3199" name=""/>
                <p:cNvSpPr/>
                <p:nvPr/>
              </p:nvSpPr>
              <p:spPr>
                <a:xfrm>
                  <a:off x="1549440" y="6674760"/>
                  <a:ext cx="140040" cy="10656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1495440" y="6498360"/>
                  <a:ext cx="252360" cy="177120"/>
                </a:xfrm>
                <a:custGeom>
                  <a:avLst/>
                  <a:gdLst>
                    <a:gd name="textAreaLeft" fmla="*/ 72000 w 252360"/>
                    <a:gd name="textAreaRight" fmla="*/ 180360 w 252360"/>
                    <a:gd name="textAreaTop" fmla="*/ 50400 h 177120"/>
                    <a:gd name="textAreaBottom" fmla="*/ 126720 h 17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50" y="21600"/>
                      </a:lnTo>
                      <a:lnTo>
                        <a:pt x="795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1495440" y="5215320"/>
                  <a:ext cx="2523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1495440" y="6231240"/>
                  <a:ext cx="2523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1495440" y="5299920"/>
                  <a:ext cx="252360" cy="1015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1495440" y="5046120"/>
                  <a:ext cx="2523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1495440" y="4622760"/>
                  <a:ext cx="25236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5f5f5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1495440" y="4707360"/>
                  <a:ext cx="252360" cy="42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7" name=""/>
                <p:cNvGrpSpPr/>
                <p:nvPr/>
              </p:nvGrpSpPr>
              <p:grpSpPr>
                <a:xfrm>
                  <a:off x="1495440" y="5130720"/>
                  <a:ext cx="252360" cy="169200"/>
                  <a:chOff x="1495440" y="5130720"/>
                  <a:chExt cx="252360" cy="169200"/>
                </a:xfrm>
              </p:grpSpPr>
              <p:sp>
                <p:nvSpPr>
                  <p:cNvPr id="3208" name=""/>
                  <p:cNvSpPr/>
                  <p:nvPr/>
                </p:nvSpPr>
                <p:spPr>
                  <a:xfrm>
                    <a:off x="1495440" y="5130720"/>
                    <a:ext cx="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 flipH="1">
                    <a:off x="1536840" y="5130720"/>
                    <a:ext cx="4212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1495440" y="5130720"/>
                    <a:ext cx="4176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1579320" y="5130720"/>
                    <a:ext cx="4212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 flipH="1">
                    <a:off x="1621440" y="5130720"/>
                    <a:ext cx="4176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1663560" y="5130720"/>
                    <a:ext cx="4212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 flipH="1">
                    <a:off x="1705320" y="5130720"/>
                    <a:ext cx="4212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1747800" y="5130720"/>
                    <a:ext cx="0" cy="169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6" name=""/>
                <p:cNvSpPr/>
                <p:nvPr/>
              </p:nvSpPr>
              <p:spPr>
                <a:xfrm>
                  <a:off x="1495440" y="6358320"/>
                  <a:ext cx="252360" cy="139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1495440" y="6316200"/>
                  <a:ext cx="252360" cy="4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4145"/>
                    </a:gs>
                    <a:gs pos="50000">
                      <a:srgbClr val="9caaac"/>
                    </a:gs>
                    <a:gs pos="100000">
                      <a:srgbClr val="21414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8" name=""/>
              <p:cNvGrpSpPr/>
              <p:nvPr/>
            </p:nvGrpSpPr>
            <p:grpSpPr>
              <a:xfrm>
                <a:off x="1495440" y="4622760"/>
                <a:ext cx="252360" cy="84600"/>
                <a:chOff x="1495440" y="4622760"/>
                <a:chExt cx="252360" cy="84600"/>
              </a:xfrm>
            </p:grpSpPr>
            <p:sp>
              <p:nvSpPr>
                <p:cNvPr id="3219" name=""/>
                <p:cNvSpPr/>
                <p:nvPr/>
              </p:nvSpPr>
              <p:spPr>
                <a:xfrm flipH="1">
                  <a:off x="1495440" y="4622760"/>
                  <a:ext cx="4176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flipH="1">
                  <a:off x="1578960" y="4622760"/>
                  <a:ext cx="4212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1537200" y="4622760"/>
                  <a:ext cx="4212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 flipH="1">
                  <a:off x="1663200" y="4622760"/>
                  <a:ext cx="4212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1621440" y="4622760"/>
                  <a:ext cx="4176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1705680" y="4622760"/>
                  <a:ext cx="42120" cy="84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H="1">
                  <a:off x="1536840" y="4622760"/>
                  <a:ext cx="1681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6" name=""/>
            <p:cNvSpPr/>
            <p:nvPr/>
          </p:nvSpPr>
          <p:spPr>
            <a:xfrm>
              <a:off x="1752480" y="367344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Refueled core boo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93.1 tons 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ing propellant to L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8" name="" descr=""/>
          <p:cNvPicPr/>
          <p:nvPr/>
        </p:nvPicPr>
        <p:blipFill>
          <a:blip r:embed="rId1"/>
          <a:srcRect l="18251" t="0" r="67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llant Depot Trad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 propellant directly from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 terrestrial precursors, convert to propellant on-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r &amp; Asteroid based IS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llan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ogen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H2 / LO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arb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CH4 / K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azin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y vs.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: Propellant storage &amp;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On-orbit electrolysis &amp; chemical ref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: IS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ommend progressive augmentation of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ndable vehicle ana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ly reusable launch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ellant supply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ar term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oration benefits of refueling in 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ven launch vehicle sta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isting assets + max herit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payload to Moon / 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 orbital transf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apital investment is not required for each maneu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transfer to IS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 experience for IS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HLLV investment ($10-20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applications of LEO refu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&amp; Science payload delivery (increases payload mass without requiring larger launch vehic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sensing asset agility (more spacecraft fuel could extend ‘bandwidth’ of imaging opportun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&amp; government space platforms (e.g, ISS, Big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Tourism (esp. Lun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e Applications Ex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O (remote sensing) asset refu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sset delivery (extending the ‘reach’ of launch vehicle fl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 applications across the DoD 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to ISRU mat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r propellant manufacturing &amp; utilization is a ‘big ste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 of several nested capabilities, including mining, extraction, separation, cryogenics, propellant transfer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ISRU &amp; fuel depot elements include power, cryo fluid handling, umbilicals, sensing &amp; automation, as well as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rrestrially-supplied LEO fuel depot could mature several key capabilities needed for IS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lysis, liquefaction &amp; product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propellant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 checkout &amp; ce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enance &amp;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: A LEO fuel depot is a capability-building steeping stone, and will create the competency required to enable longer-term ISR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atures of the Water Roc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850360" y="617220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k.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Centaur T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1282680" y="1325520"/>
            <a:ext cx="6778080" cy="4838760"/>
            <a:chOff x="1282680" y="1325520"/>
            <a:chExt cx="6778080" cy="4838760"/>
          </a:xfrm>
        </p:grpSpPr>
        <p:pic>
          <p:nvPicPr>
            <p:cNvPr id="3242" name="" descr=""/>
            <p:cNvPicPr/>
            <p:nvPr/>
          </p:nvPicPr>
          <p:blipFill>
            <a:blip r:embed="rId1"/>
            <a:stretch/>
          </p:blipFill>
          <p:spPr>
            <a:xfrm>
              <a:off x="1828800" y="1325520"/>
              <a:ext cx="5486400" cy="48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3" name=""/>
            <p:cNvSpPr/>
            <p:nvPr/>
          </p:nvSpPr>
          <p:spPr>
            <a:xfrm>
              <a:off x="4025160" y="5742000"/>
              <a:ext cx="178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gh-Gain 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224840" y="1841400"/>
              <a:ext cx="83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292560" y="1352520"/>
              <a:ext cx="217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tional Manip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amp; Tool R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947560" y="3960720"/>
              <a:ext cx="86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21360" y="3728880"/>
              <a:ext cx="82224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 flipV="1">
              <a:off x="5029200" y="3271680"/>
              <a:ext cx="92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103480" y="2631960"/>
              <a:ext cx="119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017880" y="2906640"/>
              <a:ext cx="914400" cy="10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378800" y="3063960"/>
              <a:ext cx="1056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78160" y="3363840"/>
              <a:ext cx="822240" cy="10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924920" y="162720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ar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min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925720" y="1900080"/>
              <a:ext cx="1371600" cy="10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947200" y="489276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ter T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 flipV="1">
              <a:off x="5029200" y="4003200"/>
              <a:ext cx="914400" cy="10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78120" y="5289480"/>
              <a:ext cx="21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ero-G Electrolysis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3749760" y="4617720"/>
              <a:ext cx="822240" cy="73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378160" y="3336840"/>
              <a:ext cx="914400" cy="6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859800" y="3429000"/>
              <a:ext cx="86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 flipV="1">
              <a:off x="6308640" y="3611520"/>
              <a:ext cx="54936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282680" y="5622840"/>
              <a:ext cx="13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nded Ski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2651040" y="5165640"/>
              <a:ext cx="45720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4" name="" descr=""/>
          <p:cNvPicPr/>
          <p:nvPr/>
        </p:nvPicPr>
        <p:blipFill>
          <a:blip r:embed="rId1"/>
          <a:stretch/>
        </p:blipFill>
        <p:spPr>
          <a:xfrm>
            <a:off x="639360" y="18748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265" name="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274680" y="6629400"/>
            <a:ext cx="859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74680" y="228600"/>
            <a:ext cx="859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1"/>
          <p:cNvSpPr>
            <a:spLocks noGrp="1"/>
          </p:cNvSpPr>
          <p:nvPr>
            <p:ph/>
          </p:nvPr>
        </p:nvSpPr>
        <p:spPr>
          <a:xfrm>
            <a:off x="4479480" y="533160"/>
            <a:ext cx="448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808080"/>
                </a:solidFill>
                <a:latin typeface="Arial"/>
              </a:rPr>
              <a:t>sysRAND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 endeavors to leapfrog the rocket equation by solving the logistics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0" name="atlas521" descr=""/>
          <p:cNvPicPr/>
          <p:nvPr/>
        </p:nvPicPr>
        <p:blipFill>
          <a:blip r:embed="rId2"/>
          <a:stretch/>
        </p:blipFill>
        <p:spPr>
          <a:xfrm>
            <a:off x="274680" y="228600"/>
            <a:ext cx="4200480" cy="6400800"/>
          </a:xfrm>
          <a:prstGeom prst="rect">
            <a:avLst/>
          </a:prstGeom>
          <a:ln w="0">
            <a:noFill/>
          </a:ln>
        </p:spPr>
      </p:pic>
      <p:sp>
        <p:nvSpPr>
          <p:cNvPr id="3271" name=""/>
          <p:cNvSpPr/>
          <p:nvPr/>
        </p:nvSpPr>
        <p:spPr>
          <a:xfrm>
            <a:off x="4951800" y="556272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 for your intere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pendable vehicle analogy</a:t>
            </a:r>
            <a:br>
              <a:rPr sz="4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d Henry Ford enable Standard Oil to prosp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‘Expendable Honda’ model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 analogy for how we currently conduct space transpor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r must be purchased when fuel tank is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riving conditions = 12,000 mil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options, Minimum vehicl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tank capacity + MPG used 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highway mileage applies through life of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5560920"/>
            <a:ext cx="30477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6 Ridge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$27,7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l Tank Capacity: 22.0 (g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A Mileage Estim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 mpg / 21 mpg (Cty/Hw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yload Capacity: 1,550-l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4189320"/>
          <a:ext cx="32385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89320"/>
                    <a:ext cx="32385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434760" y="5572080"/>
            <a:ext cx="28461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5 Civ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$13,675 MS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l Tank Capacity: 13.2 gal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A Mileage Estim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 mpg / 38 mpg (Cty/Hw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yload Capacity: 13 cubic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3509" r="0" b="14596"/>
          <a:stretch/>
        </p:blipFill>
        <p:spPr>
          <a:xfrm>
            <a:off x="3403440" y="4238640"/>
            <a:ext cx="265464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30240" y="5572080"/>
            <a:ext cx="28461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5 Ins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$19,845 MS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el Tank Capacity: 10.6 gal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A Mileage Estimat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 mpg / 66 mpg (Cty/Hw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yload Capacity: 16 cubic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2005 Insight"/>
          <p:cNvPicPr/>
          <p:nvPr/>
        </p:nvPicPr>
        <p:blipFill>
          <a:blip r:embed="rId4"/>
          <a:srcRect l="0" t="10297" r="0" b="12211"/>
          <a:stretch/>
        </p:blipFill>
        <p:spPr>
          <a:xfrm>
            <a:off x="6438960" y="4427640"/>
            <a:ext cx="2438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438280"/>
            <a:ext cx="746748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H Model – Annual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2514600"/>
          <a:ext cx="73152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7315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" name=""/>
          <p:cNvGrpSpPr/>
          <p:nvPr/>
        </p:nvGrpSpPr>
        <p:grpSpPr>
          <a:xfrm>
            <a:off x="0" y="73080"/>
            <a:ext cx="546120" cy="6773400"/>
            <a:chOff x="0" y="73080"/>
            <a:chExt cx="546120" cy="6773400"/>
          </a:xfrm>
        </p:grpSpPr>
        <p:grpSp>
          <p:nvGrpSpPr>
            <p:cNvPr id="69" name=""/>
            <p:cNvGrpSpPr/>
            <p:nvPr/>
          </p:nvGrpSpPr>
          <p:grpSpPr>
            <a:xfrm>
              <a:off x="0" y="4247280"/>
              <a:ext cx="546120" cy="2599200"/>
              <a:chOff x="0" y="4247280"/>
              <a:chExt cx="546120" cy="2599200"/>
            </a:xfrm>
          </p:grpSpPr>
          <p:graphicFrame>
            <p:nvGraphicFramePr>
              <p:cNvPr id="70" name=""/>
              <p:cNvGraphicFramePr/>
              <p:nvPr/>
            </p:nvGraphicFramePr>
            <p:xfrm>
              <a:off x="0" y="6597720"/>
              <a:ext cx="546120" cy="248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65977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2" name=""/>
              <p:cNvGraphicFramePr/>
              <p:nvPr/>
            </p:nvGraphicFramePr>
            <p:xfrm>
              <a:off x="0" y="6356520"/>
              <a:ext cx="546120" cy="248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0" y="63565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" name=""/>
              <p:cNvGraphicFramePr/>
              <p:nvPr/>
            </p:nvGraphicFramePr>
            <p:xfrm>
              <a:off x="0" y="6093000"/>
              <a:ext cx="546120" cy="248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0" y="60930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6" name=""/>
              <p:cNvGraphicFramePr/>
              <p:nvPr/>
            </p:nvGraphicFramePr>
            <p:xfrm>
              <a:off x="0" y="5829480"/>
              <a:ext cx="546120" cy="248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0" y="58294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" name=""/>
              <p:cNvGraphicFramePr/>
              <p:nvPr/>
            </p:nvGraphicFramePr>
            <p:xfrm>
              <a:off x="0" y="5565600"/>
              <a:ext cx="546120" cy="248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55656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0" name=""/>
              <p:cNvGraphicFramePr/>
              <p:nvPr/>
            </p:nvGraphicFramePr>
            <p:xfrm>
              <a:off x="0" y="5302080"/>
              <a:ext cx="546120" cy="248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0" y="53020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"/>
              <p:cNvGraphicFramePr/>
              <p:nvPr/>
            </p:nvGraphicFramePr>
            <p:xfrm>
              <a:off x="0" y="5038200"/>
              <a:ext cx="546120" cy="2487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0" y="50382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"/>
              <p:cNvGraphicFramePr/>
              <p:nvPr/>
            </p:nvGraphicFramePr>
            <p:xfrm>
              <a:off x="0" y="4774320"/>
              <a:ext cx="546120" cy="2487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0" y="47743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" name=""/>
              <p:cNvGraphicFramePr/>
              <p:nvPr/>
            </p:nvGraphicFramePr>
            <p:xfrm>
              <a:off x="0" y="4510800"/>
              <a:ext cx="546120" cy="2487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0" y="45108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"/>
              <p:cNvGraphicFramePr/>
              <p:nvPr/>
            </p:nvGraphicFramePr>
            <p:xfrm>
              <a:off x="0" y="4247280"/>
              <a:ext cx="546120" cy="2487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0" y="42472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" name=""/>
            <p:cNvGrpSpPr/>
            <p:nvPr/>
          </p:nvGrpSpPr>
          <p:grpSpPr>
            <a:xfrm>
              <a:off x="0" y="1648080"/>
              <a:ext cx="546120" cy="2599200"/>
              <a:chOff x="0" y="1648080"/>
              <a:chExt cx="546120" cy="25992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0" y="3998520"/>
              <a:ext cx="546120" cy="2487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0" y="39985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" name=""/>
              <p:cNvGraphicFramePr/>
              <p:nvPr/>
            </p:nvGraphicFramePr>
            <p:xfrm>
              <a:off x="0" y="3757320"/>
              <a:ext cx="546120" cy="2487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0" y="37573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"/>
              <p:cNvGraphicFramePr/>
              <p:nvPr/>
            </p:nvGraphicFramePr>
            <p:xfrm>
              <a:off x="0" y="3493800"/>
              <a:ext cx="546120" cy="2487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0" y="34938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0" y="3230280"/>
              <a:ext cx="546120" cy="2487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0" y="32302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0" y="2966400"/>
              <a:ext cx="546120" cy="2487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0" y="29664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1" name=""/>
              <p:cNvGraphicFramePr/>
              <p:nvPr/>
            </p:nvGraphicFramePr>
            <p:xfrm>
              <a:off x="0" y="2702880"/>
              <a:ext cx="546120" cy="24876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0" y="27028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3" name=""/>
              <p:cNvGraphicFramePr/>
              <p:nvPr/>
            </p:nvGraphicFramePr>
            <p:xfrm>
              <a:off x="0" y="2439000"/>
              <a:ext cx="546120" cy="2487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0" y="24390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5" name=""/>
              <p:cNvGraphicFramePr/>
              <p:nvPr/>
            </p:nvGraphicFramePr>
            <p:xfrm>
              <a:off x="0" y="2175120"/>
              <a:ext cx="546120" cy="24876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0" y="217512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" name=""/>
              <p:cNvGraphicFramePr/>
              <p:nvPr/>
            </p:nvGraphicFramePr>
            <p:xfrm>
              <a:off x="0" y="1911600"/>
              <a:ext cx="546120" cy="24876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0" y="191160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0" y="1648080"/>
              <a:ext cx="546120" cy="24876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0" y="1648080"/>
                        <a:ext cx="546120" cy="24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1" name=""/>
            <p:cNvGrpSpPr/>
            <p:nvPr/>
          </p:nvGrpSpPr>
          <p:grpSpPr>
            <a:xfrm>
              <a:off x="0" y="73080"/>
              <a:ext cx="546120" cy="1566360"/>
              <a:chOff x="0" y="73080"/>
              <a:chExt cx="546120" cy="1566360"/>
            </a:xfrm>
          </p:grpSpPr>
          <p:graphicFrame>
            <p:nvGraphicFramePr>
              <p:cNvPr id="112" name=""/>
              <p:cNvGraphicFramePr/>
              <p:nvPr/>
            </p:nvGraphicFramePr>
            <p:xfrm>
              <a:off x="0" y="1390320"/>
              <a:ext cx="546120" cy="24912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113" name="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0" y="1390320"/>
                        <a:ext cx="546120" cy="24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4" name=""/>
              <p:cNvGraphicFramePr/>
              <p:nvPr/>
            </p:nvGraphicFramePr>
            <p:xfrm>
              <a:off x="0" y="1127520"/>
              <a:ext cx="546120" cy="2476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15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0" y="1127520"/>
                        <a:ext cx="54612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6" name=""/>
              <p:cNvGraphicFramePr/>
              <p:nvPr/>
            </p:nvGraphicFramePr>
            <p:xfrm>
              <a:off x="0" y="863640"/>
              <a:ext cx="546120" cy="2494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17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0" y="863640"/>
                        <a:ext cx="546120" cy="24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8" name=""/>
              <p:cNvGraphicFramePr/>
              <p:nvPr/>
            </p:nvGraphicFramePr>
            <p:xfrm>
              <a:off x="0" y="599760"/>
              <a:ext cx="546120" cy="249120"/>
            </p:xfrm>
            <a:graphic>
              <a:graphicData uri="http://schemas.openxmlformats.org/presentationml/2006/ole">
                <p:oleObj r:id="rId49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0" y="599760"/>
                        <a:ext cx="546120" cy="24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0" name=""/>
              <p:cNvGraphicFramePr/>
              <p:nvPr/>
            </p:nvGraphicFramePr>
            <p:xfrm>
              <a:off x="0" y="336960"/>
              <a:ext cx="546120" cy="247680"/>
            </p:xfrm>
            <a:graphic>
              <a:graphicData uri="http://schemas.openxmlformats.org/presentationml/2006/ole">
                <p:oleObj r:id="rId51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0" y="336960"/>
                        <a:ext cx="54612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2" name=""/>
              <p:cNvGraphicFramePr/>
              <p:nvPr/>
            </p:nvGraphicFramePr>
            <p:xfrm>
              <a:off x="0" y="73080"/>
              <a:ext cx="546120" cy="249120"/>
            </p:xfrm>
            <a:graphic>
              <a:graphicData uri="http://schemas.openxmlformats.org/presentationml/2006/ole">
                <p:oleObj r:id="rId5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54"/>
                      <a:stretch/>
                    </p:blipFill>
                    <p:spPr>
                      <a:xfrm>
                        <a:off x="0" y="73080"/>
                        <a:ext cx="546120" cy="24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4" name=""/>
          <p:cNvGrpSpPr/>
          <p:nvPr/>
        </p:nvGrpSpPr>
        <p:grpSpPr>
          <a:xfrm>
            <a:off x="533520" y="542880"/>
            <a:ext cx="536400" cy="6298560"/>
            <a:chOff x="533520" y="542880"/>
            <a:chExt cx="536400" cy="629856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227840"/>
              <a:ext cx="536400" cy="2613600"/>
              <a:chOff x="533520" y="4227840"/>
              <a:chExt cx="536400" cy="261360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5"/>
              <a:srcRect l="0" t="3509" r="0" b="14596"/>
              <a:stretch/>
            </p:blipFill>
            <p:spPr>
              <a:xfrm>
                <a:off x="533520" y="655416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56"/>
              <a:srcRect l="0" t="3509" r="0" b="14596"/>
              <a:stretch/>
            </p:blipFill>
            <p:spPr>
              <a:xfrm>
                <a:off x="533520" y="628452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57"/>
              <a:srcRect l="0" t="3509" r="0" b="14596"/>
              <a:stretch/>
            </p:blipFill>
            <p:spPr>
              <a:xfrm>
                <a:off x="533520" y="602748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58"/>
              <a:srcRect l="0" t="3509" r="0" b="14596"/>
              <a:stretch/>
            </p:blipFill>
            <p:spPr>
              <a:xfrm>
                <a:off x="533520" y="577044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59"/>
              <a:srcRect l="0" t="3509" r="0" b="14596"/>
              <a:stretch/>
            </p:blipFill>
            <p:spPr>
              <a:xfrm>
                <a:off x="533520" y="551340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60"/>
              <a:srcRect l="0" t="3509" r="0" b="14596"/>
              <a:stretch/>
            </p:blipFill>
            <p:spPr>
              <a:xfrm>
                <a:off x="533520" y="525600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61"/>
              <a:srcRect l="0" t="3509" r="0" b="14596"/>
              <a:stretch/>
            </p:blipFill>
            <p:spPr>
              <a:xfrm>
                <a:off x="533520" y="499896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62"/>
              <a:srcRect l="0" t="3509" r="0" b="14596"/>
              <a:stretch/>
            </p:blipFill>
            <p:spPr>
              <a:xfrm>
                <a:off x="533520" y="474192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63"/>
              <a:srcRect l="0" t="3509" r="0" b="14596"/>
              <a:stretch/>
            </p:blipFill>
            <p:spPr>
              <a:xfrm>
                <a:off x="533520" y="448488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64"/>
              <a:srcRect l="0" t="3509" r="0" b="14596"/>
              <a:stretch/>
            </p:blipFill>
            <p:spPr>
              <a:xfrm>
                <a:off x="533520" y="422784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" name=""/>
            <p:cNvGrpSpPr/>
            <p:nvPr/>
          </p:nvGrpSpPr>
          <p:grpSpPr>
            <a:xfrm>
              <a:off x="533520" y="1613880"/>
              <a:ext cx="536400" cy="2613600"/>
              <a:chOff x="533520" y="1613880"/>
              <a:chExt cx="536400" cy="2613600"/>
            </a:xfrm>
          </p:grpSpPr>
          <p:pic>
            <p:nvPicPr>
              <p:cNvPr id="137" name="" descr=""/>
              <p:cNvPicPr/>
              <p:nvPr/>
            </p:nvPicPr>
            <p:blipFill>
              <a:blip r:embed="rId65"/>
              <a:srcRect l="0" t="3509" r="0" b="14596"/>
              <a:stretch/>
            </p:blipFill>
            <p:spPr>
              <a:xfrm>
                <a:off x="533520" y="394020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66"/>
              <a:srcRect l="0" t="3509" r="0" b="14596"/>
              <a:stretch/>
            </p:blipFill>
            <p:spPr>
              <a:xfrm>
                <a:off x="533520" y="367056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67"/>
              <a:srcRect l="0" t="3509" r="0" b="14596"/>
              <a:stretch/>
            </p:blipFill>
            <p:spPr>
              <a:xfrm>
                <a:off x="533520" y="341352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68"/>
              <a:srcRect l="0" t="3509" r="0" b="14596"/>
              <a:stretch/>
            </p:blipFill>
            <p:spPr>
              <a:xfrm>
                <a:off x="533520" y="315648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69"/>
              <a:srcRect l="0" t="3509" r="0" b="14596"/>
              <a:stretch/>
            </p:blipFill>
            <p:spPr>
              <a:xfrm>
                <a:off x="533520" y="289944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70"/>
              <a:srcRect l="0" t="3509" r="0" b="14596"/>
              <a:stretch/>
            </p:blipFill>
            <p:spPr>
              <a:xfrm>
                <a:off x="533520" y="264204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71"/>
              <a:srcRect l="0" t="3509" r="0" b="14596"/>
              <a:stretch/>
            </p:blipFill>
            <p:spPr>
              <a:xfrm>
                <a:off x="533520" y="238500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72"/>
              <a:srcRect l="0" t="3509" r="0" b="14596"/>
              <a:stretch/>
            </p:blipFill>
            <p:spPr>
              <a:xfrm>
                <a:off x="533520" y="212796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73"/>
              <a:srcRect l="0" t="3509" r="0" b="14596"/>
              <a:stretch/>
            </p:blipFill>
            <p:spPr>
              <a:xfrm>
                <a:off x="533520" y="187092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74"/>
              <a:srcRect l="0" t="3509" r="0" b="14596"/>
              <a:stretch/>
            </p:blipFill>
            <p:spPr>
              <a:xfrm>
                <a:off x="533520" y="1613880"/>
                <a:ext cx="5364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"/>
            <p:cNvGrpSpPr/>
            <p:nvPr/>
          </p:nvGrpSpPr>
          <p:grpSpPr>
            <a:xfrm>
              <a:off x="533520" y="542880"/>
              <a:ext cx="536400" cy="1070640"/>
              <a:chOff x="533520" y="542880"/>
              <a:chExt cx="536400" cy="10706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75"/>
              <a:srcRect l="0" t="3509" r="0" b="14596"/>
              <a:stretch/>
            </p:blipFill>
            <p:spPr>
              <a:xfrm>
                <a:off x="533520" y="1326600"/>
                <a:ext cx="536400" cy="28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76"/>
              <a:srcRect l="0" t="3509" r="0" b="14596"/>
              <a:stretch/>
            </p:blipFill>
            <p:spPr>
              <a:xfrm>
                <a:off x="533520" y="1056240"/>
                <a:ext cx="536400" cy="28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77"/>
              <a:srcRect l="0" t="3509" r="0" b="14596"/>
              <a:stretch/>
            </p:blipFill>
            <p:spPr>
              <a:xfrm>
                <a:off x="533520" y="800280"/>
                <a:ext cx="536400" cy="28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78"/>
              <a:srcRect l="0" t="3509" r="0" b="14596"/>
              <a:stretch/>
            </p:blipFill>
            <p:spPr>
              <a:xfrm>
                <a:off x="533520" y="542880"/>
                <a:ext cx="536400" cy="28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"/>
          <p:cNvGrpSpPr/>
          <p:nvPr/>
        </p:nvGrpSpPr>
        <p:grpSpPr>
          <a:xfrm>
            <a:off x="1066680" y="2417760"/>
            <a:ext cx="522360" cy="4404960"/>
            <a:chOff x="1066680" y="2417760"/>
            <a:chExt cx="522360" cy="4404960"/>
          </a:xfrm>
        </p:grpSpPr>
        <p:grpSp>
          <p:nvGrpSpPr>
            <p:cNvPr id="153" name=""/>
            <p:cNvGrpSpPr/>
            <p:nvPr/>
          </p:nvGrpSpPr>
          <p:grpSpPr>
            <a:xfrm>
              <a:off x="1066680" y="4225320"/>
              <a:ext cx="522360" cy="2597400"/>
              <a:chOff x="1066680" y="4225320"/>
              <a:chExt cx="522360" cy="2597400"/>
            </a:xfrm>
          </p:grpSpPr>
          <p:pic>
            <p:nvPicPr>
              <p:cNvPr id="154" name="" descr="2005 Insight"/>
              <p:cNvPicPr/>
              <p:nvPr/>
            </p:nvPicPr>
            <p:blipFill>
              <a:blip r:embed="rId79"/>
              <a:srcRect l="0" t="10297" r="0" b="12211"/>
              <a:stretch/>
            </p:blipFill>
            <p:spPr>
              <a:xfrm>
                <a:off x="1066680" y="655308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2005 Insight"/>
              <p:cNvPicPr/>
              <p:nvPr/>
            </p:nvPicPr>
            <p:blipFill>
              <a:blip r:embed="rId80"/>
              <a:srcRect l="0" t="10297" r="0" b="12211"/>
              <a:stretch/>
            </p:blipFill>
            <p:spPr>
              <a:xfrm>
                <a:off x="1066680" y="630324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2005 Insight"/>
              <p:cNvPicPr/>
              <p:nvPr/>
            </p:nvPicPr>
            <p:blipFill>
              <a:blip r:embed="rId81"/>
              <a:srcRect l="0" t="10297" r="0" b="12211"/>
              <a:stretch/>
            </p:blipFill>
            <p:spPr>
              <a:xfrm>
                <a:off x="1066680" y="604332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2005 Insight"/>
              <p:cNvPicPr/>
              <p:nvPr/>
            </p:nvPicPr>
            <p:blipFill>
              <a:blip r:embed="rId82"/>
              <a:srcRect l="0" t="10297" r="0" b="12211"/>
              <a:stretch/>
            </p:blipFill>
            <p:spPr>
              <a:xfrm>
                <a:off x="1066680" y="578376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2005 Insight"/>
              <p:cNvPicPr/>
              <p:nvPr/>
            </p:nvPicPr>
            <p:blipFill>
              <a:blip r:embed="rId83"/>
              <a:srcRect l="0" t="10297" r="0" b="12211"/>
              <a:stretch/>
            </p:blipFill>
            <p:spPr>
              <a:xfrm>
                <a:off x="1066680" y="552420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2005 Insight"/>
              <p:cNvPicPr/>
              <p:nvPr/>
            </p:nvPicPr>
            <p:blipFill>
              <a:blip r:embed="rId84"/>
              <a:srcRect l="0" t="10297" r="0" b="12211"/>
              <a:stretch/>
            </p:blipFill>
            <p:spPr>
              <a:xfrm>
                <a:off x="1066680" y="527436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2005 Insight"/>
              <p:cNvPicPr/>
              <p:nvPr/>
            </p:nvPicPr>
            <p:blipFill>
              <a:blip r:embed="rId85"/>
              <a:srcRect l="0" t="10297" r="0" b="12211"/>
              <a:stretch/>
            </p:blipFill>
            <p:spPr>
              <a:xfrm>
                <a:off x="1066680" y="501444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2005 Insight"/>
              <p:cNvPicPr/>
              <p:nvPr/>
            </p:nvPicPr>
            <p:blipFill>
              <a:blip r:embed="rId86"/>
              <a:srcRect l="0" t="10297" r="0" b="12211"/>
              <a:stretch/>
            </p:blipFill>
            <p:spPr>
              <a:xfrm>
                <a:off x="1066680" y="475488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2005 Insight"/>
              <p:cNvPicPr/>
              <p:nvPr/>
            </p:nvPicPr>
            <p:blipFill>
              <a:blip r:embed="rId87"/>
              <a:srcRect l="0" t="10297" r="0" b="12211"/>
              <a:stretch/>
            </p:blipFill>
            <p:spPr>
              <a:xfrm>
                <a:off x="1066680" y="448488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2005 Insight"/>
              <p:cNvPicPr/>
              <p:nvPr/>
            </p:nvPicPr>
            <p:blipFill>
              <a:blip r:embed="rId88"/>
              <a:srcRect l="0" t="10297" r="0" b="12211"/>
              <a:stretch/>
            </p:blipFill>
            <p:spPr>
              <a:xfrm>
                <a:off x="1066680" y="4225320"/>
                <a:ext cx="522360" cy="26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" name=""/>
            <p:cNvGrpSpPr/>
            <p:nvPr/>
          </p:nvGrpSpPr>
          <p:grpSpPr>
            <a:xfrm>
              <a:off x="1066680" y="2417760"/>
              <a:ext cx="522360" cy="1806840"/>
              <a:chOff x="1066680" y="2417760"/>
              <a:chExt cx="522360" cy="1806840"/>
            </a:xfrm>
          </p:grpSpPr>
          <p:pic>
            <p:nvPicPr>
              <p:cNvPr id="165" name="" descr="2005 Insight"/>
              <p:cNvPicPr/>
              <p:nvPr/>
            </p:nvPicPr>
            <p:blipFill>
              <a:blip r:embed="rId89"/>
              <a:srcRect l="0" t="10297" r="0" b="12211"/>
              <a:stretch/>
            </p:blipFill>
            <p:spPr>
              <a:xfrm>
                <a:off x="1066680" y="3954240"/>
                <a:ext cx="522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2005 Insight"/>
              <p:cNvPicPr/>
              <p:nvPr/>
            </p:nvPicPr>
            <p:blipFill>
              <a:blip r:embed="rId90"/>
              <a:srcRect l="0" t="10297" r="0" b="12211"/>
              <a:stretch/>
            </p:blipFill>
            <p:spPr>
              <a:xfrm>
                <a:off x="1066680" y="3705840"/>
                <a:ext cx="522360" cy="26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2005 Insight"/>
              <p:cNvPicPr/>
              <p:nvPr/>
            </p:nvPicPr>
            <p:blipFill>
              <a:blip r:embed="rId91"/>
              <a:srcRect l="0" t="10297" r="0" b="12211"/>
              <a:stretch/>
            </p:blipFill>
            <p:spPr>
              <a:xfrm>
                <a:off x="1066680" y="3445560"/>
                <a:ext cx="5223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2005 Insight"/>
              <p:cNvPicPr/>
              <p:nvPr/>
            </p:nvPicPr>
            <p:blipFill>
              <a:blip r:embed="rId92"/>
              <a:srcRect l="0" t="10297" r="0" b="12211"/>
              <a:stretch/>
            </p:blipFill>
            <p:spPr>
              <a:xfrm>
                <a:off x="1066680" y="3186720"/>
                <a:ext cx="522360" cy="26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2005 Insight"/>
              <p:cNvPicPr/>
              <p:nvPr/>
            </p:nvPicPr>
            <p:blipFill>
              <a:blip r:embed="rId93"/>
              <a:srcRect l="0" t="10297" r="0" b="12211"/>
              <a:stretch/>
            </p:blipFill>
            <p:spPr>
              <a:xfrm>
                <a:off x="1066680" y="2926440"/>
                <a:ext cx="522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2005 Insight"/>
              <p:cNvPicPr/>
              <p:nvPr/>
            </p:nvPicPr>
            <p:blipFill>
              <a:blip r:embed="rId94"/>
              <a:srcRect l="0" t="10297" r="0" b="12211"/>
              <a:stretch/>
            </p:blipFill>
            <p:spPr>
              <a:xfrm>
                <a:off x="1066680" y="2675880"/>
                <a:ext cx="522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2005 Insight"/>
              <p:cNvPicPr/>
              <p:nvPr/>
            </p:nvPicPr>
            <p:blipFill>
              <a:blip r:embed="rId95"/>
              <a:srcRect l="0" t="10297" r="0" b="12211"/>
              <a:stretch/>
            </p:blipFill>
            <p:spPr>
              <a:xfrm>
                <a:off x="1066680" y="2417760"/>
                <a:ext cx="522360" cy="26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capital cost of driv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30,000-$72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cluded: Operations, maintenance, fue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How would this change automobile dem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cket Stages are Discarded after their first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8416800" y="484200"/>
            <a:ext cx="198000" cy="429480"/>
            <a:chOff x="8416800" y="484200"/>
            <a:chExt cx="198000" cy="429480"/>
          </a:xfrm>
        </p:grpSpPr>
        <p:sp>
          <p:nvSpPr>
            <p:cNvPr id="174" name=""/>
            <p:cNvSpPr/>
            <p:nvPr/>
          </p:nvSpPr>
          <p:spPr>
            <a:xfrm>
              <a:off x="8429040" y="569880"/>
              <a:ext cx="171720" cy="25812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472240" y="827280"/>
              <a:ext cx="85680" cy="86040"/>
            </a:xfrm>
            <a:custGeom>
              <a:avLst/>
              <a:gdLst>
                <a:gd name="textAreaLeft" fmla="*/ 22680 w 85680"/>
                <a:gd name="textAreaRight" fmla="*/ 63000 w 85680"/>
                <a:gd name="textAreaTop" fmla="*/ 22680 h 86040"/>
                <a:gd name="textAreaBottom" fmla="*/ 63360 h 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50000">
                  <a:srgbClr val="cfcfcf"/>
                </a:gs>
                <a:gs pos="100000">
                  <a:srgbClr val="5f5f5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9040" y="484200"/>
              <a:ext cx="171720" cy="85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16800" y="598680"/>
              <a:ext cx="12240" cy="41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497080" y="600120"/>
              <a:ext cx="41400" cy="41400"/>
              <a:chOff x="8497080" y="600120"/>
              <a:chExt cx="41400" cy="41400"/>
            </a:xfrm>
          </p:grpSpPr>
          <p:sp>
            <p:nvSpPr>
              <p:cNvPr id="179" name=""/>
              <p:cNvSpPr/>
              <p:nvPr/>
            </p:nvSpPr>
            <p:spPr>
              <a:xfrm>
                <a:off x="8510760" y="600120"/>
                <a:ext cx="13680" cy="41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497080" y="613800"/>
                <a:ext cx="4140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602560" y="598680"/>
              <a:ext cx="12240" cy="41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2" name=""/>
          <p:cNvGraphicFramePr/>
          <p:nvPr/>
        </p:nvGraphicFramePr>
        <p:xfrm>
          <a:off x="4038480" y="4637160"/>
          <a:ext cx="448632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4637160"/>
                    <a:ext cx="4486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0" y="826920"/>
            <a:ext cx="9144000" cy="6107400"/>
            <a:chOff x="0" y="826920"/>
            <a:chExt cx="9144000" cy="6107400"/>
          </a:xfrm>
        </p:grpSpPr>
        <p:grpSp>
          <p:nvGrpSpPr>
            <p:cNvPr id="185" name=""/>
            <p:cNvGrpSpPr/>
            <p:nvPr/>
          </p:nvGrpSpPr>
          <p:grpSpPr>
            <a:xfrm>
              <a:off x="0" y="4657680"/>
              <a:ext cx="9144000" cy="2276640"/>
              <a:chOff x="0" y="4657680"/>
              <a:chExt cx="9144000" cy="22766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4724640"/>
                <a:ext cx="9144000" cy="22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523880" y="4657680"/>
                <a:ext cx="5943240" cy="2275920"/>
                <a:chOff x="1523880" y="4657680"/>
                <a:chExt cx="5943240" cy="2275920"/>
              </a:xfrm>
            </p:grpSpPr>
            <p:graphicFrame>
              <p:nvGraphicFramePr>
                <p:cNvPr id="188" name=""/>
                <p:cNvGraphicFramePr/>
                <p:nvPr/>
              </p:nvGraphicFramePr>
              <p:xfrm>
                <a:off x="1523880" y="5108760"/>
                <a:ext cx="5943240" cy="18248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8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23880" y="5108760"/>
                          <a:ext cx="5943240" cy="182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90" name=""/>
                <p:cNvGraphicFramePr/>
                <p:nvPr/>
              </p:nvGraphicFramePr>
              <p:xfrm>
                <a:off x="3894120" y="4657680"/>
                <a:ext cx="2822400" cy="1397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9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894120" y="4657680"/>
                          <a:ext cx="2822400" cy="1397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92" name=""/>
            <p:cNvSpPr/>
            <p:nvPr/>
          </p:nvSpPr>
          <p:spPr>
            <a:xfrm>
              <a:off x="228600" y="2438280"/>
              <a:ext cx="8610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ad onto expendable flatbe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0m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5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8344080" y="826920"/>
              <a:ext cx="342360" cy="1201320"/>
              <a:chOff x="8344080" y="826920"/>
              <a:chExt cx="342360" cy="1201320"/>
            </a:xfrm>
          </p:grpSpPr>
          <p:sp>
            <p:nvSpPr>
              <p:cNvPr id="194" name=""/>
              <p:cNvSpPr/>
              <p:nvPr/>
            </p:nvSpPr>
            <p:spPr>
              <a:xfrm>
                <a:off x="8344080" y="1256040"/>
                <a:ext cx="342360" cy="6004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8436600" y="1856160"/>
                <a:ext cx="153720" cy="171720"/>
              </a:xfrm>
              <a:custGeom>
                <a:avLst/>
                <a:gdLst>
                  <a:gd name="textAreaLeft" fmla="*/ 40680 w 153720"/>
                  <a:gd name="textAreaRight" fmla="*/ 113040 w 153720"/>
                  <a:gd name="textAreaTop" fmla="*/ 45720 h 171720"/>
                  <a:gd name="textAreaBottom" fmla="*/ 126000 h 17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8344080" y="826920"/>
                <a:ext cx="342360" cy="429120"/>
              </a:xfrm>
              <a:custGeom>
                <a:avLst/>
                <a:gdLst>
                  <a:gd name="textAreaLeft" fmla="*/ 75240 w 342360"/>
                  <a:gd name="textAreaRight" fmla="*/ 267120 w 342360"/>
                  <a:gd name="textAreaTop" fmla="*/ 94320 h 429120"/>
                  <a:gd name="textAreaBottom" fmla="*/ 33480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44080" y="1256040"/>
                <a:ext cx="342360" cy="85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0" y="1856880"/>
            <a:ext cx="9144000" cy="5001120"/>
            <a:chOff x="0" y="1856880"/>
            <a:chExt cx="9144000" cy="5001120"/>
          </a:xfrm>
        </p:grpSpPr>
        <p:grpSp>
          <p:nvGrpSpPr>
            <p:cNvPr id="199" name=""/>
            <p:cNvGrpSpPr/>
            <p:nvPr/>
          </p:nvGrpSpPr>
          <p:grpSpPr>
            <a:xfrm>
              <a:off x="0" y="4648320"/>
              <a:ext cx="9144000" cy="2209680"/>
              <a:chOff x="0" y="4648320"/>
              <a:chExt cx="9144000" cy="220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4648320"/>
                <a:ext cx="9144000" cy="22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0" y="5237280"/>
                <a:ext cx="9143640" cy="1620360"/>
                <a:chOff x="0" y="5237280"/>
                <a:chExt cx="9143640" cy="16203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0" y="5237280"/>
                  <a:ext cx="9143640" cy="1620360"/>
                  <a:chOff x="0" y="5237280"/>
                  <a:chExt cx="9143640" cy="1620360"/>
                </a:xfrm>
              </p:grpSpPr>
              <p:graphicFrame>
                <p:nvGraphicFramePr>
                  <p:cNvPr id="203" name=""/>
                  <p:cNvGraphicFramePr/>
                  <p:nvPr/>
                </p:nvGraphicFramePr>
                <p:xfrm>
                  <a:off x="0" y="5237280"/>
                  <a:ext cx="9143640" cy="162036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204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0" y="5237280"/>
                            <a:ext cx="9143640" cy="16203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05" name=""/>
                  <p:cNvGraphicFramePr/>
                  <p:nvPr/>
                </p:nvGraphicFramePr>
                <p:xfrm>
                  <a:off x="2134080" y="5613480"/>
                  <a:ext cx="3252240" cy="99864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06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2134080" y="5613480"/>
                            <a:ext cx="3252240" cy="998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07" name=""/>
                <p:cNvGraphicFramePr/>
                <p:nvPr/>
              </p:nvGraphicFramePr>
              <p:xfrm>
                <a:off x="2590920" y="5378400"/>
                <a:ext cx="1528560" cy="75744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08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590920" y="5378400"/>
                          <a:ext cx="1528560" cy="757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09" name=""/>
            <p:cNvSpPr/>
            <p:nvPr/>
          </p:nvSpPr>
          <p:spPr>
            <a:xfrm>
              <a:off x="228600" y="2895480"/>
              <a:ext cx="8610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ad flatbed onto tractor-trail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0m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25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8258040" y="1856880"/>
              <a:ext cx="514080" cy="1458720"/>
              <a:chOff x="8258040" y="1856880"/>
              <a:chExt cx="514080" cy="1458720"/>
            </a:xfrm>
          </p:grpSpPr>
          <p:sp>
            <p:nvSpPr>
              <p:cNvPr id="211" name=""/>
              <p:cNvSpPr/>
              <p:nvPr/>
            </p:nvSpPr>
            <p:spPr>
              <a:xfrm>
                <a:off x="8258040" y="2200320"/>
                <a:ext cx="514080" cy="94356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442000" y="3143520"/>
                <a:ext cx="147960" cy="171720"/>
              </a:xfrm>
              <a:custGeom>
                <a:avLst/>
                <a:gdLst>
                  <a:gd name="textAreaLeft" fmla="*/ 39240 w 147960"/>
                  <a:gd name="textAreaRight" fmla="*/ 108720 w 147960"/>
                  <a:gd name="textAreaTop" fmla="*/ 45720 h 171720"/>
                  <a:gd name="textAreaBottom" fmla="*/ 126000 h 17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615160" y="3143520"/>
                <a:ext cx="141120" cy="171720"/>
              </a:xfrm>
              <a:custGeom>
                <a:avLst/>
                <a:gdLst>
                  <a:gd name="textAreaLeft" fmla="*/ 37440 w 141120"/>
                  <a:gd name="textAreaRight" fmla="*/ 103680 w 141120"/>
                  <a:gd name="textAreaTop" fmla="*/ 45720 h 171720"/>
                  <a:gd name="textAreaBottom" fmla="*/ 126000 h 17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8270280" y="3143520"/>
                <a:ext cx="150120" cy="171720"/>
              </a:xfrm>
              <a:custGeom>
                <a:avLst/>
                <a:gdLst>
                  <a:gd name="textAreaLeft" fmla="*/ 39960 w 150120"/>
                  <a:gd name="textAreaRight" fmla="*/ 110160 w 150120"/>
                  <a:gd name="textAreaTop" fmla="*/ 45720 h 171720"/>
                  <a:gd name="textAreaBottom" fmla="*/ 126000 h 17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8258040" y="1856520"/>
                <a:ext cx="514080" cy="343080"/>
              </a:xfrm>
              <a:custGeom>
                <a:avLst/>
                <a:gdLst>
                  <a:gd name="textAreaLeft" fmla="*/ 88200 w 514080"/>
                  <a:gd name="textAreaRight" fmla="*/ 425880 w 514080"/>
                  <a:gd name="textAreaTop" fmla="*/ 58680 h 343080"/>
                  <a:gd name="textAreaBottom" fmla="*/ 284400 h 34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76" y="21600"/>
                    </a:lnTo>
                    <a:lnTo>
                      <a:pt x="352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343720" y="2028960"/>
                <a:ext cx="85680" cy="171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258040" y="2028960"/>
                <a:ext cx="171720" cy="171360"/>
              </a:xfrm>
              <a:custGeom>
                <a:avLst/>
                <a:gdLst>
                  <a:gd name="textAreaLeft" fmla="*/ 36720 w 171720"/>
                  <a:gd name="textAreaRight" fmla="*/ 135000 w 171720"/>
                  <a:gd name="textAreaTop" fmla="*/ 36720 h 171360"/>
                  <a:gd name="textAreaBottom" fmla="*/ 13464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26" y="21600"/>
                    </a:lnTo>
                    <a:lnTo>
                      <a:pt x="517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645400" y="1857240"/>
                <a:ext cx="126720" cy="34308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192"/>
                    </a:moveTo>
                    <a:lnTo>
                      <a:pt x="96" y="19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4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0" name=""/>
            <p:cNvGrpSpPr/>
            <p:nvPr/>
          </p:nvGrpSpPr>
          <p:grpSpPr>
            <a:xfrm>
              <a:off x="0" y="4648320"/>
              <a:ext cx="9144000" cy="2209680"/>
              <a:chOff x="0" y="4648320"/>
              <a:chExt cx="9144000" cy="220968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648320"/>
                <a:ext cx="9144000" cy="22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76320" y="5556240"/>
                <a:ext cx="8990640" cy="1301400"/>
                <a:chOff x="76320" y="5556240"/>
                <a:chExt cx="8990640" cy="13014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76320" y="5556240"/>
                  <a:ext cx="8990640" cy="1301400"/>
                  <a:chOff x="76320" y="5556240"/>
                  <a:chExt cx="8990640" cy="1301400"/>
                </a:xfrm>
              </p:grpSpPr>
              <p:pic>
                <p:nvPicPr>
                  <p:cNvPr id="224" name="" descr="3tk-shay.gif (9497 bytes)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26480" y="5556240"/>
                    <a:ext cx="29404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25" name=""/>
                  <p:cNvGraphicFramePr/>
                  <p:nvPr/>
                </p:nvGraphicFramePr>
                <p:xfrm>
                  <a:off x="76320" y="6383880"/>
                  <a:ext cx="6079320" cy="4737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226" name="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76320" y="6383880"/>
                            <a:ext cx="6079320" cy="473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447920" y="5766120"/>
                  <a:ext cx="4038480" cy="715680"/>
                  <a:chOff x="1447920" y="5766120"/>
                  <a:chExt cx="4038480" cy="7156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447920" y="5766120"/>
                    <a:ext cx="4038480" cy="715680"/>
                    <a:chOff x="1447920" y="5766120"/>
                    <a:chExt cx="4038480" cy="715680"/>
                  </a:xfrm>
                </p:grpSpPr>
                <p:graphicFrame>
                  <p:nvGraphicFramePr>
                    <p:cNvPr id="229" name=""/>
                    <p:cNvGraphicFramePr/>
                    <p:nvPr/>
                  </p:nvGraphicFramePr>
                  <p:xfrm>
                    <a:off x="1447920" y="5766120"/>
                    <a:ext cx="4038480" cy="715680"/>
                  </p:xfrm>
                  <a:graphic>
                    <a:graphicData uri="http://schemas.openxmlformats.org/presentationml/2006/ole">
                      <p:oleObj r:id="rId16" spid="">
                        <p:embed/>
                        <p:pic>
                          <p:nvPicPr>
                            <p:cNvPr id="230" name="" descr=""/>
                            <p:cNvPicPr/>
                            <p:nvPr/>
                          </p:nvPicPr>
                          <p:blipFill>
                            <a:blip r:embed="rId17"/>
                            <a:stretch/>
                          </p:blipFill>
                          <p:spPr>
                            <a:xfrm>
                              <a:off x="1447920" y="5766120"/>
                              <a:ext cx="4038480" cy="7156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aphicFrame>
                  <p:nvGraphicFramePr>
                    <p:cNvPr id="231" name=""/>
                    <p:cNvGraphicFramePr/>
                    <p:nvPr/>
                  </p:nvGraphicFramePr>
                  <p:xfrm>
                    <a:off x="2390400" y="5932080"/>
                    <a:ext cx="1436400" cy="441000"/>
                  </p:xfrm>
                  <a:graphic>
                    <a:graphicData uri="http://schemas.openxmlformats.org/presentationml/2006/ole">
                      <p:oleObj r:id="rId18" spid="">
                        <p:embed/>
                        <p:pic>
                          <p:nvPicPr>
                            <p:cNvPr id="232" name="" descr=""/>
                            <p:cNvPicPr/>
                            <p:nvPr/>
                          </p:nvPicPr>
                          <p:blipFill>
                            <a:blip r:embed="rId19"/>
                            <a:stretch/>
                          </p:blipFill>
                          <p:spPr>
                            <a:xfrm>
                              <a:off x="2390400" y="5932080"/>
                              <a:ext cx="1436400" cy="4410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33" name=""/>
                  <p:cNvGraphicFramePr/>
                  <p:nvPr/>
                </p:nvGraphicFramePr>
                <p:xfrm>
                  <a:off x="2592000" y="5828400"/>
                  <a:ext cx="675000" cy="334440"/>
                </p:xfrm>
                <a:graphic>
                  <a:graphicData uri="http://schemas.openxmlformats.org/presentationml/2006/ole">
                    <p:oleObj r:id="rId20" spid="">
                      <p:embed/>
                      <p:pic>
                        <p:nvPicPr>
                          <p:cNvPr id="234" name="" descr=""/>
                          <p:cNvPicPr/>
                          <p:nvPr/>
                        </p:nvPicPr>
                        <p:blipFill>
                          <a:blip r:embed="rId21"/>
                          <a:stretch/>
                        </p:blipFill>
                        <p:spPr>
                          <a:xfrm>
                            <a:off x="2592000" y="5828400"/>
                            <a:ext cx="675000" cy="3344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8477280" y="0"/>
              <a:ext cx="70920" cy="517320"/>
              <a:chOff x="8477280" y="0"/>
              <a:chExt cx="70920" cy="517320"/>
            </a:xfrm>
          </p:grpSpPr>
          <p:sp>
            <p:nvSpPr>
              <p:cNvPr id="236" name=""/>
              <p:cNvSpPr/>
              <p:nvPr/>
            </p:nvSpPr>
            <p:spPr>
              <a:xfrm>
                <a:off x="8492760" y="42480"/>
                <a:ext cx="41040" cy="25776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8477280" y="301680"/>
                <a:ext cx="70920" cy="40680"/>
              </a:xfrm>
              <a:custGeom>
                <a:avLst/>
                <a:gdLst>
                  <a:gd name="textAreaLeft" fmla="*/ 13680 w 70920"/>
                  <a:gd name="textAreaRight" fmla="*/ 57240 w 70920"/>
                  <a:gd name="textAreaTop" fmla="*/ 7560 h 40680"/>
                  <a:gd name="textAreaBottom" fmla="*/ 33120 h 40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81" y="21600"/>
                    </a:lnTo>
                    <a:lnTo>
                      <a:pt x="431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92760" y="0"/>
                <a:ext cx="41040" cy="40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8477280" y="345600"/>
                <a:ext cx="70920" cy="171720"/>
                <a:chOff x="8477280" y="345600"/>
                <a:chExt cx="70920" cy="1717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8477280" y="345600"/>
                  <a:ext cx="70920" cy="1717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477280" y="460080"/>
                  <a:ext cx="70920" cy="572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8477280" y="459720"/>
                  <a:ext cx="70920" cy="572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8477280" y="345600"/>
                  <a:ext cx="70920" cy="114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77280" y="345600"/>
                  <a:ext cx="70920" cy="114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477280" y="402840"/>
                  <a:ext cx="70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477280" y="460080"/>
                  <a:ext cx="70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" name=""/>
            <p:cNvGrpSpPr/>
            <p:nvPr/>
          </p:nvGrpSpPr>
          <p:grpSpPr>
            <a:xfrm>
              <a:off x="8001000" y="3144960"/>
              <a:ext cx="1028520" cy="2402640"/>
              <a:chOff x="8001000" y="3144960"/>
              <a:chExt cx="1028520" cy="240264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8658360" y="5289840"/>
                <a:ext cx="199800" cy="257400"/>
              </a:xfrm>
              <a:custGeom>
                <a:avLst/>
                <a:gdLst>
                  <a:gd name="textAreaLeft" fmla="*/ 52920 w 199800"/>
                  <a:gd name="textAreaRight" fmla="*/ 146880 w 199800"/>
                  <a:gd name="textAreaTop" fmla="*/ 68400 h 257400"/>
                  <a:gd name="textAreaBottom" fmla="*/ 189000 h 2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8412120" y="5289840"/>
                <a:ext cx="210600" cy="257400"/>
              </a:xfrm>
              <a:custGeom>
                <a:avLst/>
                <a:gdLst>
                  <a:gd name="textAreaLeft" fmla="*/ 55800 w 210600"/>
                  <a:gd name="textAreaRight" fmla="*/ 154800 w 210600"/>
                  <a:gd name="textAreaTop" fmla="*/ 68400 h 257400"/>
                  <a:gd name="textAreaBottom" fmla="*/ 189000 h 2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172720" y="5289840"/>
                <a:ext cx="201600" cy="257400"/>
              </a:xfrm>
              <a:custGeom>
                <a:avLst/>
                <a:gdLst>
                  <a:gd name="textAreaLeft" fmla="*/ 53640 w 201600"/>
                  <a:gd name="textAreaRight" fmla="*/ 147960 w 201600"/>
                  <a:gd name="textAreaTop" fmla="*/ 68400 h 257400"/>
                  <a:gd name="textAreaBottom" fmla="*/ 189000 h 2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58040" y="3402360"/>
                <a:ext cx="514080" cy="18882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01000" y="5033160"/>
                <a:ext cx="257040" cy="2574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772480" y="5033160"/>
                <a:ext cx="257040" cy="2574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172720" y="4947120"/>
                <a:ext cx="685440" cy="429120"/>
              </a:xfrm>
              <a:custGeom>
                <a:avLst/>
                <a:gdLst>
                  <a:gd name="textAreaLeft" fmla="*/ 102960 w 685440"/>
                  <a:gd name="textAreaRight" fmla="*/ 582480 w 685440"/>
                  <a:gd name="textAreaTop" fmla="*/ 64440 h 429120"/>
                  <a:gd name="textAreaBottom" fmla="*/ 36468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01" y="21600"/>
                    </a:lnTo>
                    <a:lnTo>
                      <a:pt x="26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15080" y="503316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58040" y="3144960"/>
                <a:ext cx="514080" cy="5148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58040" y="3144960"/>
                <a:ext cx="514080" cy="85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44080" y="3230640"/>
                <a:ext cx="171000" cy="428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87160" y="3230640"/>
                <a:ext cx="85320" cy="428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344080" y="4947120"/>
                <a:ext cx="171000" cy="4291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87160" y="4947120"/>
                <a:ext cx="85320" cy="4291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29760" y="5033160"/>
                <a:ext cx="85320" cy="2574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60000" y="4922280"/>
                <a:ext cx="342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28600" y="3352680"/>
              <a:ext cx="8610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ad tractor-trailer onto trai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00m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,25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28600" y="1981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 passenger into E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500m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EH range to &gt;500m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 Requirements for a single cross-country road tri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member - no filling st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R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01000" y="0"/>
            <a:ext cx="1143000" cy="5562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40" y="4281480"/>
            <a:ext cx="82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</a:rPr>
              <a:t>A linear increase in distance incurs an exponential co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le launch el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st in today’s launch fleet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pgrades will be requir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183440" y="4035600"/>
            <a:ext cx="445680" cy="2258280"/>
            <a:chOff x="7183440" y="4035600"/>
            <a:chExt cx="445680" cy="2258280"/>
          </a:xfrm>
        </p:grpSpPr>
        <p:grpSp>
          <p:nvGrpSpPr>
            <p:cNvPr id="272" name=""/>
            <p:cNvGrpSpPr/>
            <p:nvPr/>
          </p:nvGrpSpPr>
          <p:grpSpPr>
            <a:xfrm>
              <a:off x="7327080" y="4035600"/>
              <a:ext cx="160560" cy="718560"/>
              <a:chOff x="7327080" y="4035600"/>
              <a:chExt cx="160560" cy="71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336800" y="4407840"/>
                <a:ext cx="141120" cy="346320"/>
              </a:xfrm>
              <a:prstGeom prst="rect">
                <a:avLst/>
              </a:prstGeom>
              <a:gradFill rotWithShape="0">
                <a:gsLst>
                  <a:gs pos="0">
                    <a:srgbClr val="b7cfff"/>
                  </a:gs>
                  <a:gs pos="50000">
                    <a:srgbClr val="e8effe"/>
                  </a:gs>
                  <a:gs pos="100000">
                    <a:srgbClr val="b7c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36800" y="4308120"/>
                <a:ext cx="141120" cy="99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b7cfff"/>
                  </a:gs>
                  <a:gs pos="50000">
                    <a:srgbClr val="e8effe"/>
                  </a:gs>
                  <a:gs pos="100000">
                    <a:srgbClr val="b7c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7375680" y="4035600"/>
                <a:ext cx="62640" cy="294840"/>
                <a:chOff x="7375680" y="4035600"/>
                <a:chExt cx="62640" cy="29484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7375680" y="4245480"/>
                  <a:ext cx="62640" cy="15480"/>
                </a:xfrm>
                <a:custGeom>
                  <a:avLst/>
                  <a:gdLst>
                    <a:gd name="textAreaLeft" fmla="*/ 16920 w 62640"/>
                    <a:gd name="textAreaRight" fmla="*/ 45720 w 62640"/>
                    <a:gd name="textAreaTop" fmla="*/ 3960 h 15480"/>
                    <a:gd name="textAreaBottom" fmla="*/ 11520 h 1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176" y="21600"/>
                      </a:lnTo>
                      <a:lnTo>
                        <a:pt x="7424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399080" y="4050720"/>
                  <a:ext cx="14760" cy="194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99080" y="4035600"/>
                  <a:ext cx="14760" cy="151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89720" y="4261680"/>
                  <a:ext cx="34560" cy="6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7327080" y="4524120"/>
                <a:ext cx="70560" cy="92520"/>
              </a:xfrm>
              <a:prstGeom prst="parallelogram">
                <a:avLst>
                  <a:gd name="adj" fmla="val 13889"/>
                </a:avLst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417080" y="4524120"/>
                <a:ext cx="70560" cy="92520"/>
              </a:xfrm>
              <a:prstGeom prst="parallelogram">
                <a:avLst>
                  <a:gd name="adj" fmla="val 13889"/>
                </a:avLst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7183440" y="4754160"/>
              <a:ext cx="445680" cy="1539720"/>
              <a:chOff x="7183440" y="4754160"/>
              <a:chExt cx="445680" cy="1539720"/>
            </a:xfrm>
          </p:grpSpPr>
          <p:sp>
            <p:nvSpPr>
              <p:cNvPr id="283" name=""/>
              <p:cNvSpPr/>
              <p:nvPr/>
            </p:nvSpPr>
            <p:spPr>
              <a:xfrm>
                <a:off x="7342560" y="4754160"/>
                <a:ext cx="130320" cy="2610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42560" y="4982400"/>
                <a:ext cx="130320" cy="97920"/>
              </a:xfrm>
              <a:prstGeom prst="rect">
                <a:avLst/>
              </a:pr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42560" y="5113080"/>
                <a:ext cx="130320" cy="11106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342200" y="5080680"/>
                <a:ext cx="130680" cy="45000"/>
                <a:chOff x="7342200" y="5080680"/>
                <a:chExt cx="130680" cy="45000"/>
              </a:xfrm>
            </p:grpSpPr>
            <p:sp>
              <p:nvSpPr>
                <p:cNvPr id="287" name=""/>
                <p:cNvSpPr/>
                <p:nvPr/>
              </p:nvSpPr>
              <p:spPr>
                <a:xfrm flipV="1">
                  <a:off x="7342200" y="5098320"/>
                  <a:ext cx="130320" cy="27000"/>
                </a:xfrm>
                <a:prstGeom prst="blockArc">
                  <a:avLst>
                    <a:gd name="adj1" fmla="val 0"/>
                    <a:gd name="adj2" fmla="val 10800000"/>
                    <a:gd name="adj3" fmla="val 50000"/>
                  </a:avLst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7342560" y="5080680"/>
                  <a:ext cx="130320" cy="31680"/>
                  <a:chOff x="7342560" y="5080680"/>
                  <a:chExt cx="130320" cy="3168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7472880" y="5080680"/>
                    <a:ext cx="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342560" y="5080680"/>
                    <a:ext cx="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>
                    <a:off x="7342560" y="5080680"/>
                    <a:ext cx="216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V="1">
                    <a:off x="7364160" y="5080680"/>
                    <a:ext cx="4356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>
                    <a:off x="7407720" y="5080680"/>
                    <a:ext cx="432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V="1">
                    <a:off x="7451280" y="5080680"/>
                    <a:ext cx="216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7342560" y="5080680"/>
                    <a:ext cx="130320" cy="31680"/>
                    <a:chOff x="7342560" y="5080680"/>
                    <a:chExt cx="130320" cy="316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342560" y="5080680"/>
                      <a:ext cx="21600" cy="316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7364160" y="5080680"/>
                      <a:ext cx="43200" cy="316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407720" y="5080680"/>
                      <a:ext cx="43200" cy="316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451280" y="5080680"/>
                      <a:ext cx="21600" cy="316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00" name=""/>
              <p:cNvSpPr/>
              <p:nvPr/>
            </p:nvSpPr>
            <p:spPr>
              <a:xfrm rot="75600">
                <a:off x="7255080" y="5536800"/>
                <a:ext cx="100440" cy="713160"/>
              </a:xfrm>
              <a:custGeom>
                <a:avLst/>
                <a:gdLst/>
                <a:ahLst/>
                <a:rect l="l" t="t" r="r" b="b"/>
                <a:pathLst>
                  <a:path w="240" h="1584">
                    <a:moveTo>
                      <a:pt x="192" y="0"/>
                    </a:moveTo>
                    <a:lnTo>
                      <a:pt x="240" y="288"/>
                    </a:lnTo>
                    <a:lnTo>
                      <a:pt x="240" y="1584"/>
                    </a:lnTo>
                    <a:lnTo>
                      <a:pt x="0" y="1584"/>
                    </a:lnTo>
                    <a:lnTo>
                      <a:pt x="0" y="1200"/>
                    </a:lnTo>
                    <a:lnTo>
                      <a:pt x="96" y="288"/>
                    </a:lnTo>
                    <a:lnTo>
                      <a:pt x="19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21533400">
                <a:off x="7461000" y="5541840"/>
                <a:ext cx="96480" cy="708480"/>
              </a:xfrm>
              <a:custGeom>
                <a:avLst/>
                <a:gdLst/>
                <a:ahLst/>
                <a:rect l="l" t="t" r="r" b="b"/>
                <a:pathLst>
                  <a:path w="240" h="1584">
                    <a:moveTo>
                      <a:pt x="192" y="0"/>
                    </a:moveTo>
                    <a:lnTo>
                      <a:pt x="240" y="288"/>
                    </a:lnTo>
                    <a:lnTo>
                      <a:pt x="240" y="1584"/>
                    </a:lnTo>
                    <a:lnTo>
                      <a:pt x="0" y="1584"/>
                    </a:lnTo>
                    <a:lnTo>
                      <a:pt x="0" y="1200"/>
                    </a:lnTo>
                    <a:lnTo>
                      <a:pt x="96" y="288"/>
                    </a:lnTo>
                    <a:lnTo>
                      <a:pt x="19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83440" y="6211440"/>
                <a:ext cx="67320" cy="453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00"/>
                  </a:gs>
                  <a:gs pos="50000">
                    <a:srgbClr val="008000"/>
                  </a:gs>
                  <a:gs pos="100000">
                    <a:srgbClr val="002e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562160" y="6211440"/>
                <a:ext cx="66960" cy="453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00"/>
                  </a:gs>
                  <a:gs pos="50000">
                    <a:srgbClr val="008000"/>
                  </a:gs>
                  <a:gs pos="100000">
                    <a:srgbClr val="002e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7248600" y="6255720"/>
                <a:ext cx="33840" cy="37800"/>
              </a:xfrm>
              <a:custGeom>
                <a:avLst/>
                <a:gdLst>
                  <a:gd name="textAreaLeft" fmla="*/ 7200 w 33840"/>
                  <a:gd name="textAreaRight" fmla="*/ 26640 w 3384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79920" y="6255720"/>
                <a:ext cx="33840" cy="37800"/>
              </a:xfrm>
              <a:custGeom>
                <a:avLst/>
                <a:gdLst>
                  <a:gd name="textAreaLeft" fmla="*/ 7200 w 33840"/>
                  <a:gd name="textAreaRight" fmla="*/ 26640 w 3384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374240" y="6255720"/>
                <a:ext cx="33840" cy="37800"/>
              </a:xfrm>
              <a:custGeom>
                <a:avLst/>
                <a:gdLst>
                  <a:gd name="textAreaLeft" fmla="*/ 7200 w 33840"/>
                  <a:gd name="textAreaRight" fmla="*/ 26640 w 3384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405560" y="6255720"/>
                <a:ext cx="33840" cy="37800"/>
              </a:xfrm>
              <a:custGeom>
                <a:avLst/>
                <a:gdLst>
                  <a:gd name="textAreaLeft" fmla="*/ 7200 w 33840"/>
                  <a:gd name="textAreaRight" fmla="*/ 26640 w 3384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7499520" y="6255720"/>
                <a:ext cx="33840" cy="37800"/>
              </a:xfrm>
              <a:custGeom>
                <a:avLst/>
                <a:gdLst>
                  <a:gd name="textAreaLeft" fmla="*/ 7200 w 33840"/>
                  <a:gd name="textAreaRight" fmla="*/ 26640 w 3384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530840" y="6255720"/>
                <a:ext cx="33120" cy="37800"/>
              </a:xfrm>
              <a:custGeom>
                <a:avLst/>
                <a:gdLst>
                  <a:gd name="textAreaLeft" fmla="*/ 7200 w 33120"/>
                  <a:gd name="textAreaRight" fmla="*/ 25920 w 33120"/>
                  <a:gd name="textAreaTop" fmla="*/ 8280 h 37800"/>
                  <a:gd name="textAreaBottom" fmla="*/ 29520 h 3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43280" y="5545440"/>
                <a:ext cx="128520" cy="705600"/>
              </a:xfrm>
              <a:custGeom>
                <a:avLst/>
                <a:gdLst/>
                <a:ahLst/>
                <a:rect l="l" t="t" r="r" b="b"/>
                <a:pathLst>
                  <a:path w="288" h="1584">
                    <a:moveTo>
                      <a:pt x="0" y="1584"/>
                    </a:moveTo>
                    <a:lnTo>
                      <a:pt x="0" y="1200"/>
                    </a:lnTo>
                    <a:lnTo>
                      <a:pt x="48" y="288"/>
                    </a:lnTo>
                    <a:lnTo>
                      <a:pt x="144" y="0"/>
                    </a:lnTo>
                    <a:lnTo>
                      <a:pt x="240" y="288"/>
                    </a:lnTo>
                    <a:lnTo>
                      <a:pt x="288" y="1200"/>
                    </a:lnTo>
                    <a:lnTo>
                      <a:pt x="288" y="1584"/>
                    </a:lnTo>
                    <a:lnTo>
                      <a:pt x="48" y="1584"/>
                    </a:lnTo>
                    <a:lnTo>
                      <a:pt x="0" y="15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238160" y="6129360"/>
                <a:ext cx="336960" cy="128520"/>
              </a:xfrm>
              <a:custGeom>
                <a:avLst/>
                <a:gdLst>
                  <a:gd name="textAreaLeft" fmla="*/ 32760 w 336960"/>
                  <a:gd name="textAreaRight" fmla="*/ 304200 w 336960"/>
                  <a:gd name="textAreaTop" fmla="*/ 12240 h 128520"/>
                  <a:gd name="textAreaBottom" fmla="*/ 11628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960" y="21600"/>
                    </a:lnTo>
                    <a:lnTo>
                      <a:pt x="64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42200" y="6130080"/>
                <a:ext cx="131760" cy="127800"/>
              </a:xfrm>
              <a:prstGeom prst="rect">
                <a:avLst/>
              </a:pr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89720" y="6204960"/>
                <a:ext cx="15480" cy="5076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00"/>
                  </a:gs>
                  <a:gs pos="50000">
                    <a:srgbClr val="008000"/>
                  </a:gs>
                  <a:gs pos="100000">
                    <a:srgbClr val="002e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982840" y="4916520"/>
            <a:ext cx="189000" cy="1378080"/>
            <a:chOff x="5982840" y="4916520"/>
            <a:chExt cx="189000" cy="1378080"/>
          </a:xfrm>
        </p:grpSpPr>
        <p:sp>
          <p:nvSpPr>
            <p:cNvPr id="315" name=""/>
            <p:cNvSpPr/>
            <p:nvPr/>
          </p:nvSpPr>
          <p:spPr>
            <a:xfrm>
              <a:off x="6034680" y="5105160"/>
              <a:ext cx="96120" cy="11232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0" y="0"/>
                  </a:moveTo>
                  <a:lnTo>
                    <a:pt x="0" y="105"/>
                  </a:lnTo>
                  <a:lnTo>
                    <a:pt x="85" y="105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fdefc"/>
                </a:gs>
                <a:gs pos="50000">
                  <a:srgbClr val="fefefe"/>
                </a:gs>
                <a:gs pos="100000">
                  <a:srgbClr val="cfdefc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35760" y="5640120"/>
              <a:ext cx="91800" cy="602640"/>
            </a:xfrm>
            <a:custGeom>
              <a:avLst/>
              <a:gdLst/>
              <a:ahLst/>
              <a:rect l="l" t="t" r="r" b="b"/>
              <a:pathLst>
                <a:path w="82" h="568">
                  <a:moveTo>
                    <a:pt x="0" y="0"/>
                  </a:moveTo>
                  <a:lnTo>
                    <a:pt x="0" y="567"/>
                  </a:lnTo>
                  <a:lnTo>
                    <a:pt x="81" y="567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fdefc"/>
                </a:gs>
                <a:gs pos="50000">
                  <a:srgbClr val="fefefe"/>
                </a:gs>
                <a:gs pos="100000">
                  <a:srgbClr val="cfdefc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60240" y="6239880"/>
              <a:ext cx="42480" cy="54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14" y="0"/>
                  </a:moveTo>
                  <a:lnTo>
                    <a:pt x="8" y="8"/>
                  </a:lnTo>
                  <a:lnTo>
                    <a:pt x="4" y="23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37" y="51"/>
                  </a:lnTo>
                  <a:lnTo>
                    <a:pt x="36" y="36"/>
                  </a:lnTo>
                  <a:lnTo>
                    <a:pt x="32" y="20"/>
                  </a:lnTo>
                  <a:lnTo>
                    <a:pt x="28" y="8"/>
                  </a:lnTo>
                  <a:lnTo>
                    <a:pt x="23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563c1c"/>
                </a:gs>
                <a:gs pos="50000">
                  <a:srgbClr val="776249"/>
                </a:gs>
                <a:gs pos="100000">
                  <a:srgbClr val="563c1c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25320" y="4916520"/>
              <a:ext cx="113040" cy="17820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0" y="167"/>
                  </a:moveTo>
                  <a:lnTo>
                    <a:pt x="0" y="92"/>
                  </a:lnTo>
                  <a:lnTo>
                    <a:pt x="36" y="9"/>
                  </a:lnTo>
                  <a:lnTo>
                    <a:pt x="43" y="3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64" y="8"/>
                  </a:lnTo>
                  <a:lnTo>
                    <a:pt x="100" y="91"/>
                  </a:lnTo>
                  <a:lnTo>
                    <a:pt x="100" y="166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cfdefc"/>
                </a:gs>
                <a:gs pos="50000">
                  <a:srgbClr val="fefefe"/>
                </a:gs>
                <a:gs pos="100000">
                  <a:srgbClr val="cfdefc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31080" y="5011920"/>
              <a:ext cx="993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35760" y="5216760"/>
              <a:ext cx="91800" cy="424080"/>
            </a:xfrm>
            <a:custGeom>
              <a:avLst/>
              <a:gdLst/>
              <a:ahLst/>
              <a:rect l="l" t="t" r="r" b="b"/>
              <a:pathLst>
                <a:path w="82" h="400">
                  <a:moveTo>
                    <a:pt x="0" y="0"/>
                  </a:moveTo>
                  <a:lnTo>
                    <a:pt x="0" y="399"/>
                  </a:lnTo>
                  <a:lnTo>
                    <a:pt x="81" y="399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50000">
                  <a:srgbClr val="4b968f"/>
                </a:gs>
                <a:gs pos="100000">
                  <a:srgbClr val="006b61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39360" y="5762160"/>
              <a:ext cx="8388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37920" y="5685840"/>
              <a:ext cx="8712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36840" y="6156000"/>
              <a:ext cx="9144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36840" y="6122880"/>
              <a:ext cx="9144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2600" y="6254640"/>
              <a:ext cx="35640" cy="36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2" y="0"/>
                  </a:moveTo>
                  <a:lnTo>
                    <a:pt x="5" y="14"/>
                  </a:lnTo>
                  <a:lnTo>
                    <a:pt x="0" y="27"/>
                  </a:lnTo>
                  <a:lnTo>
                    <a:pt x="7" y="32"/>
                  </a:lnTo>
                  <a:lnTo>
                    <a:pt x="21" y="33"/>
                  </a:lnTo>
                  <a:lnTo>
                    <a:pt x="31" y="31"/>
                  </a:lnTo>
                  <a:lnTo>
                    <a:pt x="28" y="15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51240" y="6243840"/>
              <a:ext cx="26640" cy="18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4" y="14"/>
                  </a:lnTo>
                  <a:lnTo>
                    <a:pt x="10" y="14"/>
                  </a:lnTo>
                  <a:lnTo>
                    <a:pt x="17" y="16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7280" y="6252480"/>
              <a:ext cx="34560" cy="378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32960" y="6241680"/>
              <a:ext cx="24480" cy="176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17" y="14"/>
                  </a:lnTo>
                  <a:lnTo>
                    <a:pt x="12" y="14"/>
                  </a:lnTo>
                  <a:lnTo>
                    <a:pt x="6" y="16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8640" y="5793840"/>
              <a:ext cx="38880" cy="448920"/>
            </a:xfrm>
            <a:custGeom>
              <a:avLst/>
              <a:gdLst/>
              <a:ahLst/>
              <a:rect l="l" t="t" r="r" b="b"/>
              <a:pathLst>
                <a:path w="35" h="423">
                  <a:moveTo>
                    <a:pt x="11" y="7"/>
                  </a:moveTo>
                  <a:lnTo>
                    <a:pt x="17" y="0"/>
                  </a:lnTo>
                  <a:lnTo>
                    <a:pt x="23" y="7"/>
                  </a:lnTo>
                  <a:lnTo>
                    <a:pt x="34" y="66"/>
                  </a:lnTo>
                  <a:lnTo>
                    <a:pt x="34" y="418"/>
                  </a:lnTo>
                  <a:lnTo>
                    <a:pt x="31" y="422"/>
                  </a:lnTo>
                  <a:lnTo>
                    <a:pt x="3" y="422"/>
                  </a:lnTo>
                  <a:lnTo>
                    <a:pt x="0" y="418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5480" y="5837400"/>
              <a:ext cx="2448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29360" y="5864040"/>
              <a:ext cx="3600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28640" y="6230160"/>
              <a:ext cx="3708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03440" y="5793840"/>
              <a:ext cx="37800" cy="450000"/>
            </a:xfrm>
            <a:custGeom>
              <a:avLst/>
              <a:gdLst/>
              <a:ahLst/>
              <a:rect l="l" t="t" r="r" b="b"/>
              <a:pathLst>
                <a:path w="34" h="424">
                  <a:moveTo>
                    <a:pt x="11" y="7"/>
                  </a:moveTo>
                  <a:lnTo>
                    <a:pt x="17" y="0"/>
                  </a:lnTo>
                  <a:lnTo>
                    <a:pt x="22" y="7"/>
                  </a:lnTo>
                  <a:lnTo>
                    <a:pt x="33" y="66"/>
                  </a:lnTo>
                  <a:lnTo>
                    <a:pt x="33" y="419"/>
                  </a:lnTo>
                  <a:lnTo>
                    <a:pt x="30" y="423"/>
                  </a:lnTo>
                  <a:lnTo>
                    <a:pt x="3" y="423"/>
                  </a:lnTo>
                  <a:lnTo>
                    <a:pt x="0" y="419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09200" y="5838480"/>
              <a:ext cx="2592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05600" y="5865120"/>
              <a:ext cx="3420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04160" y="6231240"/>
              <a:ext cx="3564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11000" y="6253560"/>
              <a:ext cx="35640" cy="36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7" y="0"/>
                  </a:moveTo>
                  <a:lnTo>
                    <a:pt x="24" y="13"/>
                  </a:lnTo>
                  <a:lnTo>
                    <a:pt x="31" y="27"/>
                  </a:lnTo>
                  <a:lnTo>
                    <a:pt x="23" y="32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2" y="16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09200" y="6242760"/>
              <a:ext cx="25920" cy="18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18" y="14"/>
                  </a:lnTo>
                  <a:lnTo>
                    <a:pt x="13" y="14"/>
                  </a:lnTo>
                  <a:lnTo>
                    <a:pt x="6" y="16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82840" y="6252480"/>
              <a:ext cx="34560" cy="378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8" y="11"/>
                  </a:lnTo>
                  <a:lnTo>
                    <a:pt x="0" y="26"/>
                  </a:lnTo>
                  <a:lnTo>
                    <a:pt x="30" y="35"/>
                  </a:lnTo>
                  <a:lnTo>
                    <a:pt x="30" y="17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97240" y="6241680"/>
              <a:ext cx="24480" cy="176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99760" y="6253560"/>
              <a:ext cx="33480" cy="36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8" y="11"/>
                  </a:lnTo>
                  <a:lnTo>
                    <a:pt x="0" y="26"/>
                  </a:lnTo>
                  <a:lnTo>
                    <a:pt x="8" y="30"/>
                  </a:lnTo>
                  <a:lnTo>
                    <a:pt x="21" y="34"/>
                  </a:lnTo>
                  <a:lnTo>
                    <a:pt x="29" y="34"/>
                  </a:lnTo>
                  <a:lnTo>
                    <a:pt x="29" y="17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3080" y="6242760"/>
              <a:ext cx="24480" cy="18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4" y="14"/>
                  </a:lnTo>
                  <a:lnTo>
                    <a:pt x="9" y="14"/>
                  </a:lnTo>
                  <a:lnTo>
                    <a:pt x="15" y="16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89680" y="5793840"/>
              <a:ext cx="39240" cy="448920"/>
            </a:xfrm>
            <a:custGeom>
              <a:avLst/>
              <a:gdLst/>
              <a:ahLst/>
              <a:rect l="l" t="t" r="r" b="b"/>
              <a:pathLst>
                <a:path w="35" h="423">
                  <a:moveTo>
                    <a:pt x="11" y="7"/>
                  </a:moveTo>
                  <a:lnTo>
                    <a:pt x="17" y="0"/>
                  </a:lnTo>
                  <a:lnTo>
                    <a:pt x="23" y="7"/>
                  </a:lnTo>
                  <a:lnTo>
                    <a:pt x="34" y="66"/>
                  </a:lnTo>
                  <a:lnTo>
                    <a:pt x="34" y="418"/>
                  </a:lnTo>
                  <a:lnTo>
                    <a:pt x="31" y="422"/>
                  </a:lnTo>
                  <a:lnTo>
                    <a:pt x="3" y="422"/>
                  </a:lnTo>
                  <a:lnTo>
                    <a:pt x="0" y="418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97960" y="5837400"/>
              <a:ext cx="2340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91840" y="5864040"/>
              <a:ext cx="345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1120" y="6230160"/>
              <a:ext cx="3564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6600" y="5793840"/>
              <a:ext cx="37800" cy="448920"/>
            </a:xfrm>
            <a:custGeom>
              <a:avLst/>
              <a:gdLst/>
              <a:ahLst/>
              <a:rect l="l" t="t" r="r" b="b"/>
              <a:pathLst>
                <a:path w="34" h="423">
                  <a:moveTo>
                    <a:pt x="11" y="7"/>
                  </a:moveTo>
                  <a:lnTo>
                    <a:pt x="17" y="0"/>
                  </a:lnTo>
                  <a:lnTo>
                    <a:pt x="22" y="7"/>
                  </a:lnTo>
                  <a:lnTo>
                    <a:pt x="33" y="66"/>
                  </a:lnTo>
                  <a:lnTo>
                    <a:pt x="33" y="418"/>
                  </a:lnTo>
                  <a:lnTo>
                    <a:pt x="30" y="422"/>
                  </a:lnTo>
                  <a:lnTo>
                    <a:pt x="3" y="422"/>
                  </a:lnTo>
                  <a:lnTo>
                    <a:pt x="0" y="418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2360" y="5837400"/>
              <a:ext cx="255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07680" y="5864040"/>
              <a:ext cx="345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07680" y="6230160"/>
              <a:ext cx="345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43320" y="5793840"/>
              <a:ext cx="40320" cy="450000"/>
            </a:xfrm>
            <a:custGeom>
              <a:avLst/>
              <a:gdLst/>
              <a:ahLst/>
              <a:rect l="l" t="t" r="r" b="b"/>
              <a:pathLst>
                <a:path w="36" h="424">
                  <a:moveTo>
                    <a:pt x="11" y="7"/>
                  </a:moveTo>
                  <a:lnTo>
                    <a:pt x="18" y="0"/>
                  </a:lnTo>
                  <a:lnTo>
                    <a:pt x="24" y="7"/>
                  </a:lnTo>
                  <a:lnTo>
                    <a:pt x="35" y="66"/>
                  </a:lnTo>
                  <a:lnTo>
                    <a:pt x="35" y="419"/>
                  </a:lnTo>
                  <a:lnTo>
                    <a:pt x="31" y="423"/>
                  </a:lnTo>
                  <a:lnTo>
                    <a:pt x="4" y="423"/>
                  </a:lnTo>
                  <a:lnTo>
                    <a:pt x="0" y="419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fefefe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0160" y="5838480"/>
              <a:ext cx="2664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45840" y="5865120"/>
              <a:ext cx="3456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44400" y="6231240"/>
              <a:ext cx="36000" cy="0"/>
            </a:xfrm>
            <a:prstGeom prst="line">
              <a:avLst/>
            </a:prstGeom>
            <a:ln w="324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7120" y="5093640"/>
              <a:ext cx="110520" cy="1800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7" y="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1" y="16"/>
                  </a:lnTo>
                  <a:lnTo>
                    <a:pt x="7" y="16"/>
                  </a:lnTo>
                </a:path>
              </a:pathLst>
            </a:custGeom>
            <a:gradFill rotWithShape="0">
              <a:gsLst>
                <a:gs pos="0">
                  <a:srgbClr val="a2c1fe"/>
                </a:gs>
                <a:gs pos="50000">
                  <a:srgbClr val="aac6fd"/>
                </a:gs>
                <a:gs pos="100000">
                  <a:srgbClr val="a2c1fe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270480" y="4149720"/>
            <a:ext cx="554040" cy="2147760"/>
            <a:chOff x="6270480" y="4149720"/>
            <a:chExt cx="554040" cy="2147760"/>
          </a:xfrm>
        </p:grpSpPr>
        <p:sp>
          <p:nvSpPr>
            <p:cNvPr id="357" name=""/>
            <p:cNvSpPr/>
            <p:nvPr/>
          </p:nvSpPr>
          <p:spPr>
            <a:xfrm>
              <a:off x="6373440" y="5085000"/>
              <a:ext cx="353880" cy="31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34640" y="5167080"/>
              <a:ext cx="225000" cy="857520"/>
            </a:xfrm>
            <a:prstGeom prst="rect">
              <a:avLst/>
            </a:pr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34640" y="5039640"/>
              <a:ext cx="225000" cy="127080"/>
            </a:xfrm>
            <a:prstGeom prst="rect">
              <a:avLst/>
            </a:prstGeom>
            <a:gradFill rotWithShape="0">
              <a:gsLst>
                <a:gs pos="0">
                  <a:srgbClr val="201f29"/>
                </a:gs>
                <a:gs pos="50000">
                  <a:srgbClr val="7b789e"/>
                </a:gs>
                <a:gs pos="100000">
                  <a:srgbClr val="201f2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4640" y="4149720"/>
              <a:ext cx="225000" cy="889920"/>
            </a:xfrm>
            <a:custGeom>
              <a:avLst/>
              <a:gdLst/>
              <a:ahLst/>
              <a:rect l="l" t="t" r="r" b="b"/>
              <a:pathLst>
                <a:path w="336" h="1329">
                  <a:moveTo>
                    <a:pt x="0" y="928"/>
                  </a:moveTo>
                  <a:lnTo>
                    <a:pt x="0" y="511"/>
                  </a:lnTo>
                  <a:lnTo>
                    <a:pt x="14" y="336"/>
                  </a:lnTo>
                  <a:lnTo>
                    <a:pt x="41" y="192"/>
                  </a:lnTo>
                  <a:lnTo>
                    <a:pt x="87" y="82"/>
                  </a:lnTo>
                  <a:lnTo>
                    <a:pt x="140" y="12"/>
                  </a:lnTo>
                  <a:lnTo>
                    <a:pt x="174" y="0"/>
                  </a:lnTo>
                  <a:lnTo>
                    <a:pt x="206" y="12"/>
                  </a:lnTo>
                  <a:lnTo>
                    <a:pt x="249" y="79"/>
                  </a:lnTo>
                  <a:lnTo>
                    <a:pt x="296" y="192"/>
                  </a:lnTo>
                  <a:lnTo>
                    <a:pt x="323" y="334"/>
                  </a:lnTo>
                  <a:lnTo>
                    <a:pt x="336" y="506"/>
                  </a:lnTo>
                  <a:lnTo>
                    <a:pt x="336" y="923"/>
                  </a:lnTo>
                  <a:lnTo>
                    <a:pt x="336" y="1329"/>
                  </a:lnTo>
                  <a:lnTo>
                    <a:pt x="0" y="1329"/>
                  </a:lnTo>
                  <a:lnTo>
                    <a:pt x="0" y="928"/>
                  </a:lnTo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0480" y="5007960"/>
              <a:ext cx="161280" cy="1218960"/>
            </a:xfrm>
            <a:custGeom>
              <a:avLst/>
              <a:gdLst/>
              <a:ahLst/>
              <a:rect l="l" t="t" r="r" b="b"/>
              <a:pathLst>
                <a:path w="241" h="1842">
                  <a:moveTo>
                    <a:pt x="187" y="0"/>
                  </a:moveTo>
                  <a:lnTo>
                    <a:pt x="158" y="9"/>
                  </a:lnTo>
                  <a:lnTo>
                    <a:pt x="41" y="205"/>
                  </a:lnTo>
                  <a:lnTo>
                    <a:pt x="30" y="226"/>
                  </a:lnTo>
                  <a:lnTo>
                    <a:pt x="26" y="248"/>
                  </a:lnTo>
                  <a:lnTo>
                    <a:pt x="25" y="1777"/>
                  </a:lnTo>
                  <a:lnTo>
                    <a:pt x="0" y="1842"/>
                  </a:lnTo>
                  <a:lnTo>
                    <a:pt x="241" y="1842"/>
                  </a:lnTo>
                  <a:lnTo>
                    <a:pt x="214" y="1777"/>
                  </a:lnTo>
                  <a:lnTo>
                    <a:pt x="214" y="224"/>
                  </a:lnTo>
                  <a:lnTo>
                    <a:pt x="214" y="17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63240" y="5007960"/>
              <a:ext cx="161280" cy="1218960"/>
            </a:xfrm>
            <a:custGeom>
              <a:avLst/>
              <a:gdLst/>
              <a:ahLst/>
              <a:rect l="l" t="t" r="r" b="b"/>
              <a:pathLst>
                <a:path w="241" h="1842">
                  <a:moveTo>
                    <a:pt x="54" y="0"/>
                  </a:moveTo>
                  <a:lnTo>
                    <a:pt x="83" y="9"/>
                  </a:lnTo>
                  <a:lnTo>
                    <a:pt x="200" y="205"/>
                  </a:lnTo>
                  <a:lnTo>
                    <a:pt x="211" y="226"/>
                  </a:lnTo>
                  <a:lnTo>
                    <a:pt x="215" y="248"/>
                  </a:lnTo>
                  <a:lnTo>
                    <a:pt x="216" y="1777"/>
                  </a:lnTo>
                  <a:lnTo>
                    <a:pt x="241" y="1842"/>
                  </a:lnTo>
                  <a:lnTo>
                    <a:pt x="0" y="1842"/>
                  </a:lnTo>
                  <a:lnTo>
                    <a:pt x="27" y="1777"/>
                  </a:lnTo>
                  <a:lnTo>
                    <a:pt x="27" y="224"/>
                  </a:lnTo>
                  <a:lnTo>
                    <a:pt x="27" y="17"/>
                  </a:lnTo>
                  <a:lnTo>
                    <a:pt x="54" y="0"/>
                  </a:lnTo>
                  <a:close/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88840" y="6228720"/>
              <a:ext cx="122040" cy="6876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50" y="0"/>
                  </a:moveTo>
                  <a:lnTo>
                    <a:pt x="174" y="52"/>
                  </a:lnTo>
                  <a:lnTo>
                    <a:pt x="182" y="120"/>
                  </a:lnTo>
                  <a:lnTo>
                    <a:pt x="0" y="120"/>
                  </a:lnTo>
                  <a:lnTo>
                    <a:pt x="8" y="52"/>
                  </a:lnTo>
                  <a:lnTo>
                    <a:pt x="30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82680" y="6227280"/>
              <a:ext cx="121680" cy="6876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50" y="0"/>
                  </a:moveTo>
                  <a:lnTo>
                    <a:pt x="174" y="52"/>
                  </a:lnTo>
                  <a:lnTo>
                    <a:pt x="182" y="120"/>
                  </a:lnTo>
                  <a:lnTo>
                    <a:pt x="0" y="120"/>
                  </a:lnTo>
                  <a:lnTo>
                    <a:pt x="8" y="52"/>
                  </a:lnTo>
                  <a:lnTo>
                    <a:pt x="30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01600" y="6185520"/>
              <a:ext cx="84240" cy="6732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95" y="0"/>
                  </a:moveTo>
                  <a:lnTo>
                    <a:pt x="113" y="42"/>
                  </a:lnTo>
                  <a:lnTo>
                    <a:pt x="126" y="102"/>
                  </a:lnTo>
                  <a:lnTo>
                    <a:pt x="0" y="102"/>
                  </a:lnTo>
                  <a:lnTo>
                    <a:pt x="16" y="42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34640" y="6024600"/>
              <a:ext cx="225000" cy="87120"/>
            </a:xfrm>
            <a:custGeom>
              <a:avLst/>
              <a:gdLst/>
              <a:ahLst/>
              <a:rect l="l" t="t" r="r" b="b"/>
              <a:pathLst>
                <a:path w="336" h="146">
                  <a:moveTo>
                    <a:pt x="240" y="146"/>
                  </a:moveTo>
                  <a:lnTo>
                    <a:pt x="336" y="0"/>
                  </a:lnTo>
                  <a:lnTo>
                    <a:pt x="0" y="0"/>
                  </a:lnTo>
                  <a:lnTo>
                    <a:pt x="95" y="144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25640" y="6047280"/>
              <a:ext cx="50040" cy="500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98000" y="6112080"/>
              <a:ext cx="96480" cy="151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2400" y="6127560"/>
              <a:ext cx="63360" cy="5724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34640" y="6009480"/>
              <a:ext cx="225000" cy="151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34640" y="5961240"/>
              <a:ext cx="22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288480" y="5167080"/>
              <a:ext cx="515520" cy="1016640"/>
              <a:chOff x="6288480" y="5167080"/>
              <a:chExt cx="515520" cy="1016640"/>
            </a:xfrm>
          </p:grpSpPr>
          <p:sp>
            <p:nvSpPr>
              <p:cNvPr id="373" name=""/>
              <p:cNvSpPr/>
              <p:nvPr/>
            </p:nvSpPr>
            <p:spPr>
              <a:xfrm>
                <a:off x="6681600" y="61837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83400" y="603684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3400" y="600516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83400" y="575064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83400" y="549648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83400" y="524232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81600" y="516708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88480" y="618372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90280" y="603684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90280" y="60051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0280" y="575064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90280" y="549648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90280" y="52423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88480" y="5167080"/>
                <a:ext cx="12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V="1">
              <a:off x="6659640" y="5992920"/>
              <a:ext cx="96480" cy="316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37800" y="5992920"/>
              <a:ext cx="96480" cy="316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60880" y="4057560"/>
            <a:ext cx="312840" cy="2237040"/>
            <a:chOff x="6860880" y="4057560"/>
            <a:chExt cx="312840" cy="2237040"/>
          </a:xfrm>
        </p:grpSpPr>
        <p:sp>
          <p:nvSpPr>
            <p:cNvPr id="390" name=""/>
            <p:cNvSpPr/>
            <p:nvPr/>
          </p:nvSpPr>
          <p:spPr>
            <a:xfrm>
              <a:off x="6937200" y="4927320"/>
              <a:ext cx="165960" cy="42012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37200" y="4579200"/>
              <a:ext cx="165960" cy="2026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37200" y="4782240"/>
              <a:ext cx="165960" cy="10260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3240" y="4884840"/>
              <a:ext cx="173880" cy="5004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7200" y="5346720"/>
              <a:ext cx="165960" cy="730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37200" y="4524840"/>
              <a:ext cx="165960" cy="53640"/>
            </a:xfrm>
            <a:custGeom>
              <a:avLst/>
              <a:gdLst>
                <a:gd name="textAreaLeft" fmla="*/ 17280 w 165960"/>
                <a:gd name="textAreaRight" fmla="*/ 148680 w 165960"/>
                <a:gd name="textAreaTop" fmla="*/ 5400 h 53640"/>
                <a:gd name="textAreaBottom" fmla="*/ 48240 h 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7200" y="5506920"/>
              <a:ext cx="165960" cy="7246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37200" y="5506920"/>
              <a:ext cx="165960" cy="1368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099200" y="6231960"/>
              <a:ext cx="65520" cy="62640"/>
            </a:xfrm>
            <a:custGeom>
              <a:avLst/>
              <a:gdLst>
                <a:gd name="textAreaLeft" fmla="*/ 14400 w 65520"/>
                <a:gd name="textAreaRight" fmla="*/ 51120 w 65520"/>
                <a:gd name="textAreaTop" fmla="*/ 13680 h 62640"/>
                <a:gd name="textAreaBottom" fmla="*/ 48960 h 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025400" y="6231960"/>
              <a:ext cx="62280" cy="62640"/>
            </a:xfrm>
            <a:custGeom>
              <a:avLst/>
              <a:gdLst>
                <a:gd name="textAreaLeft" fmla="*/ 13680 w 62280"/>
                <a:gd name="textAreaRight" fmla="*/ 48600 w 62280"/>
                <a:gd name="textAreaTop" fmla="*/ 13680 h 62640"/>
                <a:gd name="textAreaBottom" fmla="*/ 48960 h 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951600" y="6231960"/>
              <a:ext cx="65520" cy="62640"/>
            </a:xfrm>
            <a:custGeom>
              <a:avLst/>
              <a:gdLst>
                <a:gd name="textAreaLeft" fmla="*/ 14400 w 65520"/>
                <a:gd name="textAreaRight" fmla="*/ 51120 w 65520"/>
                <a:gd name="textAreaTop" fmla="*/ 13680 h 62640"/>
                <a:gd name="textAreaBottom" fmla="*/ 48960 h 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876000" y="6231960"/>
              <a:ext cx="65160" cy="62640"/>
            </a:xfrm>
            <a:custGeom>
              <a:avLst/>
              <a:gdLst>
                <a:gd name="textAreaLeft" fmla="*/ 14400 w 65160"/>
                <a:gd name="textAreaRight" fmla="*/ 50760 w 65160"/>
                <a:gd name="textAreaTop" fmla="*/ 13680 h 62640"/>
                <a:gd name="textAreaBottom" fmla="*/ 48960 h 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937200" y="5493600"/>
              <a:ext cx="165240" cy="24120"/>
            </a:xfrm>
            <a:prstGeom prst="blockArc">
              <a:avLst>
                <a:gd name="adj1" fmla="val 0"/>
                <a:gd name="adj2" fmla="val 10800000"/>
                <a:gd name="adj3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937560" y="5420160"/>
              <a:ext cx="165240" cy="86400"/>
              <a:chOff x="6937560" y="5420160"/>
              <a:chExt cx="165240" cy="86400"/>
            </a:xfrm>
          </p:grpSpPr>
          <p:sp>
            <p:nvSpPr>
              <p:cNvPr id="404" name=""/>
              <p:cNvSpPr/>
              <p:nvPr/>
            </p:nvSpPr>
            <p:spPr>
              <a:xfrm>
                <a:off x="6937560" y="5420160"/>
                <a:ext cx="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937560" y="5420160"/>
                <a:ext cx="165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954120" y="5420160"/>
                <a:ext cx="3312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987240" y="5420160"/>
                <a:ext cx="327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7560" y="5420160"/>
                <a:ext cx="165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54120" y="5420160"/>
                <a:ext cx="3312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87240" y="5420160"/>
                <a:ext cx="327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02800" y="5420160"/>
                <a:ext cx="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020000" y="5420160"/>
                <a:ext cx="3312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053480" y="5420160"/>
                <a:ext cx="327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086240" y="5420160"/>
                <a:ext cx="165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20000" y="5420160"/>
                <a:ext cx="3312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3480" y="5420160"/>
                <a:ext cx="327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86240" y="5420160"/>
                <a:ext cx="16560" cy="8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944760" y="4057560"/>
              <a:ext cx="150840" cy="468000"/>
              <a:chOff x="6944760" y="4057560"/>
              <a:chExt cx="150840" cy="4680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6944760" y="4057560"/>
                <a:ext cx="150840" cy="468000"/>
                <a:chOff x="6944760" y="4057560"/>
                <a:chExt cx="150840" cy="4680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44760" y="4057560"/>
                  <a:ext cx="150840" cy="1375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7cfff"/>
                    </a:gs>
                    <a:gs pos="50000">
                      <a:srgbClr val="e8effe"/>
                    </a:gs>
                    <a:gs pos="100000">
                      <a:srgbClr val="b7c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44760" y="4195080"/>
                  <a:ext cx="150840" cy="33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7cfff"/>
                    </a:gs>
                    <a:gs pos="50000">
                      <a:srgbClr val="e8effe"/>
                    </a:gs>
                    <a:gs pos="100000">
                      <a:srgbClr val="b7c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6944760" y="4289400"/>
                <a:ext cx="150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044480" y="4911840"/>
              <a:ext cx="12960" cy="4348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6860880" y="5506920"/>
              <a:ext cx="76320" cy="724680"/>
              <a:chOff x="6860880" y="5506920"/>
              <a:chExt cx="76320" cy="724680"/>
            </a:xfrm>
          </p:grpSpPr>
          <p:sp>
            <p:nvSpPr>
              <p:cNvPr id="425" name=""/>
              <p:cNvSpPr/>
              <p:nvPr/>
            </p:nvSpPr>
            <p:spPr>
              <a:xfrm>
                <a:off x="6861240" y="5680800"/>
                <a:ext cx="75960" cy="5508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860520" y="5506920"/>
                <a:ext cx="75960" cy="173880"/>
              </a:xfrm>
              <a:prstGeom prst="rtTriangl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1240" y="6173640"/>
                <a:ext cx="75960" cy="28800"/>
              </a:xfrm>
              <a:prstGeom prst="rect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c0c0c0"/>
                  </a:gs>
                  <a:gs pos="100000">
                    <a:srgbClr val="57575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941880" y="5506920"/>
              <a:ext cx="74880" cy="724680"/>
              <a:chOff x="6941880" y="5506920"/>
              <a:chExt cx="74880" cy="724680"/>
            </a:xfrm>
          </p:grpSpPr>
          <p:sp>
            <p:nvSpPr>
              <p:cNvPr id="429" name=""/>
              <p:cNvSpPr/>
              <p:nvPr/>
            </p:nvSpPr>
            <p:spPr>
              <a:xfrm>
                <a:off x="6941880" y="5680800"/>
                <a:ext cx="74880" cy="5508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41880" y="5506920"/>
                <a:ext cx="74880" cy="173880"/>
              </a:xfrm>
              <a:prstGeom prst="triangle">
                <a:avLst>
                  <a:gd name="adj" fmla="val 60417"/>
                </a:avLst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41880" y="6173640"/>
                <a:ext cx="74880" cy="28800"/>
              </a:xfrm>
              <a:prstGeom prst="rect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c0c0c0"/>
                  </a:gs>
                  <a:gs pos="100000">
                    <a:srgbClr val="57575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7024680" y="5506920"/>
              <a:ext cx="73440" cy="724680"/>
              <a:chOff x="7024680" y="5506920"/>
              <a:chExt cx="73440" cy="724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24680" y="5680800"/>
                <a:ext cx="73440" cy="5508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24680" y="5506920"/>
                <a:ext cx="73440" cy="173880"/>
              </a:xfrm>
              <a:prstGeom prst="triangle">
                <a:avLst>
                  <a:gd name="adj" fmla="val 38194"/>
                </a:avLst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24680" y="6173640"/>
                <a:ext cx="73440" cy="28800"/>
              </a:xfrm>
              <a:prstGeom prst="rect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c0c0c0"/>
                  </a:gs>
                  <a:gs pos="100000">
                    <a:srgbClr val="57575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103160" y="5506920"/>
              <a:ext cx="70560" cy="724680"/>
              <a:chOff x="7103160" y="5506920"/>
              <a:chExt cx="70560" cy="724680"/>
            </a:xfrm>
          </p:grpSpPr>
          <p:sp>
            <p:nvSpPr>
              <p:cNvPr id="437" name=""/>
              <p:cNvSpPr/>
              <p:nvPr/>
            </p:nvSpPr>
            <p:spPr>
              <a:xfrm>
                <a:off x="7103160" y="5680800"/>
                <a:ext cx="70560" cy="55080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03160" y="5506920"/>
                <a:ext cx="70560" cy="173880"/>
              </a:xfrm>
              <a:prstGeom prst="rtTriangl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03160" y="6173640"/>
                <a:ext cx="70560" cy="28800"/>
              </a:xfrm>
              <a:prstGeom prst="rect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c0c0c0"/>
                  </a:gs>
                  <a:gs pos="100000">
                    <a:srgbClr val="57575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632720" y="3983040"/>
            <a:ext cx="176040" cy="2314080"/>
            <a:chOff x="7632720" y="3983040"/>
            <a:chExt cx="176040" cy="2314080"/>
          </a:xfrm>
        </p:grpSpPr>
        <p:sp>
          <p:nvSpPr>
            <p:cNvPr id="441" name=""/>
            <p:cNvSpPr/>
            <p:nvPr/>
          </p:nvSpPr>
          <p:spPr>
            <a:xfrm>
              <a:off x="7632720" y="4821120"/>
              <a:ext cx="175680" cy="47880"/>
            </a:xfrm>
            <a:prstGeom prst="blockArc">
              <a:avLst>
                <a:gd name="adj1" fmla="val 0"/>
                <a:gd name="adj2" fmla="val 10800000"/>
                <a:gd name="adj3" fmla="val 50000"/>
              </a:avLst>
            </a:pr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632720" y="4914720"/>
              <a:ext cx="175680" cy="46080"/>
            </a:xfrm>
            <a:prstGeom prst="blockArc">
              <a:avLst>
                <a:gd name="adj1" fmla="val 0"/>
                <a:gd name="adj2" fmla="val 10800000"/>
                <a:gd name="adj3" fmla="val 50000"/>
              </a:avLst>
            </a:pr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646040" y="6230160"/>
              <a:ext cx="65880" cy="66600"/>
            </a:xfrm>
            <a:custGeom>
              <a:avLst/>
              <a:gdLst>
                <a:gd name="textAreaLeft" fmla="*/ 14400 w 65880"/>
                <a:gd name="textAreaRight" fmla="*/ 51480 w 65880"/>
                <a:gd name="textAreaTop" fmla="*/ 14400 h 66600"/>
                <a:gd name="textAreaBottom" fmla="*/ 5220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2720" y="4976280"/>
              <a:ext cx="176040" cy="79272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632720" y="4845600"/>
              <a:ext cx="175680" cy="91440"/>
              <a:chOff x="7632720" y="4845600"/>
              <a:chExt cx="175680" cy="91440"/>
            </a:xfrm>
          </p:grpSpPr>
          <p:sp>
            <p:nvSpPr>
              <p:cNvPr id="446" name=""/>
              <p:cNvSpPr/>
              <p:nvPr/>
            </p:nvSpPr>
            <p:spPr>
              <a:xfrm>
                <a:off x="7632720" y="4845600"/>
                <a:ext cx="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7632720" y="4845600"/>
                <a:ext cx="1764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650360" y="4845600"/>
                <a:ext cx="3528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685640" y="4845600"/>
                <a:ext cx="3492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720" y="4845600"/>
                <a:ext cx="1764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50360" y="4845600"/>
                <a:ext cx="3528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85640" y="4845600"/>
                <a:ext cx="3492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08400" y="4845600"/>
                <a:ext cx="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720560" y="4845600"/>
                <a:ext cx="3528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7755840" y="4845600"/>
                <a:ext cx="3492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7790760" y="4845600"/>
                <a:ext cx="1764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20560" y="4845600"/>
                <a:ext cx="3528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55840" y="4845600"/>
                <a:ext cx="3492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90760" y="4845600"/>
                <a:ext cx="17640" cy="9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7632720" y="3983400"/>
              <a:ext cx="176040" cy="115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32720" y="4098960"/>
              <a:ext cx="176040" cy="37692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32720" y="4229640"/>
              <a:ext cx="17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32720" y="4476240"/>
              <a:ext cx="176040" cy="32760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79240" y="4260600"/>
              <a:ext cx="0" cy="430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32720" y="5830560"/>
              <a:ext cx="176040" cy="33840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32720" y="6169320"/>
              <a:ext cx="176040" cy="6156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32720" y="5769000"/>
              <a:ext cx="176040" cy="61200"/>
            </a:xfrm>
            <a:prstGeom prst="rect">
              <a:avLst/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725600" y="6230160"/>
              <a:ext cx="66600" cy="66600"/>
            </a:xfrm>
            <a:custGeom>
              <a:avLst/>
              <a:gdLst>
                <a:gd name="textAreaLeft" fmla="*/ 14400 w 66600"/>
                <a:gd name="textAreaRight" fmla="*/ 52200 w 66600"/>
                <a:gd name="textAreaTop" fmla="*/ 14400 h 66600"/>
                <a:gd name="textAreaBottom" fmla="*/ 5220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32720" y="4799160"/>
              <a:ext cx="176040" cy="46080"/>
            </a:xfrm>
            <a:prstGeom prst="rect">
              <a:avLst/>
            </a:pr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5720" y="3983040"/>
              <a:ext cx="49320" cy="31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7cfff"/>
                </a:gs>
                <a:gs pos="50000">
                  <a:srgbClr val="e8effe"/>
                </a:gs>
                <a:gs pos="100000">
                  <a:srgbClr val="b7c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61880" y="4968720"/>
              <a:ext cx="0" cy="126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2720" y="4937760"/>
              <a:ext cx="176040" cy="40680"/>
            </a:xfrm>
            <a:prstGeom prst="rect">
              <a:avLst/>
            </a:pr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98480" y="3726000"/>
            <a:ext cx="530280" cy="2567880"/>
            <a:chOff x="798480" y="3726000"/>
            <a:chExt cx="530280" cy="2567880"/>
          </a:xfrm>
        </p:grpSpPr>
        <p:grpSp>
          <p:nvGrpSpPr>
            <p:cNvPr id="474" name=""/>
            <p:cNvGrpSpPr/>
            <p:nvPr/>
          </p:nvGrpSpPr>
          <p:grpSpPr>
            <a:xfrm>
              <a:off x="1034640" y="3726000"/>
              <a:ext cx="55080" cy="398160"/>
              <a:chOff x="1034640" y="3726000"/>
              <a:chExt cx="55080" cy="398160"/>
            </a:xfrm>
          </p:grpSpPr>
          <p:sp>
            <p:nvSpPr>
              <p:cNvPr id="475" name=""/>
              <p:cNvSpPr/>
              <p:nvPr/>
            </p:nvSpPr>
            <p:spPr>
              <a:xfrm>
                <a:off x="1046880" y="3759120"/>
                <a:ext cx="31320" cy="1990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1034640" y="3961080"/>
                <a:ext cx="55080" cy="31680"/>
              </a:xfrm>
              <a:custGeom>
                <a:avLst/>
                <a:gdLst>
                  <a:gd name="textAreaLeft" fmla="*/ 10440 w 55080"/>
                  <a:gd name="textAreaRight" fmla="*/ 44640 w 55080"/>
                  <a:gd name="textAreaTop" fmla="*/ 6120 h 31680"/>
                  <a:gd name="textAreaBottom" fmla="*/ 25560 h 3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81" y="21600"/>
                    </a:lnTo>
                    <a:lnTo>
                      <a:pt x="431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46880" y="3726000"/>
                <a:ext cx="31320" cy="31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034640" y="3991320"/>
                <a:ext cx="55080" cy="132840"/>
                <a:chOff x="1034640" y="3991320"/>
                <a:chExt cx="55080" cy="1328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034640" y="3991680"/>
                  <a:ext cx="55080" cy="132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034640" y="4079880"/>
                  <a:ext cx="55080" cy="43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1034640" y="4079880"/>
                  <a:ext cx="55080" cy="43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1034640" y="3991320"/>
                  <a:ext cx="55080" cy="88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034640" y="3991680"/>
                  <a:ext cx="55080" cy="88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034640" y="4035960"/>
                  <a:ext cx="55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034640" y="4079880"/>
                  <a:ext cx="55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987480" y="4102560"/>
              <a:ext cx="153000" cy="331560"/>
              <a:chOff x="987480" y="4102560"/>
              <a:chExt cx="153000" cy="331560"/>
            </a:xfrm>
          </p:grpSpPr>
          <p:sp>
            <p:nvSpPr>
              <p:cNvPr id="487" name=""/>
              <p:cNvSpPr/>
              <p:nvPr/>
            </p:nvSpPr>
            <p:spPr>
              <a:xfrm>
                <a:off x="996840" y="4168440"/>
                <a:ext cx="132120" cy="1990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1030320" y="4367880"/>
                <a:ext cx="66240" cy="66240"/>
              </a:xfrm>
              <a:custGeom>
                <a:avLst/>
                <a:gdLst>
                  <a:gd name="textAreaLeft" fmla="*/ 17640 w 66240"/>
                  <a:gd name="textAreaRight" fmla="*/ 48600 w 66240"/>
                  <a:gd name="textAreaTop" fmla="*/ 17640 h 66240"/>
                  <a:gd name="textAreaBottom" fmla="*/ 4860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96840" y="4102560"/>
                <a:ext cx="132120" cy="65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87480" y="4193640"/>
                <a:ext cx="936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049760" y="4195080"/>
                <a:ext cx="31320" cy="31680"/>
                <a:chOff x="1049760" y="4195080"/>
                <a:chExt cx="31320" cy="316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060200" y="4195080"/>
                  <a:ext cx="10440" cy="31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49760" y="4205520"/>
                  <a:ext cx="31320" cy="10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131120" y="4193640"/>
                <a:ext cx="936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930960" y="4367880"/>
              <a:ext cx="265320" cy="929160"/>
              <a:chOff x="930960" y="4367880"/>
              <a:chExt cx="265320" cy="929160"/>
            </a:xfrm>
          </p:grpSpPr>
          <p:sp>
            <p:nvSpPr>
              <p:cNvPr id="496" name=""/>
              <p:cNvSpPr/>
              <p:nvPr/>
            </p:nvSpPr>
            <p:spPr>
              <a:xfrm>
                <a:off x="930960" y="4699800"/>
                <a:ext cx="265320" cy="4644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997200" y="5163840"/>
                <a:ext cx="118440" cy="132840"/>
              </a:xfrm>
              <a:custGeom>
                <a:avLst/>
                <a:gdLst>
                  <a:gd name="textAreaLeft" fmla="*/ 31320 w 118440"/>
                  <a:gd name="textAreaRight" fmla="*/ 87120 w 118440"/>
                  <a:gd name="textAreaTop" fmla="*/ 35280 h 132840"/>
                  <a:gd name="textAreaBottom" fmla="*/ 97560 h 13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930960" y="4367880"/>
                <a:ext cx="265320" cy="33192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72720 h 331920"/>
                  <a:gd name="textAreaBottom" fmla="*/ 259200 h 33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30960" y="4699800"/>
                <a:ext cx="265320" cy="658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63800" y="4500720"/>
                <a:ext cx="65880" cy="658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997200" y="4566960"/>
                <a:ext cx="66240" cy="66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1063800" y="4500000"/>
                <a:ext cx="104760" cy="65880"/>
              </a:xfrm>
              <a:custGeom>
                <a:avLst/>
                <a:gdLst>
                  <a:gd name="textAreaLeft" fmla="*/ 15120 w 104760"/>
                  <a:gd name="textAreaRight" fmla="*/ 89640 w 104760"/>
                  <a:gd name="textAreaTop" fmla="*/ 9720 h 65880"/>
                  <a:gd name="textAreaBottom" fmla="*/ 56160 h 6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043" y="21600"/>
                    </a:lnTo>
                    <a:lnTo>
                      <a:pt x="255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946080" y="4566960"/>
                <a:ext cx="104760" cy="66240"/>
              </a:xfrm>
              <a:custGeom>
                <a:avLst/>
                <a:gdLst>
                  <a:gd name="textAreaLeft" fmla="*/ 15120 w 104760"/>
                  <a:gd name="textAreaRight" fmla="*/ 89640 w 104760"/>
                  <a:gd name="textAreaTop" fmla="*/ 9720 h 66240"/>
                  <a:gd name="textAreaBottom" fmla="*/ 5652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043" y="21600"/>
                    </a:lnTo>
                    <a:lnTo>
                      <a:pt x="255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98480" y="5164920"/>
              <a:ext cx="530280" cy="1128960"/>
              <a:chOff x="798480" y="5164920"/>
              <a:chExt cx="530280" cy="1128960"/>
            </a:xfrm>
          </p:grpSpPr>
          <p:sp>
            <p:nvSpPr>
              <p:cNvPr id="505" name=""/>
              <p:cNvSpPr/>
              <p:nvPr/>
            </p:nvSpPr>
            <p:spPr>
              <a:xfrm>
                <a:off x="930960" y="5364000"/>
                <a:ext cx="265320" cy="8632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29680" y="6227640"/>
                <a:ext cx="66240" cy="66240"/>
              </a:xfrm>
              <a:custGeom>
                <a:avLst/>
                <a:gdLst>
                  <a:gd name="textAreaLeft" fmla="*/ 17640 w 66240"/>
                  <a:gd name="textAreaRight" fmla="*/ 48600 w 66240"/>
                  <a:gd name="textAreaTop" fmla="*/ 17640 h 66240"/>
                  <a:gd name="textAreaBottom" fmla="*/ 4860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930960" y="6227640"/>
                <a:ext cx="66240" cy="66240"/>
              </a:xfrm>
              <a:custGeom>
                <a:avLst/>
                <a:gdLst>
                  <a:gd name="textAreaLeft" fmla="*/ 17640 w 66240"/>
                  <a:gd name="textAreaRight" fmla="*/ 48600 w 66240"/>
                  <a:gd name="textAreaTop" fmla="*/ 17640 h 66240"/>
                  <a:gd name="textAreaBottom" fmla="*/ 4860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026360" y="6227640"/>
                <a:ext cx="65880" cy="66240"/>
              </a:xfrm>
              <a:custGeom>
                <a:avLst/>
                <a:gdLst>
                  <a:gd name="textAreaLeft" fmla="*/ 17280 w 65880"/>
                  <a:gd name="textAreaRight" fmla="*/ 48600 w 65880"/>
                  <a:gd name="textAreaTop" fmla="*/ 17640 h 66240"/>
                  <a:gd name="textAreaBottom" fmla="*/ 48600 h 6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30960" y="5164920"/>
                <a:ext cx="265320" cy="1990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97200" y="5164920"/>
                <a:ext cx="66240" cy="10627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8480" y="6094800"/>
                <a:ext cx="132480" cy="132480"/>
              </a:xfrm>
              <a:custGeom>
                <a:avLst/>
                <a:gdLst/>
                <a:ahLst/>
                <a:rect l="l" t="t" r="r" b="b"/>
                <a:pathLst>
                  <a:path w="288" h="240">
                    <a:moveTo>
                      <a:pt x="288" y="0"/>
                    </a:moveTo>
                    <a:lnTo>
                      <a:pt x="0" y="144"/>
                    </a:lnTo>
                    <a:lnTo>
                      <a:pt x="0" y="240"/>
                    </a:lnTo>
                    <a:lnTo>
                      <a:pt x="288" y="19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1196280" y="6094800"/>
                <a:ext cx="132480" cy="132480"/>
              </a:xfrm>
              <a:custGeom>
                <a:avLst/>
                <a:gdLst/>
                <a:ahLst/>
                <a:rect l="l" t="t" r="r" b="b"/>
                <a:pathLst>
                  <a:path w="288" h="240">
                    <a:moveTo>
                      <a:pt x="288" y="0"/>
                    </a:moveTo>
                    <a:lnTo>
                      <a:pt x="0" y="144"/>
                    </a:lnTo>
                    <a:lnTo>
                      <a:pt x="0" y="240"/>
                    </a:lnTo>
                    <a:lnTo>
                      <a:pt x="288" y="19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16920" y="6094800"/>
                <a:ext cx="79920" cy="132480"/>
              </a:xfrm>
              <a:custGeom>
                <a:avLst/>
                <a:gdLst/>
                <a:ahLst/>
                <a:rect l="l" t="t" r="r" b="b"/>
                <a:pathLst>
                  <a:path w="288" h="240">
                    <a:moveTo>
                      <a:pt x="288" y="0"/>
                    </a:moveTo>
                    <a:lnTo>
                      <a:pt x="0" y="144"/>
                    </a:lnTo>
                    <a:lnTo>
                      <a:pt x="0" y="240"/>
                    </a:lnTo>
                    <a:lnTo>
                      <a:pt x="288" y="19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48320" y="6096240"/>
                <a:ext cx="16560" cy="132480"/>
              </a:xfrm>
              <a:custGeom>
                <a:avLst/>
                <a:gdLst/>
                <a:ahLst/>
                <a:rect l="l" t="t" r="r" b="b"/>
                <a:pathLst>
                  <a:path w="288" h="240">
                    <a:moveTo>
                      <a:pt x="288" y="0"/>
                    </a:moveTo>
                    <a:lnTo>
                      <a:pt x="0" y="144"/>
                    </a:lnTo>
                    <a:lnTo>
                      <a:pt x="0" y="240"/>
                    </a:lnTo>
                    <a:lnTo>
                      <a:pt x="288" y="19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62800" y="5164920"/>
                <a:ext cx="33120" cy="1062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1129680" y="6094800"/>
                <a:ext cx="82800" cy="132480"/>
              </a:xfrm>
              <a:custGeom>
                <a:avLst/>
                <a:gdLst/>
                <a:ahLst/>
                <a:rect l="l" t="t" r="r" b="b"/>
                <a:pathLst>
                  <a:path w="288" h="240">
                    <a:moveTo>
                      <a:pt x="288" y="0"/>
                    </a:moveTo>
                    <a:lnTo>
                      <a:pt x="0" y="144"/>
                    </a:lnTo>
                    <a:lnTo>
                      <a:pt x="0" y="240"/>
                    </a:lnTo>
                    <a:lnTo>
                      <a:pt x="288" y="19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013760" y="5347440"/>
                <a:ext cx="19872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152280" y="5268960"/>
            <a:ext cx="158760" cy="1027080"/>
            <a:chOff x="152280" y="5268960"/>
            <a:chExt cx="158760" cy="1027080"/>
          </a:xfrm>
        </p:grpSpPr>
        <p:grpSp>
          <p:nvGrpSpPr>
            <p:cNvPr id="519" name=""/>
            <p:cNvGrpSpPr/>
            <p:nvPr/>
          </p:nvGrpSpPr>
          <p:grpSpPr>
            <a:xfrm>
              <a:off x="191880" y="5268960"/>
              <a:ext cx="79200" cy="289080"/>
              <a:chOff x="191880" y="5268960"/>
              <a:chExt cx="79200" cy="28908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191880" y="5428080"/>
                <a:ext cx="79200" cy="129960"/>
                <a:chOff x="191880" y="5428080"/>
                <a:chExt cx="79200" cy="1299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191880" y="5428080"/>
                  <a:ext cx="79200" cy="129960"/>
                  <a:chOff x="191880" y="5428080"/>
                  <a:chExt cx="79200" cy="1299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191880" y="5529240"/>
                    <a:ext cx="79200" cy="28800"/>
                  </a:xfrm>
                  <a:prstGeom prst="blockArc">
                    <a:avLst>
                      <a:gd name="adj1" fmla="val 0"/>
                      <a:gd name="adj2" fmla="val 10800000"/>
                      <a:gd name="adj3" fmla="val 50000"/>
                    </a:avLst>
                  </a:prstGeom>
                  <a:gradFill rotWithShape="0">
                    <a:gsLst>
                      <a:gs pos="0">
                        <a:srgbClr val="040404"/>
                      </a:gs>
                      <a:gs pos="50000">
                        <a:srgbClr val="4d4d4d"/>
                      </a:gs>
                      <a:gs pos="100000">
                        <a:srgbClr val="04040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191880" y="5471280"/>
                    <a:ext cx="79200" cy="72000"/>
                  </a:xfrm>
                  <a:custGeom>
                    <a:avLst/>
                    <a:gdLst>
                      <a:gd name="textAreaLeft" fmla="*/ 20520 w 79200"/>
                      <a:gd name="textAreaRight" fmla="*/ 58680 w 79200"/>
                      <a:gd name="textAreaTop" fmla="*/ 18360 h 72000"/>
                      <a:gd name="textAreaBottom" fmla="*/ 53640 h 72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4701" y="21600"/>
                        </a:lnTo>
                        <a:lnTo>
                          <a:pt x="689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0404"/>
                      </a:gs>
                      <a:gs pos="50000">
                        <a:srgbClr val="4d4d4d"/>
                      </a:gs>
                      <a:gs pos="100000">
                        <a:srgbClr val="04040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18160" y="5428080"/>
                    <a:ext cx="26280" cy="43200"/>
                    <a:chOff x="218160" y="5428080"/>
                    <a:chExt cx="26280" cy="4320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218160" y="5447160"/>
                      <a:ext cx="26280" cy="24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222120" y="5432760"/>
                      <a:ext cx="18000" cy="14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22120" y="5428080"/>
                      <a:ext cx="18000" cy="4680"/>
                    </a:xfrm>
                    <a:prstGeom prst="triangle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28" name=""/>
                <p:cNvSpPr/>
                <p:nvPr/>
              </p:nvSpPr>
              <p:spPr>
                <a:xfrm>
                  <a:off x="218160" y="5464440"/>
                  <a:ext cx="26280" cy="6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a3a3a3"/>
                    </a:gs>
                    <a:gs pos="50000">
                      <a:srgbClr val="f8f8f8"/>
                    </a:gs>
                    <a:gs pos="100000">
                      <a:srgbClr val="a3a3a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218160" y="5500080"/>
                  <a:ext cx="26280" cy="14400"/>
                </a:xfrm>
                <a:custGeom>
                  <a:avLst/>
                  <a:gdLst>
                    <a:gd name="textAreaLeft" fmla="*/ 4320 w 26280"/>
                    <a:gd name="textAreaRight" fmla="*/ 21960 w 26280"/>
                    <a:gd name="textAreaTop" fmla="*/ 2520 h 14400"/>
                    <a:gd name="textAreaBottom" fmla="*/ 11880 h 14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001" y="21600"/>
                      </a:lnTo>
                      <a:lnTo>
                        <a:pt x="35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a5a5"/>
                    </a:gs>
                    <a:gs pos="50000">
                      <a:srgbClr val="c0c0c0"/>
                    </a:gs>
                    <a:gs pos="100000">
                      <a:srgbClr val="a5a5a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18160" y="5268960"/>
                <a:ext cx="26280" cy="180360"/>
                <a:chOff x="218160" y="5268960"/>
                <a:chExt cx="26280" cy="180360"/>
              </a:xfrm>
            </p:grpSpPr>
            <p:sp>
              <p:nvSpPr>
                <p:cNvPr id="531" name=""/>
                <p:cNvSpPr/>
                <p:nvPr/>
              </p:nvSpPr>
              <p:spPr>
                <a:xfrm flipH="1" flipV="1">
                  <a:off x="237960" y="5359320"/>
                  <a:ext cx="6480" cy="90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218160" y="5359320"/>
                  <a:ext cx="6480" cy="90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24640" y="5359320"/>
                  <a:ext cx="13320" cy="2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2840" y="5389200"/>
                  <a:ext cx="19080" cy="291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1040" y="5419440"/>
                  <a:ext cx="23400" cy="2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218160" y="5418360"/>
                  <a:ext cx="24120" cy="30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220320" y="5388840"/>
                  <a:ext cx="19800" cy="306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222840" y="5358960"/>
                  <a:ext cx="15120" cy="2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2120" y="5389200"/>
                  <a:ext cx="180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20320" y="5418720"/>
                  <a:ext cx="2160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4640" y="5283720"/>
                  <a:ext cx="13320" cy="7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000f"/>
                    </a:gs>
                    <a:gs pos="50000">
                      <a:srgbClr val="a50021"/>
                    </a:gs>
                    <a:gs pos="100000">
                      <a:srgbClr val="4c000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640" y="5268960"/>
                  <a:ext cx="13320" cy="147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c000f"/>
                    </a:gs>
                    <a:gs pos="50000">
                      <a:srgbClr val="a50021"/>
                    </a:gs>
                    <a:gs pos="100000">
                      <a:srgbClr val="4c000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152280" y="5543640"/>
              <a:ext cx="158760" cy="752400"/>
              <a:chOff x="152280" y="5543640"/>
              <a:chExt cx="158760" cy="752400"/>
            </a:xfrm>
          </p:grpSpPr>
          <p:sp>
            <p:nvSpPr>
              <p:cNvPr id="544" name=""/>
              <p:cNvSpPr/>
              <p:nvPr/>
            </p:nvSpPr>
            <p:spPr>
              <a:xfrm>
                <a:off x="191880" y="5558040"/>
                <a:ext cx="79200" cy="6220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1480" y="6180480"/>
                <a:ext cx="39600" cy="576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1440" y="6180480"/>
                <a:ext cx="26280" cy="115560"/>
              </a:xfrm>
              <a:prstGeom prst="rtTriangle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91240" y="6267240"/>
                <a:ext cx="19800" cy="2880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64520" y="6180480"/>
                <a:ext cx="26280" cy="115560"/>
              </a:xfrm>
              <a:prstGeom prst="rtTriangle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2280" y="6267240"/>
                <a:ext cx="19800" cy="2880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1880" y="6238080"/>
                <a:ext cx="39600" cy="57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91880" y="6180480"/>
                <a:ext cx="39600" cy="576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31480" y="6238080"/>
                <a:ext cx="39600" cy="576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224640" y="6180480"/>
                <a:ext cx="6120" cy="115560"/>
              </a:xfrm>
              <a:prstGeom prst="rtTriangl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560" y="6267240"/>
                <a:ext cx="3240" cy="288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91880" y="5905440"/>
                <a:ext cx="79200" cy="6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1880" y="5543640"/>
                <a:ext cx="79200" cy="144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1880" y="554364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18520" y="554364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4800" y="554364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1880" y="5688360"/>
                <a:ext cx="79200" cy="144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91880" y="568836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8520" y="568836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4800" y="5688360"/>
                <a:ext cx="1296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1480" y="5558040"/>
                <a:ext cx="12960" cy="129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8120" y="5558040"/>
                <a:ext cx="9360" cy="129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05200" y="5558040"/>
                <a:ext cx="12960" cy="129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1880" y="5558040"/>
                <a:ext cx="3240" cy="1299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1880" y="5688360"/>
                <a:ext cx="3240" cy="1440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1880" y="5543640"/>
                <a:ext cx="3240" cy="1440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67480" y="5543640"/>
                <a:ext cx="324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67480" y="5688360"/>
                <a:ext cx="3240" cy="144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371520" y="4916520"/>
            <a:ext cx="195120" cy="1377720"/>
            <a:chOff x="371520" y="4916520"/>
            <a:chExt cx="195120" cy="1377720"/>
          </a:xfrm>
        </p:grpSpPr>
        <p:grpSp>
          <p:nvGrpSpPr>
            <p:cNvPr id="573" name=""/>
            <p:cNvGrpSpPr/>
            <p:nvPr/>
          </p:nvGrpSpPr>
          <p:grpSpPr>
            <a:xfrm>
              <a:off x="426960" y="4916520"/>
              <a:ext cx="83520" cy="350640"/>
              <a:chOff x="426960" y="4916520"/>
              <a:chExt cx="83520" cy="35064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426960" y="5109480"/>
                <a:ext cx="83520" cy="157680"/>
                <a:chOff x="426960" y="5109480"/>
                <a:chExt cx="83520" cy="15768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426960" y="5109480"/>
                  <a:ext cx="83520" cy="157680"/>
                  <a:chOff x="426960" y="5109480"/>
                  <a:chExt cx="83520" cy="15768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426960" y="5232240"/>
                    <a:ext cx="83520" cy="34920"/>
                  </a:xfrm>
                  <a:prstGeom prst="blockArc">
                    <a:avLst>
                      <a:gd name="adj1" fmla="val 0"/>
                      <a:gd name="adj2" fmla="val 10800000"/>
                      <a:gd name="adj3" fmla="val 50000"/>
                    </a:avLst>
                  </a:prstGeom>
                  <a:gradFill rotWithShape="0">
                    <a:gsLst>
                      <a:gs pos="0">
                        <a:srgbClr val="040404"/>
                      </a:gs>
                      <a:gs pos="50000">
                        <a:srgbClr val="4d4d4d"/>
                      </a:gs>
                      <a:gs pos="100000">
                        <a:srgbClr val="04040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V="1">
                    <a:off x="426960" y="5161320"/>
                    <a:ext cx="83520" cy="87480"/>
                  </a:xfrm>
                  <a:custGeom>
                    <a:avLst/>
                    <a:gdLst>
                      <a:gd name="textAreaLeft" fmla="*/ 21600 w 83520"/>
                      <a:gd name="textAreaRight" fmla="*/ 61920 w 83520"/>
                      <a:gd name="textAreaTop" fmla="*/ 22680 h 87480"/>
                      <a:gd name="textAreaBottom" fmla="*/ 64800 h 87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4701" y="21600"/>
                        </a:lnTo>
                        <a:lnTo>
                          <a:pt x="689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0404"/>
                      </a:gs>
                      <a:gs pos="50000">
                        <a:srgbClr val="4d4d4d"/>
                      </a:gs>
                      <a:gs pos="100000">
                        <a:srgbClr val="040404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54680" y="5109480"/>
                    <a:ext cx="27720" cy="52560"/>
                    <a:chOff x="454680" y="5109480"/>
                    <a:chExt cx="27720" cy="525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454680" y="5132880"/>
                      <a:ext cx="27720" cy="291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59000" y="5115240"/>
                      <a:ext cx="19080" cy="172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459000" y="5109480"/>
                      <a:ext cx="19080" cy="5760"/>
                    </a:xfrm>
                    <a:prstGeom prst="triangle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40404"/>
                        </a:gs>
                        <a:gs pos="50000">
                          <a:srgbClr val="4d4d4d"/>
                        </a:gs>
                        <a:gs pos="100000">
                          <a:srgbClr val="040404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82" name=""/>
                <p:cNvSpPr/>
                <p:nvPr/>
              </p:nvSpPr>
              <p:spPr>
                <a:xfrm>
                  <a:off x="454680" y="5153400"/>
                  <a:ext cx="27720" cy="8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3a3a3"/>
                    </a:gs>
                    <a:gs pos="50000">
                      <a:srgbClr val="f8f8f8"/>
                    </a:gs>
                    <a:gs pos="100000">
                      <a:srgbClr val="a3a3a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454680" y="5196960"/>
                  <a:ext cx="27720" cy="17280"/>
                </a:xfrm>
                <a:custGeom>
                  <a:avLst/>
                  <a:gdLst>
                    <a:gd name="textAreaLeft" fmla="*/ 4680 w 27720"/>
                    <a:gd name="textAreaRight" fmla="*/ 23040 w 27720"/>
                    <a:gd name="textAreaTop" fmla="*/ 2880 h 17280"/>
                    <a:gd name="textAreaBottom" fmla="*/ 14400 h 1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001" y="21600"/>
                      </a:lnTo>
                      <a:lnTo>
                        <a:pt x="35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a5a5"/>
                    </a:gs>
                    <a:gs pos="50000">
                      <a:srgbClr val="c0c0c0"/>
                    </a:gs>
                    <a:gs pos="100000">
                      <a:srgbClr val="a5a5a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54680" y="4916520"/>
                <a:ext cx="27720" cy="218880"/>
                <a:chOff x="454680" y="4916520"/>
                <a:chExt cx="27720" cy="218880"/>
              </a:xfrm>
            </p:grpSpPr>
            <p:sp>
              <p:nvSpPr>
                <p:cNvPr id="585" name=""/>
                <p:cNvSpPr/>
                <p:nvPr/>
              </p:nvSpPr>
              <p:spPr>
                <a:xfrm flipH="1" flipV="1">
                  <a:off x="475200" y="5025600"/>
                  <a:ext cx="6840" cy="109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454680" y="5025600"/>
                  <a:ext cx="6840" cy="109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61520" y="5025960"/>
                  <a:ext cx="1404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59720" y="5062320"/>
                  <a:ext cx="2016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57920" y="5099040"/>
                  <a:ext cx="2448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454680" y="5097960"/>
                  <a:ext cx="25560" cy="37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456840" y="5061960"/>
                  <a:ext cx="20880" cy="37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59360" y="5025600"/>
                  <a:ext cx="1584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59000" y="5062320"/>
                  <a:ext cx="187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56840" y="5098320"/>
                  <a:ext cx="23040" cy="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61520" y="4934520"/>
                  <a:ext cx="14040" cy="91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c000f"/>
                    </a:gs>
                    <a:gs pos="50000">
                      <a:srgbClr val="a50021"/>
                    </a:gs>
                    <a:gs pos="100000">
                      <a:srgbClr val="4c000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61520" y="4916520"/>
                  <a:ext cx="14040" cy="18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c000f"/>
                    </a:gs>
                    <a:gs pos="50000">
                      <a:srgbClr val="a50021"/>
                    </a:gs>
                    <a:gs pos="100000">
                      <a:srgbClr val="4c000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7" name=""/>
            <p:cNvGrpSpPr/>
            <p:nvPr/>
          </p:nvGrpSpPr>
          <p:grpSpPr>
            <a:xfrm>
              <a:off x="371520" y="5250960"/>
              <a:ext cx="195120" cy="1043280"/>
              <a:chOff x="371520" y="5250960"/>
              <a:chExt cx="195120" cy="1043280"/>
            </a:xfrm>
          </p:grpSpPr>
          <p:sp>
            <p:nvSpPr>
              <p:cNvPr id="598" name=""/>
              <p:cNvSpPr/>
              <p:nvPr/>
            </p:nvSpPr>
            <p:spPr>
              <a:xfrm>
                <a:off x="399240" y="5459760"/>
                <a:ext cx="139320" cy="788040"/>
              </a:xfrm>
              <a:prstGeom prst="rect">
                <a:avLst/>
              </a:pr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9240" y="5913360"/>
                <a:ext cx="139320" cy="158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9240" y="5459760"/>
                <a:ext cx="139320" cy="158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399240" y="5250960"/>
                <a:ext cx="139320" cy="208800"/>
              </a:xfrm>
              <a:custGeom>
                <a:avLst/>
                <a:gdLst>
                  <a:gd name="textAreaLeft" fmla="*/ 25920 w 139320"/>
                  <a:gd name="textAreaRight" fmla="*/ 113400 w 139320"/>
                  <a:gd name="textAreaTop" fmla="*/ 38880 h 208800"/>
                  <a:gd name="textAreaBottom" fmla="*/ 169920 h 20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06" y="21600"/>
                    </a:lnTo>
                    <a:lnTo>
                      <a:pt x="409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399240" y="6247440"/>
                <a:ext cx="42120" cy="46440"/>
              </a:xfrm>
              <a:custGeom>
                <a:avLst/>
                <a:gdLst>
                  <a:gd name="textAreaLeft" fmla="*/ 8280 w 42120"/>
                  <a:gd name="textAreaRight" fmla="*/ 33840 w 42120"/>
                  <a:gd name="textAreaTop" fmla="*/ 9000 h 46440"/>
                  <a:gd name="textAreaBottom" fmla="*/ 37440 h 4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014" y="21600"/>
                    </a:lnTo>
                    <a:lnTo>
                      <a:pt x="458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1520" y="6058080"/>
                <a:ext cx="41760" cy="189720"/>
              </a:xfrm>
              <a:prstGeom prst="triangle">
                <a:avLst>
                  <a:gd name="adj" fmla="val 50694"/>
                </a:avLst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1b1b1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5200" y="6006960"/>
                <a:ext cx="13680" cy="1123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85200" y="5974560"/>
                <a:ext cx="13680" cy="32040"/>
              </a:xfrm>
              <a:prstGeom prst="rtTriangle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96800" y="6247440"/>
                <a:ext cx="42120" cy="46440"/>
              </a:xfrm>
              <a:custGeom>
                <a:avLst/>
                <a:gdLst>
                  <a:gd name="textAreaLeft" fmla="*/ 8280 w 42120"/>
                  <a:gd name="textAreaRight" fmla="*/ 33840 w 42120"/>
                  <a:gd name="textAreaTop" fmla="*/ 9000 h 46440"/>
                  <a:gd name="textAreaBottom" fmla="*/ 37440 h 4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014" y="21600"/>
                    </a:lnTo>
                    <a:lnTo>
                      <a:pt x="458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4880" y="6058080"/>
                <a:ext cx="41760" cy="189720"/>
              </a:xfrm>
              <a:prstGeom prst="triangle">
                <a:avLst>
                  <a:gd name="adj" fmla="val 48611"/>
                </a:avLst>
              </a:prstGeom>
              <a:gradFill rotWithShape="0">
                <a:gsLst>
                  <a:gs pos="0">
                    <a:srgbClr val="b1b1b1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38920" y="6006960"/>
                <a:ext cx="13680" cy="1123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38920" y="5974560"/>
                <a:ext cx="13680" cy="32040"/>
              </a:xfrm>
              <a:prstGeom prst="rtTriangle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48200" y="6247440"/>
                <a:ext cx="42120" cy="30600"/>
              </a:xfrm>
              <a:custGeom>
                <a:avLst/>
                <a:gdLst>
                  <a:gd name="textAreaLeft" fmla="*/ 6480 w 42120"/>
                  <a:gd name="textAreaRight" fmla="*/ 35640 w 42120"/>
                  <a:gd name="textAreaTop" fmla="*/ 4680 h 30600"/>
                  <a:gd name="textAreaBottom" fmla="*/ 25920 h 3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494" y="21600"/>
                    </a:lnTo>
                    <a:lnTo>
                      <a:pt x="3106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5145120" y="3865680"/>
            <a:ext cx="187200" cy="2431800"/>
            <a:chOff x="5145120" y="3865680"/>
            <a:chExt cx="187200" cy="2431800"/>
          </a:xfrm>
        </p:grpSpPr>
        <p:sp>
          <p:nvSpPr>
            <p:cNvPr id="612" name=""/>
            <p:cNvSpPr/>
            <p:nvPr/>
          </p:nvSpPr>
          <p:spPr>
            <a:xfrm>
              <a:off x="5145120" y="4153320"/>
              <a:ext cx="187200" cy="55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45120" y="3865680"/>
              <a:ext cx="187200" cy="294120"/>
            </a:xfrm>
            <a:custGeom>
              <a:avLst/>
              <a:gdLst/>
              <a:ahLst/>
              <a:rect l="l" t="t" r="r" b="b"/>
              <a:pathLst>
                <a:path w="308" h="517">
                  <a:moveTo>
                    <a:pt x="0" y="517"/>
                  </a:moveTo>
                  <a:lnTo>
                    <a:pt x="13" y="340"/>
                  </a:lnTo>
                  <a:lnTo>
                    <a:pt x="38" y="194"/>
                  </a:lnTo>
                  <a:lnTo>
                    <a:pt x="80" y="83"/>
                  </a:lnTo>
                  <a:lnTo>
                    <a:pt x="128" y="12"/>
                  </a:lnTo>
                  <a:lnTo>
                    <a:pt x="160" y="0"/>
                  </a:lnTo>
                  <a:lnTo>
                    <a:pt x="189" y="12"/>
                  </a:lnTo>
                  <a:lnTo>
                    <a:pt x="228" y="80"/>
                  </a:lnTo>
                  <a:lnTo>
                    <a:pt x="271" y="194"/>
                  </a:lnTo>
                  <a:lnTo>
                    <a:pt x="296" y="338"/>
                  </a:lnTo>
                  <a:lnTo>
                    <a:pt x="308" y="512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5120" y="4707360"/>
              <a:ext cx="187200" cy="137160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5120" y="4708080"/>
              <a:ext cx="187200" cy="138024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85080" y="6219000"/>
              <a:ext cx="104040" cy="7848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95" y="0"/>
                  </a:moveTo>
                  <a:lnTo>
                    <a:pt x="113" y="42"/>
                  </a:lnTo>
                  <a:lnTo>
                    <a:pt x="126" y="102"/>
                  </a:lnTo>
                  <a:lnTo>
                    <a:pt x="0" y="102"/>
                  </a:lnTo>
                  <a:lnTo>
                    <a:pt x="16" y="42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45120" y="6089040"/>
              <a:ext cx="187200" cy="130320"/>
            </a:xfrm>
            <a:custGeom>
              <a:avLst/>
              <a:gdLst>
                <a:gd name="textAreaLeft" fmla="*/ 53280 w 187200"/>
                <a:gd name="textAreaRight" fmla="*/ 133920 w 187200"/>
                <a:gd name="textAreaTop" fmla="*/ 37080 h 130320"/>
                <a:gd name="textAreaBottom" fmla="*/ 93240 h 1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50" y="21600"/>
                  </a:lnTo>
                  <a:lnTo>
                    <a:pt x="79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5145120" y="4753440"/>
              <a:ext cx="187200" cy="1263240"/>
              <a:chOff x="5145120" y="4753440"/>
              <a:chExt cx="187200" cy="126324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5120" y="4753440"/>
                <a:ext cx="187200" cy="390240"/>
                <a:chOff x="5145120" y="4753440"/>
                <a:chExt cx="187200" cy="3902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5120" y="475344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45120" y="496332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145120" y="511380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45120" y="514368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145120" y="5549040"/>
                <a:ext cx="187200" cy="420840"/>
                <a:chOff x="5145120" y="5549040"/>
                <a:chExt cx="187200" cy="4208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145120" y="554904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145120" y="594000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145120" y="5969880"/>
                  <a:ext cx="1872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5238720" y="4769640"/>
                <a:ext cx="18720" cy="124704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3611520" y="3489480"/>
            <a:ext cx="585360" cy="2805120"/>
            <a:chOff x="3611520" y="3489480"/>
            <a:chExt cx="585360" cy="2805120"/>
          </a:xfrm>
        </p:grpSpPr>
        <p:sp>
          <p:nvSpPr>
            <p:cNvPr id="630" name=""/>
            <p:cNvSpPr/>
            <p:nvPr/>
          </p:nvSpPr>
          <p:spPr>
            <a:xfrm>
              <a:off x="3767400" y="6014160"/>
              <a:ext cx="280440" cy="6228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67400" y="4704840"/>
              <a:ext cx="280440" cy="309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3611520" y="3489480"/>
              <a:ext cx="585360" cy="2805120"/>
              <a:chOff x="3611520" y="3489480"/>
              <a:chExt cx="585360" cy="28051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3810240" y="3489480"/>
                <a:ext cx="186840" cy="2805120"/>
                <a:chOff x="3810240" y="3489480"/>
                <a:chExt cx="186840" cy="28051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3810240" y="3489480"/>
                  <a:ext cx="186840" cy="2805120"/>
                  <a:chOff x="3810240" y="3489480"/>
                  <a:chExt cx="186840" cy="2805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810240" y="3772440"/>
                    <a:ext cx="186840" cy="932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810240" y="3489480"/>
                    <a:ext cx="1868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810240" y="4704840"/>
                    <a:ext cx="186840" cy="137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810240" y="4705560"/>
                    <a:ext cx="186840" cy="1379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850200" y="6216120"/>
                    <a:ext cx="10368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810240" y="6086160"/>
                    <a:ext cx="186840" cy="130320"/>
                  </a:xfrm>
                  <a:custGeom>
                    <a:avLst/>
                    <a:gdLst>
                      <a:gd name="textAreaLeft" fmla="*/ 53280 w 186840"/>
                      <a:gd name="textAreaRight" fmla="*/ 133560 w 186840"/>
                      <a:gd name="textAreaTop" fmla="*/ 37080 h 130320"/>
                      <a:gd name="textAreaBottom" fmla="*/ 9324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3810240" y="4750920"/>
                  <a:ext cx="186840" cy="1262520"/>
                  <a:chOff x="3810240" y="4750920"/>
                  <a:chExt cx="186840" cy="1262520"/>
                </a:xfrm>
              </p:grpSpPr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3810240" y="4750920"/>
                    <a:ext cx="186840" cy="390240"/>
                    <a:chOff x="3810240" y="4750920"/>
                    <a:chExt cx="186840" cy="39024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810240" y="475092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3810240" y="49608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3810240" y="511128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810240" y="51411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3810240" y="5546160"/>
                    <a:ext cx="186840" cy="420840"/>
                    <a:chOff x="3810240" y="5546160"/>
                    <a:chExt cx="186840" cy="42084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810240" y="55461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3810240" y="593712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810240" y="59670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1" name=""/>
                  <p:cNvSpPr/>
                  <p:nvPr/>
                </p:nvSpPr>
                <p:spPr>
                  <a:xfrm>
                    <a:off x="3903480" y="4766760"/>
                    <a:ext cx="18720" cy="124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2" name=""/>
              <p:cNvGrpSpPr/>
              <p:nvPr/>
            </p:nvGrpSpPr>
            <p:grpSpPr>
              <a:xfrm>
                <a:off x="4010040" y="4456080"/>
                <a:ext cx="186840" cy="1838160"/>
                <a:chOff x="4010040" y="4456080"/>
                <a:chExt cx="186840" cy="183816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4010040" y="4456080"/>
                  <a:ext cx="186840" cy="1838160"/>
                  <a:chOff x="4010040" y="4456080"/>
                  <a:chExt cx="186840" cy="18381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4050000" y="6215760"/>
                    <a:ext cx="10368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010040" y="6085800"/>
                    <a:ext cx="186840" cy="130320"/>
                  </a:xfrm>
                  <a:custGeom>
                    <a:avLst/>
                    <a:gdLst>
                      <a:gd name="textAreaLeft" fmla="*/ 53280 w 186840"/>
                      <a:gd name="textAreaRight" fmla="*/ 133560 w 186840"/>
                      <a:gd name="textAreaTop" fmla="*/ 37080 h 130320"/>
                      <a:gd name="textAreaBottom" fmla="*/ 9324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010040" y="4456080"/>
                    <a:ext cx="18684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010040" y="4705200"/>
                    <a:ext cx="186840" cy="1379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4010040" y="4750560"/>
                  <a:ext cx="186840" cy="1262520"/>
                  <a:chOff x="4010040" y="4750560"/>
                  <a:chExt cx="186840" cy="126252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4010040" y="4750560"/>
                    <a:ext cx="186840" cy="390240"/>
                    <a:chOff x="4010040" y="4750560"/>
                    <a:chExt cx="186840" cy="39024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010040" y="47505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010040" y="496044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010040" y="511092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4010040" y="51408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4010040" y="5545800"/>
                    <a:ext cx="186840" cy="420840"/>
                    <a:chOff x="4010040" y="5545800"/>
                    <a:chExt cx="186840" cy="4208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4010040" y="55458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4010040" y="59367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4010040" y="596664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8" name=""/>
                  <p:cNvSpPr/>
                  <p:nvPr/>
                </p:nvSpPr>
                <p:spPr>
                  <a:xfrm>
                    <a:off x="4103280" y="4766400"/>
                    <a:ext cx="18720" cy="124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9" name=""/>
              <p:cNvGrpSpPr/>
              <p:nvPr/>
            </p:nvGrpSpPr>
            <p:grpSpPr>
              <a:xfrm>
                <a:off x="3611520" y="4456080"/>
                <a:ext cx="186840" cy="1838160"/>
                <a:chOff x="3611520" y="4456080"/>
                <a:chExt cx="186840" cy="183816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3611520" y="4456080"/>
                  <a:ext cx="186840" cy="1838160"/>
                  <a:chOff x="3611520" y="4456080"/>
                  <a:chExt cx="186840" cy="18381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3651480" y="6215760"/>
                    <a:ext cx="10368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611520" y="6085800"/>
                    <a:ext cx="186840" cy="130320"/>
                  </a:xfrm>
                  <a:custGeom>
                    <a:avLst/>
                    <a:gdLst>
                      <a:gd name="textAreaLeft" fmla="*/ 53280 w 186840"/>
                      <a:gd name="textAreaRight" fmla="*/ 133560 w 186840"/>
                      <a:gd name="textAreaTop" fmla="*/ 37080 h 130320"/>
                      <a:gd name="textAreaBottom" fmla="*/ 9324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611520" y="4456080"/>
                    <a:ext cx="18684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611520" y="4705200"/>
                    <a:ext cx="186840" cy="1379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3611520" y="4750560"/>
                  <a:ext cx="186840" cy="1262520"/>
                  <a:chOff x="3611520" y="4750560"/>
                  <a:chExt cx="186840" cy="1262520"/>
                </a:xfrm>
              </p:grpSpPr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611520" y="4750560"/>
                    <a:ext cx="186840" cy="390240"/>
                    <a:chOff x="3611520" y="4750560"/>
                    <a:chExt cx="186840" cy="3902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3611520" y="47505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3611520" y="496044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3611520" y="511092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3611520" y="51408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3611520" y="5545800"/>
                    <a:ext cx="186840" cy="420840"/>
                    <a:chOff x="3611520" y="5545800"/>
                    <a:chExt cx="186840" cy="4208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3611520" y="554580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3611520" y="593676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3611520" y="5966640"/>
                      <a:ext cx="18684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5" name=""/>
                  <p:cNvSpPr/>
                  <p:nvPr/>
                </p:nvSpPr>
                <p:spPr>
                  <a:xfrm>
                    <a:off x="3704760" y="4766400"/>
                    <a:ext cx="18720" cy="124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86" name=""/>
          <p:cNvGrpSpPr/>
          <p:nvPr/>
        </p:nvGrpSpPr>
        <p:grpSpPr>
          <a:xfrm>
            <a:off x="5450040" y="4043520"/>
            <a:ext cx="172800" cy="2249280"/>
            <a:chOff x="5450040" y="4043520"/>
            <a:chExt cx="172800" cy="2249280"/>
          </a:xfrm>
        </p:grpSpPr>
        <p:grpSp>
          <p:nvGrpSpPr>
            <p:cNvPr id="687" name=""/>
            <p:cNvGrpSpPr/>
            <p:nvPr/>
          </p:nvGrpSpPr>
          <p:grpSpPr>
            <a:xfrm>
              <a:off x="5450040" y="4043520"/>
              <a:ext cx="172800" cy="986400"/>
              <a:chOff x="5450040" y="4043520"/>
              <a:chExt cx="172800" cy="986400"/>
            </a:xfrm>
          </p:grpSpPr>
          <p:sp>
            <p:nvSpPr>
              <p:cNvPr id="688" name=""/>
              <p:cNvSpPr/>
              <p:nvPr/>
            </p:nvSpPr>
            <p:spPr>
              <a:xfrm>
                <a:off x="5450040" y="4496760"/>
                <a:ext cx="172800" cy="32040"/>
              </a:xfrm>
              <a:custGeom>
                <a:avLst/>
                <a:gdLst>
                  <a:gd name="textAreaLeft" fmla="*/ 29160 w 172800"/>
                  <a:gd name="textAreaRight" fmla="*/ 143640 w 172800"/>
                  <a:gd name="textAreaTop" fmla="*/ 5400 h 32040"/>
                  <a:gd name="textAreaBottom" fmla="*/ 2664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50" y="21600"/>
                    </a:lnTo>
                    <a:lnTo>
                      <a:pt x="345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50040" y="4300560"/>
                <a:ext cx="172800" cy="196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78480" y="4853880"/>
                <a:ext cx="115200" cy="119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78480" y="4557600"/>
                <a:ext cx="115200" cy="297000"/>
              </a:xfrm>
              <a:prstGeom prst="rect">
                <a:avLst/>
              </a:prstGeom>
              <a:gradFill rotWithShape="0">
                <a:gsLst>
                  <a:gs pos="0">
                    <a:srgbClr val="5a4723"/>
                  </a:gs>
                  <a:gs pos="50000">
                    <a:srgbClr val="b69148"/>
                  </a:gs>
                  <a:gs pos="100000">
                    <a:srgbClr val="5a472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50040" y="4043520"/>
                <a:ext cx="172800" cy="257040"/>
              </a:xfrm>
              <a:custGeom>
                <a:avLst/>
                <a:gdLst/>
                <a:ahLst/>
                <a:rect l="l" t="t" r="r" b="b"/>
                <a:pathLst>
                  <a:path w="288" h="384">
                    <a:moveTo>
                      <a:pt x="0" y="384"/>
                    </a:moveTo>
                    <a:lnTo>
                      <a:pt x="93" y="93"/>
                    </a:lnTo>
                    <a:lnTo>
                      <a:pt x="126" y="15"/>
                    </a:lnTo>
                    <a:lnTo>
                      <a:pt x="144" y="0"/>
                    </a:lnTo>
                    <a:lnTo>
                      <a:pt x="164" y="15"/>
                    </a:lnTo>
                    <a:lnTo>
                      <a:pt x="195" y="93"/>
                    </a:lnTo>
                    <a:lnTo>
                      <a:pt x="288" y="384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78480" y="4529160"/>
                <a:ext cx="115200" cy="28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460480" y="4970880"/>
                <a:ext cx="151920" cy="58680"/>
              </a:xfrm>
              <a:custGeom>
                <a:avLst/>
                <a:gdLst>
                  <a:gd name="textAreaLeft" fmla="*/ 22320 w 151920"/>
                  <a:gd name="textAreaRight" fmla="*/ 129600 w 151920"/>
                  <a:gd name="textAreaTop" fmla="*/ 8640 h 58680"/>
                  <a:gd name="textAreaBottom" fmla="*/ 5004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039" y="21600"/>
                    </a:lnTo>
                    <a:lnTo>
                      <a:pt x="25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460480" y="5030640"/>
              <a:ext cx="151920" cy="1262160"/>
              <a:chOff x="5460480" y="5030640"/>
              <a:chExt cx="151920" cy="1262160"/>
            </a:xfrm>
          </p:grpSpPr>
          <p:sp>
            <p:nvSpPr>
              <p:cNvPr id="696" name=""/>
              <p:cNvSpPr/>
              <p:nvPr/>
            </p:nvSpPr>
            <p:spPr>
              <a:xfrm>
                <a:off x="5460480" y="5030640"/>
                <a:ext cx="151920" cy="40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04040" y="6230880"/>
                <a:ext cx="60480" cy="61920"/>
              </a:xfrm>
              <a:custGeom>
                <a:avLst/>
                <a:gdLst>
                  <a:gd name="textAreaLeft" fmla="*/ 13320 w 60480"/>
                  <a:gd name="textAreaRight" fmla="*/ 47160 w 60480"/>
                  <a:gd name="textAreaTop" fmla="*/ 13680 h 61920"/>
                  <a:gd name="textAreaBottom" fmla="*/ 482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60480" y="5071320"/>
                <a:ext cx="151920" cy="1028160"/>
              </a:xfrm>
              <a:prstGeom prst="rect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60480" y="6099840"/>
                <a:ext cx="151920" cy="56880"/>
              </a:xfrm>
              <a:custGeom>
                <a:avLst/>
                <a:gdLst>
                  <a:gd name="textAreaLeft" fmla="*/ 22680 w 151920"/>
                  <a:gd name="textAreaRight" fmla="*/ 129240 w 151920"/>
                  <a:gd name="textAreaTop" fmla="*/ 8280 h 56880"/>
                  <a:gd name="textAreaBottom" fmla="*/ 48600 h 5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53" y="21600"/>
                    </a:lnTo>
                    <a:lnTo>
                      <a:pt x="26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50000">
                    <a:srgbClr val="808080"/>
                  </a:gs>
                  <a:gs pos="100000">
                    <a:srgbClr val="40404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80280" y="6157080"/>
                <a:ext cx="112320" cy="74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30680" y="5723640"/>
                <a:ext cx="10440" cy="455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4267080" y="3765600"/>
            <a:ext cx="482400" cy="2529000"/>
            <a:chOff x="4267080" y="3765600"/>
            <a:chExt cx="482400" cy="2529000"/>
          </a:xfrm>
        </p:grpSpPr>
        <p:sp>
          <p:nvSpPr>
            <p:cNvPr id="703" name=""/>
            <p:cNvSpPr/>
            <p:nvPr/>
          </p:nvSpPr>
          <p:spPr>
            <a:xfrm>
              <a:off x="4323960" y="5038200"/>
              <a:ext cx="371160" cy="2844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19280" y="6089760"/>
              <a:ext cx="370800" cy="2844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267080" y="3765600"/>
              <a:ext cx="482400" cy="2529000"/>
              <a:chOff x="4267080" y="3765600"/>
              <a:chExt cx="482400" cy="25290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4267080" y="4878360"/>
                <a:ext cx="482400" cy="1416240"/>
                <a:chOff x="4267080" y="4878360"/>
                <a:chExt cx="482400" cy="141624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4598640" y="4878360"/>
                  <a:ext cx="150840" cy="1416240"/>
                  <a:chOff x="4598640" y="4878360"/>
                  <a:chExt cx="150840" cy="14162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4598640" y="4878360"/>
                    <a:ext cx="1508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84">
                        <a:moveTo>
                          <a:pt x="0" y="384"/>
                        </a:moveTo>
                        <a:lnTo>
                          <a:pt x="93" y="93"/>
                        </a:lnTo>
                        <a:lnTo>
                          <a:pt x="126" y="15"/>
                        </a:lnTo>
                        <a:lnTo>
                          <a:pt x="144" y="0"/>
                        </a:lnTo>
                        <a:lnTo>
                          <a:pt x="164" y="15"/>
                        </a:lnTo>
                        <a:lnTo>
                          <a:pt x="195" y="93"/>
                        </a:lnTo>
                        <a:lnTo>
                          <a:pt x="288" y="384"/>
                        </a:lnTo>
                        <a:lnTo>
                          <a:pt x="0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598640" y="5030640"/>
                    <a:ext cx="150480" cy="41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>
                    <a:off x="4641840" y="6232680"/>
                    <a:ext cx="60120" cy="61920"/>
                  </a:xfrm>
                  <a:custGeom>
                    <a:avLst/>
                    <a:gdLst>
                      <a:gd name="textAreaLeft" fmla="*/ 12960 w 60120"/>
                      <a:gd name="textAreaRight" fmla="*/ 47160 w 60120"/>
                      <a:gd name="textAreaTop" fmla="*/ 13680 h 61920"/>
                      <a:gd name="textAreaBottom" fmla="*/ 48240 h 6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241200"/>
                      </a:gs>
                      <a:gs pos="50000">
                        <a:srgbClr val="663300"/>
                      </a:gs>
                      <a:gs pos="100000">
                        <a:srgbClr val="2412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598640" y="5071680"/>
                    <a:ext cx="150480" cy="1029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598640" y="6101640"/>
                    <a:ext cx="150480" cy="56880"/>
                  </a:xfrm>
                  <a:custGeom>
                    <a:avLst/>
                    <a:gdLst>
                      <a:gd name="textAreaLeft" fmla="*/ 22320 w 150480"/>
                      <a:gd name="textAreaRight" fmla="*/ 128160 w 150480"/>
                      <a:gd name="textAreaTop" fmla="*/ 8280 h 56880"/>
                      <a:gd name="textAreaBottom" fmla="*/ 48600 h 56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3" y="21600"/>
                        </a:lnTo>
                        <a:lnTo>
                          <a:pt x="2647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04040"/>
                      </a:gs>
                      <a:gs pos="50000">
                        <a:srgbClr val="808080"/>
                      </a:gs>
                      <a:gs pos="100000">
                        <a:srgbClr val="40404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618080" y="6158880"/>
                    <a:ext cx="11088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668120" y="5725080"/>
                    <a:ext cx="10440" cy="456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4267080" y="4878360"/>
                  <a:ext cx="150840" cy="1416240"/>
                  <a:chOff x="4267080" y="4878360"/>
                  <a:chExt cx="150840" cy="141624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4267080" y="5030640"/>
                    <a:ext cx="150120" cy="41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>
                    <a:off x="4310280" y="6232680"/>
                    <a:ext cx="59760" cy="61920"/>
                  </a:xfrm>
                  <a:custGeom>
                    <a:avLst/>
                    <a:gdLst>
                      <a:gd name="textAreaLeft" fmla="*/ 12960 w 59760"/>
                      <a:gd name="textAreaRight" fmla="*/ 46800 w 59760"/>
                      <a:gd name="textAreaTop" fmla="*/ 13680 h 61920"/>
                      <a:gd name="textAreaBottom" fmla="*/ 48240 h 6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241200"/>
                      </a:gs>
                      <a:gs pos="50000">
                        <a:srgbClr val="663300"/>
                      </a:gs>
                      <a:gs pos="100000">
                        <a:srgbClr val="2412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267080" y="5071680"/>
                    <a:ext cx="150120" cy="1029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b3b3b"/>
                      </a:gs>
                      <a:gs pos="50000">
                        <a:srgbClr val="808080"/>
                      </a:gs>
                      <a:gs pos="100000">
                        <a:srgbClr val="3b3b3b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267080" y="6101640"/>
                    <a:ext cx="150120" cy="56880"/>
                  </a:xfrm>
                  <a:custGeom>
                    <a:avLst/>
                    <a:gdLst>
                      <a:gd name="textAreaLeft" fmla="*/ 22320 w 150120"/>
                      <a:gd name="textAreaRight" fmla="*/ 127800 w 150120"/>
                      <a:gd name="textAreaTop" fmla="*/ 8280 h 56880"/>
                      <a:gd name="textAreaBottom" fmla="*/ 48600 h 56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3" y="21600"/>
                        </a:lnTo>
                        <a:lnTo>
                          <a:pt x="2647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04040"/>
                      </a:gs>
                      <a:gs pos="50000">
                        <a:srgbClr val="808080"/>
                      </a:gs>
                      <a:gs pos="100000">
                        <a:srgbClr val="40404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286520" y="6158880"/>
                    <a:ext cx="111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336560" y="5725080"/>
                    <a:ext cx="10440" cy="456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267080" y="4878360"/>
                    <a:ext cx="1508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84">
                        <a:moveTo>
                          <a:pt x="0" y="384"/>
                        </a:moveTo>
                        <a:lnTo>
                          <a:pt x="93" y="93"/>
                        </a:lnTo>
                        <a:lnTo>
                          <a:pt x="126" y="15"/>
                        </a:lnTo>
                        <a:lnTo>
                          <a:pt x="144" y="0"/>
                        </a:lnTo>
                        <a:lnTo>
                          <a:pt x="164" y="15"/>
                        </a:lnTo>
                        <a:lnTo>
                          <a:pt x="195" y="93"/>
                        </a:lnTo>
                        <a:lnTo>
                          <a:pt x="288" y="384"/>
                        </a:lnTo>
                        <a:lnTo>
                          <a:pt x="0" y="38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4404960" y="3765600"/>
                <a:ext cx="208080" cy="2529000"/>
                <a:chOff x="4404960" y="3765600"/>
                <a:chExt cx="208080" cy="25290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404960" y="4778640"/>
                  <a:ext cx="208080" cy="85680"/>
                </a:xfrm>
                <a:custGeom>
                  <a:avLst/>
                  <a:gdLst>
                    <a:gd name="textAreaLeft" fmla="*/ 32760 w 208080"/>
                    <a:gd name="textAreaRight" fmla="*/ 175320 w 208080"/>
                    <a:gd name="textAreaTop" fmla="*/ 13320 h 85680"/>
                    <a:gd name="textAreaBottom" fmla="*/ 72360 h 8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76" y="21600"/>
                      </a:lnTo>
                      <a:lnTo>
                        <a:pt x="3024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7d7d7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4476600" y="6232680"/>
                  <a:ext cx="60120" cy="61920"/>
                </a:xfrm>
                <a:custGeom>
                  <a:avLst/>
                  <a:gdLst>
                    <a:gd name="textAreaLeft" fmla="*/ 12960 w 60120"/>
                    <a:gd name="textAreaRight" fmla="*/ 47160 w 60120"/>
                    <a:gd name="textAreaTop" fmla="*/ 13680 h 61920"/>
                    <a:gd name="textAreaBottom" fmla="*/ 4824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1200"/>
                    </a:gs>
                    <a:gs pos="50000">
                      <a:srgbClr val="663300"/>
                    </a:gs>
                    <a:gs pos="100000">
                      <a:srgbClr val="2412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433400" y="5072040"/>
                  <a:ext cx="150480" cy="102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b3b3b"/>
                    </a:gs>
                    <a:gs pos="50000">
                      <a:srgbClr val="808080"/>
                    </a:gs>
                    <a:gs pos="100000">
                      <a:srgbClr val="3b3b3b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433400" y="6101640"/>
                  <a:ext cx="150480" cy="56880"/>
                </a:xfrm>
                <a:custGeom>
                  <a:avLst/>
                  <a:gdLst>
                    <a:gd name="textAreaLeft" fmla="*/ 22320 w 150480"/>
                    <a:gd name="textAreaRight" fmla="*/ 128160 w 150480"/>
                    <a:gd name="textAreaTop" fmla="*/ 8280 h 56880"/>
                    <a:gd name="textAreaBottom" fmla="*/ 48600 h 5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953" y="21600"/>
                      </a:lnTo>
                      <a:lnTo>
                        <a:pt x="2647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04040"/>
                    </a:gs>
                    <a:gs pos="50000">
                      <a:srgbClr val="808080"/>
                    </a:gs>
                    <a:gs pos="100000">
                      <a:srgbClr val="40404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452840" y="6158880"/>
                  <a:ext cx="111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433400" y="4864680"/>
                  <a:ext cx="150480" cy="18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433400" y="5031000"/>
                  <a:ext cx="150480" cy="41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404960" y="4035240"/>
                  <a:ext cx="208080" cy="74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04960" y="3765600"/>
                  <a:ext cx="208080" cy="27396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3" name=""/>
          <p:cNvGrpSpPr/>
          <p:nvPr/>
        </p:nvGrpSpPr>
        <p:grpSpPr>
          <a:xfrm>
            <a:off x="5710320" y="4413240"/>
            <a:ext cx="222120" cy="1881000"/>
            <a:chOff x="5710320" y="4413240"/>
            <a:chExt cx="222120" cy="1881000"/>
          </a:xfrm>
        </p:grpSpPr>
        <p:sp>
          <p:nvSpPr>
            <p:cNvPr id="734" name=""/>
            <p:cNvSpPr/>
            <p:nvPr/>
          </p:nvSpPr>
          <p:spPr>
            <a:xfrm flipV="1">
              <a:off x="5710320" y="6234480"/>
              <a:ext cx="55440" cy="59760"/>
            </a:xfrm>
            <a:custGeom>
              <a:avLst/>
              <a:gdLst>
                <a:gd name="textAreaLeft" fmla="*/ 12240 w 55440"/>
                <a:gd name="textAreaRight" fmla="*/ 43200 w 55440"/>
                <a:gd name="textAreaTop" fmla="*/ 12960 h 59760"/>
                <a:gd name="textAreaBottom" fmla="*/ 4680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5785560" y="6226560"/>
              <a:ext cx="71280" cy="67320"/>
            </a:xfrm>
            <a:custGeom>
              <a:avLst/>
              <a:gdLst>
                <a:gd name="textAreaLeft" fmla="*/ 15480 w 71280"/>
                <a:gd name="textAreaRight" fmla="*/ 55800 w 71280"/>
                <a:gd name="textAreaTop" fmla="*/ 14760 h 67320"/>
                <a:gd name="textAreaBottom" fmla="*/ 52560 h 6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877000" y="6234480"/>
              <a:ext cx="55440" cy="59760"/>
            </a:xfrm>
            <a:custGeom>
              <a:avLst/>
              <a:gdLst>
                <a:gd name="textAreaLeft" fmla="*/ 12240 w 55440"/>
                <a:gd name="textAreaRight" fmla="*/ 43200 w 55440"/>
                <a:gd name="textAreaTop" fmla="*/ 12960 h 59760"/>
                <a:gd name="textAreaBottom" fmla="*/ 46800 h 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1200"/>
                </a:gs>
                <a:gs pos="50000">
                  <a:srgbClr val="663300"/>
                </a:gs>
                <a:gs pos="100000">
                  <a:srgbClr val="24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38400" y="4773240"/>
              <a:ext cx="166680" cy="12960"/>
            </a:xfrm>
            <a:custGeom>
              <a:avLst/>
              <a:gdLst>
                <a:gd name="textAreaLeft" fmla="*/ 21240 w 166680"/>
                <a:gd name="textAreaRight" fmla="*/ 145440 w 166680"/>
                <a:gd name="textAreaTop" fmla="*/ 1440 h 12960"/>
                <a:gd name="textAreaBottom" fmla="*/ 11520 h 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7d7d7"/>
                </a:gs>
                <a:gs pos="100000">
                  <a:srgbClr val="80808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38400" y="4634640"/>
              <a:ext cx="166680" cy="138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52440" y="4786560"/>
              <a:ext cx="138600" cy="82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52440" y="4869720"/>
              <a:ext cx="138600" cy="249120"/>
            </a:xfrm>
            <a:prstGeom prst="rect">
              <a:avLst/>
            </a:prstGeom>
            <a:gradFill rotWithShape="0">
              <a:gsLst>
                <a:gs pos="0">
                  <a:srgbClr val="5a4723"/>
                </a:gs>
                <a:gs pos="50000">
                  <a:srgbClr val="b69148"/>
                </a:gs>
                <a:gs pos="100000">
                  <a:srgbClr val="5a472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52440" y="5118840"/>
              <a:ext cx="138600" cy="165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52440" y="5285160"/>
              <a:ext cx="138600" cy="581760"/>
            </a:xfrm>
            <a:prstGeom prst="rect">
              <a:avLst/>
            </a:prstGeom>
            <a:gradFill rotWithShape="0">
              <a:gsLst>
                <a:gs pos="0">
                  <a:srgbClr val="7d6c63"/>
                </a:gs>
                <a:gs pos="50000">
                  <a:srgbClr val="bea596"/>
                </a:gs>
                <a:gs pos="100000">
                  <a:srgbClr val="7d6c6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52440" y="5866920"/>
              <a:ext cx="138600" cy="249120"/>
            </a:xfrm>
            <a:prstGeom prst="rect">
              <a:avLst/>
            </a:prstGeom>
            <a:gradFill rotWithShape="0">
              <a:gsLst>
                <a:gs pos="0">
                  <a:srgbClr val="724c26"/>
                </a:gs>
                <a:gs pos="50000">
                  <a:srgbClr val="dcd3ca"/>
                </a:gs>
                <a:gs pos="100000">
                  <a:srgbClr val="724c2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52440" y="4832640"/>
              <a:ext cx="13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52440" y="4842000"/>
              <a:ext cx="13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38400" y="4413240"/>
              <a:ext cx="166680" cy="22140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93" y="93"/>
                  </a:lnTo>
                  <a:lnTo>
                    <a:pt x="126" y="15"/>
                  </a:lnTo>
                  <a:lnTo>
                    <a:pt x="144" y="0"/>
                  </a:lnTo>
                  <a:lnTo>
                    <a:pt x="164" y="15"/>
                  </a:lnTo>
                  <a:lnTo>
                    <a:pt x="195" y="93"/>
                  </a:lnTo>
                  <a:lnTo>
                    <a:pt x="288" y="384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713560" y="6115680"/>
              <a:ext cx="215280" cy="130680"/>
            </a:xfrm>
            <a:custGeom>
              <a:avLst/>
              <a:gdLst>
                <a:gd name="textAreaLeft" fmla="*/ 33480 w 215280"/>
                <a:gd name="textAreaRight" fmla="*/ 181800 w 215280"/>
                <a:gd name="textAreaTop" fmla="*/ 20160 h 130680"/>
                <a:gd name="textAreaBottom" fmla="*/ 11052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97" y="21600"/>
                  </a:lnTo>
                  <a:lnTo>
                    <a:pt x="290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d6c63"/>
                </a:gs>
                <a:gs pos="50000">
                  <a:srgbClr val="bea596"/>
                </a:gs>
                <a:gs pos="100000">
                  <a:srgbClr val="7d6c6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52440" y="6171840"/>
              <a:ext cx="13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52440" y="6227280"/>
              <a:ext cx="138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10320" y="6171840"/>
              <a:ext cx="83160" cy="82800"/>
            </a:xfrm>
            <a:prstGeom prst="parallelogram">
              <a:avLst>
                <a:gd name="adj" fmla="val 25109"/>
              </a:avLst>
            </a:prstGeom>
            <a:gradFill rotWithShape="0">
              <a:gsLst>
                <a:gs pos="0">
                  <a:srgbClr val="bea596"/>
                </a:gs>
                <a:gs pos="100000">
                  <a:srgbClr val="574c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848200" y="6171840"/>
              <a:ext cx="83160" cy="82800"/>
            </a:xfrm>
            <a:prstGeom prst="parallelogram">
              <a:avLst>
                <a:gd name="adj" fmla="val 23714"/>
              </a:avLst>
            </a:prstGeom>
            <a:gradFill rotWithShape="0">
              <a:gsLst>
                <a:gs pos="0">
                  <a:srgbClr val="574c45"/>
                </a:gs>
                <a:gs pos="100000">
                  <a:srgbClr val="bea596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65760" y="5894640"/>
              <a:ext cx="42120" cy="304560"/>
            </a:xfrm>
            <a:prstGeom prst="rect">
              <a:avLst/>
            </a:prstGeom>
            <a:gradFill rotWithShape="0">
              <a:gsLst>
                <a:gs pos="0">
                  <a:srgbClr val="8e8e8e"/>
                </a:gs>
                <a:gs pos="50000">
                  <a:srgbClr val="ffffff"/>
                </a:gs>
                <a:gs pos="100000">
                  <a:srgbClr val="8e8e8e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5960" y="5894640"/>
              <a:ext cx="41040" cy="304560"/>
            </a:xfrm>
            <a:prstGeom prst="rect">
              <a:avLst/>
            </a:prstGeom>
            <a:gradFill rotWithShape="0">
              <a:gsLst>
                <a:gs pos="0">
                  <a:srgbClr val="8e8e8e"/>
                </a:gs>
                <a:gs pos="50000">
                  <a:srgbClr val="ffffff"/>
                </a:gs>
                <a:gs pos="100000">
                  <a:srgbClr val="8e8e8e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66480" y="5866920"/>
              <a:ext cx="41400" cy="27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e8e8e"/>
                </a:gs>
                <a:gs pos="50000">
                  <a:srgbClr val="ffffff"/>
                </a:gs>
                <a:gs pos="100000">
                  <a:srgbClr val="8e8e8e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35960" y="5866920"/>
              <a:ext cx="41040" cy="27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e8e8e"/>
                </a:gs>
                <a:gs pos="50000">
                  <a:srgbClr val="ffffff"/>
                </a:gs>
                <a:gs pos="100000">
                  <a:srgbClr val="8e8e8e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5766480" y="6199200"/>
              <a:ext cx="41400" cy="37440"/>
            </a:xfrm>
            <a:custGeom>
              <a:avLst/>
              <a:gdLst>
                <a:gd name="textAreaLeft" fmla="*/ 9000 w 41400"/>
                <a:gd name="textAreaRight" fmla="*/ 32400 w 41400"/>
                <a:gd name="textAreaTop" fmla="*/ 8280 h 37440"/>
                <a:gd name="textAreaBottom" fmla="*/ 29160 h 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835960" y="6199200"/>
              <a:ext cx="41400" cy="37440"/>
            </a:xfrm>
            <a:custGeom>
              <a:avLst/>
              <a:gdLst>
                <a:gd name="textAreaLeft" fmla="*/ 9000 w 41400"/>
                <a:gd name="textAreaRight" fmla="*/ 32400 w 41400"/>
                <a:gd name="textAreaTop" fmla="*/ 8280 h 37440"/>
                <a:gd name="textAreaBottom" fmla="*/ 29160 h 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50000">
                  <a:srgbClr val="dddddd"/>
                </a:gs>
                <a:gs pos="100000">
                  <a:srgbClr val="4f4f4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91400" y="5811480"/>
              <a:ext cx="9720" cy="304560"/>
            </a:xfrm>
            <a:prstGeom prst="rect">
              <a:avLst/>
            </a:prstGeom>
            <a:gradFill rotWithShape="0">
              <a:gsLst>
                <a:gs pos="0">
                  <a:srgbClr val="281a0d"/>
                </a:gs>
                <a:gs pos="50000">
                  <a:srgbClr val="996633"/>
                </a:gs>
                <a:gs pos="100000">
                  <a:srgbClr val="281a0d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742000" y="6033240"/>
              <a:ext cx="9720" cy="82800"/>
            </a:xfrm>
            <a:prstGeom prst="rtTriangle">
              <a:avLst/>
            </a:prstGeom>
            <a:gradFill rotWithShape="0">
              <a:gsLst>
                <a:gs pos="0">
                  <a:srgbClr val="281a0d"/>
                </a:gs>
                <a:gs pos="50000">
                  <a:srgbClr val="996633"/>
                </a:gs>
                <a:gs pos="100000">
                  <a:srgbClr val="281a0d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91400" y="5728320"/>
              <a:ext cx="9720" cy="82800"/>
            </a:xfrm>
            <a:prstGeom prst="rtTriangle">
              <a:avLst/>
            </a:prstGeom>
            <a:gradFill rotWithShape="0">
              <a:gsLst>
                <a:gs pos="0">
                  <a:srgbClr val="281a0d"/>
                </a:gs>
                <a:gs pos="50000">
                  <a:srgbClr val="996633"/>
                </a:gs>
                <a:gs pos="100000">
                  <a:srgbClr val="281a0d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2560" y="5340600"/>
              <a:ext cx="9360" cy="77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697200" y="6400800"/>
            <a:ext cx="432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Delta 4H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54400" y="6400800"/>
            <a:ext cx="687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tlas V Heav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345360" y="6400800"/>
            <a:ext cx="450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riane 5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6400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Delta I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10440" y="6400800"/>
            <a:ext cx="420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oyuz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04000" y="6400800"/>
            <a:ext cx="446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Proton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4960" y="6400800"/>
            <a:ext cx="380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Zenit 3S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6400800"/>
            <a:ext cx="457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tlas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V4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80080" y="6400800"/>
            <a:ext cx="380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tlas II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52960" y="6400800"/>
            <a:ext cx="380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Delta 4M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254240" y="1981080"/>
            <a:ext cx="799200" cy="4313160"/>
            <a:chOff x="1254240" y="1981080"/>
            <a:chExt cx="799200" cy="4313160"/>
          </a:xfrm>
        </p:grpSpPr>
        <p:grpSp>
          <p:nvGrpSpPr>
            <p:cNvPr id="773" name=""/>
            <p:cNvGrpSpPr/>
            <p:nvPr/>
          </p:nvGrpSpPr>
          <p:grpSpPr>
            <a:xfrm>
              <a:off x="1625040" y="1981080"/>
              <a:ext cx="55080" cy="401040"/>
              <a:chOff x="1625040" y="1981080"/>
              <a:chExt cx="55080" cy="40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1636920" y="2013840"/>
                <a:ext cx="31680" cy="1998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1625040" y="2215800"/>
                <a:ext cx="55080" cy="31680"/>
              </a:xfrm>
              <a:custGeom>
                <a:avLst/>
                <a:gdLst>
                  <a:gd name="textAreaLeft" fmla="*/ 10440 w 55080"/>
                  <a:gd name="textAreaRight" fmla="*/ 44640 w 55080"/>
                  <a:gd name="textAreaTop" fmla="*/ 6120 h 31680"/>
                  <a:gd name="textAreaBottom" fmla="*/ 25560 h 3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81" y="21600"/>
                    </a:lnTo>
                    <a:lnTo>
                      <a:pt x="4319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636920" y="1981080"/>
                <a:ext cx="31680" cy="31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1625040" y="2248560"/>
                <a:ext cx="55080" cy="133560"/>
                <a:chOff x="1625040" y="2248560"/>
                <a:chExt cx="55080" cy="13356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625040" y="2248920"/>
                  <a:ext cx="55080" cy="133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625040" y="2337840"/>
                  <a:ext cx="55080" cy="44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1625040" y="2337480"/>
                  <a:ext cx="55080" cy="44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1625040" y="2248560"/>
                  <a:ext cx="55080" cy="88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625040" y="2248920"/>
                  <a:ext cx="55080" cy="88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625040" y="2293200"/>
                  <a:ext cx="55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625040" y="2337840"/>
                  <a:ext cx="55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1577880" y="2357640"/>
              <a:ext cx="153720" cy="332640"/>
              <a:chOff x="1577880" y="2357640"/>
              <a:chExt cx="153720" cy="332640"/>
            </a:xfrm>
          </p:grpSpPr>
          <p:sp>
            <p:nvSpPr>
              <p:cNvPr id="786" name=""/>
              <p:cNvSpPr/>
              <p:nvPr/>
            </p:nvSpPr>
            <p:spPr>
              <a:xfrm>
                <a:off x="1587600" y="2423880"/>
                <a:ext cx="132840" cy="19980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1620720" y="2623320"/>
                <a:ext cx="66240" cy="66600"/>
              </a:xfrm>
              <a:custGeom>
                <a:avLst/>
                <a:gdLst>
                  <a:gd name="textAreaLeft" fmla="*/ 17640 w 66240"/>
                  <a:gd name="textAreaRight" fmla="*/ 48600 w 66240"/>
                  <a:gd name="textAreaTop" fmla="*/ 17640 h 66600"/>
                  <a:gd name="textAreaBottom" fmla="*/ 4896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87600" y="2357640"/>
                <a:ext cx="132840" cy="66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77880" y="2446200"/>
                <a:ext cx="972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1639800" y="2447640"/>
                <a:ext cx="32040" cy="32040"/>
                <a:chOff x="1639800" y="2447640"/>
                <a:chExt cx="32040" cy="320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650240" y="2447640"/>
                  <a:ext cx="10800" cy="3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639800" y="2458440"/>
                  <a:ext cx="32040" cy="10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1721880" y="2446200"/>
                <a:ext cx="972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521000" y="2624040"/>
              <a:ext cx="266760" cy="933840"/>
              <a:chOff x="1521000" y="2624040"/>
              <a:chExt cx="266760" cy="933840"/>
            </a:xfrm>
          </p:grpSpPr>
          <p:sp>
            <p:nvSpPr>
              <p:cNvPr id="795" name=""/>
              <p:cNvSpPr/>
              <p:nvPr/>
            </p:nvSpPr>
            <p:spPr>
              <a:xfrm>
                <a:off x="1521000" y="2958120"/>
                <a:ext cx="266760" cy="46656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1593000" y="3423960"/>
                <a:ext cx="119520" cy="133560"/>
              </a:xfrm>
              <a:custGeom>
                <a:avLst/>
                <a:gdLst>
                  <a:gd name="textAreaLeft" fmla="*/ 31680 w 119520"/>
                  <a:gd name="textAreaRight" fmla="*/ 87840 w 119520"/>
                  <a:gd name="textAreaTop" fmla="*/ 35640 h 133560"/>
                  <a:gd name="textAreaBottom" fmla="*/ 979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1521000" y="2623680"/>
                <a:ext cx="266760" cy="333720"/>
              </a:xfrm>
              <a:custGeom>
                <a:avLst/>
                <a:gdLst>
                  <a:gd name="textAreaLeft" fmla="*/ 58680 w 266760"/>
                  <a:gd name="textAreaRight" fmla="*/ 208080 w 266760"/>
                  <a:gd name="textAreaTop" fmla="*/ 73440 h 333720"/>
                  <a:gd name="textAreaBottom" fmla="*/ 260280 h 3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1000" y="2958120"/>
                <a:ext cx="266760" cy="66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1454040" y="3424680"/>
              <a:ext cx="399960" cy="1134000"/>
              <a:chOff x="1454040" y="3424680"/>
              <a:chExt cx="399960" cy="1134000"/>
            </a:xfrm>
          </p:grpSpPr>
          <p:sp>
            <p:nvSpPr>
              <p:cNvPr id="800" name=""/>
              <p:cNvSpPr/>
              <p:nvPr/>
            </p:nvSpPr>
            <p:spPr>
              <a:xfrm>
                <a:off x="1454040" y="3691800"/>
                <a:ext cx="399960" cy="7336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1597320" y="4424760"/>
                <a:ext cx="115200" cy="133560"/>
              </a:xfrm>
              <a:custGeom>
                <a:avLst/>
                <a:gdLst>
                  <a:gd name="textAreaLeft" fmla="*/ 30600 w 115200"/>
                  <a:gd name="textAreaRight" fmla="*/ 84600 w 115200"/>
                  <a:gd name="textAreaTop" fmla="*/ 35640 h 133560"/>
                  <a:gd name="textAreaBottom" fmla="*/ 979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1731600" y="4424760"/>
                <a:ext cx="109800" cy="133560"/>
              </a:xfrm>
              <a:custGeom>
                <a:avLst/>
                <a:gdLst>
                  <a:gd name="textAreaLeft" fmla="*/ 29160 w 109800"/>
                  <a:gd name="textAreaRight" fmla="*/ 80640 w 109800"/>
                  <a:gd name="textAreaTop" fmla="*/ 35640 h 133560"/>
                  <a:gd name="textAreaBottom" fmla="*/ 979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1463760" y="4424760"/>
                <a:ext cx="116640" cy="133560"/>
              </a:xfrm>
              <a:custGeom>
                <a:avLst/>
                <a:gdLst>
                  <a:gd name="textAreaLeft" fmla="*/ 30960 w 116640"/>
                  <a:gd name="textAreaRight" fmla="*/ 85680 w 116640"/>
                  <a:gd name="textAreaTop" fmla="*/ 35640 h 133560"/>
                  <a:gd name="textAreaBottom" fmla="*/ 979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1454040" y="3424320"/>
                <a:ext cx="399960" cy="266760"/>
              </a:xfrm>
              <a:custGeom>
                <a:avLst/>
                <a:gdLst>
                  <a:gd name="textAreaLeft" fmla="*/ 68400 w 399960"/>
                  <a:gd name="textAreaRight" fmla="*/ 331560 w 399960"/>
                  <a:gd name="textAreaTop" fmla="*/ 45720 h 266760"/>
                  <a:gd name="textAreaBottom" fmla="*/ 221040 h 26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76" y="21600"/>
                    </a:lnTo>
                    <a:lnTo>
                      <a:pt x="352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520640" y="3558600"/>
                <a:ext cx="66600" cy="133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1454040" y="3558600"/>
                <a:ext cx="133200" cy="133200"/>
              </a:xfrm>
              <a:custGeom>
                <a:avLst/>
                <a:gdLst>
                  <a:gd name="textAreaLeft" fmla="*/ 28440 w 133200"/>
                  <a:gd name="textAreaRight" fmla="*/ 104760 w 133200"/>
                  <a:gd name="textAreaTop" fmla="*/ 28440 h 133200"/>
                  <a:gd name="textAreaBottom" fmla="*/ 104760 h 13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26" y="21600"/>
                    </a:lnTo>
                    <a:lnTo>
                      <a:pt x="517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755360" y="342504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192"/>
                    </a:moveTo>
                    <a:lnTo>
                      <a:pt x="96" y="19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4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1254240" y="4425840"/>
              <a:ext cx="799200" cy="1868400"/>
              <a:chOff x="1254240" y="4425840"/>
              <a:chExt cx="799200" cy="186840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1765080" y="6094080"/>
                <a:ext cx="155520" cy="200160"/>
              </a:xfrm>
              <a:custGeom>
                <a:avLst/>
                <a:gdLst>
                  <a:gd name="textAreaLeft" fmla="*/ 41400 w 155520"/>
                  <a:gd name="textAreaRight" fmla="*/ 114120 w 155520"/>
                  <a:gd name="textAreaTop" fmla="*/ 53280 h 200160"/>
                  <a:gd name="textAreaBottom" fmla="*/ 14688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1573560" y="6094080"/>
                <a:ext cx="163440" cy="200160"/>
              </a:xfrm>
              <a:custGeom>
                <a:avLst/>
                <a:gdLst>
                  <a:gd name="textAreaLeft" fmla="*/ 43560 w 163440"/>
                  <a:gd name="textAreaRight" fmla="*/ 119880 w 163440"/>
                  <a:gd name="textAreaTop" fmla="*/ 53280 h 200160"/>
                  <a:gd name="textAreaBottom" fmla="*/ 14688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1387440" y="6094080"/>
                <a:ext cx="156600" cy="200160"/>
              </a:xfrm>
              <a:custGeom>
                <a:avLst/>
                <a:gdLst>
                  <a:gd name="textAreaLeft" fmla="*/ 41760 w 156600"/>
                  <a:gd name="textAreaRight" fmla="*/ 114840 w 156600"/>
                  <a:gd name="textAreaTop" fmla="*/ 53280 h 200160"/>
                  <a:gd name="textAreaBottom" fmla="*/ 14688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01" y="21600"/>
                    </a:lnTo>
                    <a:lnTo>
                      <a:pt x="71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54040" y="4626000"/>
                <a:ext cx="399960" cy="146808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54240" y="5893920"/>
                <a:ext cx="199800" cy="20016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1853280" y="5893920"/>
                <a:ext cx="199800" cy="20016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387440" y="5826240"/>
                <a:ext cx="533160" cy="333720"/>
              </a:xfrm>
              <a:custGeom>
                <a:avLst/>
                <a:gdLst>
                  <a:gd name="textAreaLeft" fmla="*/ 79920 w 533160"/>
                  <a:gd name="textAreaRight" fmla="*/ 453240 w 533160"/>
                  <a:gd name="textAreaTop" fmla="*/ 50040 h 333720"/>
                  <a:gd name="textAreaBottom" fmla="*/ 283680 h 3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01" y="21600"/>
                    </a:lnTo>
                    <a:lnTo>
                      <a:pt x="26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654200" y="5893920"/>
                <a:ext cx="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454040" y="4425840"/>
                <a:ext cx="399960" cy="400320"/>
              </a:xfrm>
              <a:prstGeom prst="rect">
                <a:avLst/>
              </a:pr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454040" y="4425840"/>
                <a:ext cx="399960" cy="666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21000" y="4492440"/>
                <a:ext cx="133200" cy="333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787760" y="4492440"/>
                <a:ext cx="66240" cy="333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521000" y="5826960"/>
                <a:ext cx="133200" cy="3337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87760" y="5826960"/>
                <a:ext cx="66240" cy="3337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7600" y="5893920"/>
                <a:ext cx="66240" cy="20016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0" y="144"/>
                    </a:lnTo>
                    <a:lnTo>
                      <a:pt x="0" y="96"/>
                    </a:lnTo>
                    <a:lnTo>
                      <a:pt x="240" y="0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611360" y="5807520"/>
                <a:ext cx="266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" name=""/>
          <p:cNvGrpSpPr/>
          <p:nvPr/>
        </p:nvGrpSpPr>
        <p:grpSpPr>
          <a:xfrm>
            <a:off x="7848360" y="3992400"/>
            <a:ext cx="409680" cy="2300040"/>
            <a:chOff x="7848360" y="3992400"/>
            <a:chExt cx="409680" cy="2300040"/>
          </a:xfrm>
        </p:grpSpPr>
        <p:sp>
          <p:nvSpPr>
            <p:cNvPr id="826" name=""/>
            <p:cNvSpPr/>
            <p:nvPr/>
          </p:nvSpPr>
          <p:spPr>
            <a:xfrm flipV="1">
              <a:off x="8002080" y="6215400"/>
              <a:ext cx="102240" cy="76680"/>
            </a:xfrm>
            <a:custGeom>
              <a:avLst/>
              <a:gdLst>
                <a:gd name="textAreaLeft" fmla="*/ 12600 w 102240"/>
                <a:gd name="textAreaRight" fmla="*/ 89640 w 102240"/>
                <a:gd name="textAreaTop" fmla="*/ 9360 h 76680"/>
                <a:gd name="textAreaBottom" fmla="*/ 67320 h 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13" y="21600"/>
                  </a:lnTo>
                  <a:lnTo>
                    <a:pt x="168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76520" y="3992400"/>
              <a:ext cx="153360" cy="33228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436"/>
                  </a:moveTo>
                  <a:lnTo>
                    <a:pt x="0" y="288"/>
                  </a:lnTo>
                  <a:lnTo>
                    <a:pt x="44" y="77"/>
                  </a:lnTo>
                  <a:lnTo>
                    <a:pt x="78" y="32"/>
                  </a:lnTo>
                  <a:lnTo>
                    <a:pt x="114" y="7"/>
                  </a:lnTo>
                  <a:lnTo>
                    <a:pt x="145" y="0"/>
                  </a:lnTo>
                  <a:lnTo>
                    <a:pt x="179" y="7"/>
                  </a:lnTo>
                  <a:lnTo>
                    <a:pt x="208" y="27"/>
                  </a:lnTo>
                  <a:lnTo>
                    <a:pt x="248" y="79"/>
                  </a:lnTo>
                  <a:lnTo>
                    <a:pt x="288" y="288"/>
                  </a:lnTo>
                  <a:lnTo>
                    <a:pt x="288" y="433"/>
                  </a:lnTo>
                  <a:lnTo>
                    <a:pt x="288" y="624"/>
                  </a:lnTo>
                  <a:lnTo>
                    <a:pt x="0" y="624"/>
                  </a:lnTo>
                  <a:lnTo>
                    <a:pt x="0" y="436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76520" y="4145760"/>
              <a:ext cx="15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986240" y="4349880"/>
              <a:ext cx="134280" cy="25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86240" y="4375800"/>
              <a:ext cx="134280" cy="204120"/>
            </a:xfrm>
            <a:prstGeom prst="rect">
              <a:avLst/>
            </a:prstGeom>
            <a:gradFill rotWithShape="0">
              <a:gsLst>
                <a:gs pos="0">
                  <a:srgbClr val="738d7f"/>
                </a:gs>
                <a:gs pos="50000">
                  <a:srgbClr val="ced7d3"/>
                </a:gs>
                <a:gs pos="100000">
                  <a:srgbClr val="738d7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76520" y="4324680"/>
              <a:ext cx="153360" cy="25200"/>
            </a:xfrm>
            <a:custGeom>
              <a:avLst/>
              <a:gdLst>
                <a:gd name="textAreaLeft" fmla="*/ 16560 w 153360"/>
                <a:gd name="textAreaRight" fmla="*/ 136800 w 153360"/>
                <a:gd name="textAreaTop" fmla="*/ 2520 h 25200"/>
                <a:gd name="textAreaBottom" fmla="*/ 22680 h 2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75" y="21600"/>
                  </a:lnTo>
                  <a:lnTo>
                    <a:pt x="11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86240" y="4580280"/>
              <a:ext cx="134280" cy="51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986240" y="4759200"/>
              <a:ext cx="134280" cy="50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986240" y="4631400"/>
              <a:ext cx="134280" cy="127440"/>
            </a:xfrm>
            <a:prstGeom prst="rect">
              <a:avLst/>
            </a:prstGeom>
            <a:gradFill rotWithShape="0">
              <a:gsLst>
                <a:gs pos="0">
                  <a:srgbClr val="738d7f"/>
                </a:gs>
                <a:gs pos="50000">
                  <a:srgbClr val="ced7d3"/>
                </a:gs>
                <a:gs pos="100000">
                  <a:srgbClr val="738d7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86240" y="4810320"/>
              <a:ext cx="134280" cy="5112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86240" y="5398200"/>
              <a:ext cx="134280" cy="792360"/>
            </a:xfrm>
            <a:prstGeom prst="rect">
              <a:avLst/>
            </a:prstGeom>
            <a:gradFill rotWithShape="0">
              <a:gsLst>
                <a:gs pos="0">
                  <a:srgbClr val="120400"/>
                </a:gs>
                <a:gs pos="50000">
                  <a:srgbClr val="cc3300"/>
                </a:gs>
                <a:gs pos="100000">
                  <a:srgbClr val="1204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86240" y="5321520"/>
              <a:ext cx="134280" cy="7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86240" y="6190560"/>
              <a:ext cx="134280" cy="51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a82800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899840" y="5403600"/>
              <a:ext cx="101520" cy="179280"/>
            </a:xfrm>
            <a:custGeom>
              <a:avLst/>
              <a:gdLst/>
              <a:ahLst/>
              <a:rect l="l" t="t" r="r" b="b"/>
              <a:pathLst>
                <a:path w="191" h="337">
                  <a:moveTo>
                    <a:pt x="141" y="10"/>
                  </a:moveTo>
                  <a:lnTo>
                    <a:pt x="171" y="0"/>
                  </a:lnTo>
                  <a:lnTo>
                    <a:pt x="191" y="14"/>
                  </a:lnTo>
                  <a:lnTo>
                    <a:pt x="191" y="337"/>
                  </a:lnTo>
                  <a:lnTo>
                    <a:pt x="0" y="337"/>
                  </a:lnTo>
                  <a:lnTo>
                    <a:pt x="0" y="321"/>
                  </a:lnTo>
                  <a:lnTo>
                    <a:pt x="8" y="292"/>
                  </a:lnTo>
                  <a:lnTo>
                    <a:pt x="117" y="42"/>
                  </a:lnTo>
                  <a:lnTo>
                    <a:pt x="141" y="1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99840" y="5889600"/>
              <a:ext cx="102240" cy="230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899840" y="5812920"/>
              <a:ext cx="102240" cy="7668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99840" y="6119640"/>
              <a:ext cx="102240" cy="7668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99840" y="5582880"/>
              <a:ext cx="102240" cy="230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916760" y="6231960"/>
              <a:ext cx="43920" cy="604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99840" y="6196320"/>
              <a:ext cx="102240" cy="39960"/>
            </a:xfrm>
            <a:custGeom>
              <a:avLst/>
              <a:gdLst>
                <a:gd name="textAreaLeft" fmla="*/ 25200 w 102240"/>
                <a:gd name="textAreaRight" fmla="*/ 77040 w 102240"/>
                <a:gd name="textAreaTop" fmla="*/ 9720 h 39960"/>
                <a:gd name="textAreaBottom" fmla="*/ 3024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87" y="21600"/>
                  </a:lnTo>
                  <a:lnTo>
                    <a:pt x="64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04320" y="5889240"/>
              <a:ext cx="102240" cy="230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41760" y="6231960"/>
              <a:ext cx="43920" cy="604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04320" y="5812560"/>
              <a:ext cx="102240" cy="7668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04320" y="6119280"/>
              <a:ext cx="102240" cy="7668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04320" y="5582520"/>
              <a:ext cx="102240" cy="230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103600" y="5403600"/>
              <a:ext cx="101880" cy="179280"/>
            </a:xfrm>
            <a:custGeom>
              <a:avLst/>
              <a:gdLst/>
              <a:ahLst/>
              <a:rect l="l" t="t" r="r" b="b"/>
              <a:pathLst>
                <a:path w="191" h="337">
                  <a:moveTo>
                    <a:pt x="141" y="10"/>
                  </a:moveTo>
                  <a:lnTo>
                    <a:pt x="171" y="0"/>
                  </a:lnTo>
                  <a:lnTo>
                    <a:pt x="191" y="14"/>
                  </a:lnTo>
                  <a:lnTo>
                    <a:pt x="191" y="337"/>
                  </a:lnTo>
                  <a:lnTo>
                    <a:pt x="0" y="337"/>
                  </a:lnTo>
                  <a:lnTo>
                    <a:pt x="0" y="321"/>
                  </a:lnTo>
                  <a:lnTo>
                    <a:pt x="8" y="292"/>
                  </a:lnTo>
                  <a:lnTo>
                    <a:pt x="117" y="42"/>
                  </a:lnTo>
                  <a:lnTo>
                    <a:pt x="141" y="1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04320" y="6195960"/>
              <a:ext cx="102240" cy="39960"/>
            </a:xfrm>
            <a:custGeom>
              <a:avLst/>
              <a:gdLst>
                <a:gd name="textAreaLeft" fmla="*/ 25200 w 102240"/>
                <a:gd name="textAreaRight" fmla="*/ 77040 w 102240"/>
                <a:gd name="textAreaTop" fmla="*/ 9720 h 39960"/>
                <a:gd name="textAreaBottom" fmla="*/ 30240 h 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87" y="21600"/>
                  </a:lnTo>
                  <a:lnTo>
                    <a:pt x="64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rot="5400000">
              <a:off x="7835040" y="6132240"/>
              <a:ext cx="102240" cy="76680"/>
            </a:xfrm>
            <a:prstGeom prst="parallelogram">
              <a:avLst>
                <a:gd name="adj" fmla="val 33333"/>
              </a:avLst>
            </a:prstGeom>
            <a:gradFill rotWithShape="0">
              <a:gsLst>
                <a:gs pos="0">
                  <a:srgbClr val="c1c1c1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8168400" y="6131880"/>
              <a:ext cx="102240" cy="76680"/>
            </a:xfrm>
            <a:prstGeom prst="parallelogram">
              <a:avLst>
                <a:gd name="adj" fmla="val 333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36640" y="5883840"/>
              <a:ext cx="32400" cy="5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36640" y="5934960"/>
              <a:ext cx="32400" cy="230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8291520" y="3992400"/>
            <a:ext cx="471240" cy="2314800"/>
            <a:chOff x="8291520" y="3992400"/>
            <a:chExt cx="471240" cy="2314800"/>
          </a:xfrm>
        </p:grpSpPr>
        <p:sp>
          <p:nvSpPr>
            <p:cNvPr id="858" name=""/>
            <p:cNvSpPr/>
            <p:nvPr/>
          </p:nvSpPr>
          <p:spPr>
            <a:xfrm flipV="1">
              <a:off x="8317440" y="6240240"/>
              <a:ext cx="78480" cy="66960"/>
            </a:xfrm>
            <a:custGeom>
              <a:avLst/>
              <a:gdLst>
                <a:gd name="textAreaLeft" fmla="*/ 13680 w 78480"/>
                <a:gd name="textAreaRight" fmla="*/ 64800 w 78480"/>
                <a:gd name="textAreaTop" fmla="*/ 11520 h 66960"/>
                <a:gd name="textAreaBottom" fmla="*/ 55440 h 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b0200"/>
                </a:gs>
                <a:gs pos="50000">
                  <a:srgbClr val="cc3300"/>
                </a:gs>
                <a:gs pos="100000">
                  <a:srgbClr val="0b0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22560" y="4437360"/>
              <a:ext cx="209520" cy="78480"/>
            </a:xfrm>
            <a:custGeom>
              <a:avLst/>
              <a:gdLst>
                <a:gd name="textAreaLeft" fmla="*/ 27000 w 209520"/>
                <a:gd name="textAreaRight" fmla="*/ 182520 w 209520"/>
                <a:gd name="textAreaTop" fmla="*/ 10080 h 78480"/>
                <a:gd name="textAreaBottom" fmla="*/ 68400 h 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40560" y="4646520"/>
              <a:ext cx="173520" cy="2880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50000">
                  <a:srgbClr val="757575"/>
                </a:gs>
                <a:gs pos="100000">
                  <a:srgbClr val="29292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40560" y="5720040"/>
              <a:ext cx="173520" cy="3402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40560" y="5196240"/>
              <a:ext cx="173520" cy="7848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40560" y="6060240"/>
              <a:ext cx="173520" cy="10440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474760" y="6191280"/>
              <a:ext cx="104760" cy="522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185" y="114"/>
                  </a:lnTo>
                  <a:lnTo>
                    <a:pt x="171" y="192"/>
                  </a:lnTo>
                  <a:lnTo>
                    <a:pt x="24" y="192"/>
                  </a:lnTo>
                  <a:lnTo>
                    <a:pt x="8" y="114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f5f5f5"/>
                </a:gs>
                <a:gs pos="100000">
                  <a:srgbClr val="c0c0c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40560" y="5274720"/>
              <a:ext cx="173520" cy="4449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440560" y="4960800"/>
              <a:ext cx="173520" cy="23544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440560" y="4515840"/>
              <a:ext cx="173520" cy="13068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40560" y="4934520"/>
              <a:ext cx="173520" cy="2592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658360" y="6240240"/>
              <a:ext cx="78480" cy="66960"/>
            </a:xfrm>
            <a:custGeom>
              <a:avLst/>
              <a:gdLst>
                <a:gd name="textAreaLeft" fmla="*/ 13680 w 78480"/>
                <a:gd name="textAreaRight" fmla="*/ 64800 w 78480"/>
                <a:gd name="textAreaTop" fmla="*/ 11520 h 66960"/>
                <a:gd name="textAreaBottom" fmla="*/ 55440 h 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b0200"/>
                </a:gs>
                <a:gs pos="50000">
                  <a:srgbClr val="cc3300"/>
                </a:gs>
                <a:gs pos="100000">
                  <a:srgbClr val="0b0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8493120" y="6242760"/>
              <a:ext cx="65160" cy="52200"/>
            </a:xfrm>
            <a:custGeom>
              <a:avLst/>
              <a:gdLst>
                <a:gd name="textAreaLeft" fmla="*/ 13320 w 65160"/>
                <a:gd name="textAreaRight" fmla="*/ 51840 w 65160"/>
                <a:gd name="textAreaTop" fmla="*/ 10800 h 52200"/>
                <a:gd name="textAreaBottom" fmla="*/ 41400 h 5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b5b5b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8291520" y="5625000"/>
              <a:ext cx="131040" cy="618480"/>
              <a:chOff x="8291520" y="5625000"/>
              <a:chExt cx="131040" cy="618480"/>
            </a:xfrm>
          </p:grpSpPr>
          <p:sp>
            <p:nvSpPr>
              <p:cNvPr id="872" name=""/>
              <p:cNvSpPr/>
              <p:nvPr/>
            </p:nvSpPr>
            <p:spPr>
              <a:xfrm flipH="1">
                <a:off x="8291520" y="5625000"/>
                <a:ext cx="131040" cy="618480"/>
              </a:xfrm>
              <a:custGeom>
                <a:avLst/>
                <a:gdLst/>
                <a:ahLst/>
                <a:rect l="l" t="t" r="r" b="b"/>
                <a:pathLst>
                  <a:path w="36" h="424">
                    <a:moveTo>
                      <a:pt x="11" y="7"/>
                    </a:moveTo>
                    <a:lnTo>
                      <a:pt x="18" y="0"/>
                    </a:lnTo>
                    <a:lnTo>
                      <a:pt x="24" y="7"/>
                    </a:lnTo>
                    <a:lnTo>
                      <a:pt x="35" y="66"/>
                    </a:lnTo>
                    <a:lnTo>
                      <a:pt x="35" y="419"/>
                    </a:lnTo>
                    <a:lnTo>
                      <a:pt x="31" y="423"/>
                    </a:lnTo>
                    <a:lnTo>
                      <a:pt x="4" y="423"/>
                    </a:lnTo>
                    <a:lnTo>
                      <a:pt x="0" y="419"/>
                    </a:lnTo>
                    <a:lnTo>
                      <a:pt x="0" y="66"/>
                    </a:lnTo>
                    <a:lnTo>
                      <a:pt x="11" y="7"/>
                    </a:lnTo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299800" y="6222600"/>
                <a:ext cx="11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300880" y="5718960"/>
                <a:ext cx="113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314200" y="5687280"/>
                <a:ext cx="8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8632080" y="5622840"/>
              <a:ext cx="130680" cy="620280"/>
              <a:chOff x="8632080" y="5622840"/>
              <a:chExt cx="130680" cy="620280"/>
            </a:xfrm>
          </p:grpSpPr>
          <p:sp>
            <p:nvSpPr>
              <p:cNvPr id="877" name=""/>
              <p:cNvSpPr/>
              <p:nvPr/>
            </p:nvSpPr>
            <p:spPr>
              <a:xfrm>
                <a:off x="8632080" y="5622840"/>
                <a:ext cx="130680" cy="620280"/>
              </a:xfrm>
              <a:custGeom>
                <a:avLst/>
                <a:gdLst/>
                <a:ahLst/>
                <a:rect l="l" t="t" r="r" b="b"/>
                <a:pathLst>
                  <a:path w="36" h="424">
                    <a:moveTo>
                      <a:pt x="11" y="7"/>
                    </a:moveTo>
                    <a:lnTo>
                      <a:pt x="18" y="0"/>
                    </a:lnTo>
                    <a:lnTo>
                      <a:pt x="24" y="7"/>
                    </a:lnTo>
                    <a:lnTo>
                      <a:pt x="35" y="66"/>
                    </a:lnTo>
                    <a:lnTo>
                      <a:pt x="35" y="419"/>
                    </a:lnTo>
                    <a:lnTo>
                      <a:pt x="31" y="423"/>
                    </a:lnTo>
                    <a:lnTo>
                      <a:pt x="4" y="423"/>
                    </a:lnTo>
                    <a:lnTo>
                      <a:pt x="0" y="419"/>
                    </a:lnTo>
                    <a:lnTo>
                      <a:pt x="0" y="66"/>
                    </a:lnTo>
                    <a:lnTo>
                      <a:pt x="11" y="7"/>
                    </a:lnTo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639640" y="6223680"/>
                <a:ext cx="112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640360" y="5718600"/>
                <a:ext cx="112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653680" y="5686560"/>
                <a:ext cx="8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>
              <a:off x="8422560" y="4070880"/>
              <a:ext cx="209520" cy="78480"/>
            </a:xfrm>
            <a:custGeom>
              <a:avLst/>
              <a:gdLst>
                <a:gd name="textAreaLeft" fmla="*/ 31320 w 209520"/>
                <a:gd name="textAreaRight" fmla="*/ 178200 w 209520"/>
                <a:gd name="textAreaTop" fmla="*/ 11520 h 78480"/>
                <a:gd name="textAreaBottom" fmla="*/ 66960 h 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1" y="21600"/>
                  </a:lnTo>
                  <a:lnTo>
                    <a:pt x="26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448480" y="3992400"/>
              <a:ext cx="156960" cy="78480"/>
            </a:xfrm>
            <a:custGeom>
              <a:avLst/>
              <a:gdLst>
                <a:gd name="textAreaLeft" fmla="*/ 51120 w 156960"/>
                <a:gd name="textAreaRight" fmla="*/ 105840 w 156960"/>
                <a:gd name="textAreaTop" fmla="*/ 25560 h 78480"/>
                <a:gd name="textAreaBottom" fmla="*/ 52920 h 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076" y="21600"/>
                  </a:lnTo>
                  <a:lnTo>
                    <a:pt x="95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22560" y="4149360"/>
              <a:ext cx="209520" cy="28764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40560" y="6165000"/>
              <a:ext cx="173520" cy="25920"/>
            </a:xfrm>
            <a:custGeom>
              <a:avLst/>
              <a:gdLst>
                <a:gd name="textAreaLeft" fmla="*/ 32760 w 173520"/>
                <a:gd name="textAreaRight" fmla="*/ 140760 w 173520"/>
                <a:gd name="textAreaTop" fmla="*/ 4680 h 25920"/>
                <a:gd name="textAreaBottom" fmla="*/ 21240 h 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389" y="21600"/>
                  </a:lnTo>
                  <a:lnTo>
                    <a:pt x="421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79880" y="4908240"/>
              <a:ext cx="12240" cy="123012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70000" y="572004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553600" y="57200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70000" y="616500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553600" y="61650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8381880" y="6400800"/>
            <a:ext cx="381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H-I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88320" y="6400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GSLV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42960" y="4876920"/>
            <a:ext cx="127080" cy="1430640"/>
            <a:chOff x="642960" y="4876920"/>
            <a:chExt cx="127080" cy="1430640"/>
          </a:xfrm>
        </p:grpSpPr>
        <p:sp>
          <p:nvSpPr>
            <p:cNvPr id="893" name=""/>
            <p:cNvSpPr/>
            <p:nvPr/>
          </p:nvSpPr>
          <p:spPr>
            <a:xfrm>
              <a:off x="642960" y="4876920"/>
              <a:ext cx="127080" cy="104400"/>
            </a:xfrm>
            <a:custGeom>
              <a:avLst/>
              <a:gdLst/>
              <a:ahLst/>
              <a:rect l="l" t="t" r="r" b="b"/>
              <a:pathLst>
                <a:path w="308" h="517">
                  <a:moveTo>
                    <a:pt x="0" y="517"/>
                  </a:moveTo>
                  <a:lnTo>
                    <a:pt x="13" y="340"/>
                  </a:lnTo>
                  <a:lnTo>
                    <a:pt x="38" y="194"/>
                  </a:lnTo>
                  <a:lnTo>
                    <a:pt x="80" y="83"/>
                  </a:lnTo>
                  <a:lnTo>
                    <a:pt x="128" y="12"/>
                  </a:lnTo>
                  <a:lnTo>
                    <a:pt x="160" y="0"/>
                  </a:lnTo>
                  <a:lnTo>
                    <a:pt x="189" y="12"/>
                  </a:lnTo>
                  <a:lnTo>
                    <a:pt x="228" y="80"/>
                  </a:lnTo>
                  <a:lnTo>
                    <a:pt x="271" y="194"/>
                  </a:lnTo>
                  <a:lnTo>
                    <a:pt x="296" y="338"/>
                  </a:lnTo>
                  <a:lnTo>
                    <a:pt x="308" y="512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2960" y="4975200"/>
              <a:ext cx="127080" cy="163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ebebe"/>
                </a:gs>
                <a:gs pos="100000">
                  <a:srgbClr val="80808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2960" y="5127840"/>
              <a:ext cx="127080" cy="1573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960" y="5274000"/>
              <a:ext cx="127080" cy="927720"/>
            </a:xfrm>
            <a:prstGeom prst="rect">
              <a:avLst/>
            </a:prstGeom>
            <a:gradFill rotWithShape="0">
              <a:gsLst>
                <a:gs pos="0">
                  <a:srgbClr val="7c7363"/>
                </a:gs>
                <a:gs pos="50000">
                  <a:srgbClr val="bdaf97"/>
                </a:gs>
                <a:gs pos="100000">
                  <a:srgbClr val="7c736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667440" y="6203520"/>
              <a:ext cx="81000" cy="104040"/>
              <a:chOff x="667440" y="6203520"/>
              <a:chExt cx="81000" cy="104040"/>
            </a:xfrm>
          </p:grpSpPr>
          <p:sp>
            <p:nvSpPr>
              <p:cNvPr id="898" name=""/>
              <p:cNvSpPr/>
              <p:nvPr/>
            </p:nvSpPr>
            <p:spPr>
              <a:xfrm flipV="1">
                <a:off x="667440" y="6237000"/>
                <a:ext cx="81000" cy="70200"/>
              </a:xfrm>
              <a:custGeom>
                <a:avLst/>
                <a:gdLst>
                  <a:gd name="textAreaLeft" fmla="*/ 19080 w 81000"/>
                  <a:gd name="textAreaRight" fmla="*/ 61920 w 81000"/>
                  <a:gd name="textAreaTop" fmla="*/ 16560 h 70200"/>
                  <a:gd name="textAreaBottom" fmla="*/ 53640 h 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81" y="21600"/>
                    </a:lnTo>
                    <a:lnTo>
                      <a:pt x="601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1d1d1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4640" y="6203520"/>
                <a:ext cx="67320" cy="34200"/>
              </a:xfrm>
              <a:custGeom>
                <a:avLst/>
                <a:gdLst>
                  <a:gd name="textAreaLeft" fmla="*/ 14760 w 67320"/>
                  <a:gd name="textAreaRight" fmla="*/ 52560 w 67320"/>
                  <a:gd name="textAreaTop" fmla="*/ 7560 h 34200"/>
                  <a:gd name="textAreaBottom" fmla="*/ 26640 h 3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3068640" y="3760920"/>
            <a:ext cx="401400" cy="2545560"/>
            <a:chOff x="3068640" y="3760920"/>
            <a:chExt cx="401400" cy="2545560"/>
          </a:xfrm>
        </p:grpSpPr>
        <p:grpSp>
          <p:nvGrpSpPr>
            <p:cNvPr id="901" name=""/>
            <p:cNvGrpSpPr/>
            <p:nvPr/>
          </p:nvGrpSpPr>
          <p:grpSpPr>
            <a:xfrm>
              <a:off x="3154680" y="5073120"/>
              <a:ext cx="229320" cy="1069560"/>
              <a:chOff x="3154680" y="5073120"/>
              <a:chExt cx="229320" cy="1069560"/>
            </a:xfrm>
          </p:grpSpPr>
          <p:sp>
            <p:nvSpPr>
              <p:cNvPr id="902" name=""/>
              <p:cNvSpPr/>
              <p:nvPr/>
            </p:nvSpPr>
            <p:spPr>
              <a:xfrm>
                <a:off x="3154680" y="5073120"/>
                <a:ext cx="86040" cy="68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297600" y="5073120"/>
                <a:ext cx="86040" cy="68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154680" y="6135840"/>
                <a:ext cx="86040" cy="68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297600" y="6135840"/>
                <a:ext cx="86040" cy="68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068640" y="4905000"/>
              <a:ext cx="401400" cy="1396080"/>
              <a:chOff x="3068640" y="4905000"/>
              <a:chExt cx="401400" cy="139608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3347640" y="4905000"/>
                <a:ext cx="122400" cy="1396080"/>
                <a:chOff x="3347640" y="4905000"/>
                <a:chExt cx="122400" cy="139608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3347640" y="4905000"/>
                  <a:ext cx="12204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3350520" y="6192720"/>
                  <a:ext cx="116280" cy="56880"/>
                  <a:chOff x="3350520" y="6192720"/>
                  <a:chExt cx="116280" cy="5688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3352680" y="6192720"/>
                    <a:ext cx="113400" cy="56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3350520" y="6192720"/>
                    <a:ext cx="116280" cy="56880"/>
                    <a:chOff x="3350520" y="6192720"/>
                    <a:chExt cx="116280" cy="5688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33505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343404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337824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34621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34063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7" name=""/>
                <p:cNvSpPr/>
                <p:nvPr/>
              </p:nvSpPr>
              <p:spPr>
                <a:xfrm>
                  <a:off x="3347640" y="5076360"/>
                  <a:ext cx="122400" cy="112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8" name=""/>
                <p:cNvGrpSpPr/>
                <p:nvPr/>
              </p:nvGrpSpPr>
              <p:grpSpPr>
                <a:xfrm>
                  <a:off x="3347640" y="5162400"/>
                  <a:ext cx="122400" cy="972360"/>
                  <a:chOff x="3347640" y="5162400"/>
                  <a:chExt cx="122400" cy="9723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>
                    <a:off x="3347640" y="57096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347640" y="58464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347640" y="59832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347640" y="61200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3347640" y="51624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347640" y="52992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347640" y="54360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347640" y="55728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7" name=""/>
                <p:cNvSpPr/>
                <p:nvPr/>
              </p:nvSpPr>
              <p:spPr>
                <a:xfrm>
                  <a:off x="3358080" y="6249960"/>
                  <a:ext cx="106560" cy="51120"/>
                </a:xfrm>
                <a:custGeom>
                  <a:avLst/>
                  <a:gdLst/>
                  <a:ahLst/>
                  <a:rect l="l" t="t" r="r" b="b"/>
                  <a:pathLst>
                    <a:path w="202" h="86">
                      <a:moveTo>
                        <a:pt x="28" y="0"/>
                      </a:moveTo>
                      <a:lnTo>
                        <a:pt x="172" y="0"/>
                      </a:lnTo>
                      <a:lnTo>
                        <a:pt x="190" y="26"/>
                      </a:lnTo>
                      <a:lnTo>
                        <a:pt x="202" y="53"/>
                      </a:lnTo>
                      <a:lnTo>
                        <a:pt x="154" y="69"/>
                      </a:lnTo>
                      <a:lnTo>
                        <a:pt x="61" y="84"/>
                      </a:lnTo>
                      <a:lnTo>
                        <a:pt x="0" y="86"/>
                      </a:lnTo>
                      <a:lnTo>
                        <a:pt x="7" y="4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64d0c"/>
                    </a:gs>
                    <a:gs pos="50000">
                      <a:srgbClr val="bca91c"/>
                    </a:gs>
                    <a:gs pos="100000">
                      <a:srgbClr val="564d0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3068640" y="4905000"/>
                <a:ext cx="122400" cy="1396080"/>
                <a:chOff x="3068640" y="4905000"/>
                <a:chExt cx="122400" cy="13960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3068640" y="4905000"/>
                  <a:ext cx="12204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0" name=""/>
                <p:cNvGrpSpPr/>
                <p:nvPr/>
              </p:nvGrpSpPr>
              <p:grpSpPr>
                <a:xfrm>
                  <a:off x="3071520" y="6192720"/>
                  <a:ext cx="116280" cy="56880"/>
                  <a:chOff x="3071520" y="6192720"/>
                  <a:chExt cx="116280" cy="5688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3073680" y="6192720"/>
                    <a:ext cx="113400" cy="56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3071520" y="6192720"/>
                    <a:ext cx="116280" cy="56880"/>
                    <a:chOff x="3071520" y="6192720"/>
                    <a:chExt cx="116280" cy="5688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30715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315504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09924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1831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127320" y="6192720"/>
                      <a:ext cx="4680" cy="568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38" name=""/>
                <p:cNvSpPr/>
                <p:nvPr/>
              </p:nvSpPr>
              <p:spPr>
                <a:xfrm>
                  <a:off x="3068640" y="5076360"/>
                  <a:ext cx="122400" cy="112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9" name=""/>
                <p:cNvGrpSpPr/>
                <p:nvPr/>
              </p:nvGrpSpPr>
              <p:grpSpPr>
                <a:xfrm>
                  <a:off x="3068640" y="5162400"/>
                  <a:ext cx="122400" cy="972360"/>
                  <a:chOff x="3068640" y="5162400"/>
                  <a:chExt cx="122400" cy="97236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3068640" y="57096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068640" y="58464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068640" y="59832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3068640" y="61200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3068640" y="51624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3068640" y="52992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68640" y="54360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068640" y="5572800"/>
                    <a:ext cx="122400" cy="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8" name=""/>
                <p:cNvSpPr/>
                <p:nvPr/>
              </p:nvSpPr>
              <p:spPr>
                <a:xfrm flipH="1">
                  <a:off x="3073680" y="6249960"/>
                  <a:ext cx="106560" cy="51120"/>
                </a:xfrm>
                <a:custGeom>
                  <a:avLst/>
                  <a:gdLst/>
                  <a:ahLst/>
                  <a:rect l="l" t="t" r="r" b="b"/>
                  <a:pathLst>
                    <a:path w="202" h="86">
                      <a:moveTo>
                        <a:pt x="28" y="0"/>
                      </a:moveTo>
                      <a:lnTo>
                        <a:pt x="172" y="0"/>
                      </a:lnTo>
                      <a:lnTo>
                        <a:pt x="190" y="26"/>
                      </a:lnTo>
                      <a:lnTo>
                        <a:pt x="202" y="53"/>
                      </a:lnTo>
                      <a:lnTo>
                        <a:pt x="154" y="69"/>
                      </a:lnTo>
                      <a:lnTo>
                        <a:pt x="61" y="84"/>
                      </a:lnTo>
                      <a:lnTo>
                        <a:pt x="0" y="86"/>
                      </a:lnTo>
                      <a:lnTo>
                        <a:pt x="7" y="4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64d0c"/>
                    </a:gs>
                    <a:gs pos="50000">
                      <a:srgbClr val="bca91c"/>
                    </a:gs>
                    <a:gs pos="100000">
                      <a:srgbClr val="564d0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9" name=""/>
            <p:cNvGrpSpPr/>
            <p:nvPr/>
          </p:nvGrpSpPr>
          <p:grpSpPr>
            <a:xfrm>
              <a:off x="3164040" y="3760920"/>
              <a:ext cx="209160" cy="1029960"/>
              <a:chOff x="3164040" y="3760920"/>
              <a:chExt cx="209160" cy="1029960"/>
            </a:xfrm>
          </p:grpSpPr>
          <p:sp>
            <p:nvSpPr>
              <p:cNvPr id="950" name=""/>
              <p:cNvSpPr/>
              <p:nvPr/>
            </p:nvSpPr>
            <p:spPr>
              <a:xfrm>
                <a:off x="3164040" y="3760920"/>
                <a:ext cx="209160" cy="254880"/>
              </a:xfrm>
              <a:custGeom>
                <a:avLst/>
                <a:gdLst/>
                <a:ahLst/>
                <a:rect l="l" t="t" r="r" b="b"/>
                <a:pathLst>
                  <a:path w="350" h="428">
                    <a:moveTo>
                      <a:pt x="0" y="428"/>
                    </a:moveTo>
                    <a:lnTo>
                      <a:pt x="43" y="169"/>
                    </a:lnTo>
                    <a:lnTo>
                      <a:pt x="145" y="23"/>
                    </a:lnTo>
                    <a:lnTo>
                      <a:pt x="180" y="0"/>
                    </a:lnTo>
                    <a:lnTo>
                      <a:pt x="215" y="23"/>
                    </a:lnTo>
                    <a:lnTo>
                      <a:pt x="308" y="169"/>
                    </a:lnTo>
                    <a:lnTo>
                      <a:pt x="350" y="424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64040" y="4010040"/>
                <a:ext cx="209160" cy="7808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92480" y="3861000"/>
                <a:ext cx="150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3164040" y="4790880"/>
              <a:ext cx="209160" cy="1515600"/>
              <a:chOff x="3164040" y="4790880"/>
              <a:chExt cx="209160" cy="1515600"/>
            </a:xfrm>
          </p:grpSpPr>
          <p:sp>
            <p:nvSpPr>
              <p:cNvPr id="954" name=""/>
              <p:cNvSpPr/>
              <p:nvPr/>
            </p:nvSpPr>
            <p:spPr>
              <a:xfrm>
                <a:off x="3164040" y="4790880"/>
                <a:ext cx="209160" cy="56880"/>
              </a:xfrm>
              <a:custGeom>
                <a:avLst/>
                <a:gdLst>
                  <a:gd name="textAreaLeft" fmla="*/ 38880 w 209160"/>
                  <a:gd name="textAreaRight" fmla="*/ 170280 w 209160"/>
                  <a:gd name="textAreaTop" fmla="*/ 10440 h 56880"/>
                  <a:gd name="textAreaBottom" fmla="*/ 46440 h 5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27" y="21600"/>
                    </a:lnTo>
                    <a:lnTo>
                      <a:pt x="407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989898"/>
                  </a:gs>
                  <a:gs pos="100000">
                    <a:srgbClr val="3333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3236760" y="6249600"/>
                <a:ext cx="67320" cy="56880"/>
              </a:xfrm>
              <a:custGeom>
                <a:avLst/>
                <a:gdLst>
                  <a:gd name="textAreaLeft" fmla="*/ 12240 w 67320"/>
                  <a:gd name="textAreaRight" fmla="*/ 55080 w 67320"/>
                  <a:gd name="textAreaTop" fmla="*/ 10440 h 56880"/>
                  <a:gd name="textAreaBottom" fmla="*/ 46440 h 5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37" y="21600"/>
                    </a:lnTo>
                    <a:lnTo>
                      <a:pt x="406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204360" y="4847400"/>
                <a:ext cx="128520" cy="40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204360" y="5362560"/>
                <a:ext cx="128520" cy="31464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204360" y="6106680"/>
                <a:ext cx="128520" cy="114480"/>
              </a:xfrm>
              <a:custGeom>
                <a:avLst/>
                <a:gdLst>
                  <a:gd name="textAreaLeft" fmla="*/ 28080 w 128520"/>
                  <a:gd name="textAreaRight" fmla="*/ 100440 w 128520"/>
                  <a:gd name="textAreaTop" fmla="*/ 25200 h 114480"/>
                  <a:gd name="textAreaBottom" fmla="*/ 89280 h 11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3800"/>
                  </a:gs>
                  <a:gs pos="50000">
                    <a:srgbClr val="b16601"/>
                  </a:gs>
                  <a:gs pos="100000">
                    <a:srgbClr val="6238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04360" y="5791680"/>
                <a:ext cx="128520" cy="31464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204360" y="5677200"/>
                <a:ext cx="128520" cy="114480"/>
              </a:xfrm>
              <a:prstGeom prst="rect">
                <a:avLst/>
              </a:prstGeom>
              <a:gradFill rotWithShape="0">
                <a:gsLst>
                  <a:gs pos="0">
                    <a:srgbClr val="7c7363"/>
                  </a:gs>
                  <a:gs pos="50000">
                    <a:srgbClr val="bdaf97"/>
                  </a:gs>
                  <a:gs pos="100000">
                    <a:srgbClr val="7c736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204360" y="6106680"/>
                <a:ext cx="128520" cy="39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04360" y="4881960"/>
                <a:ext cx="128520" cy="480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04360" y="5104800"/>
                <a:ext cx="128520" cy="1728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04360" y="5203440"/>
                <a:ext cx="128520" cy="4428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04360" y="4971240"/>
                <a:ext cx="128520" cy="2772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52960" y="6221160"/>
                <a:ext cx="35280" cy="28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535353"/>
                  </a:gs>
                  <a:gs pos="100000">
                    <a:srgbClr val="3333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342240" y="5765760"/>
              <a:ext cx="42120" cy="404640"/>
              <a:chOff x="3342240" y="5765760"/>
              <a:chExt cx="42120" cy="404640"/>
            </a:xfrm>
          </p:grpSpPr>
          <p:sp>
            <p:nvSpPr>
              <p:cNvPr id="968" name=""/>
              <p:cNvSpPr/>
              <p:nvPr/>
            </p:nvSpPr>
            <p:spPr>
              <a:xfrm>
                <a:off x="3342240" y="5814000"/>
                <a:ext cx="42120" cy="338400"/>
              </a:xfrm>
              <a:prstGeom prst="rect">
                <a:avLst/>
              </a:prstGeom>
              <a:gradFill rotWithShape="0">
                <a:gsLst>
                  <a:gs pos="0">
                    <a:srgbClr val="450000"/>
                  </a:gs>
                  <a:gs pos="50000">
                    <a:srgbClr val="990000"/>
                  </a:gs>
                  <a:gs pos="100000">
                    <a:srgbClr val="45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342600" y="5765760"/>
                <a:ext cx="41400" cy="48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341880" y="6153120"/>
                <a:ext cx="41400" cy="17280"/>
              </a:xfrm>
              <a:custGeom>
                <a:avLst/>
                <a:gdLst>
                  <a:gd name="textAreaLeft" fmla="*/ 9000 w 41400"/>
                  <a:gd name="textAreaRight" fmla="*/ 32400 w 41400"/>
                  <a:gd name="textAreaTop" fmla="*/ 3600 h 17280"/>
                  <a:gd name="textAreaBottom" fmla="*/ 13680 h 1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4f4f"/>
                  </a:gs>
                  <a:gs pos="50000">
                    <a:srgbClr val="dddddd"/>
                  </a:gs>
                  <a:gs pos="100000">
                    <a:srgbClr val="4f4f4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"/>
          <p:cNvGrpSpPr/>
          <p:nvPr/>
        </p:nvGrpSpPr>
        <p:grpSpPr>
          <a:xfrm>
            <a:off x="8822880" y="3911760"/>
            <a:ext cx="268200" cy="2395440"/>
            <a:chOff x="8822880" y="3911760"/>
            <a:chExt cx="268200" cy="2395440"/>
          </a:xfrm>
        </p:grpSpPr>
        <p:sp>
          <p:nvSpPr>
            <p:cNvPr id="972" name=""/>
            <p:cNvSpPr/>
            <p:nvPr/>
          </p:nvSpPr>
          <p:spPr>
            <a:xfrm>
              <a:off x="8883000" y="4060800"/>
              <a:ext cx="148680" cy="1872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8883000" y="6253920"/>
              <a:ext cx="59040" cy="53280"/>
            </a:xfrm>
            <a:custGeom>
              <a:avLst/>
              <a:gdLst>
                <a:gd name="textAreaLeft" fmla="*/ 15480 w 59040"/>
                <a:gd name="textAreaRight" fmla="*/ 43560 w 59040"/>
                <a:gd name="textAreaTop" fmla="*/ 14040 h 53280"/>
                <a:gd name="textAreaBottom" fmla="*/ 3924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50000">
                  <a:srgbClr val="cfcfcf"/>
                </a:gs>
                <a:gs pos="100000">
                  <a:srgbClr val="5f5f5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896680" y="4328280"/>
              <a:ext cx="120600" cy="401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883000" y="4916520"/>
              <a:ext cx="148680" cy="32076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883000" y="5290920"/>
              <a:ext cx="148680" cy="32076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883000" y="4248000"/>
              <a:ext cx="148680" cy="53280"/>
            </a:xfrm>
            <a:custGeom>
              <a:avLst/>
              <a:gdLst>
                <a:gd name="textAreaLeft" fmla="*/ 19440 w 148680"/>
                <a:gd name="textAreaRight" fmla="*/ 129240 w 148680"/>
                <a:gd name="textAreaTop" fmla="*/ 6840 h 53280"/>
                <a:gd name="textAreaBottom" fmla="*/ 4644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0" y="21600"/>
                  </a:lnTo>
                  <a:lnTo>
                    <a:pt x="198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dddddd"/>
                </a:gs>
                <a:gs pos="100000">
                  <a:srgbClr val="91919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8883000" y="4728960"/>
              <a:ext cx="148680" cy="160200"/>
            </a:xfrm>
            <a:custGeom>
              <a:avLst/>
              <a:gdLst>
                <a:gd name="textAreaLeft" fmla="*/ 19440 w 148680"/>
                <a:gd name="textAreaRight" fmla="*/ 129240 w 148680"/>
                <a:gd name="textAreaTop" fmla="*/ 20880 h 160200"/>
                <a:gd name="textAreaBottom" fmla="*/ 139320 h 16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1" y="21600"/>
                  </a:lnTo>
                  <a:lnTo>
                    <a:pt x="197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dddddd"/>
                </a:gs>
                <a:gs pos="100000">
                  <a:srgbClr val="91919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883000" y="5692320"/>
              <a:ext cx="148680" cy="401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883000" y="6081480"/>
              <a:ext cx="148680" cy="172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883000" y="5665320"/>
              <a:ext cx="148680" cy="2664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883000" y="5612040"/>
              <a:ext cx="148680" cy="532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883000" y="6146640"/>
              <a:ext cx="148680" cy="2664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883000" y="4889880"/>
              <a:ext cx="148680" cy="2664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8905320" y="5692320"/>
              <a:ext cx="106200" cy="454320"/>
              <a:chOff x="8905320" y="5692320"/>
              <a:chExt cx="106200" cy="45432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8994240" y="5692320"/>
                <a:ext cx="17280" cy="454320"/>
                <a:chOff x="8994240" y="5692320"/>
                <a:chExt cx="17280" cy="4543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9001080" y="58705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994240" y="58546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001080" y="58381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994240" y="58222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9001080" y="5805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994240" y="57898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9001080" y="57729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994240" y="57571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9001080" y="57405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994240" y="5724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9001080" y="57081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994240" y="56923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9001080" y="59032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994240" y="5887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9001080" y="59353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994240" y="59194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9001080" y="5967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994240" y="59518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9001080" y="60004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994240" y="59846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001080" y="60332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994240" y="60170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001080" y="60656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994240" y="6049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9001080" y="60980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994240" y="608220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9001080" y="6130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994240" y="611460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8905320" y="5692320"/>
                <a:ext cx="17280" cy="454320"/>
                <a:chOff x="8905320" y="5692320"/>
                <a:chExt cx="17280" cy="4543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8912160" y="58705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905320" y="58546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912160" y="58381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905320" y="58222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912160" y="5805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905320" y="57898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912160" y="57729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905320" y="57571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912160" y="57405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905320" y="5724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912160" y="570816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905320" y="56923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912160" y="59032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905320" y="5887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912160" y="59353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8905320" y="59194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912160" y="596772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8905320" y="59518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8912160" y="600048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8905320" y="59846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912160" y="60332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905320" y="60170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912160" y="60656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905320" y="6049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912160" y="60980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905320" y="608220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912160" y="613044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8905320" y="6114600"/>
                  <a:ext cx="10440" cy="1620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4" name=""/>
            <p:cNvSpPr/>
            <p:nvPr/>
          </p:nvSpPr>
          <p:spPr>
            <a:xfrm>
              <a:off x="8896680" y="4301640"/>
              <a:ext cx="120600" cy="2664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8972280" y="6253920"/>
              <a:ext cx="59040" cy="53280"/>
            </a:xfrm>
            <a:custGeom>
              <a:avLst/>
              <a:gdLst>
                <a:gd name="textAreaLeft" fmla="*/ 15480 w 59040"/>
                <a:gd name="textAreaRight" fmla="*/ 43560 w 59040"/>
                <a:gd name="textAreaTop" fmla="*/ 14040 h 53280"/>
                <a:gd name="textAreaBottom" fmla="*/ 3924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50000">
                  <a:srgbClr val="cfcfcf"/>
                </a:gs>
                <a:gs pos="100000">
                  <a:srgbClr val="5f5f5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883000" y="6253920"/>
              <a:ext cx="148680" cy="15840"/>
            </a:xfrm>
            <a:custGeom>
              <a:avLst/>
              <a:gdLst>
                <a:gd name="textAreaLeft" fmla="*/ 16200 w 148680"/>
                <a:gd name="textAreaRight" fmla="*/ 132480 w 148680"/>
                <a:gd name="textAreaTop" fmla="*/ 1440 h 15840"/>
                <a:gd name="textAreaBottom" fmla="*/ 14400 h 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0" y="21600"/>
                  </a:lnTo>
                  <a:lnTo>
                    <a:pt x="108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89898"/>
                </a:gs>
                <a:gs pos="50000">
                  <a:srgbClr val="b2b2b2"/>
                </a:gs>
                <a:gs pos="100000">
                  <a:srgbClr val="98989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883000" y="5264280"/>
              <a:ext cx="148680" cy="53280"/>
            </a:xfrm>
            <a:prstGeom prst="blockArc">
              <a:avLst>
                <a:gd name="adj1" fmla="val 10800000"/>
                <a:gd name="adj2" fmla="val 0"/>
                <a:gd name="adj3" fmla="val 48750"/>
              </a:avLst>
            </a:prstGeom>
            <a:gradFill rotWithShape="0">
              <a:gsLst>
                <a:gs pos="0">
                  <a:srgbClr val="491200"/>
                </a:gs>
                <a:gs pos="50000">
                  <a:srgbClr val="cc3300"/>
                </a:gs>
                <a:gs pos="100000">
                  <a:srgbClr val="49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883000" y="5237640"/>
              <a:ext cx="148680" cy="53280"/>
              <a:chOff x="8883000" y="5237640"/>
              <a:chExt cx="148680" cy="53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8883000" y="5237640"/>
                <a:ext cx="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88300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890136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92008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893880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95752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897588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99460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9013320" y="5237640"/>
                <a:ext cx="1836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9031680" y="5237640"/>
                <a:ext cx="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822880" y="6173640"/>
              <a:ext cx="268200" cy="96840"/>
              <a:chOff x="8822880" y="6173640"/>
              <a:chExt cx="268200" cy="96840"/>
            </a:xfrm>
          </p:grpSpPr>
          <p:sp>
            <p:nvSpPr>
              <p:cNvPr id="1060" name=""/>
              <p:cNvSpPr/>
              <p:nvPr/>
            </p:nvSpPr>
            <p:spPr>
              <a:xfrm>
                <a:off x="9031680" y="6173640"/>
                <a:ext cx="59400" cy="968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8822520" y="6173640"/>
                <a:ext cx="59400" cy="9684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9031680" y="6197760"/>
                <a:ext cx="59400" cy="727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8822520" y="6197760"/>
                <a:ext cx="59400" cy="727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8956080" y="6173640"/>
                <a:ext cx="7200" cy="96840"/>
                <a:chOff x="8956080" y="6173640"/>
                <a:chExt cx="7200" cy="9684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8956080" y="6173640"/>
                  <a:ext cx="7200" cy="968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0"/>
                      </a:moveTo>
                      <a:lnTo>
                        <a:pt x="144" y="96"/>
                      </a:lnTo>
                      <a:lnTo>
                        <a:pt x="144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bdbdb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956080" y="6197760"/>
                  <a:ext cx="7200" cy="727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0"/>
                      </a:moveTo>
                      <a:lnTo>
                        <a:pt x="144" y="96"/>
                      </a:lnTo>
                      <a:lnTo>
                        <a:pt x="144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bdbdb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7" name=""/>
            <p:cNvGrpSpPr/>
            <p:nvPr/>
          </p:nvGrpSpPr>
          <p:grpSpPr>
            <a:xfrm>
              <a:off x="8883000" y="3911760"/>
              <a:ext cx="148680" cy="149040"/>
              <a:chOff x="8883000" y="3911760"/>
              <a:chExt cx="148680" cy="149040"/>
            </a:xfrm>
          </p:grpSpPr>
          <p:sp>
            <p:nvSpPr>
              <p:cNvPr id="1068" name=""/>
              <p:cNvSpPr/>
              <p:nvPr/>
            </p:nvSpPr>
            <p:spPr>
              <a:xfrm>
                <a:off x="8923680" y="3911760"/>
                <a:ext cx="66960" cy="63360"/>
              </a:xfrm>
              <a:prstGeom prst="blockArc">
                <a:avLst>
                  <a:gd name="adj1" fmla="val 10800000"/>
                  <a:gd name="adj2" fmla="val 0"/>
                  <a:gd name="adj3" fmla="val 48750"/>
                </a:avLst>
              </a:pr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883000" y="3934080"/>
                <a:ext cx="148680" cy="126720"/>
              </a:xfrm>
              <a:custGeom>
                <a:avLst/>
                <a:gdLst>
                  <a:gd name="textAreaLeft" fmla="*/ 35280 w 148680"/>
                  <a:gd name="textAreaRight" fmla="*/ 113400 w 148680"/>
                  <a:gd name="textAreaTop" fmla="*/ 29880 h 126720"/>
                  <a:gd name="textAreaBottom" fmla="*/ 96840 h 12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10" y="21600"/>
                    </a:lnTo>
                    <a:lnTo>
                      <a:pt x="609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0" name=""/>
          <p:cNvSpPr/>
          <p:nvPr/>
        </p:nvSpPr>
        <p:spPr>
          <a:xfrm>
            <a:off x="8751960" y="6400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CZ-3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824360" y="3720960"/>
            <a:ext cx="228600" cy="2570400"/>
            <a:chOff x="4824360" y="3720960"/>
            <a:chExt cx="228600" cy="2570400"/>
          </a:xfrm>
        </p:grpSpPr>
        <p:sp>
          <p:nvSpPr>
            <p:cNvPr id="1072" name=""/>
            <p:cNvSpPr/>
            <p:nvPr/>
          </p:nvSpPr>
          <p:spPr>
            <a:xfrm>
              <a:off x="4824360" y="4013640"/>
              <a:ext cx="228600" cy="594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24360" y="4607640"/>
              <a:ext cx="228600" cy="85680"/>
            </a:xfrm>
            <a:custGeom>
              <a:avLst/>
              <a:gdLst>
                <a:gd name="textAreaLeft" fmla="*/ 34200 w 228600"/>
                <a:gd name="textAreaRight" fmla="*/ 194400 w 228600"/>
                <a:gd name="textAreaTop" fmla="*/ 12600 h 85680"/>
                <a:gd name="textAreaBottom" fmla="*/ 7308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7d7d7"/>
                </a:gs>
                <a:gs pos="100000">
                  <a:srgbClr val="80808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24360" y="3720960"/>
              <a:ext cx="228600" cy="303840"/>
            </a:xfrm>
            <a:custGeom>
              <a:avLst/>
              <a:gdLst/>
              <a:ahLst/>
              <a:rect l="l" t="t" r="r" b="b"/>
              <a:pathLst>
                <a:path w="308" h="517">
                  <a:moveTo>
                    <a:pt x="0" y="517"/>
                  </a:moveTo>
                  <a:lnTo>
                    <a:pt x="13" y="340"/>
                  </a:lnTo>
                  <a:lnTo>
                    <a:pt x="38" y="194"/>
                  </a:lnTo>
                  <a:lnTo>
                    <a:pt x="80" y="83"/>
                  </a:lnTo>
                  <a:lnTo>
                    <a:pt x="128" y="12"/>
                  </a:lnTo>
                  <a:lnTo>
                    <a:pt x="160" y="0"/>
                  </a:lnTo>
                  <a:lnTo>
                    <a:pt x="189" y="12"/>
                  </a:lnTo>
                  <a:lnTo>
                    <a:pt x="228" y="80"/>
                  </a:lnTo>
                  <a:lnTo>
                    <a:pt x="271" y="194"/>
                  </a:lnTo>
                  <a:lnTo>
                    <a:pt x="296" y="338"/>
                  </a:lnTo>
                  <a:lnTo>
                    <a:pt x="308" y="512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824360" y="4693320"/>
              <a:ext cx="228240" cy="1598040"/>
              <a:chOff x="4824360" y="4693320"/>
              <a:chExt cx="228240" cy="1598040"/>
            </a:xfrm>
          </p:grpSpPr>
          <p:sp>
            <p:nvSpPr>
              <p:cNvPr id="1076" name=""/>
              <p:cNvSpPr/>
              <p:nvPr/>
            </p:nvSpPr>
            <p:spPr>
              <a:xfrm>
                <a:off x="4852800" y="4921920"/>
                <a:ext cx="171360" cy="1287000"/>
              </a:xfrm>
              <a:prstGeom prst="rect">
                <a:avLst/>
              </a:prstGeom>
              <a:gradFill rotWithShape="0">
                <a:gsLst>
                  <a:gs pos="0">
                    <a:srgbClr val="542a00"/>
                  </a:gs>
                  <a:gs pos="50000">
                    <a:srgbClr val="984c00"/>
                  </a:gs>
                  <a:gs pos="100000">
                    <a:srgbClr val="542a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852800" y="4693320"/>
                <a:ext cx="171360" cy="2286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4879080" y="6209280"/>
                <a:ext cx="53640" cy="82080"/>
              </a:xfrm>
              <a:custGeom>
                <a:avLst/>
                <a:gdLst>
                  <a:gd name="textAreaLeft" fmla="*/ 11520 w 53640"/>
                  <a:gd name="textAreaRight" fmla="*/ 42120 w 53640"/>
                  <a:gd name="textAreaTop" fmla="*/ 18000 h 82080"/>
                  <a:gd name="textAreaBottom" fmla="*/ 64080 h 8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2e"/>
                  </a:gs>
                  <a:gs pos="50000">
                    <a:srgbClr val="808080"/>
                  </a:gs>
                  <a:gs pos="100000">
                    <a:srgbClr val="2e2e2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943880" y="6209280"/>
                <a:ext cx="53640" cy="82080"/>
              </a:xfrm>
              <a:custGeom>
                <a:avLst/>
                <a:gdLst>
                  <a:gd name="textAreaLeft" fmla="*/ 11520 w 53640"/>
                  <a:gd name="textAreaRight" fmla="*/ 42120 w 53640"/>
                  <a:gd name="textAreaTop" fmla="*/ 18000 h 82080"/>
                  <a:gd name="textAreaBottom" fmla="*/ 64080 h 8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2e"/>
                  </a:gs>
                  <a:gs pos="50000">
                    <a:srgbClr val="808080"/>
                  </a:gs>
                  <a:gs pos="100000">
                    <a:srgbClr val="2e2e2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24800" y="4921920"/>
                <a:ext cx="17280" cy="1287000"/>
              </a:xfrm>
              <a:prstGeom prst="rect">
                <a:avLst/>
              </a:prstGeom>
              <a:gradFill rotWithShape="0">
                <a:gsLst>
                  <a:gs pos="0">
                    <a:srgbClr val="542a00"/>
                  </a:gs>
                  <a:gs pos="50000">
                    <a:srgbClr val="984c00"/>
                  </a:gs>
                  <a:gs pos="100000">
                    <a:srgbClr val="542a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4824360" y="5420880"/>
                <a:ext cx="228240" cy="850680"/>
                <a:chOff x="4824360" y="5420880"/>
                <a:chExt cx="228240" cy="850680"/>
              </a:xfrm>
            </p:grpSpPr>
            <p:sp>
              <p:nvSpPr>
                <p:cNvPr id="1082" name=""/>
                <p:cNvSpPr/>
                <p:nvPr/>
              </p:nvSpPr>
              <p:spPr>
                <a:xfrm flipV="1">
                  <a:off x="4834440" y="6224400"/>
                  <a:ext cx="45000" cy="45720"/>
                </a:xfrm>
                <a:custGeom>
                  <a:avLst/>
                  <a:gdLst>
                    <a:gd name="textAreaLeft" fmla="*/ 9720 w 45000"/>
                    <a:gd name="textAreaRight" fmla="*/ 35280 w 45000"/>
                    <a:gd name="textAreaTop" fmla="*/ 10080 h 45720"/>
                    <a:gd name="textAreaBottom" fmla="*/ 35640 h 45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824360" y="5522760"/>
                  <a:ext cx="67680" cy="70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984920" y="5522760"/>
                  <a:ext cx="67680" cy="70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4914360" y="6225120"/>
                  <a:ext cx="45000" cy="45720"/>
                </a:xfrm>
                <a:custGeom>
                  <a:avLst/>
                  <a:gdLst>
                    <a:gd name="textAreaLeft" fmla="*/ 9720 w 45000"/>
                    <a:gd name="textAreaRight" fmla="*/ 35280 w 45000"/>
                    <a:gd name="textAreaTop" fmla="*/ 10080 h 45720"/>
                    <a:gd name="textAreaBottom" fmla="*/ 35640 h 45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4996440" y="6225480"/>
                  <a:ext cx="45000" cy="45720"/>
                </a:xfrm>
                <a:custGeom>
                  <a:avLst/>
                  <a:gdLst>
                    <a:gd name="textAreaLeft" fmla="*/ 9720 w 45000"/>
                    <a:gd name="textAreaRight" fmla="*/ 35280 w 45000"/>
                    <a:gd name="textAreaTop" fmla="*/ 10080 h 45720"/>
                    <a:gd name="textAreaBottom" fmla="*/ 35640 h 45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4f4f"/>
                    </a:gs>
                    <a:gs pos="50000">
                      <a:srgbClr val="dddddd"/>
                    </a:gs>
                    <a:gs pos="100000">
                      <a:srgbClr val="4f4f4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824360" y="5421960"/>
                  <a:ext cx="67680" cy="100440"/>
                </a:xfrm>
                <a:custGeom>
                  <a:avLst/>
                  <a:gdLst/>
                  <a:ahLst/>
                  <a:rect l="l" t="t" r="r" b="b"/>
                  <a:pathLst>
                    <a:path w="121" h="169">
                      <a:moveTo>
                        <a:pt x="0" y="169"/>
                      </a:moveTo>
                      <a:lnTo>
                        <a:pt x="26" y="99"/>
                      </a:lnTo>
                      <a:lnTo>
                        <a:pt x="53" y="49"/>
                      </a:lnTo>
                      <a:lnTo>
                        <a:pt x="107" y="0"/>
                      </a:lnTo>
                      <a:lnTo>
                        <a:pt x="121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2f2f2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>
                  <a:off x="4984920" y="5421960"/>
                  <a:ext cx="67680" cy="100440"/>
                </a:xfrm>
                <a:custGeom>
                  <a:avLst/>
                  <a:gdLst/>
                  <a:ahLst/>
                  <a:rect l="l" t="t" r="r" b="b"/>
                  <a:pathLst>
                    <a:path w="121" h="169">
                      <a:moveTo>
                        <a:pt x="0" y="169"/>
                      </a:moveTo>
                      <a:lnTo>
                        <a:pt x="26" y="99"/>
                      </a:lnTo>
                      <a:lnTo>
                        <a:pt x="53" y="49"/>
                      </a:lnTo>
                      <a:lnTo>
                        <a:pt x="107" y="0"/>
                      </a:lnTo>
                      <a:lnTo>
                        <a:pt x="121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2f2f2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904640" y="5522760"/>
                  <a:ext cx="67680" cy="70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e8e8e"/>
                    </a:gs>
                    <a:gs pos="50000">
                      <a:srgbClr val="ffffff"/>
                    </a:gs>
                    <a:gs pos="100000">
                      <a:srgbClr val="8e8e8e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904640" y="5420880"/>
                  <a:ext cx="67680" cy="101880"/>
                </a:xfrm>
                <a:custGeom>
                  <a:avLst/>
                  <a:gdLst/>
                  <a:ahLst/>
                  <a:rect l="l" t="t" r="r" b="b"/>
                  <a:pathLst>
                    <a:path w="121" h="171">
                      <a:moveTo>
                        <a:pt x="0" y="171"/>
                      </a:moveTo>
                      <a:lnTo>
                        <a:pt x="6" y="101"/>
                      </a:lnTo>
                      <a:lnTo>
                        <a:pt x="21" y="57"/>
                      </a:lnTo>
                      <a:lnTo>
                        <a:pt x="62" y="0"/>
                      </a:lnTo>
                      <a:lnTo>
                        <a:pt x="101" y="54"/>
                      </a:lnTo>
                      <a:lnTo>
                        <a:pt x="114" y="101"/>
                      </a:lnTo>
                      <a:lnTo>
                        <a:pt x="121" y="171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2f2f2"/>
                    </a:gs>
                    <a:gs pos="100000">
                      <a:srgbClr val="80808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1" name=""/>
          <p:cNvSpPr/>
          <p:nvPr/>
        </p:nvSpPr>
        <p:spPr>
          <a:xfrm>
            <a:off x="4748040" y="6400800"/>
            <a:ext cx="381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tlas V55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422360" y="6400800"/>
            <a:ext cx="410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aturn 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09360" y="6400800"/>
            <a:ext cx="38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aturn 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920" y="6400800"/>
            <a:ext cx="3808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tlas LV3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080" y="6400800"/>
            <a:ext cx="420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Redst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63400" y="6400800"/>
            <a:ext cx="503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Titan-I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031840" y="4121280"/>
            <a:ext cx="979560" cy="2172600"/>
            <a:chOff x="2031840" y="4121280"/>
            <a:chExt cx="979560" cy="2172600"/>
          </a:xfrm>
        </p:grpSpPr>
        <p:grpSp>
          <p:nvGrpSpPr>
            <p:cNvPr id="1098" name=""/>
            <p:cNvGrpSpPr/>
            <p:nvPr/>
          </p:nvGrpSpPr>
          <p:grpSpPr>
            <a:xfrm>
              <a:off x="2140560" y="4121280"/>
              <a:ext cx="761760" cy="2172600"/>
              <a:chOff x="2140560" y="4121280"/>
              <a:chExt cx="761760" cy="217260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2140560" y="4551480"/>
                <a:ext cx="234000" cy="1742400"/>
                <a:chOff x="2140560" y="4551480"/>
                <a:chExt cx="234000" cy="1742400"/>
              </a:xfrm>
            </p:grpSpPr>
            <p:sp>
              <p:nvSpPr>
                <p:cNvPr id="1100" name=""/>
                <p:cNvSpPr/>
                <p:nvPr/>
              </p:nvSpPr>
              <p:spPr>
                <a:xfrm flipV="1">
                  <a:off x="2140560" y="6148080"/>
                  <a:ext cx="234000" cy="92520"/>
                </a:xfrm>
                <a:custGeom>
                  <a:avLst/>
                  <a:gdLst>
                    <a:gd name="textAreaLeft" fmla="*/ 42120 w 234000"/>
                    <a:gd name="textAreaRight" fmla="*/ 191880 w 234000"/>
                    <a:gd name="textAreaTop" fmla="*/ 16560 h 92520"/>
                    <a:gd name="textAreaBottom" fmla="*/ 75960 h 92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30" y="21600"/>
                      </a:lnTo>
                      <a:lnTo>
                        <a:pt x="387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2175480" y="6240600"/>
                  <a:ext cx="162000" cy="52920"/>
                </a:xfrm>
                <a:custGeom>
                  <a:avLst/>
                  <a:gdLst>
                    <a:gd name="textAreaLeft" fmla="*/ 20880 w 162000"/>
                    <a:gd name="textAreaRight" fmla="*/ 141120 w 162000"/>
                    <a:gd name="textAreaTop" fmla="*/ 6840 h 52920"/>
                    <a:gd name="textAreaBottom" fmla="*/ 46080 h 52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12" y="21600"/>
                      </a:lnTo>
                      <a:lnTo>
                        <a:pt x="188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b5f2"/>
                    </a:gs>
                    <a:gs pos="50000">
                      <a:srgbClr val="dfe5f9"/>
                    </a:gs>
                    <a:gs pos="100000">
                      <a:srgbClr val="a2b5f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182320" y="4745160"/>
                  <a:ext cx="148320" cy="140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2182320" y="4631040"/>
                  <a:ext cx="148320" cy="113400"/>
                </a:xfrm>
                <a:custGeom>
                  <a:avLst/>
                  <a:gdLst>
                    <a:gd name="textAreaLeft" fmla="*/ 30600 w 148320"/>
                    <a:gd name="textAreaRight" fmla="*/ 117720 w 148320"/>
                    <a:gd name="textAreaTop" fmla="*/ 23400 h 113400"/>
                    <a:gd name="textAreaBottom" fmla="*/ 90000 h 11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54" y="21600"/>
                      </a:lnTo>
                      <a:lnTo>
                        <a:pt x="494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2271240" y="4631760"/>
                  <a:ext cx="33120" cy="28080"/>
                </a:xfrm>
                <a:prstGeom prst="parallelogram">
                  <a:avLst>
                    <a:gd name="adj" fmla="val 29984"/>
                  </a:avLst>
                </a:prstGeom>
                <a:solidFill>
                  <a:srgbClr val="66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2182320" y="4884120"/>
                  <a:ext cx="148320" cy="758880"/>
                  <a:chOff x="2182320" y="4884120"/>
                  <a:chExt cx="148320" cy="75888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 flipH="1">
                    <a:off x="2182320" y="488412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2182320" y="503568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>
                    <a:off x="2182320" y="51876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2182320" y="533952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2182320" y="549108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2182320" y="56430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2182320" y="6009840"/>
                  <a:ext cx="148320" cy="83160"/>
                  <a:chOff x="2182320" y="6009840"/>
                  <a:chExt cx="148320" cy="8316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2182320" y="600984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182320" y="605124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182320" y="60930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6" name=""/>
                <p:cNvSpPr/>
                <p:nvPr/>
              </p:nvSpPr>
              <p:spPr>
                <a:xfrm>
                  <a:off x="2177280" y="6148800"/>
                  <a:ext cx="55440" cy="92520"/>
                </a:xfrm>
                <a:prstGeom prst="parallelogram">
                  <a:avLst>
                    <a:gd name="adj" fmla="val 47958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>
                  <a:off x="2267280" y="6158880"/>
                  <a:ext cx="40320" cy="37080"/>
                </a:xfrm>
                <a:prstGeom prst="parallelogram">
                  <a:avLst>
                    <a:gd name="adj" fmla="val 27567"/>
                  </a:avLst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2312280" y="6149160"/>
                  <a:ext cx="61200" cy="91440"/>
                </a:xfrm>
                <a:prstGeom prst="parallelogram">
                  <a:avLst>
                    <a:gd name="adj" fmla="val 6851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203200" y="4773600"/>
                  <a:ext cx="36720" cy="277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215800" y="4551480"/>
                  <a:ext cx="80280" cy="80280"/>
                </a:xfrm>
                <a:custGeom>
                  <a:avLst/>
                  <a:gdLst/>
                  <a:ahLst/>
                  <a:rect l="l" t="t" r="r" b="b"/>
                  <a:pathLst>
                    <a:path w="142" h="136">
                      <a:moveTo>
                        <a:pt x="0" y="136"/>
                      </a:moveTo>
                      <a:lnTo>
                        <a:pt x="31" y="48"/>
                      </a:lnTo>
                      <a:lnTo>
                        <a:pt x="47" y="12"/>
                      </a:lnTo>
                      <a:lnTo>
                        <a:pt x="71" y="0"/>
                      </a:lnTo>
                      <a:lnTo>
                        <a:pt x="95" y="13"/>
                      </a:lnTo>
                      <a:lnTo>
                        <a:pt x="112" y="48"/>
                      </a:lnTo>
                      <a:lnTo>
                        <a:pt x="142" y="136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668320" y="4551480"/>
                <a:ext cx="234000" cy="1742400"/>
                <a:chOff x="2668320" y="4551480"/>
                <a:chExt cx="234000" cy="1742400"/>
              </a:xfrm>
            </p:grpSpPr>
            <p:sp>
              <p:nvSpPr>
                <p:cNvPr id="1122" name=""/>
                <p:cNvSpPr/>
                <p:nvPr/>
              </p:nvSpPr>
              <p:spPr>
                <a:xfrm flipH="1" flipV="1">
                  <a:off x="2668320" y="6148080"/>
                  <a:ext cx="234000" cy="92520"/>
                </a:xfrm>
                <a:custGeom>
                  <a:avLst/>
                  <a:gdLst>
                    <a:gd name="textAreaLeft" fmla="*/ 42120 w 234000"/>
                    <a:gd name="textAreaRight" fmla="*/ 191880 w 234000"/>
                    <a:gd name="textAreaTop" fmla="*/ 16560 h 92520"/>
                    <a:gd name="textAreaBottom" fmla="*/ 75960 h 92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30" y="21600"/>
                      </a:lnTo>
                      <a:lnTo>
                        <a:pt x="387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 flipV="1">
                  <a:off x="2705040" y="6240600"/>
                  <a:ext cx="162000" cy="52920"/>
                </a:xfrm>
                <a:custGeom>
                  <a:avLst/>
                  <a:gdLst>
                    <a:gd name="textAreaLeft" fmla="*/ 20880 w 162000"/>
                    <a:gd name="textAreaRight" fmla="*/ 141120 w 162000"/>
                    <a:gd name="textAreaTop" fmla="*/ 6840 h 52920"/>
                    <a:gd name="textAreaBottom" fmla="*/ 46080 h 52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12" y="21600"/>
                      </a:lnTo>
                      <a:lnTo>
                        <a:pt x="188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b5f2"/>
                    </a:gs>
                    <a:gs pos="50000">
                      <a:srgbClr val="dfe5f9"/>
                    </a:gs>
                    <a:gs pos="100000">
                      <a:srgbClr val="a2b5f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711880" y="4745160"/>
                  <a:ext cx="148320" cy="140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flipV="1">
                  <a:off x="2711880" y="4631040"/>
                  <a:ext cx="148320" cy="113400"/>
                </a:xfrm>
                <a:custGeom>
                  <a:avLst/>
                  <a:gdLst>
                    <a:gd name="textAreaLeft" fmla="*/ 30600 w 148320"/>
                    <a:gd name="textAreaRight" fmla="*/ 117720 w 148320"/>
                    <a:gd name="textAreaTop" fmla="*/ 23400 h 113400"/>
                    <a:gd name="textAreaBottom" fmla="*/ 90000 h 113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54" y="21600"/>
                      </a:lnTo>
                      <a:lnTo>
                        <a:pt x="494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738160" y="4631760"/>
                  <a:ext cx="33120" cy="28080"/>
                </a:xfrm>
                <a:prstGeom prst="parallelogram">
                  <a:avLst>
                    <a:gd name="adj" fmla="val 29984"/>
                  </a:avLst>
                </a:prstGeom>
                <a:solidFill>
                  <a:srgbClr val="66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2711880" y="4884120"/>
                  <a:ext cx="148320" cy="758880"/>
                  <a:chOff x="2711880" y="4884120"/>
                  <a:chExt cx="148320" cy="75888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>
                    <a:off x="2711880" y="488412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11880" y="503568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11880" y="51876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11880" y="533952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11880" y="549108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11880" y="56430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2711880" y="6009840"/>
                  <a:ext cx="148320" cy="83160"/>
                  <a:chOff x="2711880" y="6009840"/>
                  <a:chExt cx="148320" cy="8316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flipH="1">
                    <a:off x="2711880" y="600984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>
                    <a:off x="2711880" y="605124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2711880" y="6093000"/>
                    <a:ext cx="1483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8" name=""/>
                <p:cNvSpPr/>
                <p:nvPr/>
              </p:nvSpPr>
              <p:spPr>
                <a:xfrm flipH="1">
                  <a:off x="2810160" y="6148800"/>
                  <a:ext cx="55440" cy="92520"/>
                </a:xfrm>
                <a:prstGeom prst="parallelogram">
                  <a:avLst>
                    <a:gd name="adj" fmla="val 47958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734920" y="6158880"/>
                  <a:ext cx="40320" cy="37080"/>
                </a:xfrm>
                <a:prstGeom prst="parallelogram">
                  <a:avLst>
                    <a:gd name="adj" fmla="val 27567"/>
                  </a:avLst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669400" y="6149160"/>
                  <a:ext cx="61200" cy="91440"/>
                </a:xfrm>
                <a:prstGeom prst="parallelogram">
                  <a:avLst>
                    <a:gd name="adj" fmla="val 6851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2802600" y="4773600"/>
                  <a:ext cx="36720" cy="277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745720" y="4551480"/>
                  <a:ext cx="80280" cy="80280"/>
                </a:xfrm>
                <a:custGeom>
                  <a:avLst/>
                  <a:gdLst/>
                  <a:ahLst/>
                  <a:rect l="l" t="t" r="r" b="b"/>
                  <a:pathLst>
                    <a:path w="142" h="136">
                      <a:moveTo>
                        <a:pt x="0" y="136"/>
                      </a:moveTo>
                      <a:lnTo>
                        <a:pt x="31" y="48"/>
                      </a:lnTo>
                      <a:lnTo>
                        <a:pt x="47" y="12"/>
                      </a:lnTo>
                      <a:lnTo>
                        <a:pt x="71" y="0"/>
                      </a:lnTo>
                      <a:lnTo>
                        <a:pt x="95" y="13"/>
                      </a:lnTo>
                      <a:lnTo>
                        <a:pt x="112" y="48"/>
                      </a:lnTo>
                      <a:lnTo>
                        <a:pt x="142" y="136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2338920" y="4121280"/>
                <a:ext cx="365040" cy="1872360"/>
                <a:chOff x="2338920" y="4121280"/>
                <a:chExt cx="365040" cy="187236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2338920" y="4943880"/>
                  <a:ext cx="365040" cy="1049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338920" y="4631760"/>
                  <a:ext cx="365040" cy="31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13b00"/>
                    </a:gs>
                    <a:gs pos="50000">
                      <a:srgbClr val="b08200"/>
                    </a:gs>
                    <a:gs pos="100000">
                      <a:srgbClr val="513b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2338920" y="4631040"/>
                  <a:ext cx="365040" cy="1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338920" y="4930560"/>
                  <a:ext cx="365040" cy="13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338920" y="4121280"/>
                  <a:ext cx="365040" cy="511200"/>
                </a:xfrm>
                <a:custGeom>
                  <a:avLst/>
                  <a:gdLst/>
                  <a:ahLst/>
                  <a:rect l="l" t="t" r="r" b="b"/>
                  <a:pathLst>
                    <a:path w="624" h="865">
                      <a:moveTo>
                        <a:pt x="0" y="864"/>
                      </a:moveTo>
                      <a:cubicBezTo>
                        <a:pt x="0" y="795"/>
                        <a:pt x="0" y="763"/>
                        <a:pt x="2" y="727"/>
                      </a:cubicBezTo>
                      <a:lnTo>
                        <a:pt x="9" y="646"/>
                      </a:lnTo>
                      <a:lnTo>
                        <a:pt x="17" y="585"/>
                      </a:lnTo>
                      <a:lnTo>
                        <a:pt x="30" y="523"/>
                      </a:lnTo>
                      <a:lnTo>
                        <a:pt x="48" y="442"/>
                      </a:lnTo>
                      <a:lnTo>
                        <a:pt x="72" y="369"/>
                      </a:lnTo>
                      <a:lnTo>
                        <a:pt x="104" y="298"/>
                      </a:lnTo>
                      <a:lnTo>
                        <a:pt x="138" y="243"/>
                      </a:lnTo>
                      <a:lnTo>
                        <a:pt x="183" y="177"/>
                      </a:lnTo>
                      <a:lnTo>
                        <a:pt x="227" y="127"/>
                      </a:lnTo>
                      <a:lnTo>
                        <a:pt x="275" y="76"/>
                      </a:lnTo>
                      <a:lnTo>
                        <a:pt x="294" y="40"/>
                      </a:lnTo>
                      <a:lnTo>
                        <a:pt x="312" y="0"/>
                      </a:lnTo>
                      <a:lnTo>
                        <a:pt x="330" y="42"/>
                      </a:lnTo>
                      <a:lnTo>
                        <a:pt x="350" y="76"/>
                      </a:lnTo>
                      <a:lnTo>
                        <a:pt x="405" y="135"/>
                      </a:lnTo>
                      <a:lnTo>
                        <a:pt x="441" y="177"/>
                      </a:lnTo>
                      <a:lnTo>
                        <a:pt x="489" y="246"/>
                      </a:lnTo>
                      <a:lnTo>
                        <a:pt x="521" y="300"/>
                      </a:lnTo>
                      <a:lnTo>
                        <a:pt x="548" y="360"/>
                      </a:lnTo>
                      <a:lnTo>
                        <a:pt x="575" y="438"/>
                      </a:lnTo>
                      <a:lnTo>
                        <a:pt x="593" y="508"/>
                      </a:lnTo>
                      <a:lnTo>
                        <a:pt x="606" y="580"/>
                      </a:lnTo>
                      <a:lnTo>
                        <a:pt x="615" y="651"/>
                      </a:lnTo>
                      <a:lnTo>
                        <a:pt x="623" y="732"/>
                      </a:lnTo>
                      <a:lnTo>
                        <a:pt x="624" y="865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f4c19"/>
                    </a:gs>
                    <a:gs pos="50000">
                      <a:srgbClr val="ff9933"/>
                    </a:gs>
                    <a:gs pos="100000">
                      <a:srgbClr val="7f4c19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2520720" y="4121280"/>
                  <a:ext cx="98640" cy="510480"/>
                </a:xfrm>
                <a:custGeom>
                  <a:avLst/>
                  <a:gdLst/>
                  <a:ahLst/>
                  <a:rect l="l" t="t" r="r" b="b"/>
                  <a:pathLst>
                    <a:path w="298" h="841">
                      <a:moveTo>
                        <a:pt x="3" y="841"/>
                      </a:moveTo>
                      <a:cubicBezTo>
                        <a:pt x="3" y="817"/>
                        <a:pt x="0" y="747"/>
                        <a:pt x="3" y="694"/>
                      </a:cubicBezTo>
                      <a:cubicBezTo>
                        <a:pt x="6" y="641"/>
                        <a:pt x="13" y="579"/>
                        <a:pt x="24" y="525"/>
                      </a:cubicBezTo>
                      <a:cubicBezTo>
                        <a:pt x="35" y="471"/>
                        <a:pt x="51" y="415"/>
                        <a:pt x="67" y="370"/>
                      </a:cubicBezTo>
                      <a:cubicBezTo>
                        <a:pt x="83" y="325"/>
                        <a:pt x="100" y="291"/>
                        <a:pt x="121" y="253"/>
                      </a:cubicBezTo>
                      <a:cubicBezTo>
                        <a:pt x="142" y="215"/>
                        <a:pt x="173" y="175"/>
                        <a:pt x="196" y="145"/>
                      </a:cubicBezTo>
                      <a:cubicBezTo>
                        <a:pt x="219" y="115"/>
                        <a:pt x="244" y="99"/>
                        <a:pt x="261" y="75"/>
                      </a:cubicBezTo>
                      <a:cubicBezTo>
                        <a:pt x="278" y="51"/>
                        <a:pt x="290" y="16"/>
                        <a:pt x="298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619720" y="4631760"/>
                  <a:ext cx="0" cy="1361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1" name=""/>
              <p:cNvSpPr/>
              <p:nvPr/>
            </p:nvSpPr>
            <p:spPr>
              <a:xfrm>
                <a:off x="2420280" y="4846320"/>
                <a:ext cx="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623320" y="4844160"/>
                <a:ext cx="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2031840" y="4782600"/>
              <a:ext cx="979560" cy="1439280"/>
              <a:chOff x="2031840" y="4782600"/>
              <a:chExt cx="979560" cy="1439280"/>
            </a:xfrm>
          </p:grpSpPr>
          <p:sp>
            <p:nvSpPr>
              <p:cNvPr id="1154" name=""/>
              <p:cNvSpPr/>
              <p:nvPr/>
            </p:nvSpPr>
            <p:spPr>
              <a:xfrm>
                <a:off x="2412720" y="4858560"/>
                <a:ext cx="217800" cy="255240"/>
              </a:xfrm>
              <a:custGeom>
                <a:avLst/>
                <a:gdLst/>
                <a:ahLst/>
                <a:rect l="l" t="t" r="r" b="b"/>
                <a:pathLst>
                  <a:path w="384" h="432">
                    <a:moveTo>
                      <a:pt x="0" y="334"/>
                    </a:moveTo>
                    <a:lnTo>
                      <a:pt x="18" y="215"/>
                    </a:lnTo>
                    <a:lnTo>
                      <a:pt x="48" y="90"/>
                    </a:lnTo>
                    <a:lnTo>
                      <a:pt x="68" y="41"/>
                    </a:lnTo>
                    <a:lnTo>
                      <a:pt x="86" y="1"/>
                    </a:lnTo>
                    <a:lnTo>
                      <a:pt x="300" y="0"/>
                    </a:lnTo>
                    <a:lnTo>
                      <a:pt x="320" y="44"/>
                    </a:lnTo>
                    <a:lnTo>
                      <a:pt x="336" y="90"/>
                    </a:lnTo>
                    <a:lnTo>
                      <a:pt x="365" y="206"/>
                    </a:lnTo>
                    <a:lnTo>
                      <a:pt x="384" y="334"/>
                    </a:lnTo>
                    <a:lnTo>
                      <a:pt x="384" y="432"/>
                    </a:lnTo>
                    <a:lnTo>
                      <a:pt x="0" y="432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462040" y="4782600"/>
                <a:ext cx="120600" cy="75960"/>
              </a:xfrm>
              <a:custGeom>
                <a:avLst/>
                <a:gdLst/>
                <a:ahLst/>
                <a:rect l="l" t="t" r="r" b="b"/>
                <a:pathLst>
                  <a:path w="212" h="129">
                    <a:moveTo>
                      <a:pt x="0" y="129"/>
                    </a:moveTo>
                    <a:lnTo>
                      <a:pt x="21" y="86"/>
                    </a:lnTo>
                    <a:lnTo>
                      <a:pt x="53" y="36"/>
                    </a:lnTo>
                    <a:lnTo>
                      <a:pt x="77" y="9"/>
                    </a:lnTo>
                    <a:lnTo>
                      <a:pt x="108" y="0"/>
                    </a:lnTo>
                    <a:lnTo>
                      <a:pt x="138" y="9"/>
                    </a:lnTo>
                    <a:lnTo>
                      <a:pt x="161" y="38"/>
                    </a:lnTo>
                    <a:lnTo>
                      <a:pt x="191" y="86"/>
                    </a:lnTo>
                    <a:lnTo>
                      <a:pt x="212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058840" y="5142600"/>
                <a:ext cx="380880" cy="766080"/>
              </a:xfrm>
              <a:custGeom>
                <a:avLst/>
                <a:gdLst/>
                <a:ahLst/>
                <a:rect l="l" t="t" r="r" b="b"/>
                <a:pathLst>
                  <a:path w="672" h="1296">
                    <a:moveTo>
                      <a:pt x="672" y="1296"/>
                    </a:moveTo>
                    <a:lnTo>
                      <a:pt x="0" y="1296"/>
                    </a:lnTo>
                    <a:lnTo>
                      <a:pt x="0" y="1152"/>
                    </a:lnTo>
                    <a:lnTo>
                      <a:pt x="240" y="912"/>
                    </a:lnTo>
                    <a:lnTo>
                      <a:pt x="432" y="768"/>
                    </a:lnTo>
                    <a:lnTo>
                      <a:pt x="528" y="480"/>
                    </a:lnTo>
                    <a:lnTo>
                      <a:pt x="624" y="0"/>
                    </a:lnTo>
                    <a:lnTo>
                      <a:pt x="672" y="0"/>
                    </a:lnTo>
                    <a:lnTo>
                      <a:pt x="672" y="1296"/>
                    </a:lnTo>
                    <a:close/>
                  </a:path>
                </a:pathLst>
              </a:custGeom>
              <a:solidFill>
                <a:srgbClr val="ced8f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603160" y="5142600"/>
                <a:ext cx="380880" cy="766080"/>
              </a:xfrm>
              <a:custGeom>
                <a:avLst/>
                <a:gdLst/>
                <a:ahLst/>
                <a:rect l="l" t="t" r="r" b="b"/>
                <a:pathLst>
                  <a:path w="672" h="1296">
                    <a:moveTo>
                      <a:pt x="672" y="1296"/>
                    </a:moveTo>
                    <a:lnTo>
                      <a:pt x="0" y="1296"/>
                    </a:lnTo>
                    <a:lnTo>
                      <a:pt x="0" y="1152"/>
                    </a:lnTo>
                    <a:lnTo>
                      <a:pt x="240" y="912"/>
                    </a:lnTo>
                    <a:lnTo>
                      <a:pt x="432" y="768"/>
                    </a:lnTo>
                    <a:lnTo>
                      <a:pt x="528" y="480"/>
                    </a:lnTo>
                    <a:lnTo>
                      <a:pt x="624" y="0"/>
                    </a:lnTo>
                    <a:lnTo>
                      <a:pt x="672" y="0"/>
                    </a:lnTo>
                    <a:lnTo>
                      <a:pt x="672" y="1296"/>
                    </a:lnTo>
                    <a:close/>
                  </a:path>
                </a:pathLst>
              </a:custGeom>
              <a:solidFill>
                <a:srgbClr val="ced8f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12720" y="511416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412720" y="5114160"/>
                <a:ext cx="217800" cy="16992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412720" y="5284440"/>
                <a:ext cx="217800" cy="16992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412720" y="5454720"/>
                <a:ext cx="217800" cy="16992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412720" y="5625000"/>
                <a:ext cx="217800" cy="16992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412720" y="5794920"/>
                <a:ext cx="217800" cy="2808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461680" y="4940280"/>
                <a:ext cx="28080" cy="34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440080" y="4915440"/>
                <a:ext cx="163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490480" y="5085000"/>
                <a:ext cx="30960" cy="28800"/>
              </a:xfrm>
              <a:prstGeom prst="rect">
                <a:avLst/>
              </a:prstGeom>
              <a:solidFill>
                <a:srgbClr val="4422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521440" y="5085000"/>
                <a:ext cx="30960" cy="28800"/>
              </a:xfrm>
              <a:prstGeom prst="rect">
                <a:avLst/>
              </a:prstGeom>
              <a:solidFill>
                <a:srgbClr val="4422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472120" y="5079240"/>
                <a:ext cx="12960" cy="13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6720" y="5080320"/>
                <a:ext cx="12960" cy="13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521440" y="5114160"/>
                <a:ext cx="0" cy="709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358360" y="6022080"/>
                <a:ext cx="326520" cy="56520"/>
              </a:xfrm>
              <a:prstGeom prst="rect">
                <a:avLst/>
              </a:prstGeom>
              <a:solidFill>
                <a:srgbClr val="c3cf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031840" y="5914440"/>
                <a:ext cx="979560" cy="107280"/>
              </a:xfrm>
              <a:custGeom>
                <a:avLst/>
                <a:gdLst/>
                <a:ahLst/>
                <a:rect l="l" t="t" r="r" b="b"/>
                <a:pathLst>
                  <a:path w="1728" h="144">
                    <a:moveTo>
                      <a:pt x="576" y="14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864" y="0"/>
                    </a:lnTo>
                    <a:lnTo>
                      <a:pt x="1680" y="0"/>
                    </a:lnTo>
                    <a:lnTo>
                      <a:pt x="1728" y="0"/>
                    </a:lnTo>
                    <a:lnTo>
                      <a:pt x="1728" y="48"/>
                    </a:lnTo>
                    <a:lnTo>
                      <a:pt x="1152" y="144"/>
                    </a:lnTo>
                    <a:lnTo>
                      <a:pt x="576" y="144"/>
                    </a:lnTo>
                    <a:close/>
                  </a:path>
                </a:pathLst>
              </a:custGeom>
              <a:solidFill>
                <a:srgbClr val="ced8f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194920" y="5908680"/>
                <a:ext cx="0" cy="7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848320" y="5908680"/>
                <a:ext cx="0" cy="76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031840" y="5057280"/>
                <a:ext cx="408240" cy="886320"/>
              </a:xfrm>
              <a:custGeom>
                <a:avLst/>
                <a:gdLst/>
                <a:ahLst/>
                <a:rect l="l" t="t" r="r" b="b"/>
                <a:pathLst>
                  <a:path w="720" h="1500">
                    <a:moveTo>
                      <a:pt x="720" y="1392"/>
                    </a:moveTo>
                    <a:lnTo>
                      <a:pt x="59" y="1392"/>
                    </a:lnTo>
                    <a:lnTo>
                      <a:pt x="56" y="1346"/>
                    </a:lnTo>
                    <a:lnTo>
                      <a:pt x="74" y="1290"/>
                    </a:lnTo>
                    <a:lnTo>
                      <a:pt x="126" y="1236"/>
                    </a:lnTo>
                    <a:lnTo>
                      <a:pt x="287" y="1101"/>
                    </a:lnTo>
                    <a:lnTo>
                      <a:pt x="476" y="932"/>
                    </a:lnTo>
                    <a:lnTo>
                      <a:pt x="522" y="869"/>
                    </a:lnTo>
                    <a:lnTo>
                      <a:pt x="564" y="756"/>
                    </a:lnTo>
                    <a:lnTo>
                      <a:pt x="594" y="614"/>
                    </a:lnTo>
                    <a:lnTo>
                      <a:pt x="624" y="441"/>
                    </a:lnTo>
                    <a:lnTo>
                      <a:pt x="647" y="324"/>
                    </a:lnTo>
                    <a:lnTo>
                      <a:pt x="672" y="218"/>
                    </a:lnTo>
                    <a:lnTo>
                      <a:pt x="672" y="0"/>
                    </a:lnTo>
                    <a:lnTo>
                      <a:pt x="644" y="132"/>
                    </a:lnTo>
                    <a:lnTo>
                      <a:pt x="624" y="240"/>
                    </a:lnTo>
                    <a:lnTo>
                      <a:pt x="588" y="456"/>
                    </a:lnTo>
                    <a:lnTo>
                      <a:pt x="560" y="596"/>
                    </a:lnTo>
                    <a:lnTo>
                      <a:pt x="527" y="735"/>
                    </a:lnTo>
                    <a:lnTo>
                      <a:pt x="488" y="833"/>
                    </a:lnTo>
                    <a:lnTo>
                      <a:pt x="432" y="912"/>
                    </a:lnTo>
                    <a:lnTo>
                      <a:pt x="201" y="1115"/>
                    </a:lnTo>
                    <a:lnTo>
                      <a:pt x="78" y="1220"/>
                    </a:lnTo>
                    <a:lnTo>
                      <a:pt x="45" y="1259"/>
                    </a:lnTo>
                    <a:lnTo>
                      <a:pt x="24" y="1314"/>
                    </a:lnTo>
                    <a:lnTo>
                      <a:pt x="0" y="1392"/>
                    </a:lnTo>
                    <a:lnTo>
                      <a:pt x="0" y="1454"/>
                    </a:lnTo>
                    <a:lnTo>
                      <a:pt x="30" y="1473"/>
                    </a:lnTo>
                    <a:lnTo>
                      <a:pt x="587" y="1500"/>
                    </a:lnTo>
                    <a:lnTo>
                      <a:pt x="720" y="1488"/>
                    </a:lnTo>
                    <a:lnTo>
                      <a:pt x="720" y="139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2603160" y="5057280"/>
                <a:ext cx="408240" cy="886320"/>
              </a:xfrm>
              <a:custGeom>
                <a:avLst/>
                <a:gdLst/>
                <a:ahLst/>
                <a:rect l="l" t="t" r="r" b="b"/>
                <a:pathLst>
                  <a:path w="720" h="1500">
                    <a:moveTo>
                      <a:pt x="720" y="1392"/>
                    </a:moveTo>
                    <a:lnTo>
                      <a:pt x="59" y="1392"/>
                    </a:lnTo>
                    <a:lnTo>
                      <a:pt x="56" y="1346"/>
                    </a:lnTo>
                    <a:lnTo>
                      <a:pt x="74" y="1290"/>
                    </a:lnTo>
                    <a:lnTo>
                      <a:pt x="126" y="1236"/>
                    </a:lnTo>
                    <a:lnTo>
                      <a:pt x="287" y="1101"/>
                    </a:lnTo>
                    <a:lnTo>
                      <a:pt x="476" y="932"/>
                    </a:lnTo>
                    <a:lnTo>
                      <a:pt x="522" y="869"/>
                    </a:lnTo>
                    <a:lnTo>
                      <a:pt x="564" y="756"/>
                    </a:lnTo>
                    <a:lnTo>
                      <a:pt x="594" y="614"/>
                    </a:lnTo>
                    <a:lnTo>
                      <a:pt x="624" y="441"/>
                    </a:lnTo>
                    <a:lnTo>
                      <a:pt x="647" y="324"/>
                    </a:lnTo>
                    <a:lnTo>
                      <a:pt x="672" y="218"/>
                    </a:lnTo>
                    <a:lnTo>
                      <a:pt x="672" y="0"/>
                    </a:lnTo>
                    <a:lnTo>
                      <a:pt x="644" y="132"/>
                    </a:lnTo>
                    <a:lnTo>
                      <a:pt x="624" y="240"/>
                    </a:lnTo>
                    <a:lnTo>
                      <a:pt x="588" y="456"/>
                    </a:lnTo>
                    <a:lnTo>
                      <a:pt x="560" y="596"/>
                    </a:lnTo>
                    <a:lnTo>
                      <a:pt x="527" y="735"/>
                    </a:lnTo>
                    <a:lnTo>
                      <a:pt x="488" y="833"/>
                    </a:lnTo>
                    <a:lnTo>
                      <a:pt x="432" y="912"/>
                    </a:lnTo>
                    <a:lnTo>
                      <a:pt x="201" y="1115"/>
                    </a:lnTo>
                    <a:lnTo>
                      <a:pt x="78" y="1220"/>
                    </a:lnTo>
                    <a:lnTo>
                      <a:pt x="45" y="1259"/>
                    </a:lnTo>
                    <a:lnTo>
                      <a:pt x="24" y="1314"/>
                    </a:lnTo>
                    <a:lnTo>
                      <a:pt x="0" y="1392"/>
                    </a:lnTo>
                    <a:lnTo>
                      <a:pt x="0" y="1454"/>
                    </a:lnTo>
                    <a:lnTo>
                      <a:pt x="30" y="1473"/>
                    </a:lnTo>
                    <a:lnTo>
                      <a:pt x="587" y="1500"/>
                    </a:lnTo>
                    <a:lnTo>
                      <a:pt x="720" y="1488"/>
                    </a:lnTo>
                    <a:lnTo>
                      <a:pt x="720" y="139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378160" y="6000120"/>
                <a:ext cx="16200" cy="56520"/>
              </a:xfrm>
              <a:prstGeom prst="rect">
                <a:avLst/>
              </a:prstGeom>
              <a:solidFill>
                <a:srgbClr val="9f8b6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50320" y="6000120"/>
                <a:ext cx="16200" cy="56520"/>
              </a:xfrm>
              <a:prstGeom prst="rect">
                <a:avLst/>
              </a:prstGeom>
              <a:solidFill>
                <a:srgbClr val="9f8b6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12720" y="5879520"/>
                <a:ext cx="217800" cy="198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384280" y="5998320"/>
                <a:ext cx="104040" cy="140040"/>
              </a:xfrm>
              <a:custGeom>
                <a:avLst/>
                <a:gdLst/>
                <a:ahLst/>
                <a:rect l="l" t="t" r="r" b="b"/>
                <a:pathLst>
                  <a:path w="174" h="222">
                    <a:moveTo>
                      <a:pt x="78" y="211"/>
                    </a:moveTo>
                    <a:lnTo>
                      <a:pt x="164" y="222"/>
                    </a:lnTo>
                    <a:lnTo>
                      <a:pt x="174" y="154"/>
                    </a:lnTo>
                    <a:lnTo>
                      <a:pt x="174" y="85"/>
                    </a:lnTo>
                    <a:lnTo>
                      <a:pt x="162" y="15"/>
                    </a:lnTo>
                    <a:lnTo>
                      <a:pt x="98" y="0"/>
                    </a:lnTo>
                    <a:lnTo>
                      <a:pt x="53" y="54"/>
                    </a:lnTo>
                    <a:lnTo>
                      <a:pt x="20" y="121"/>
                    </a:lnTo>
                    <a:lnTo>
                      <a:pt x="0" y="183"/>
                    </a:lnTo>
                    <a:lnTo>
                      <a:pt x="78" y="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a70"/>
                  </a:gs>
                  <a:gs pos="50000">
                    <a:srgbClr val="b5c4f5"/>
                  </a:gs>
                  <a:gs pos="100000">
                    <a:srgbClr val="535a7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554920" y="60030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74" h="222">
                    <a:moveTo>
                      <a:pt x="78" y="211"/>
                    </a:moveTo>
                    <a:lnTo>
                      <a:pt x="164" y="222"/>
                    </a:lnTo>
                    <a:lnTo>
                      <a:pt x="174" y="154"/>
                    </a:lnTo>
                    <a:lnTo>
                      <a:pt x="174" y="85"/>
                    </a:lnTo>
                    <a:lnTo>
                      <a:pt x="162" y="15"/>
                    </a:lnTo>
                    <a:lnTo>
                      <a:pt x="98" y="0"/>
                    </a:lnTo>
                    <a:lnTo>
                      <a:pt x="53" y="54"/>
                    </a:lnTo>
                    <a:lnTo>
                      <a:pt x="20" y="121"/>
                    </a:lnTo>
                    <a:lnTo>
                      <a:pt x="0" y="183"/>
                    </a:lnTo>
                    <a:lnTo>
                      <a:pt x="78" y="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a70"/>
                  </a:gs>
                  <a:gs pos="50000">
                    <a:srgbClr val="b5c4f5"/>
                  </a:gs>
                  <a:gs pos="100000">
                    <a:srgbClr val="535a7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466000" y="599976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173" h="196">
                    <a:moveTo>
                      <a:pt x="89" y="196"/>
                    </a:moveTo>
                    <a:lnTo>
                      <a:pt x="173" y="177"/>
                    </a:lnTo>
                    <a:lnTo>
                      <a:pt x="162" y="115"/>
                    </a:lnTo>
                    <a:lnTo>
                      <a:pt x="146" y="58"/>
                    </a:lnTo>
                    <a:lnTo>
                      <a:pt x="117" y="0"/>
                    </a:lnTo>
                    <a:lnTo>
                      <a:pt x="53" y="1"/>
                    </a:lnTo>
                    <a:lnTo>
                      <a:pt x="21" y="61"/>
                    </a:lnTo>
                    <a:lnTo>
                      <a:pt x="8" y="114"/>
                    </a:lnTo>
                    <a:lnTo>
                      <a:pt x="0" y="178"/>
                    </a:lnTo>
                    <a:lnTo>
                      <a:pt x="89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a70"/>
                  </a:gs>
                  <a:gs pos="50000">
                    <a:srgbClr val="b5c4f5"/>
                  </a:gs>
                  <a:gs pos="100000">
                    <a:srgbClr val="535a7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412720" y="5823360"/>
                <a:ext cx="217800" cy="96840"/>
              </a:xfrm>
              <a:prstGeom prst="rect">
                <a:avLst/>
              </a:pr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484000" y="5823000"/>
                <a:ext cx="74520" cy="198360"/>
              </a:xfrm>
              <a:prstGeom prst="rect">
                <a:avLst/>
              </a:prstGeom>
              <a:solidFill>
                <a:srgbClr val="ced8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559960" y="5823360"/>
                <a:ext cx="124560" cy="1990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0" y="179"/>
                    </a:moveTo>
                    <a:lnTo>
                      <a:pt x="1" y="131"/>
                    </a:lnTo>
                    <a:lnTo>
                      <a:pt x="11" y="66"/>
                    </a:lnTo>
                    <a:lnTo>
                      <a:pt x="23" y="29"/>
                    </a:lnTo>
                    <a:lnTo>
                      <a:pt x="34" y="0"/>
                    </a:lnTo>
                    <a:lnTo>
                      <a:pt x="141" y="1"/>
                    </a:lnTo>
                    <a:lnTo>
                      <a:pt x="166" y="46"/>
                    </a:lnTo>
                    <a:lnTo>
                      <a:pt x="187" y="92"/>
                    </a:lnTo>
                    <a:lnTo>
                      <a:pt x="204" y="164"/>
                    </a:lnTo>
                    <a:lnTo>
                      <a:pt x="213" y="245"/>
                    </a:lnTo>
                    <a:lnTo>
                      <a:pt x="216" y="320"/>
                    </a:lnTo>
                    <a:lnTo>
                      <a:pt x="28" y="320"/>
                    </a:lnTo>
                    <a:lnTo>
                      <a:pt x="0" y="320"/>
                    </a:lnTo>
                    <a:lnTo>
                      <a:pt x="0" y="17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358360" y="5823360"/>
                <a:ext cx="124560" cy="198360"/>
              </a:xfrm>
              <a:custGeom>
                <a:avLst/>
                <a:gdLst/>
                <a:ahLst/>
                <a:rect l="l" t="t" r="r" b="b"/>
                <a:pathLst>
                  <a:path w="220" h="319">
                    <a:moveTo>
                      <a:pt x="220" y="178"/>
                    </a:moveTo>
                    <a:lnTo>
                      <a:pt x="219" y="130"/>
                    </a:lnTo>
                    <a:lnTo>
                      <a:pt x="209" y="65"/>
                    </a:lnTo>
                    <a:lnTo>
                      <a:pt x="197" y="28"/>
                    </a:lnTo>
                    <a:lnTo>
                      <a:pt x="185" y="1"/>
                    </a:lnTo>
                    <a:lnTo>
                      <a:pt x="76" y="0"/>
                    </a:lnTo>
                    <a:lnTo>
                      <a:pt x="51" y="45"/>
                    </a:lnTo>
                    <a:lnTo>
                      <a:pt x="30" y="91"/>
                    </a:lnTo>
                    <a:lnTo>
                      <a:pt x="12" y="163"/>
                    </a:lnTo>
                    <a:lnTo>
                      <a:pt x="3" y="244"/>
                    </a:lnTo>
                    <a:lnTo>
                      <a:pt x="0" y="319"/>
                    </a:lnTo>
                    <a:lnTo>
                      <a:pt x="191" y="319"/>
                    </a:lnTo>
                    <a:lnTo>
                      <a:pt x="220" y="319"/>
                    </a:lnTo>
                    <a:lnTo>
                      <a:pt x="22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8f4"/>
                  </a:gs>
                  <a:gs pos="50000">
                    <a:srgbClr val="e8ecf9"/>
                  </a:gs>
                  <a:gs pos="100000">
                    <a:srgbClr val="ced8f4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384280" y="6113880"/>
                <a:ext cx="97920" cy="24480"/>
              </a:xfrm>
              <a:custGeom>
                <a:avLst/>
                <a:gdLst/>
                <a:ahLst/>
                <a:rect l="l" t="t" r="r" b="b"/>
                <a:pathLst>
                  <a:path w="173" h="42">
                    <a:moveTo>
                      <a:pt x="82" y="30"/>
                    </a:moveTo>
                    <a:lnTo>
                      <a:pt x="173" y="42"/>
                    </a:lnTo>
                    <a:lnTo>
                      <a:pt x="115" y="12"/>
                    </a:lnTo>
                    <a:lnTo>
                      <a:pt x="70" y="1"/>
                    </a:lnTo>
                    <a:lnTo>
                      <a:pt x="0" y="0"/>
                    </a:lnTo>
                    <a:lnTo>
                      <a:pt x="8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560680" y="6115320"/>
                <a:ext cx="97560" cy="24120"/>
              </a:xfrm>
              <a:custGeom>
                <a:avLst/>
                <a:gdLst/>
                <a:ahLst/>
                <a:rect l="l" t="t" r="r" b="b"/>
                <a:pathLst>
                  <a:path w="172" h="41">
                    <a:moveTo>
                      <a:pt x="90" y="30"/>
                    </a:moveTo>
                    <a:lnTo>
                      <a:pt x="0" y="41"/>
                    </a:lnTo>
                    <a:lnTo>
                      <a:pt x="35" y="25"/>
                    </a:lnTo>
                    <a:lnTo>
                      <a:pt x="80" y="12"/>
                    </a:lnTo>
                    <a:lnTo>
                      <a:pt x="131" y="3"/>
                    </a:lnTo>
                    <a:lnTo>
                      <a:pt x="172" y="0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466000" y="6113880"/>
                <a:ext cx="114480" cy="19800"/>
              </a:xfrm>
              <a:custGeom>
                <a:avLst/>
                <a:gdLst/>
                <a:ahLst/>
                <a:rect l="l" t="t" r="r" b="b"/>
                <a:pathLst>
                  <a:path w="202" h="34">
                    <a:moveTo>
                      <a:pt x="104" y="34"/>
                    </a:moveTo>
                    <a:lnTo>
                      <a:pt x="202" y="12"/>
                    </a:lnTo>
                    <a:lnTo>
                      <a:pt x="127" y="0"/>
                    </a:lnTo>
                    <a:lnTo>
                      <a:pt x="82" y="0"/>
                    </a:lnTo>
                    <a:lnTo>
                      <a:pt x="0" y="13"/>
                    </a:lnTo>
                    <a:lnTo>
                      <a:pt x="10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6240" y="5823000"/>
                <a:ext cx="50400" cy="398880"/>
              </a:xfrm>
              <a:custGeom>
                <a:avLst/>
                <a:gdLst/>
                <a:ahLst/>
                <a:rect l="l" t="t" r="r" b="b"/>
                <a:pathLst>
                  <a:path w="89" h="675">
                    <a:moveTo>
                      <a:pt x="3" y="212"/>
                    </a:moveTo>
                    <a:lnTo>
                      <a:pt x="11" y="83"/>
                    </a:lnTo>
                    <a:lnTo>
                      <a:pt x="29" y="0"/>
                    </a:lnTo>
                    <a:lnTo>
                      <a:pt x="61" y="0"/>
                    </a:lnTo>
                    <a:lnTo>
                      <a:pt x="80" y="83"/>
                    </a:lnTo>
                    <a:lnTo>
                      <a:pt x="84" y="210"/>
                    </a:lnTo>
                    <a:lnTo>
                      <a:pt x="89" y="311"/>
                    </a:lnTo>
                    <a:lnTo>
                      <a:pt x="71" y="584"/>
                    </a:lnTo>
                    <a:lnTo>
                      <a:pt x="60" y="648"/>
                    </a:lnTo>
                    <a:lnTo>
                      <a:pt x="46" y="675"/>
                    </a:lnTo>
                    <a:lnTo>
                      <a:pt x="32" y="647"/>
                    </a:lnTo>
                    <a:lnTo>
                      <a:pt x="18" y="582"/>
                    </a:lnTo>
                    <a:lnTo>
                      <a:pt x="0" y="306"/>
                    </a:lnTo>
                    <a:lnTo>
                      <a:pt x="3" y="212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512440" y="5823000"/>
                <a:ext cx="18000" cy="398880"/>
              </a:xfrm>
              <a:custGeom>
                <a:avLst/>
                <a:gdLst/>
                <a:ahLst/>
                <a:rect l="l" t="t" r="r" b="b"/>
                <a:pathLst>
                  <a:path w="48" h="675">
                    <a:moveTo>
                      <a:pt x="0" y="3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336"/>
                    </a:lnTo>
                    <a:lnTo>
                      <a:pt x="38" y="602"/>
                    </a:lnTo>
                    <a:lnTo>
                      <a:pt x="26" y="675"/>
                    </a:lnTo>
                    <a:lnTo>
                      <a:pt x="11" y="603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22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35400" y="4940280"/>
                <a:ext cx="5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426760" y="4975200"/>
                <a:ext cx="6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2497680" y="4842720"/>
                <a:ext cx="3240" cy="13320"/>
              </a:xfrm>
              <a:prstGeom prst="rect">
                <a:avLst/>
              </a:prstGeom>
              <a:solidFill>
                <a:srgbClr val="94aa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2521080" y="4843080"/>
                <a:ext cx="3240" cy="13320"/>
              </a:xfrm>
              <a:prstGeom prst="rect">
                <a:avLst/>
              </a:prstGeom>
              <a:solidFill>
                <a:srgbClr val="94aa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2538000" y="4842000"/>
                <a:ext cx="9360" cy="13320"/>
              </a:xfrm>
              <a:prstGeom prst="rect">
                <a:avLst/>
              </a:prstGeom>
              <a:solidFill>
                <a:srgbClr val="94aa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2431440" y="4968720"/>
                <a:ext cx="182880" cy="84960"/>
                <a:chOff x="2431440" y="4968720"/>
                <a:chExt cx="182880" cy="849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2431440" y="4968720"/>
                  <a:ext cx="182880" cy="84960"/>
                </a:xfrm>
                <a:custGeom>
                  <a:avLst/>
                  <a:gdLst/>
                  <a:ahLst/>
                  <a:rect l="l" t="t" r="r" b="b"/>
                  <a:pathLst>
                    <a:path w="323" h="144">
                      <a:moveTo>
                        <a:pt x="0" y="144"/>
                      </a:moveTo>
                      <a:lnTo>
                        <a:pt x="12" y="60"/>
                      </a:lnTo>
                      <a:lnTo>
                        <a:pt x="162" y="0"/>
                      </a:lnTo>
                      <a:lnTo>
                        <a:pt x="303" y="54"/>
                      </a:lnTo>
                      <a:lnTo>
                        <a:pt x="323" y="143"/>
                      </a:lnTo>
                      <a:lnTo>
                        <a:pt x="252" y="128"/>
                      </a:lnTo>
                      <a:lnTo>
                        <a:pt x="243" y="96"/>
                      </a:lnTo>
                      <a:lnTo>
                        <a:pt x="210" y="75"/>
                      </a:lnTo>
                      <a:lnTo>
                        <a:pt x="162" y="66"/>
                      </a:lnTo>
                      <a:lnTo>
                        <a:pt x="111" y="77"/>
                      </a:lnTo>
                      <a:lnTo>
                        <a:pt x="75" y="96"/>
                      </a:lnTo>
                      <a:lnTo>
                        <a:pt x="69" y="129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4422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2568960" y="5001120"/>
                  <a:ext cx="33840" cy="25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V="1">
                  <a:off x="2550960" y="4985640"/>
                  <a:ext cx="12960" cy="25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 flipV="1">
                  <a:off x="2439720" y="5005440"/>
                  <a:ext cx="33840" cy="20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2523240" y="4969080"/>
                  <a:ext cx="0" cy="381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482920" y="4986360"/>
                  <a:ext cx="12240" cy="26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04" name=""/>
          <p:cNvSpPr/>
          <p:nvPr/>
        </p:nvSpPr>
        <p:spPr>
          <a:xfrm>
            <a:off x="2360520" y="6400800"/>
            <a:ext cx="363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huttl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79800" y="6400800"/>
            <a:ext cx="501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Titan IV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920" y="1752480"/>
            <a:ext cx="90550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61920" y="1752480"/>
            <a:ext cx="8120880" cy="4953240"/>
            <a:chOff x="61920" y="1752480"/>
            <a:chExt cx="8120880" cy="4953240"/>
          </a:xfrm>
        </p:grpSpPr>
        <p:sp>
          <p:nvSpPr>
            <p:cNvPr id="1208" name=""/>
            <p:cNvSpPr/>
            <p:nvPr/>
          </p:nvSpPr>
          <p:spPr>
            <a:xfrm>
              <a:off x="61920" y="1752480"/>
              <a:ext cx="2071800" cy="4953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81080" y="1752480"/>
              <a:ext cx="1557360" cy="49532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81080" y="1752480"/>
              <a:ext cx="155736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38440" y="1752480"/>
              <a:ext cx="2676600" cy="495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1960" y="1981080"/>
              <a:ext cx="1028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08240" y="1981080"/>
              <a:ext cx="11728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ut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arly 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57240" y="19810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rrent U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unch Fl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00440" y="19810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a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unch Fl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tside look at the current space launch fl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7" name=""/>
          <p:cNvGrpSpPr/>
          <p:nvPr/>
        </p:nvGrpSpPr>
        <p:grpSpPr>
          <a:xfrm>
            <a:off x="0" y="2505240"/>
            <a:ext cx="1913040" cy="4212360"/>
            <a:chOff x="0" y="2505240"/>
            <a:chExt cx="1913040" cy="4212360"/>
          </a:xfrm>
        </p:grpSpPr>
        <p:grpSp>
          <p:nvGrpSpPr>
            <p:cNvPr id="1218" name=""/>
            <p:cNvGrpSpPr/>
            <p:nvPr/>
          </p:nvGrpSpPr>
          <p:grpSpPr>
            <a:xfrm>
              <a:off x="599760" y="2505240"/>
              <a:ext cx="712800" cy="3827880"/>
              <a:chOff x="599760" y="2505240"/>
              <a:chExt cx="712800" cy="3827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599760" y="5673240"/>
                <a:ext cx="710640" cy="659880"/>
              </a:xfrm>
              <a:prstGeom prst="ellipse">
                <a:avLst/>
              </a:pr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9760" y="3494880"/>
                <a:ext cx="712800" cy="604800"/>
              </a:xfrm>
              <a:prstGeom prst="rect">
                <a:avLst/>
              </a:prstGeom>
              <a:gradFill rotWithShape="0">
                <a:gsLst>
                  <a:gs pos="0">
                    <a:srgbClr val="513b00"/>
                  </a:gs>
                  <a:gs pos="50000">
                    <a:srgbClr val="b08200"/>
                  </a:gs>
                  <a:gs pos="100000">
                    <a:srgbClr val="513b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599760" y="3494160"/>
                <a:ext cx="712800" cy="26280"/>
              </a:xfrm>
              <a:prstGeom prst="rect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99760" y="4073760"/>
                <a:ext cx="712800" cy="26280"/>
              </a:xfrm>
              <a:prstGeom prst="rect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99760" y="2505240"/>
                <a:ext cx="712800" cy="991080"/>
              </a:xfrm>
              <a:custGeom>
                <a:avLst/>
                <a:gdLst/>
                <a:ahLst/>
                <a:rect l="l" t="t" r="r" b="b"/>
                <a:pathLst>
                  <a:path w="624" h="865">
                    <a:moveTo>
                      <a:pt x="0" y="864"/>
                    </a:moveTo>
                    <a:cubicBezTo>
                      <a:pt x="0" y="795"/>
                      <a:pt x="0" y="763"/>
                      <a:pt x="2" y="727"/>
                    </a:cubicBezTo>
                    <a:lnTo>
                      <a:pt x="9" y="646"/>
                    </a:lnTo>
                    <a:lnTo>
                      <a:pt x="17" y="585"/>
                    </a:lnTo>
                    <a:lnTo>
                      <a:pt x="30" y="523"/>
                    </a:lnTo>
                    <a:lnTo>
                      <a:pt x="48" y="442"/>
                    </a:lnTo>
                    <a:lnTo>
                      <a:pt x="72" y="369"/>
                    </a:lnTo>
                    <a:lnTo>
                      <a:pt x="104" y="298"/>
                    </a:lnTo>
                    <a:lnTo>
                      <a:pt x="138" y="243"/>
                    </a:lnTo>
                    <a:lnTo>
                      <a:pt x="183" y="177"/>
                    </a:lnTo>
                    <a:lnTo>
                      <a:pt x="227" y="127"/>
                    </a:lnTo>
                    <a:lnTo>
                      <a:pt x="275" y="76"/>
                    </a:lnTo>
                    <a:lnTo>
                      <a:pt x="294" y="40"/>
                    </a:lnTo>
                    <a:lnTo>
                      <a:pt x="312" y="0"/>
                    </a:lnTo>
                    <a:lnTo>
                      <a:pt x="330" y="42"/>
                    </a:lnTo>
                    <a:lnTo>
                      <a:pt x="350" y="76"/>
                    </a:lnTo>
                    <a:lnTo>
                      <a:pt x="405" y="135"/>
                    </a:lnTo>
                    <a:lnTo>
                      <a:pt x="441" y="177"/>
                    </a:lnTo>
                    <a:lnTo>
                      <a:pt x="489" y="246"/>
                    </a:lnTo>
                    <a:lnTo>
                      <a:pt x="521" y="300"/>
                    </a:lnTo>
                    <a:lnTo>
                      <a:pt x="548" y="360"/>
                    </a:lnTo>
                    <a:lnTo>
                      <a:pt x="575" y="438"/>
                    </a:lnTo>
                    <a:lnTo>
                      <a:pt x="593" y="508"/>
                    </a:lnTo>
                    <a:lnTo>
                      <a:pt x="606" y="580"/>
                    </a:lnTo>
                    <a:lnTo>
                      <a:pt x="615" y="651"/>
                    </a:lnTo>
                    <a:lnTo>
                      <a:pt x="623" y="732"/>
                    </a:lnTo>
                    <a:lnTo>
                      <a:pt x="624" y="865"/>
                    </a:lnTo>
                    <a:lnTo>
                      <a:pt x="0" y="8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4c19"/>
                  </a:gs>
                  <a:gs pos="50000">
                    <a:srgbClr val="ff9933"/>
                  </a:gs>
                  <a:gs pos="100000">
                    <a:srgbClr val="7f4c19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955080" y="2505240"/>
                <a:ext cx="192240" cy="989640"/>
              </a:xfrm>
              <a:custGeom>
                <a:avLst/>
                <a:gdLst/>
                <a:ahLst/>
                <a:rect l="l" t="t" r="r" b="b"/>
                <a:pathLst>
                  <a:path w="298" h="841">
                    <a:moveTo>
                      <a:pt x="3" y="841"/>
                    </a:moveTo>
                    <a:cubicBezTo>
                      <a:pt x="3" y="817"/>
                      <a:pt x="0" y="747"/>
                      <a:pt x="3" y="694"/>
                    </a:cubicBezTo>
                    <a:cubicBezTo>
                      <a:pt x="6" y="641"/>
                      <a:pt x="13" y="579"/>
                      <a:pt x="24" y="525"/>
                    </a:cubicBezTo>
                    <a:cubicBezTo>
                      <a:pt x="35" y="471"/>
                      <a:pt x="51" y="415"/>
                      <a:pt x="67" y="370"/>
                    </a:cubicBezTo>
                    <a:cubicBezTo>
                      <a:pt x="83" y="325"/>
                      <a:pt x="100" y="291"/>
                      <a:pt x="121" y="253"/>
                    </a:cubicBezTo>
                    <a:cubicBezTo>
                      <a:pt x="142" y="215"/>
                      <a:pt x="173" y="175"/>
                      <a:pt x="196" y="145"/>
                    </a:cubicBezTo>
                    <a:cubicBezTo>
                      <a:pt x="219" y="115"/>
                      <a:pt x="244" y="99"/>
                      <a:pt x="261" y="75"/>
                    </a:cubicBezTo>
                    <a:cubicBezTo>
                      <a:pt x="278" y="51"/>
                      <a:pt x="290" y="16"/>
                      <a:pt x="298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9760" y="4070160"/>
                <a:ext cx="712800" cy="1932480"/>
              </a:xfrm>
              <a:prstGeom prst="rect">
                <a:avLst/>
              </a:pr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47680" y="3494880"/>
                <a:ext cx="0" cy="250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212400" y="3339360"/>
              <a:ext cx="1487160" cy="3378240"/>
              <a:chOff x="212400" y="3339360"/>
              <a:chExt cx="1487160" cy="337824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212400" y="3339360"/>
                <a:ext cx="457200" cy="3378240"/>
                <a:chOff x="212400" y="3339360"/>
                <a:chExt cx="457200" cy="337824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212400" y="6434280"/>
                  <a:ext cx="457200" cy="179640"/>
                </a:xfrm>
                <a:custGeom>
                  <a:avLst/>
                  <a:gdLst>
                    <a:gd name="textAreaLeft" fmla="*/ 82440 w 457200"/>
                    <a:gd name="textAreaRight" fmla="*/ 374760 w 457200"/>
                    <a:gd name="textAreaTop" fmla="*/ 32400 h 179640"/>
                    <a:gd name="textAreaBottom" fmla="*/ 147240 h 17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30" y="21600"/>
                      </a:lnTo>
                      <a:lnTo>
                        <a:pt x="387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V="1">
                  <a:off x="280800" y="6614640"/>
                  <a:ext cx="316440" cy="102960"/>
                </a:xfrm>
                <a:custGeom>
                  <a:avLst/>
                  <a:gdLst>
                    <a:gd name="textAreaLeft" fmla="*/ 41040 w 316440"/>
                    <a:gd name="textAreaRight" fmla="*/ 275400 w 316440"/>
                    <a:gd name="textAreaTop" fmla="*/ 13320 h 102960"/>
                    <a:gd name="textAreaBottom" fmla="*/ 8964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12" y="21600"/>
                      </a:lnTo>
                      <a:lnTo>
                        <a:pt x="188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b5f2"/>
                    </a:gs>
                    <a:gs pos="50000">
                      <a:srgbClr val="dfe5f9"/>
                    </a:gs>
                    <a:gs pos="100000">
                      <a:srgbClr val="a2b5f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94120" y="3714840"/>
                  <a:ext cx="289800" cy="271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294120" y="3495240"/>
                  <a:ext cx="289800" cy="219600"/>
                </a:xfrm>
                <a:custGeom>
                  <a:avLst/>
                  <a:gdLst>
                    <a:gd name="textAreaLeft" fmla="*/ 60120 w 289800"/>
                    <a:gd name="textAreaRight" fmla="*/ 229680 w 289800"/>
                    <a:gd name="textAreaTop" fmla="*/ 45720 h 219600"/>
                    <a:gd name="textAreaBottom" fmla="*/ 173880 h 21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54" y="21600"/>
                      </a:lnTo>
                      <a:lnTo>
                        <a:pt x="494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467280" y="3495240"/>
                  <a:ext cx="65160" cy="54720"/>
                </a:xfrm>
                <a:prstGeom prst="parallelogram">
                  <a:avLst>
                    <a:gd name="adj" fmla="val 30271"/>
                  </a:avLst>
                </a:prstGeom>
                <a:solidFill>
                  <a:srgbClr val="66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293760" y="3984480"/>
                  <a:ext cx="289800" cy="1470960"/>
                  <a:chOff x="293760" y="3984480"/>
                  <a:chExt cx="289800" cy="147096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 flipH="1">
                    <a:off x="293760" y="398448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>
                    <a:off x="293760" y="42786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293760" y="45727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H="1">
                    <a:off x="293760" y="48672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>
                    <a:off x="293760" y="51613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293760" y="545544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1" name=""/>
                <p:cNvGrpSpPr/>
                <p:nvPr/>
              </p:nvGrpSpPr>
              <p:grpSpPr>
                <a:xfrm>
                  <a:off x="294120" y="6165720"/>
                  <a:ext cx="289800" cy="161280"/>
                  <a:chOff x="294120" y="6165720"/>
                  <a:chExt cx="289800" cy="161280"/>
                </a:xfrm>
              </p:grpSpPr>
              <p:sp>
                <p:nvSpPr>
                  <p:cNvPr id="1242" name=""/>
                  <p:cNvSpPr/>
                  <p:nvPr/>
                </p:nvSpPr>
                <p:spPr>
                  <a:xfrm>
                    <a:off x="294120" y="61657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94120" y="624636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294120" y="63270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5" name=""/>
                <p:cNvSpPr/>
                <p:nvPr/>
              </p:nvSpPr>
              <p:spPr>
                <a:xfrm>
                  <a:off x="284040" y="6435000"/>
                  <a:ext cx="108360" cy="179640"/>
                </a:xfrm>
                <a:prstGeom prst="parallelogram">
                  <a:avLst>
                    <a:gd name="adj" fmla="val 47958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459360" y="6454440"/>
                  <a:ext cx="78840" cy="72000"/>
                </a:xfrm>
                <a:prstGeom prst="parallelogram">
                  <a:avLst>
                    <a:gd name="adj" fmla="val 27760"/>
                  </a:avLst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547560" y="6436080"/>
                  <a:ext cx="119520" cy="177480"/>
                </a:xfrm>
                <a:prstGeom prst="parallelogram">
                  <a:avLst>
                    <a:gd name="adj" fmla="val 6851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5160" y="3769920"/>
                  <a:ext cx="72000" cy="53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59280" y="3339360"/>
                  <a:ext cx="156960" cy="155880"/>
                </a:xfrm>
                <a:custGeom>
                  <a:avLst/>
                  <a:gdLst/>
                  <a:ahLst/>
                  <a:rect l="l" t="t" r="r" b="b"/>
                  <a:pathLst>
                    <a:path w="142" h="136">
                      <a:moveTo>
                        <a:pt x="0" y="136"/>
                      </a:moveTo>
                      <a:lnTo>
                        <a:pt x="31" y="48"/>
                      </a:lnTo>
                      <a:lnTo>
                        <a:pt x="47" y="12"/>
                      </a:lnTo>
                      <a:lnTo>
                        <a:pt x="71" y="0"/>
                      </a:lnTo>
                      <a:lnTo>
                        <a:pt x="95" y="13"/>
                      </a:lnTo>
                      <a:lnTo>
                        <a:pt x="112" y="48"/>
                      </a:lnTo>
                      <a:lnTo>
                        <a:pt x="142" y="136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242720" y="3339360"/>
                <a:ext cx="456840" cy="3378240"/>
                <a:chOff x="1242720" y="3339360"/>
                <a:chExt cx="456840" cy="3378240"/>
              </a:xfrm>
            </p:grpSpPr>
            <p:sp>
              <p:nvSpPr>
                <p:cNvPr id="1251" name=""/>
                <p:cNvSpPr/>
                <p:nvPr/>
              </p:nvSpPr>
              <p:spPr>
                <a:xfrm flipH="1" flipV="1">
                  <a:off x="1242360" y="6434280"/>
                  <a:ext cx="456840" cy="179640"/>
                </a:xfrm>
                <a:custGeom>
                  <a:avLst/>
                  <a:gdLst>
                    <a:gd name="textAreaLeft" fmla="*/ 82440 w 456840"/>
                    <a:gd name="textAreaRight" fmla="*/ 374400 w 456840"/>
                    <a:gd name="textAreaTop" fmla="*/ 32400 h 179640"/>
                    <a:gd name="textAreaBottom" fmla="*/ 147240 h 17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730" y="21600"/>
                      </a:lnTo>
                      <a:lnTo>
                        <a:pt x="387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 flipV="1">
                  <a:off x="1315080" y="6614640"/>
                  <a:ext cx="316080" cy="102960"/>
                </a:xfrm>
                <a:custGeom>
                  <a:avLst/>
                  <a:gdLst>
                    <a:gd name="textAreaLeft" fmla="*/ 40680 w 316080"/>
                    <a:gd name="textAreaRight" fmla="*/ 275400 w 316080"/>
                    <a:gd name="textAreaTop" fmla="*/ 13320 h 102960"/>
                    <a:gd name="textAreaBottom" fmla="*/ 8964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12" y="21600"/>
                      </a:lnTo>
                      <a:lnTo>
                        <a:pt x="1888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b5f2"/>
                    </a:gs>
                    <a:gs pos="50000">
                      <a:srgbClr val="dfe5f9"/>
                    </a:gs>
                    <a:gs pos="100000">
                      <a:srgbClr val="a2b5f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1327320" y="3714840"/>
                  <a:ext cx="289800" cy="271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 flipV="1">
                  <a:off x="1327320" y="3495240"/>
                  <a:ext cx="289800" cy="219600"/>
                </a:xfrm>
                <a:custGeom>
                  <a:avLst/>
                  <a:gdLst>
                    <a:gd name="textAreaLeft" fmla="*/ 60120 w 289800"/>
                    <a:gd name="textAreaRight" fmla="*/ 229680 w 289800"/>
                    <a:gd name="textAreaTop" fmla="*/ 45720 h 219600"/>
                    <a:gd name="textAreaBottom" fmla="*/ 173880 h 219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654" y="21600"/>
                      </a:lnTo>
                      <a:lnTo>
                        <a:pt x="4946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379160" y="3495240"/>
                  <a:ext cx="65160" cy="54720"/>
                </a:xfrm>
                <a:prstGeom prst="parallelogram">
                  <a:avLst>
                    <a:gd name="adj" fmla="val 30271"/>
                  </a:avLst>
                </a:prstGeom>
                <a:solidFill>
                  <a:srgbClr val="66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" name=""/>
                <p:cNvGrpSpPr/>
                <p:nvPr/>
              </p:nvGrpSpPr>
              <p:grpSpPr>
                <a:xfrm>
                  <a:off x="1328040" y="3984480"/>
                  <a:ext cx="289800" cy="1470960"/>
                  <a:chOff x="1328040" y="3984480"/>
                  <a:chExt cx="289800" cy="147096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1328040" y="398448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328040" y="42786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328040" y="45727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328040" y="48672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328040" y="51613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328040" y="545544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3" name=""/>
                <p:cNvGrpSpPr/>
                <p:nvPr/>
              </p:nvGrpSpPr>
              <p:grpSpPr>
                <a:xfrm>
                  <a:off x="1327680" y="6165720"/>
                  <a:ext cx="289800" cy="161280"/>
                  <a:chOff x="1327680" y="6165720"/>
                  <a:chExt cx="289800" cy="16128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 flipH="1">
                    <a:off x="1327680" y="616572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H="1">
                    <a:off x="1327680" y="624636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flipH="1">
                    <a:off x="1327680" y="6327000"/>
                    <a:ext cx="28980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7" name=""/>
                <p:cNvSpPr/>
                <p:nvPr/>
              </p:nvSpPr>
              <p:spPr>
                <a:xfrm flipH="1">
                  <a:off x="1518840" y="6435000"/>
                  <a:ext cx="108360" cy="179640"/>
                </a:xfrm>
                <a:prstGeom prst="parallelogram">
                  <a:avLst>
                    <a:gd name="adj" fmla="val 47958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373400" y="6454440"/>
                  <a:ext cx="78480" cy="72000"/>
                </a:xfrm>
                <a:prstGeom prst="parallelogram">
                  <a:avLst>
                    <a:gd name="adj" fmla="val 27634"/>
                  </a:avLst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245240" y="6436080"/>
                  <a:ext cx="119160" cy="177480"/>
                </a:xfrm>
                <a:prstGeom prst="parallelogram">
                  <a:avLst>
                    <a:gd name="adj" fmla="val 6851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>
                  <a:off x="1505160" y="3769920"/>
                  <a:ext cx="72000" cy="53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H="1">
                  <a:off x="1395720" y="3339360"/>
                  <a:ext cx="156960" cy="155880"/>
                </a:xfrm>
                <a:custGeom>
                  <a:avLst/>
                  <a:gdLst/>
                  <a:ahLst/>
                  <a:rect l="l" t="t" r="r" b="b"/>
                  <a:pathLst>
                    <a:path w="142" h="136">
                      <a:moveTo>
                        <a:pt x="0" y="136"/>
                      </a:moveTo>
                      <a:lnTo>
                        <a:pt x="31" y="48"/>
                      </a:lnTo>
                      <a:lnTo>
                        <a:pt x="47" y="12"/>
                      </a:lnTo>
                      <a:lnTo>
                        <a:pt x="71" y="0"/>
                      </a:lnTo>
                      <a:lnTo>
                        <a:pt x="95" y="13"/>
                      </a:lnTo>
                      <a:lnTo>
                        <a:pt x="112" y="48"/>
                      </a:lnTo>
                      <a:lnTo>
                        <a:pt x="142" y="136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d4e3"/>
                    </a:gs>
                    <a:gs pos="50000">
                      <a:srgbClr val="eff1f5"/>
                    </a:gs>
                    <a:gs pos="100000">
                      <a:srgbClr val="cfd4e3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2" name=""/>
            <p:cNvGrpSpPr/>
            <p:nvPr/>
          </p:nvGrpSpPr>
          <p:grpSpPr>
            <a:xfrm>
              <a:off x="0" y="3787200"/>
              <a:ext cx="1913040" cy="2789640"/>
              <a:chOff x="0" y="3787200"/>
              <a:chExt cx="1913040" cy="27896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759240" y="3906360"/>
                <a:ext cx="396000" cy="499320"/>
                <a:chOff x="759240" y="3906360"/>
                <a:chExt cx="396000" cy="4993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759240" y="391068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155240" y="390636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0" y="3787200"/>
                <a:ext cx="1913040" cy="2789640"/>
                <a:chOff x="0" y="3787200"/>
                <a:chExt cx="1913040" cy="27896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743760" y="3934800"/>
                  <a:ext cx="425160" cy="494640"/>
                </a:xfrm>
                <a:custGeom>
                  <a:avLst/>
                  <a:gdLst/>
                  <a:ahLst/>
                  <a:rect l="l" t="t" r="r" b="b"/>
                  <a:pathLst>
                    <a:path w="384" h="432">
                      <a:moveTo>
                        <a:pt x="0" y="334"/>
                      </a:moveTo>
                      <a:lnTo>
                        <a:pt x="18" y="215"/>
                      </a:lnTo>
                      <a:lnTo>
                        <a:pt x="48" y="90"/>
                      </a:lnTo>
                      <a:lnTo>
                        <a:pt x="68" y="41"/>
                      </a:lnTo>
                      <a:lnTo>
                        <a:pt x="86" y="1"/>
                      </a:lnTo>
                      <a:lnTo>
                        <a:pt x="300" y="0"/>
                      </a:lnTo>
                      <a:lnTo>
                        <a:pt x="320" y="44"/>
                      </a:lnTo>
                      <a:lnTo>
                        <a:pt x="336" y="90"/>
                      </a:lnTo>
                      <a:lnTo>
                        <a:pt x="365" y="206"/>
                      </a:lnTo>
                      <a:lnTo>
                        <a:pt x="384" y="334"/>
                      </a:lnTo>
                      <a:lnTo>
                        <a:pt x="384" y="432"/>
                      </a:lnTo>
                      <a:lnTo>
                        <a:pt x="0" y="432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40240" y="3787200"/>
                  <a:ext cx="235440" cy="147600"/>
                </a:xfrm>
                <a:custGeom>
                  <a:avLst/>
                  <a:gdLst/>
                  <a:ahLst/>
                  <a:rect l="l" t="t" r="r" b="b"/>
                  <a:pathLst>
                    <a:path w="212" h="129">
                      <a:moveTo>
                        <a:pt x="0" y="129"/>
                      </a:moveTo>
                      <a:lnTo>
                        <a:pt x="21" y="86"/>
                      </a:lnTo>
                      <a:lnTo>
                        <a:pt x="53" y="36"/>
                      </a:lnTo>
                      <a:lnTo>
                        <a:pt x="77" y="9"/>
                      </a:lnTo>
                      <a:lnTo>
                        <a:pt x="108" y="0"/>
                      </a:lnTo>
                      <a:lnTo>
                        <a:pt x="138" y="9"/>
                      </a:lnTo>
                      <a:lnTo>
                        <a:pt x="161" y="38"/>
                      </a:lnTo>
                      <a:lnTo>
                        <a:pt x="191" y="86"/>
                      </a:lnTo>
                      <a:lnTo>
                        <a:pt x="212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920" y="4484880"/>
                  <a:ext cx="743760" cy="1484640"/>
                </a:xfrm>
                <a:custGeom>
                  <a:avLst/>
                  <a:gdLst/>
                  <a:ahLst/>
                  <a:rect l="l" t="t" r="r" b="b"/>
                  <a:pathLst>
                    <a:path w="672" h="1296">
                      <a:moveTo>
                        <a:pt x="672" y="1296"/>
                      </a:moveTo>
                      <a:lnTo>
                        <a:pt x="0" y="1296"/>
                      </a:lnTo>
                      <a:lnTo>
                        <a:pt x="0" y="1152"/>
                      </a:lnTo>
                      <a:lnTo>
                        <a:pt x="240" y="912"/>
                      </a:lnTo>
                      <a:lnTo>
                        <a:pt x="432" y="768"/>
                      </a:lnTo>
                      <a:lnTo>
                        <a:pt x="528" y="480"/>
                      </a:lnTo>
                      <a:lnTo>
                        <a:pt x="624" y="0"/>
                      </a:lnTo>
                      <a:lnTo>
                        <a:pt x="672" y="0"/>
                      </a:lnTo>
                      <a:lnTo>
                        <a:pt x="672" y="1296"/>
                      </a:lnTo>
                      <a:close/>
                    </a:path>
                  </a:pathLst>
                </a:custGeom>
                <a:solidFill>
                  <a:srgbClr val="ced8f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1116000" y="4484880"/>
                  <a:ext cx="743760" cy="1484640"/>
                </a:xfrm>
                <a:custGeom>
                  <a:avLst/>
                  <a:gdLst/>
                  <a:ahLst/>
                  <a:rect l="l" t="t" r="r" b="b"/>
                  <a:pathLst>
                    <a:path w="672" h="1296">
                      <a:moveTo>
                        <a:pt x="672" y="1296"/>
                      </a:moveTo>
                      <a:lnTo>
                        <a:pt x="0" y="1296"/>
                      </a:lnTo>
                      <a:lnTo>
                        <a:pt x="0" y="1152"/>
                      </a:lnTo>
                      <a:lnTo>
                        <a:pt x="240" y="912"/>
                      </a:lnTo>
                      <a:lnTo>
                        <a:pt x="432" y="768"/>
                      </a:lnTo>
                      <a:lnTo>
                        <a:pt x="528" y="480"/>
                      </a:lnTo>
                      <a:lnTo>
                        <a:pt x="624" y="0"/>
                      </a:lnTo>
                      <a:lnTo>
                        <a:pt x="672" y="0"/>
                      </a:lnTo>
                      <a:lnTo>
                        <a:pt x="672" y="1296"/>
                      </a:lnTo>
                      <a:close/>
                    </a:path>
                  </a:pathLst>
                </a:custGeom>
                <a:solidFill>
                  <a:srgbClr val="ced8f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743760" y="4429800"/>
                  <a:ext cx="4251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43760" y="4429800"/>
                  <a:ext cx="425160" cy="329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43760" y="4759920"/>
                  <a:ext cx="425160" cy="329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43760" y="5089680"/>
                  <a:ext cx="425160" cy="329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743760" y="5419800"/>
                  <a:ext cx="425160" cy="329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43760" y="5749920"/>
                  <a:ext cx="425160" cy="5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39160" y="4093200"/>
                  <a:ext cx="55080" cy="6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97040" y="4044600"/>
                  <a:ext cx="318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95320" y="4373640"/>
                  <a:ext cx="60840" cy="55800"/>
                </a:xfrm>
                <a:prstGeom prst="rect">
                  <a:avLst/>
                </a:prstGeom>
                <a:solidFill>
                  <a:srgbClr val="4422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956520" y="4373640"/>
                  <a:ext cx="60840" cy="55800"/>
                </a:xfrm>
                <a:prstGeom prst="rect">
                  <a:avLst/>
                </a:prstGeom>
                <a:solidFill>
                  <a:srgbClr val="4422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0040" y="4362120"/>
                  <a:ext cx="25560" cy="25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024920" y="4364640"/>
                  <a:ext cx="25560" cy="25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956520" y="4429800"/>
                  <a:ext cx="0" cy="1374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37560" y="6189840"/>
                  <a:ext cx="637560" cy="110160"/>
                </a:xfrm>
                <a:prstGeom prst="rect">
                  <a:avLst/>
                </a:prstGeom>
                <a:solidFill>
                  <a:srgbClr val="c3cff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0" y="5981400"/>
                  <a:ext cx="1913040" cy="208080"/>
                </a:xfrm>
                <a:custGeom>
                  <a:avLst/>
                  <a:gdLst/>
                  <a:ahLst/>
                  <a:rect l="l" t="t" r="r" b="b"/>
                  <a:pathLst>
                    <a:path w="1728" h="144">
                      <a:moveTo>
                        <a:pt x="576" y="144"/>
                      </a:move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864" y="0"/>
                      </a:lnTo>
                      <a:lnTo>
                        <a:pt x="1680" y="0"/>
                      </a:lnTo>
                      <a:lnTo>
                        <a:pt x="1728" y="0"/>
                      </a:lnTo>
                      <a:lnTo>
                        <a:pt x="1728" y="48"/>
                      </a:lnTo>
                      <a:lnTo>
                        <a:pt x="1152" y="144"/>
                      </a:lnTo>
                      <a:lnTo>
                        <a:pt x="576" y="144"/>
                      </a:lnTo>
                      <a:close/>
                    </a:path>
                  </a:pathLst>
                </a:custGeom>
                <a:solidFill>
                  <a:srgbClr val="ced8f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18600" y="5969880"/>
                  <a:ext cx="0" cy="148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594080" y="5969880"/>
                  <a:ext cx="0" cy="148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0" y="4320000"/>
                  <a:ext cx="797040" cy="1718280"/>
                </a:xfrm>
                <a:custGeom>
                  <a:avLst/>
                  <a:gdLst/>
                  <a:ahLst/>
                  <a:rect l="l" t="t" r="r" b="b"/>
                  <a:pathLst>
                    <a:path w="720" h="1500">
                      <a:moveTo>
                        <a:pt x="720" y="1392"/>
                      </a:moveTo>
                      <a:lnTo>
                        <a:pt x="59" y="1392"/>
                      </a:lnTo>
                      <a:lnTo>
                        <a:pt x="56" y="1346"/>
                      </a:lnTo>
                      <a:lnTo>
                        <a:pt x="74" y="1290"/>
                      </a:lnTo>
                      <a:lnTo>
                        <a:pt x="126" y="1236"/>
                      </a:lnTo>
                      <a:lnTo>
                        <a:pt x="287" y="1101"/>
                      </a:lnTo>
                      <a:lnTo>
                        <a:pt x="476" y="932"/>
                      </a:lnTo>
                      <a:lnTo>
                        <a:pt x="522" y="869"/>
                      </a:lnTo>
                      <a:lnTo>
                        <a:pt x="564" y="756"/>
                      </a:lnTo>
                      <a:lnTo>
                        <a:pt x="594" y="614"/>
                      </a:lnTo>
                      <a:lnTo>
                        <a:pt x="624" y="441"/>
                      </a:lnTo>
                      <a:lnTo>
                        <a:pt x="647" y="324"/>
                      </a:lnTo>
                      <a:lnTo>
                        <a:pt x="672" y="218"/>
                      </a:lnTo>
                      <a:lnTo>
                        <a:pt x="672" y="0"/>
                      </a:lnTo>
                      <a:lnTo>
                        <a:pt x="644" y="132"/>
                      </a:lnTo>
                      <a:lnTo>
                        <a:pt x="624" y="240"/>
                      </a:lnTo>
                      <a:lnTo>
                        <a:pt x="588" y="456"/>
                      </a:lnTo>
                      <a:lnTo>
                        <a:pt x="560" y="596"/>
                      </a:lnTo>
                      <a:lnTo>
                        <a:pt x="527" y="735"/>
                      </a:lnTo>
                      <a:lnTo>
                        <a:pt x="488" y="833"/>
                      </a:lnTo>
                      <a:lnTo>
                        <a:pt x="432" y="912"/>
                      </a:lnTo>
                      <a:lnTo>
                        <a:pt x="201" y="1115"/>
                      </a:lnTo>
                      <a:lnTo>
                        <a:pt x="78" y="1220"/>
                      </a:lnTo>
                      <a:lnTo>
                        <a:pt x="45" y="1259"/>
                      </a:lnTo>
                      <a:lnTo>
                        <a:pt x="24" y="1314"/>
                      </a:lnTo>
                      <a:lnTo>
                        <a:pt x="0" y="1392"/>
                      </a:lnTo>
                      <a:lnTo>
                        <a:pt x="0" y="1454"/>
                      </a:lnTo>
                      <a:lnTo>
                        <a:pt x="30" y="1473"/>
                      </a:lnTo>
                      <a:lnTo>
                        <a:pt x="587" y="1500"/>
                      </a:lnTo>
                      <a:lnTo>
                        <a:pt x="720" y="1488"/>
                      </a:lnTo>
                      <a:lnTo>
                        <a:pt x="720" y="13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1116000" y="4320000"/>
                  <a:ext cx="797040" cy="1718280"/>
                </a:xfrm>
                <a:custGeom>
                  <a:avLst/>
                  <a:gdLst/>
                  <a:ahLst/>
                  <a:rect l="l" t="t" r="r" b="b"/>
                  <a:pathLst>
                    <a:path w="720" h="1500">
                      <a:moveTo>
                        <a:pt x="720" y="1392"/>
                      </a:moveTo>
                      <a:lnTo>
                        <a:pt x="59" y="1392"/>
                      </a:lnTo>
                      <a:lnTo>
                        <a:pt x="56" y="1346"/>
                      </a:lnTo>
                      <a:lnTo>
                        <a:pt x="74" y="1290"/>
                      </a:lnTo>
                      <a:lnTo>
                        <a:pt x="126" y="1236"/>
                      </a:lnTo>
                      <a:lnTo>
                        <a:pt x="287" y="1101"/>
                      </a:lnTo>
                      <a:lnTo>
                        <a:pt x="476" y="932"/>
                      </a:lnTo>
                      <a:lnTo>
                        <a:pt x="522" y="869"/>
                      </a:lnTo>
                      <a:lnTo>
                        <a:pt x="564" y="756"/>
                      </a:lnTo>
                      <a:lnTo>
                        <a:pt x="594" y="614"/>
                      </a:lnTo>
                      <a:lnTo>
                        <a:pt x="624" y="441"/>
                      </a:lnTo>
                      <a:lnTo>
                        <a:pt x="647" y="324"/>
                      </a:lnTo>
                      <a:lnTo>
                        <a:pt x="672" y="218"/>
                      </a:lnTo>
                      <a:lnTo>
                        <a:pt x="672" y="0"/>
                      </a:lnTo>
                      <a:lnTo>
                        <a:pt x="644" y="132"/>
                      </a:lnTo>
                      <a:lnTo>
                        <a:pt x="624" y="240"/>
                      </a:lnTo>
                      <a:lnTo>
                        <a:pt x="588" y="456"/>
                      </a:lnTo>
                      <a:lnTo>
                        <a:pt x="560" y="596"/>
                      </a:lnTo>
                      <a:lnTo>
                        <a:pt x="527" y="735"/>
                      </a:lnTo>
                      <a:lnTo>
                        <a:pt x="488" y="833"/>
                      </a:lnTo>
                      <a:lnTo>
                        <a:pt x="432" y="912"/>
                      </a:lnTo>
                      <a:lnTo>
                        <a:pt x="201" y="1115"/>
                      </a:lnTo>
                      <a:lnTo>
                        <a:pt x="78" y="1220"/>
                      </a:lnTo>
                      <a:lnTo>
                        <a:pt x="45" y="1259"/>
                      </a:lnTo>
                      <a:lnTo>
                        <a:pt x="24" y="1314"/>
                      </a:lnTo>
                      <a:lnTo>
                        <a:pt x="0" y="1392"/>
                      </a:lnTo>
                      <a:lnTo>
                        <a:pt x="0" y="1454"/>
                      </a:lnTo>
                      <a:lnTo>
                        <a:pt x="30" y="1473"/>
                      </a:lnTo>
                      <a:lnTo>
                        <a:pt x="587" y="1500"/>
                      </a:lnTo>
                      <a:lnTo>
                        <a:pt x="720" y="1488"/>
                      </a:lnTo>
                      <a:lnTo>
                        <a:pt x="720" y="13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76080" y="6147360"/>
                  <a:ext cx="32040" cy="110160"/>
                </a:xfrm>
                <a:prstGeom prst="rect">
                  <a:avLst/>
                </a:prstGeom>
                <a:solidFill>
                  <a:srgbClr val="9f8b6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207800" y="6147360"/>
                  <a:ext cx="32040" cy="110160"/>
                </a:xfrm>
                <a:prstGeom prst="rect">
                  <a:avLst/>
                </a:prstGeom>
                <a:solidFill>
                  <a:srgbClr val="9f8b6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3760" y="5913720"/>
                  <a:ext cx="425160" cy="38448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88680" y="6144120"/>
                  <a:ext cx="203400" cy="271440"/>
                </a:xfrm>
                <a:custGeom>
                  <a:avLst/>
                  <a:gdLst/>
                  <a:ahLst/>
                  <a:rect l="l" t="t" r="r" b="b"/>
                  <a:pathLst>
                    <a:path w="174" h="222">
                      <a:moveTo>
                        <a:pt x="78" y="211"/>
                      </a:moveTo>
                      <a:lnTo>
                        <a:pt x="164" y="222"/>
                      </a:lnTo>
                      <a:lnTo>
                        <a:pt x="174" y="154"/>
                      </a:lnTo>
                      <a:lnTo>
                        <a:pt x="174" y="85"/>
                      </a:lnTo>
                      <a:lnTo>
                        <a:pt x="162" y="15"/>
                      </a:lnTo>
                      <a:lnTo>
                        <a:pt x="98" y="0"/>
                      </a:lnTo>
                      <a:lnTo>
                        <a:pt x="53" y="54"/>
                      </a:lnTo>
                      <a:lnTo>
                        <a:pt x="20" y="121"/>
                      </a:lnTo>
                      <a:lnTo>
                        <a:pt x="0" y="183"/>
                      </a:lnTo>
                      <a:lnTo>
                        <a:pt x="78" y="21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35a70"/>
                    </a:gs>
                    <a:gs pos="50000">
                      <a:srgbClr val="b5c4f5"/>
                    </a:gs>
                    <a:gs pos="100000">
                      <a:srgbClr val="535a7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1021680" y="6153120"/>
                  <a:ext cx="201600" cy="264600"/>
                </a:xfrm>
                <a:custGeom>
                  <a:avLst/>
                  <a:gdLst/>
                  <a:ahLst/>
                  <a:rect l="l" t="t" r="r" b="b"/>
                  <a:pathLst>
                    <a:path w="174" h="222">
                      <a:moveTo>
                        <a:pt x="78" y="211"/>
                      </a:moveTo>
                      <a:lnTo>
                        <a:pt x="164" y="222"/>
                      </a:lnTo>
                      <a:lnTo>
                        <a:pt x="174" y="154"/>
                      </a:lnTo>
                      <a:lnTo>
                        <a:pt x="174" y="85"/>
                      </a:lnTo>
                      <a:lnTo>
                        <a:pt x="162" y="15"/>
                      </a:lnTo>
                      <a:lnTo>
                        <a:pt x="98" y="0"/>
                      </a:lnTo>
                      <a:lnTo>
                        <a:pt x="53" y="54"/>
                      </a:lnTo>
                      <a:lnTo>
                        <a:pt x="20" y="121"/>
                      </a:lnTo>
                      <a:lnTo>
                        <a:pt x="0" y="183"/>
                      </a:lnTo>
                      <a:lnTo>
                        <a:pt x="78" y="21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35a70"/>
                    </a:gs>
                    <a:gs pos="50000">
                      <a:srgbClr val="b5c4f5"/>
                    </a:gs>
                    <a:gs pos="100000">
                      <a:srgbClr val="535a7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47800" y="6146280"/>
                  <a:ext cx="223560" cy="259920"/>
                </a:xfrm>
                <a:custGeom>
                  <a:avLst/>
                  <a:gdLst/>
                  <a:ahLst/>
                  <a:rect l="l" t="t" r="r" b="b"/>
                  <a:pathLst>
                    <a:path w="173" h="196">
                      <a:moveTo>
                        <a:pt x="89" y="196"/>
                      </a:moveTo>
                      <a:lnTo>
                        <a:pt x="173" y="177"/>
                      </a:lnTo>
                      <a:lnTo>
                        <a:pt x="162" y="115"/>
                      </a:lnTo>
                      <a:lnTo>
                        <a:pt x="146" y="58"/>
                      </a:lnTo>
                      <a:lnTo>
                        <a:pt x="117" y="0"/>
                      </a:lnTo>
                      <a:lnTo>
                        <a:pt x="53" y="1"/>
                      </a:lnTo>
                      <a:lnTo>
                        <a:pt x="21" y="61"/>
                      </a:lnTo>
                      <a:lnTo>
                        <a:pt x="8" y="114"/>
                      </a:lnTo>
                      <a:lnTo>
                        <a:pt x="0" y="178"/>
                      </a:lnTo>
                      <a:lnTo>
                        <a:pt x="89" y="1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35a70"/>
                    </a:gs>
                    <a:gs pos="50000">
                      <a:srgbClr val="b5c4f5"/>
                    </a:gs>
                    <a:gs pos="100000">
                      <a:srgbClr val="535a7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43760" y="5805000"/>
                  <a:ext cx="425160" cy="187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83440" y="5803560"/>
                  <a:ext cx="145800" cy="384840"/>
                </a:xfrm>
                <a:prstGeom prst="rect">
                  <a:avLst/>
                </a:prstGeom>
                <a:solidFill>
                  <a:srgbClr val="ced8f4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031760" y="5805000"/>
                  <a:ext cx="243360" cy="385920"/>
                </a:xfrm>
                <a:custGeom>
                  <a:avLst/>
                  <a:gdLst/>
                  <a:ahLst/>
                  <a:rect l="l" t="t" r="r" b="b"/>
                  <a:pathLst>
                    <a:path w="216" h="320">
                      <a:moveTo>
                        <a:pt x="0" y="179"/>
                      </a:moveTo>
                      <a:lnTo>
                        <a:pt x="1" y="131"/>
                      </a:lnTo>
                      <a:lnTo>
                        <a:pt x="11" y="66"/>
                      </a:lnTo>
                      <a:lnTo>
                        <a:pt x="23" y="29"/>
                      </a:lnTo>
                      <a:lnTo>
                        <a:pt x="34" y="0"/>
                      </a:lnTo>
                      <a:lnTo>
                        <a:pt x="141" y="1"/>
                      </a:lnTo>
                      <a:lnTo>
                        <a:pt x="166" y="46"/>
                      </a:lnTo>
                      <a:lnTo>
                        <a:pt x="187" y="92"/>
                      </a:lnTo>
                      <a:lnTo>
                        <a:pt x="204" y="164"/>
                      </a:lnTo>
                      <a:lnTo>
                        <a:pt x="213" y="245"/>
                      </a:lnTo>
                      <a:lnTo>
                        <a:pt x="216" y="320"/>
                      </a:lnTo>
                      <a:lnTo>
                        <a:pt x="28" y="320"/>
                      </a:lnTo>
                      <a:lnTo>
                        <a:pt x="0" y="320"/>
                      </a:lnTo>
                      <a:lnTo>
                        <a:pt x="0" y="17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37560" y="5805000"/>
                  <a:ext cx="243360" cy="384480"/>
                </a:xfrm>
                <a:custGeom>
                  <a:avLst/>
                  <a:gdLst/>
                  <a:ahLst/>
                  <a:rect l="l" t="t" r="r" b="b"/>
                  <a:pathLst>
                    <a:path w="220" h="319">
                      <a:moveTo>
                        <a:pt x="220" y="178"/>
                      </a:moveTo>
                      <a:lnTo>
                        <a:pt x="219" y="130"/>
                      </a:lnTo>
                      <a:lnTo>
                        <a:pt x="209" y="65"/>
                      </a:lnTo>
                      <a:lnTo>
                        <a:pt x="197" y="28"/>
                      </a:lnTo>
                      <a:lnTo>
                        <a:pt x="185" y="1"/>
                      </a:lnTo>
                      <a:lnTo>
                        <a:pt x="76" y="0"/>
                      </a:lnTo>
                      <a:lnTo>
                        <a:pt x="51" y="45"/>
                      </a:lnTo>
                      <a:lnTo>
                        <a:pt x="30" y="91"/>
                      </a:lnTo>
                      <a:lnTo>
                        <a:pt x="12" y="163"/>
                      </a:lnTo>
                      <a:lnTo>
                        <a:pt x="3" y="244"/>
                      </a:lnTo>
                      <a:lnTo>
                        <a:pt x="0" y="319"/>
                      </a:lnTo>
                      <a:lnTo>
                        <a:pt x="191" y="319"/>
                      </a:lnTo>
                      <a:lnTo>
                        <a:pt x="220" y="319"/>
                      </a:lnTo>
                      <a:lnTo>
                        <a:pt x="220" y="17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ed8f4"/>
                    </a:gs>
                    <a:gs pos="50000">
                      <a:srgbClr val="e8ecf9"/>
                    </a:gs>
                    <a:gs pos="100000">
                      <a:srgbClr val="ced8f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88680" y="6367320"/>
                  <a:ext cx="191520" cy="47880"/>
                </a:xfrm>
                <a:custGeom>
                  <a:avLst/>
                  <a:gdLst/>
                  <a:ahLst/>
                  <a:rect l="l" t="t" r="r" b="b"/>
                  <a:pathLst>
                    <a:path w="173" h="42">
                      <a:moveTo>
                        <a:pt x="82" y="30"/>
                      </a:moveTo>
                      <a:lnTo>
                        <a:pt x="173" y="42"/>
                      </a:lnTo>
                      <a:lnTo>
                        <a:pt x="115" y="12"/>
                      </a:lnTo>
                      <a:lnTo>
                        <a:pt x="70" y="1"/>
                      </a:lnTo>
                      <a:lnTo>
                        <a:pt x="0" y="0"/>
                      </a:lnTo>
                      <a:lnTo>
                        <a:pt x="82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032840" y="6370920"/>
                  <a:ext cx="190440" cy="46800"/>
                </a:xfrm>
                <a:custGeom>
                  <a:avLst/>
                  <a:gdLst/>
                  <a:ahLst/>
                  <a:rect l="l" t="t" r="r" b="b"/>
                  <a:pathLst>
                    <a:path w="172" h="41">
                      <a:moveTo>
                        <a:pt x="90" y="30"/>
                      </a:moveTo>
                      <a:lnTo>
                        <a:pt x="0" y="41"/>
                      </a:lnTo>
                      <a:lnTo>
                        <a:pt x="35" y="25"/>
                      </a:lnTo>
                      <a:lnTo>
                        <a:pt x="80" y="12"/>
                      </a:lnTo>
                      <a:lnTo>
                        <a:pt x="131" y="3"/>
                      </a:lnTo>
                      <a:lnTo>
                        <a:pt x="172" y="0"/>
                      </a:lnTo>
                      <a:lnTo>
                        <a:pt x="9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47800" y="6367320"/>
                  <a:ext cx="223560" cy="38880"/>
                </a:xfrm>
                <a:custGeom>
                  <a:avLst/>
                  <a:gdLst/>
                  <a:ahLst/>
                  <a:rect l="l" t="t" r="r" b="b"/>
                  <a:pathLst>
                    <a:path w="202" h="34">
                      <a:moveTo>
                        <a:pt x="104" y="34"/>
                      </a:moveTo>
                      <a:lnTo>
                        <a:pt x="202" y="12"/>
                      </a:lnTo>
                      <a:lnTo>
                        <a:pt x="127" y="0"/>
                      </a:lnTo>
                      <a:lnTo>
                        <a:pt x="82" y="0"/>
                      </a:lnTo>
                      <a:lnTo>
                        <a:pt x="0" y="13"/>
                      </a:lnTo>
                      <a:lnTo>
                        <a:pt x="104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906840" y="5803560"/>
                  <a:ext cx="98280" cy="773280"/>
                </a:xfrm>
                <a:custGeom>
                  <a:avLst/>
                  <a:gdLst/>
                  <a:ahLst/>
                  <a:rect l="l" t="t" r="r" b="b"/>
                  <a:pathLst>
                    <a:path w="89" h="675">
                      <a:moveTo>
                        <a:pt x="3" y="212"/>
                      </a:moveTo>
                      <a:lnTo>
                        <a:pt x="11" y="83"/>
                      </a:lnTo>
                      <a:lnTo>
                        <a:pt x="29" y="0"/>
                      </a:lnTo>
                      <a:lnTo>
                        <a:pt x="61" y="0"/>
                      </a:lnTo>
                      <a:lnTo>
                        <a:pt x="80" y="83"/>
                      </a:lnTo>
                      <a:lnTo>
                        <a:pt x="84" y="210"/>
                      </a:lnTo>
                      <a:lnTo>
                        <a:pt x="89" y="311"/>
                      </a:lnTo>
                      <a:lnTo>
                        <a:pt x="71" y="584"/>
                      </a:lnTo>
                      <a:lnTo>
                        <a:pt x="60" y="648"/>
                      </a:lnTo>
                      <a:lnTo>
                        <a:pt x="46" y="675"/>
                      </a:lnTo>
                      <a:lnTo>
                        <a:pt x="32" y="647"/>
                      </a:lnTo>
                      <a:lnTo>
                        <a:pt x="18" y="582"/>
                      </a:lnTo>
                      <a:lnTo>
                        <a:pt x="0" y="306"/>
                      </a:lnTo>
                      <a:lnTo>
                        <a:pt x="3" y="21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938520" y="5803560"/>
                  <a:ext cx="35640" cy="773280"/>
                </a:xfrm>
                <a:custGeom>
                  <a:avLst/>
                  <a:gdLst/>
                  <a:ahLst/>
                  <a:rect l="l" t="t" r="r" b="b"/>
                  <a:pathLst>
                    <a:path w="48" h="675">
                      <a:moveTo>
                        <a:pt x="0" y="336"/>
                      </a:moveTo>
                      <a:lnTo>
                        <a:pt x="0" y="0"/>
                      </a:lnTo>
                      <a:lnTo>
                        <a:pt x="48" y="0"/>
                      </a:lnTo>
                      <a:lnTo>
                        <a:pt x="48" y="336"/>
                      </a:lnTo>
                      <a:lnTo>
                        <a:pt x="38" y="602"/>
                      </a:lnTo>
                      <a:lnTo>
                        <a:pt x="26" y="675"/>
                      </a:lnTo>
                      <a:lnTo>
                        <a:pt x="11" y="603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4422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88040" y="4093200"/>
                  <a:ext cx="102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71480" y="4160520"/>
                  <a:ext cx="1216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910080" y="3904200"/>
                  <a:ext cx="6480" cy="26280"/>
                </a:xfrm>
                <a:prstGeom prst="rect">
                  <a:avLst/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955440" y="3906360"/>
                  <a:ext cx="6480" cy="25920"/>
                </a:xfrm>
                <a:prstGeom prst="rect">
                  <a:avLst/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988560" y="3903840"/>
                  <a:ext cx="18720" cy="25920"/>
                </a:xfrm>
                <a:prstGeom prst="rect">
                  <a:avLst/>
                </a:prstGeom>
                <a:solidFill>
                  <a:srgbClr val="94aa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780480" y="4147920"/>
                  <a:ext cx="357480" cy="164880"/>
                  <a:chOff x="780480" y="4147920"/>
                  <a:chExt cx="357480" cy="16488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780480" y="4147920"/>
                    <a:ext cx="3574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144">
                        <a:moveTo>
                          <a:pt x="0" y="144"/>
                        </a:moveTo>
                        <a:lnTo>
                          <a:pt x="12" y="60"/>
                        </a:lnTo>
                        <a:lnTo>
                          <a:pt x="162" y="0"/>
                        </a:lnTo>
                        <a:lnTo>
                          <a:pt x="303" y="54"/>
                        </a:lnTo>
                        <a:lnTo>
                          <a:pt x="323" y="143"/>
                        </a:lnTo>
                        <a:lnTo>
                          <a:pt x="252" y="128"/>
                        </a:lnTo>
                        <a:lnTo>
                          <a:pt x="243" y="96"/>
                        </a:lnTo>
                        <a:lnTo>
                          <a:pt x="210" y="75"/>
                        </a:lnTo>
                        <a:lnTo>
                          <a:pt x="162" y="66"/>
                        </a:lnTo>
                        <a:lnTo>
                          <a:pt x="111" y="77"/>
                        </a:lnTo>
                        <a:lnTo>
                          <a:pt x="75" y="96"/>
                        </a:lnTo>
                        <a:lnTo>
                          <a:pt x="69" y="129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4422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V="1">
                    <a:off x="1049400" y="4210920"/>
                    <a:ext cx="66240" cy="50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V="1">
                    <a:off x="1013760" y="4181040"/>
                    <a:ext cx="25200" cy="50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 flipV="1">
                    <a:off x="797040" y="4219560"/>
                    <a:ext cx="66240" cy="39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V="1">
                    <a:off x="959760" y="4149000"/>
                    <a:ext cx="0" cy="741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880920" y="4182120"/>
                    <a:ext cx="24120" cy="51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27" name=""/>
          <p:cNvGrpSpPr/>
          <p:nvPr/>
        </p:nvGrpSpPr>
        <p:grpSpPr>
          <a:xfrm>
            <a:off x="3938760" y="3067200"/>
            <a:ext cx="428040" cy="3645720"/>
            <a:chOff x="3938760" y="3067200"/>
            <a:chExt cx="428040" cy="3645720"/>
          </a:xfrm>
        </p:grpSpPr>
        <p:grpSp>
          <p:nvGrpSpPr>
            <p:cNvPr id="1328" name=""/>
            <p:cNvGrpSpPr/>
            <p:nvPr/>
          </p:nvGrpSpPr>
          <p:grpSpPr>
            <a:xfrm>
              <a:off x="4020480" y="3796560"/>
              <a:ext cx="268200" cy="884160"/>
              <a:chOff x="4020480" y="3796560"/>
              <a:chExt cx="268200" cy="884160"/>
            </a:xfrm>
          </p:grpSpPr>
          <p:sp>
            <p:nvSpPr>
              <p:cNvPr id="1329" name=""/>
              <p:cNvSpPr/>
              <p:nvPr/>
            </p:nvSpPr>
            <p:spPr>
              <a:xfrm>
                <a:off x="4020480" y="3893400"/>
                <a:ext cx="267120" cy="604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020480" y="3905640"/>
                <a:ext cx="26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4020480" y="3832920"/>
                <a:ext cx="268200" cy="60480"/>
              </a:xfrm>
              <a:custGeom>
                <a:avLst/>
                <a:gdLst>
                  <a:gd name="textAreaLeft" fmla="*/ 67680 w 268200"/>
                  <a:gd name="textAreaRight" fmla="*/ 200520 w 268200"/>
                  <a:gd name="textAreaTop" fmla="*/ 15120 h 60480"/>
                  <a:gd name="textAreaBottom" fmla="*/ 45360 h 6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909" y="21600"/>
                    </a:lnTo>
                    <a:lnTo>
                      <a:pt x="669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102200" y="3796560"/>
                <a:ext cx="104760" cy="363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043520" y="4499280"/>
                <a:ext cx="221760" cy="48240"/>
              </a:xfrm>
              <a:custGeom>
                <a:avLst/>
                <a:gdLst>
                  <a:gd name="textAreaLeft" fmla="*/ 32040 w 221760"/>
                  <a:gd name="textAreaRight" fmla="*/ 189720 w 221760"/>
                  <a:gd name="textAreaTop" fmla="*/ 6840 h 48240"/>
                  <a:gd name="textAreaBottom" fmla="*/ 41400 h 4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137" y="21600"/>
                    </a:lnTo>
                    <a:lnTo>
                      <a:pt x="246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020480" y="4317480"/>
                <a:ext cx="268200" cy="242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4e4e4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020480" y="3953880"/>
                <a:ext cx="268200" cy="484560"/>
              </a:xfrm>
              <a:prstGeom prst="rect">
                <a:avLst/>
              </a:prstGeom>
              <a:gradFill rotWithShape="0">
                <a:gsLst>
                  <a:gs pos="0">
                    <a:srgbClr val="5a4723"/>
                  </a:gs>
                  <a:gs pos="50000">
                    <a:srgbClr val="b69148"/>
                  </a:gs>
                  <a:gs pos="100000">
                    <a:srgbClr val="5a472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140720" y="4581360"/>
                <a:ext cx="34920" cy="36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118040" y="4545000"/>
                <a:ext cx="34920" cy="36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1160" y="4565880"/>
                <a:ext cx="46440" cy="417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4043520" y="4595760"/>
                <a:ext cx="81720" cy="84600"/>
              </a:xfrm>
              <a:custGeom>
                <a:avLst/>
                <a:gdLst>
                  <a:gd name="textAreaLeft" fmla="*/ 18000 w 81720"/>
                  <a:gd name="textAreaRight" fmla="*/ 63720 w 81720"/>
                  <a:gd name="textAreaTop" fmla="*/ 18360 h 84600"/>
                  <a:gd name="textAreaBottom" fmla="*/ 66240 h 8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066920" y="4547880"/>
                <a:ext cx="34920" cy="2412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201200" y="4565880"/>
                <a:ext cx="46440" cy="4176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4183560" y="4595760"/>
                <a:ext cx="81720" cy="84600"/>
              </a:xfrm>
              <a:custGeom>
                <a:avLst/>
                <a:gdLst>
                  <a:gd name="textAreaLeft" fmla="*/ 18000 w 81720"/>
                  <a:gd name="textAreaRight" fmla="*/ 63720 w 81720"/>
                  <a:gd name="textAreaTop" fmla="*/ 18360 h 84600"/>
                  <a:gd name="textAreaBottom" fmla="*/ 66240 h 8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206960" y="4547880"/>
                <a:ext cx="34920" cy="2412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148640" y="4523760"/>
                <a:ext cx="69840" cy="727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cfcfc"/>
                  </a:gs>
                  <a:gs pos="100000">
                    <a:srgbClr val="ddddd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066920" y="4544280"/>
                <a:ext cx="174960" cy="324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3992760" y="3067200"/>
              <a:ext cx="321120" cy="830520"/>
              <a:chOff x="3992760" y="3067200"/>
              <a:chExt cx="321120" cy="830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3992760" y="3765240"/>
                <a:ext cx="321120" cy="25200"/>
              </a:xfrm>
              <a:custGeom>
                <a:avLst/>
                <a:gdLst>
                  <a:gd name="textAreaLeft" fmla="*/ 40680 w 321120"/>
                  <a:gd name="textAreaRight" fmla="*/ 280440 w 321120"/>
                  <a:gd name="textAreaTop" fmla="*/ 3240 h 25200"/>
                  <a:gd name="textAreaBottom" fmla="*/ 21960 h 2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800" y="21600"/>
                    </a:lnTo>
                    <a:lnTo>
                      <a:pt x="18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2760" y="3496680"/>
                <a:ext cx="321120" cy="268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992760" y="3067200"/>
                <a:ext cx="321120" cy="429480"/>
              </a:xfrm>
              <a:custGeom>
                <a:avLst/>
                <a:gdLst/>
                <a:ahLst/>
                <a:rect l="l" t="t" r="r" b="b"/>
                <a:pathLst>
                  <a:path w="288" h="384">
                    <a:moveTo>
                      <a:pt x="0" y="384"/>
                    </a:moveTo>
                    <a:lnTo>
                      <a:pt x="93" y="93"/>
                    </a:lnTo>
                    <a:lnTo>
                      <a:pt x="126" y="15"/>
                    </a:lnTo>
                    <a:lnTo>
                      <a:pt x="144" y="0"/>
                    </a:lnTo>
                    <a:lnTo>
                      <a:pt x="164" y="15"/>
                    </a:lnTo>
                    <a:lnTo>
                      <a:pt x="195" y="93"/>
                    </a:lnTo>
                    <a:lnTo>
                      <a:pt x="288" y="384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20120" y="3790440"/>
                <a:ext cx="267120" cy="103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20120" y="3897720"/>
                <a:ext cx="26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3938760" y="4434840"/>
              <a:ext cx="428040" cy="2278080"/>
              <a:chOff x="3938760" y="4434840"/>
              <a:chExt cx="428040" cy="2278080"/>
            </a:xfrm>
          </p:grpSpPr>
          <p:sp>
            <p:nvSpPr>
              <p:cNvPr id="1353" name=""/>
              <p:cNvSpPr/>
              <p:nvPr/>
            </p:nvSpPr>
            <p:spPr>
              <a:xfrm flipV="1">
                <a:off x="3938760" y="6597000"/>
                <a:ext cx="106920" cy="115920"/>
              </a:xfrm>
              <a:custGeom>
                <a:avLst/>
                <a:gdLst>
                  <a:gd name="textAreaLeft" fmla="*/ 23400 w 106920"/>
                  <a:gd name="textAreaRight" fmla="*/ 83520 w 106920"/>
                  <a:gd name="textAreaTop" fmla="*/ 25560 h 115920"/>
                  <a:gd name="textAreaBottom" fmla="*/ 90360 h 11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4083840" y="6581160"/>
                <a:ext cx="136800" cy="131400"/>
              </a:xfrm>
              <a:custGeom>
                <a:avLst/>
                <a:gdLst>
                  <a:gd name="textAreaLeft" fmla="*/ 29880 w 136800"/>
                  <a:gd name="textAreaRight" fmla="*/ 106920 w 136800"/>
                  <a:gd name="textAreaTop" fmla="*/ 28800 h 131400"/>
                  <a:gd name="textAreaBottom" fmla="*/ 102600 h 13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4259880" y="6597000"/>
                <a:ext cx="106920" cy="115920"/>
              </a:xfrm>
              <a:custGeom>
                <a:avLst/>
                <a:gdLst>
                  <a:gd name="textAreaLeft" fmla="*/ 23400 w 106920"/>
                  <a:gd name="textAreaRight" fmla="*/ 83520 w 106920"/>
                  <a:gd name="textAreaTop" fmla="*/ 25560 h 115920"/>
                  <a:gd name="textAreaBottom" fmla="*/ 90360 h 11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020480" y="4757040"/>
                <a:ext cx="267120" cy="1127880"/>
              </a:xfrm>
              <a:prstGeom prst="rect">
                <a:avLst/>
              </a:prstGeom>
              <a:gradFill rotWithShape="0">
                <a:gsLst>
                  <a:gs pos="0">
                    <a:srgbClr val="7d6c63"/>
                  </a:gs>
                  <a:gs pos="50000">
                    <a:srgbClr val="bea596"/>
                  </a:gs>
                  <a:gs pos="100000">
                    <a:srgbClr val="7d6c6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020480" y="5884920"/>
                <a:ext cx="267120" cy="482400"/>
              </a:xfrm>
              <a:prstGeom prst="rect">
                <a:avLst/>
              </a:prstGeom>
              <a:gradFill rotWithShape="0">
                <a:gsLst>
                  <a:gs pos="0">
                    <a:srgbClr val="724c26"/>
                  </a:gs>
                  <a:gs pos="50000">
                    <a:srgbClr val="dcd3ca"/>
                  </a:gs>
                  <a:gs pos="100000">
                    <a:srgbClr val="724c2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3945240" y="6366960"/>
                <a:ext cx="414720" cy="253080"/>
              </a:xfrm>
              <a:custGeom>
                <a:avLst/>
                <a:gdLst>
                  <a:gd name="textAreaLeft" fmla="*/ 64440 w 414720"/>
                  <a:gd name="textAreaRight" fmla="*/ 350280 w 414720"/>
                  <a:gd name="textAreaTop" fmla="*/ 39240 h 253080"/>
                  <a:gd name="textAreaBottom" fmla="*/ 21384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97" y="21600"/>
                    </a:lnTo>
                    <a:lnTo>
                      <a:pt x="29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6c63"/>
                  </a:gs>
                  <a:gs pos="50000">
                    <a:srgbClr val="bea596"/>
                  </a:gs>
                  <a:gs pos="100000">
                    <a:srgbClr val="7d6c6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20480" y="6474600"/>
                <a:ext cx="26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020480" y="6581880"/>
                <a:ext cx="267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938760" y="6474600"/>
                <a:ext cx="160920" cy="161280"/>
              </a:xfrm>
              <a:prstGeom prst="parallelogram">
                <a:avLst>
                  <a:gd name="adj" fmla="val 25000"/>
                </a:avLst>
              </a:prstGeom>
              <a:gradFill rotWithShape="0">
                <a:gsLst>
                  <a:gs pos="0">
                    <a:srgbClr val="bea596"/>
                  </a:gs>
                  <a:gs pos="100000">
                    <a:srgbClr val="574c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4206960" y="6474600"/>
                <a:ext cx="159840" cy="161280"/>
              </a:xfrm>
              <a:prstGeom prst="parallelogram">
                <a:avLst>
                  <a:gd name="adj" fmla="val 23611"/>
                </a:avLst>
              </a:prstGeom>
              <a:gradFill rotWithShape="0">
                <a:gsLst>
                  <a:gs pos="0">
                    <a:srgbClr val="574c45"/>
                  </a:gs>
                  <a:gs pos="100000">
                    <a:srgbClr val="bea59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045680" y="5937840"/>
                <a:ext cx="81720" cy="591120"/>
              </a:xfrm>
              <a:prstGeom prst="rect">
                <a:avLst/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180680" y="5937840"/>
                <a:ext cx="79200" cy="591120"/>
              </a:xfrm>
              <a:prstGeom prst="rect">
                <a:avLst/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046760" y="5884920"/>
                <a:ext cx="80640" cy="52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180680" y="5884920"/>
                <a:ext cx="79200" cy="52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4046760" y="6528240"/>
                <a:ext cx="80640" cy="72360"/>
              </a:xfrm>
              <a:custGeom>
                <a:avLst/>
                <a:gdLst>
                  <a:gd name="textAreaLeft" fmla="*/ 17640 w 80640"/>
                  <a:gd name="textAreaRight" fmla="*/ 63000 w 80640"/>
                  <a:gd name="textAreaTop" fmla="*/ 15840 h 72360"/>
                  <a:gd name="textAreaBottom" fmla="*/ 565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4f4f"/>
                  </a:gs>
                  <a:gs pos="50000">
                    <a:srgbClr val="dddddd"/>
                  </a:gs>
                  <a:gs pos="100000">
                    <a:srgbClr val="4f4f4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4180680" y="6528240"/>
                <a:ext cx="80640" cy="72360"/>
              </a:xfrm>
              <a:custGeom>
                <a:avLst/>
                <a:gdLst>
                  <a:gd name="textAreaLeft" fmla="*/ 17640 w 80640"/>
                  <a:gd name="textAreaRight" fmla="*/ 63000 w 80640"/>
                  <a:gd name="textAreaTop" fmla="*/ 15840 h 72360"/>
                  <a:gd name="textAreaBottom" fmla="*/ 565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4f4f"/>
                  </a:gs>
                  <a:gs pos="50000">
                    <a:srgbClr val="dddddd"/>
                  </a:gs>
                  <a:gs pos="100000">
                    <a:srgbClr val="4f4f4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287600" y="5776560"/>
                <a:ext cx="19440" cy="590760"/>
              </a:xfrm>
              <a:prstGeom prst="rect">
                <a:avLst/>
              </a:prstGeom>
              <a:gradFill rotWithShape="0">
                <a:gsLst>
                  <a:gs pos="0">
                    <a:srgbClr val="281a0d"/>
                  </a:gs>
                  <a:gs pos="50000">
                    <a:srgbClr val="996633"/>
                  </a:gs>
                  <a:gs pos="100000">
                    <a:srgbClr val="281a0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00680" y="6206400"/>
                <a:ext cx="19440" cy="160920"/>
              </a:xfrm>
              <a:prstGeom prst="rtTriangle">
                <a:avLst/>
              </a:prstGeom>
              <a:gradFill rotWithShape="0">
                <a:gsLst>
                  <a:gs pos="0">
                    <a:srgbClr val="281a0d"/>
                  </a:gs>
                  <a:gs pos="50000">
                    <a:srgbClr val="996633"/>
                  </a:gs>
                  <a:gs pos="100000">
                    <a:srgbClr val="281a0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287600" y="5616360"/>
                <a:ext cx="19440" cy="159840"/>
              </a:xfrm>
              <a:prstGeom prst="rtTriangle">
                <a:avLst/>
              </a:prstGeom>
              <a:gradFill rotWithShape="0">
                <a:gsLst>
                  <a:gs pos="0">
                    <a:srgbClr val="281a0d"/>
                  </a:gs>
                  <a:gs pos="50000">
                    <a:srgbClr val="996633"/>
                  </a:gs>
                  <a:gs pos="100000">
                    <a:srgbClr val="281a0d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135680" y="4864320"/>
                <a:ext cx="19440" cy="1503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20480" y="4434840"/>
                <a:ext cx="267120" cy="32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4" name=""/>
          <p:cNvGrpSpPr/>
          <p:nvPr/>
        </p:nvGrpSpPr>
        <p:grpSpPr>
          <a:xfrm>
            <a:off x="1866960" y="1271520"/>
            <a:ext cx="1153800" cy="5460840"/>
            <a:chOff x="1866960" y="1271520"/>
            <a:chExt cx="1153800" cy="5460840"/>
          </a:xfrm>
        </p:grpSpPr>
        <p:grpSp>
          <p:nvGrpSpPr>
            <p:cNvPr id="1375" name=""/>
            <p:cNvGrpSpPr/>
            <p:nvPr/>
          </p:nvGrpSpPr>
          <p:grpSpPr>
            <a:xfrm>
              <a:off x="2261160" y="2546280"/>
              <a:ext cx="364320" cy="1067760"/>
              <a:chOff x="2261160" y="2546280"/>
              <a:chExt cx="364320" cy="1067760"/>
            </a:xfrm>
          </p:grpSpPr>
          <p:sp>
            <p:nvSpPr>
              <p:cNvPr id="1376" name=""/>
              <p:cNvSpPr/>
              <p:nvPr/>
            </p:nvSpPr>
            <p:spPr>
              <a:xfrm>
                <a:off x="2261520" y="2606760"/>
                <a:ext cx="363960" cy="16920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74640" y="3342960"/>
                <a:ext cx="60480" cy="6048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61520" y="2897640"/>
                <a:ext cx="363960" cy="16884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92120" y="3142440"/>
                <a:ext cx="303480" cy="20052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92120" y="3066840"/>
                <a:ext cx="303480" cy="18396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2337480" y="3342960"/>
                <a:ext cx="197640" cy="271080"/>
                <a:chOff x="2337480" y="3342960"/>
                <a:chExt cx="197640" cy="2710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2359800" y="3342960"/>
                  <a:ext cx="159840" cy="29880"/>
                </a:xfrm>
                <a:custGeom>
                  <a:avLst/>
                  <a:gdLst>
                    <a:gd name="textAreaLeft" fmla="*/ 47520 w 159840"/>
                    <a:gd name="textAreaRight" fmla="*/ 112320 w 159840"/>
                    <a:gd name="textAreaTop" fmla="*/ 8640 h 29880"/>
                    <a:gd name="textAreaBottom" fmla="*/ 21240 h 2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207" y="21600"/>
                      </a:lnTo>
                      <a:lnTo>
                        <a:pt x="8393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337480" y="3432240"/>
                  <a:ext cx="197640" cy="181800"/>
                </a:xfrm>
                <a:custGeom>
                  <a:avLst/>
                  <a:gdLst/>
                  <a:ahLst/>
                  <a:rect l="l" t="t" r="r" b="b"/>
                  <a:pathLst>
                    <a:path w="126" h="102">
                      <a:moveTo>
                        <a:pt x="95" y="0"/>
                      </a:moveTo>
                      <a:lnTo>
                        <a:pt x="113" y="42"/>
                      </a:lnTo>
                      <a:lnTo>
                        <a:pt x="126" y="102"/>
                      </a:lnTo>
                      <a:lnTo>
                        <a:pt x="0" y="102"/>
                      </a:lnTo>
                      <a:lnTo>
                        <a:pt x="16" y="42"/>
                      </a:lnTo>
                      <a:lnTo>
                        <a:pt x="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2395080" y="3372840"/>
                  <a:ext cx="90720" cy="60480"/>
                </a:xfrm>
                <a:custGeom>
                  <a:avLst/>
                  <a:gdLst>
                    <a:gd name="textAreaLeft" fmla="*/ 23040 w 90720"/>
                    <a:gd name="textAreaRight" fmla="*/ 67680 w 90720"/>
                    <a:gd name="textAreaTop" fmla="*/ 15120 h 60480"/>
                    <a:gd name="textAreaBottom" fmla="*/ 45360 h 60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909" y="21600"/>
                      </a:lnTo>
                      <a:lnTo>
                        <a:pt x="6691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4e4e4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3480" y="3483000"/>
                  <a:ext cx="1310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358360" y="3533400"/>
                  <a:ext cx="161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345760" y="3583080"/>
                  <a:ext cx="181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8" name=""/>
              <p:cNvSpPr/>
              <p:nvPr/>
            </p:nvSpPr>
            <p:spPr>
              <a:xfrm>
                <a:off x="2292120" y="3234600"/>
                <a:ext cx="303480" cy="3096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cde5d9"/>
                  </a:gs>
                  <a:gs pos="100000">
                    <a:srgbClr val="33996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322360" y="3006000"/>
                <a:ext cx="60120" cy="6048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edbb9"/>
                  </a:gs>
                  <a:gs pos="100000">
                    <a:srgbClr val="ff99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2292120" y="3234600"/>
                <a:ext cx="303480" cy="30960"/>
                <a:chOff x="2292120" y="3234600"/>
                <a:chExt cx="303480" cy="3096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229212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32164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35728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39904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44080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48256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52432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55996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589840" y="3234600"/>
                  <a:ext cx="5760" cy="3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263320" y="3012840"/>
                <a:ext cx="360360" cy="331920"/>
                <a:chOff x="2263320" y="3012840"/>
                <a:chExt cx="360360" cy="33192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2263320" y="3012840"/>
                  <a:ext cx="182160" cy="148320"/>
                  <a:chOff x="2263320" y="3012840"/>
                  <a:chExt cx="182160" cy="14832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 rot="14750400">
                    <a:off x="2273760" y="3087000"/>
                    <a:ext cx="15516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 flipH="1" rot="6849600">
                    <a:off x="2333520" y="3087000"/>
                    <a:ext cx="15516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H="1" rot="6108600">
                    <a:off x="2235960" y="3082680"/>
                    <a:ext cx="146520" cy="3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rot="15491400">
                    <a:off x="2206800" y="3085560"/>
                    <a:ext cx="14652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2441520" y="3014280"/>
                  <a:ext cx="182160" cy="148680"/>
                  <a:chOff x="2441520" y="3014280"/>
                  <a:chExt cx="182160" cy="14868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 flipH="1" rot="6849600">
                    <a:off x="2457000" y="3088800"/>
                    <a:ext cx="15516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 rot="14750400">
                    <a:off x="2397240" y="3088800"/>
                    <a:ext cx="155160" cy="4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 rot="15491400">
                    <a:off x="2504160" y="3084480"/>
                    <a:ext cx="146520" cy="3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 flipH="1" rot="6108600">
                    <a:off x="2533320" y="3087720"/>
                    <a:ext cx="146520" cy="3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1" name=""/>
                <p:cNvGrpSpPr/>
                <p:nvPr/>
              </p:nvGrpSpPr>
              <p:grpSpPr>
                <a:xfrm>
                  <a:off x="2293560" y="3265200"/>
                  <a:ext cx="150480" cy="79560"/>
                  <a:chOff x="2293560" y="3265200"/>
                  <a:chExt cx="150480" cy="79560"/>
                </a:xfrm>
              </p:grpSpPr>
              <p:sp>
                <p:nvSpPr>
                  <p:cNvPr id="1412" name=""/>
                  <p:cNvSpPr/>
                  <p:nvPr/>
                </p:nvSpPr>
                <p:spPr>
                  <a:xfrm flipH="1" rot="6465000">
                    <a:off x="2284920" y="3304800"/>
                    <a:ext cx="8064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 rot="15518400">
                    <a:off x="2262240" y="3303720"/>
                    <a:ext cx="80640" cy="2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 rot="14176800">
                    <a:off x="2319840" y="3303360"/>
                    <a:ext cx="9144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 rot="7423200">
                    <a:off x="2370960" y="3303720"/>
                    <a:ext cx="9144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2442960" y="3263400"/>
                  <a:ext cx="150840" cy="79560"/>
                  <a:chOff x="2442960" y="3263400"/>
                  <a:chExt cx="150840" cy="7956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 rot="15135000">
                    <a:off x="2520720" y="3303000"/>
                    <a:ext cx="80640" cy="2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 rot="6081600">
                    <a:off x="2543760" y="3301560"/>
                    <a:ext cx="80640" cy="2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 rot="7423200">
                    <a:off x="2475360" y="3301560"/>
                    <a:ext cx="9144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rot="14176800">
                    <a:off x="2423880" y="3301920"/>
                    <a:ext cx="91440" cy="3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7c7cdd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21" name=""/>
              <p:cNvSpPr/>
              <p:nvPr/>
            </p:nvSpPr>
            <p:spPr>
              <a:xfrm flipH="1" rot="8578200">
                <a:off x="2246400" y="2606040"/>
                <a:ext cx="153720" cy="468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6200000">
                <a:off x="2373120" y="2631960"/>
                <a:ext cx="146520" cy="396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021800">
                <a:off x="2485440" y="2607840"/>
                <a:ext cx="153720" cy="4320"/>
              </a:xfrm>
              <a:prstGeom prst="rect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a7a7a7"/>
                  </a:gs>
                  <a:gs pos="100000">
                    <a:srgbClr val="777777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367360" y="2546280"/>
                <a:ext cx="152280" cy="3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2261520" y="2652840"/>
                <a:ext cx="363960" cy="3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2261520" y="2669400"/>
                <a:ext cx="363960" cy="677880"/>
                <a:chOff x="2261520" y="2669400"/>
                <a:chExt cx="363960" cy="67788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291760" y="3159360"/>
                  <a:ext cx="303480" cy="7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261520" y="2684520"/>
                  <a:ext cx="363960" cy="33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261520" y="2944800"/>
                  <a:ext cx="363960" cy="1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2261520" y="2715120"/>
                  <a:ext cx="363960" cy="1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2337120" y="2669400"/>
                  <a:ext cx="30240" cy="36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7f7f7"/>
                    </a:gs>
                    <a:gs pos="100000">
                      <a:srgbClr val="dddddd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310840" y="3342960"/>
                  <a:ext cx="26748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a7a7a7"/>
                    </a:gs>
                    <a:gs pos="100000">
                      <a:srgbClr val="777777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91760" y="3266280"/>
                  <a:ext cx="303840" cy="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ed9c1"/>
                    </a:gs>
                    <a:gs pos="100000">
                      <a:srgbClr val="ff6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4" name=""/>
            <p:cNvGrpSpPr/>
            <p:nvPr/>
          </p:nvGrpSpPr>
          <p:grpSpPr>
            <a:xfrm>
              <a:off x="1866960" y="3152880"/>
              <a:ext cx="1153800" cy="3579480"/>
              <a:chOff x="1866960" y="3152880"/>
              <a:chExt cx="1153800" cy="3579480"/>
            </a:xfrm>
          </p:grpSpPr>
          <p:sp>
            <p:nvSpPr>
              <p:cNvPr id="1435" name=""/>
              <p:cNvSpPr/>
              <p:nvPr/>
            </p:nvSpPr>
            <p:spPr>
              <a:xfrm>
                <a:off x="2231280" y="6186600"/>
                <a:ext cx="424800" cy="12096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231280" y="3638160"/>
                <a:ext cx="424800" cy="604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2656440" y="3152880"/>
                <a:ext cx="364320" cy="3579480"/>
                <a:chOff x="2656440" y="3152880"/>
                <a:chExt cx="364320" cy="3579480"/>
              </a:xfrm>
            </p:grpSpPr>
            <p:grpSp>
              <p:nvGrpSpPr>
                <p:cNvPr id="1438" name=""/>
                <p:cNvGrpSpPr/>
                <p:nvPr/>
              </p:nvGrpSpPr>
              <p:grpSpPr>
                <a:xfrm>
                  <a:off x="2656440" y="3638160"/>
                  <a:ext cx="364320" cy="3094200"/>
                  <a:chOff x="2656440" y="3638160"/>
                  <a:chExt cx="364320" cy="309420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2734560" y="6579360"/>
                    <a:ext cx="2023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2656440" y="6326640"/>
                    <a:ext cx="364320" cy="254160"/>
                  </a:xfrm>
                  <a:custGeom>
                    <a:avLst/>
                    <a:gdLst>
                      <a:gd name="textAreaLeft" fmla="*/ 104040 w 364320"/>
                      <a:gd name="textAreaRight" fmla="*/ 260280 w 364320"/>
                      <a:gd name="textAreaTop" fmla="*/ 72360 h 254160"/>
                      <a:gd name="textAreaBottom" fmla="*/ 181800 h 254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2656440" y="448740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2656440" y="594360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2656440" y="4609080"/>
                    <a:ext cx="364320" cy="145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656440" y="4244760"/>
                    <a:ext cx="364320" cy="24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2656440" y="363816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2656440" y="3759120"/>
                    <a:ext cx="364320" cy="60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2656440" y="4366080"/>
                    <a:ext cx="364320" cy="242640"/>
                    <a:chOff x="2656440" y="4366080"/>
                    <a:chExt cx="364320" cy="24264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2656440" y="436608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 flipH="1">
                      <a:off x="271692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265644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277776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 flipH="1">
                      <a:off x="283860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289908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 flipH="1">
                      <a:off x="295992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3020760" y="436608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6" name=""/>
                  <p:cNvSpPr/>
                  <p:nvPr/>
                </p:nvSpPr>
                <p:spPr>
                  <a:xfrm>
                    <a:off x="2656440" y="6125760"/>
                    <a:ext cx="364320" cy="19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2656440" y="6065280"/>
                    <a:ext cx="364320" cy="6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2656440" y="3638160"/>
                  <a:ext cx="364320" cy="2572200"/>
                  <a:chOff x="2656440" y="3638160"/>
                  <a:chExt cx="364320" cy="257220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2656440" y="3638160"/>
                    <a:ext cx="364320" cy="12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2656440" y="4366080"/>
                    <a:ext cx="364320" cy="24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2656440" y="3698640"/>
                    <a:ext cx="364320" cy="2511720"/>
                    <a:chOff x="2656440" y="3698640"/>
                    <a:chExt cx="364320" cy="251172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>
                      <a:off x="2656440" y="4137120"/>
                      <a:ext cx="3643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>
                      <a:off x="2656440" y="5276160"/>
                      <a:ext cx="3643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2838600" y="3698640"/>
                      <a:ext cx="36720" cy="251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65" name=""/>
                <p:cNvSpPr/>
                <p:nvPr/>
              </p:nvSpPr>
              <p:spPr>
                <a:xfrm>
                  <a:off x="2656440" y="3152880"/>
                  <a:ext cx="364320" cy="48888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1866960" y="3152880"/>
                <a:ext cx="364320" cy="3579480"/>
                <a:chOff x="1866960" y="3152880"/>
                <a:chExt cx="364320" cy="3579480"/>
              </a:xfrm>
            </p:grpSpPr>
            <p:grpSp>
              <p:nvGrpSpPr>
                <p:cNvPr id="1467" name=""/>
                <p:cNvGrpSpPr/>
                <p:nvPr/>
              </p:nvGrpSpPr>
              <p:grpSpPr>
                <a:xfrm>
                  <a:off x="1866960" y="3638160"/>
                  <a:ext cx="364320" cy="3094200"/>
                  <a:chOff x="1866960" y="3638160"/>
                  <a:chExt cx="364320" cy="309420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>
                    <a:off x="1945080" y="6579360"/>
                    <a:ext cx="2023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1866960" y="6326640"/>
                    <a:ext cx="364320" cy="254160"/>
                  </a:xfrm>
                  <a:custGeom>
                    <a:avLst/>
                    <a:gdLst>
                      <a:gd name="textAreaLeft" fmla="*/ 104040 w 364320"/>
                      <a:gd name="textAreaRight" fmla="*/ 260280 w 364320"/>
                      <a:gd name="textAreaTop" fmla="*/ 72360 h 254160"/>
                      <a:gd name="textAreaBottom" fmla="*/ 181800 h 254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1866960" y="448740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1866960" y="594360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1866960" y="4609080"/>
                    <a:ext cx="364320" cy="145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1866960" y="4244760"/>
                    <a:ext cx="364320" cy="24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66960" y="3638160"/>
                    <a:ext cx="36432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866960" y="3759120"/>
                    <a:ext cx="364320" cy="60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1866960" y="4366080"/>
                    <a:ext cx="364320" cy="242640"/>
                    <a:chOff x="1866960" y="4366080"/>
                    <a:chExt cx="364320" cy="2426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1866960" y="436608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 flipH="1">
                      <a:off x="192744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186696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198828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flipH="1">
                      <a:off x="204912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210960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 flipH="1">
                      <a:off x="2170440" y="436608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2231280" y="436608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5" name=""/>
                  <p:cNvSpPr/>
                  <p:nvPr/>
                </p:nvSpPr>
                <p:spPr>
                  <a:xfrm>
                    <a:off x="1866960" y="6125760"/>
                    <a:ext cx="364320" cy="19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1866960" y="6065280"/>
                    <a:ext cx="364320" cy="6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7" name=""/>
                <p:cNvGrpSpPr/>
                <p:nvPr/>
              </p:nvGrpSpPr>
              <p:grpSpPr>
                <a:xfrm>
                  <a:off x="1866960" y="3638160"/>
                  <a:ext cx="364320" cy="2572200"/>
                  <a:chOff x="1866960" y="3638160"/>
                  <a:chExt cx="364320" cy="25722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1866960" y="3638160"/>
                    <a:ext cx="364320" cy="12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1866960" y="4366080"/>
                    <a:ext cx="364320" cy="24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0" name=""/>
                  <p:cNvGrpSpPr/>
                  <p:nvPr/>
                </p:nvGrpSpPr>
                <p:grpSpPr>
                  <a:xfrm>
                    <a:off x="1866960" y="3698640"/>
                    <a:ext cx="364320" cy="2511720"/>
                    <a:chOff x="1866960" y="3698640"/>
                    <a:chExt cx="364320" cy="2511720"/>
                  </a:xfrm>
                </p:grpSpPr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1866960" y="4137120"/>
                      <a:ext cx="3643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1866960" y="5276160"/>
                      <a:ext cx="36432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2049120" y="3698640"/>
                      <a:ext cx="36720" cy="251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94" name=""/>
                <p:cNvSpPr/>
                <p:nvPr/>
              </p:nvSpPr>
              <p:spPr>
                <a:xfrm>
                  <a:off x="1866960" y="3152880"/>
                  <a:ext cx="364320" cy="488880"/>
                </a:xfrm>
                <a:custGeom>
                  <a:avLst/>
                  <a:gdLst/>
                  <a:ahLst/>
                  <a:rect l="l" t="t" r="r" b="b"/>
                  <a:pathLst>
                    <a:path w="308" h="517">
                      <a:moveTo>
                        <a:pt x="0" y="517"/>
                      </a:moveTo>
                      <a:lnTo>
                        <a:pt x="13" y="340"/>
                      </a:lnTo>
                      <a:lnTo>
                        <a:pt x="38" y="194"/>
                      </a:lnTo>
                      <a:lnTo>
                        <a:pt x="80" y="83"/>
                      </a:lnTo>
                      <a:lnTo>
                        <a:pt x="128" y="12"/>
                      </a:lnTo>
                      <a:lnTo>
                        <a:pt x="160" y="0"/>
                      </a:lnTo>
                      <a:lnTo>
                        <a:pt x="189" y="12"/>
                      </a:lnTo>
                      <a:lnTo>
                        <a:pt x="228" y="80"/>
                      </a:lnTo>
                      <a:lnTo>
                        <a:pt x="271" y="194"/>
                      </a:lnTo>
                      <a:lnTo>
                        <a:pt x="296" y="338"/>
                      </a:lnTo>
                      <a:lnTo>
                        <a:pt x="308" y="512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5" name=""/>
            <p:cNvGrpSpPr/>
            <p:nvPr/>
          </p:nvGrpSpPr>
          <p:grpSpPr>
            <a:xfrm>
              <a:off x="2261880" y="1271520"/>
              <a:ext cx="363960" cy="5460480"/>
              <a:chOff x="2261880" y="1271520"/>
              <a:chExt cx="363960" cy="5460480"/>
            </a:xfrm>
          </p:grpSpPr>
          <p:grpSp>
            <p:nvGrpSpPr>
              <p:cNvPr id="1496" name=""/>
              <p:cNvGrpSpPr/>
              <p:nvPr/>
            </p:nvGrpSpPr>
            <p:grpSpPr>
              <a:xfrm>
                <a:off x="2261880" y="3637800"/>
                <a:ext cx="363960" cy="3094200"/>
                <a:chOff x="2261880" y="3637800"/>
                <a:chExt cx="363960" cy="309420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2262240" y="3637800"/>
                  <a:ext cx="363600" cy="3094200"/>
                  <a:chOff x="2262240" y="3637800"/>
                  <a:chExt cx="363600" cy="309420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2340360" y="6579000"/>
                    <a:ext cx="2019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2">
                        <a:moveTo>
                          <a:pt x="95" y="0"/>
                        </a:moveTo>
                        <a:lnTo>
                          <a:pt x="113" y="42"/>
                        </a:lnTo>
                        <a:lnTo>
                          <a:pt x="126" y="102"/>
                        </a:lnTo>
                        <a:lnTo>
                          <a:pt x="0" y="102"/>
                        </a:lnTo>
                        <a:lnTo>
                          <a:pt x="16" y="42"/>
                        </a:lnTo>
                        <a:lnTo>
                          <a:pt x="3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2262240" y="6326280"/>
                    <a:ext cx="363600" cy="254160"/>
                  </a:xfrm>
                  <a:custGeom>
                    <a:avLst/>
                    <a:gdLst>
                      <a:gd name="textAreaLeft" fmla="*/ 103680 w 363600"/>
                      <a:gd name="textAreaRight" fmla="*/ 259920 w 363600"/>
                      <a:gd name="textAreaTop" fmla="*/ 72360 h 254160"/>
                      <a:gd name="textAreaBottom" fmla="*/ 181800 h 254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50" y="21600"/>
                        </a:lnTo>
                        <a:lnTo>
                          <a:pt x="7950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dddddd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2262240" y="448704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2262240" y="594324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2262240" y="4608720"/>
                    <a:ext cx="363600" cy="145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2262240" y="4244400"/>
                    <a:ext cx="363600" cy="24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2262240" y="3637800"/>
                    <a:ext cx="363600" cy="24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5f5f5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2262240" y="3758760"/>
                    <a:ext cx="363600" cy="606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2262240" y="4365720"/>
                    <a:ext cx="363600" cy="242640"/>
                    <a:chOff x="2262240" y="4365720"/>
                    <a:chExt cx="363600" cy="24264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2262240" y="436572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2322360" y="436572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262240" y="4365720"/>
                      <a:ext cx="6012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2383200" y="436572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H="1">
                      <a:off x="2443680" y="4365720"/>
                      <a:ext cx="6012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2504160" y="436572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 flipH="1">
                      <a:off x="2565000" y="4365720"/>
                      <a:ext cx="6048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2625840" y="4365720"/>
                      <a:ext cx="0" cy="242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5" name=""/>
                  <p:cNvSpPr/>
                  <p:nvPr/>
                </p:nvSpPr>
                <p:spPr>
                  <a:xfrm>
                    <a:off x="2262240" y="6125400"/>
                    <a:ext cx="363600" cy="199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2262240" y="6064920"/>
                    <a:ext cx="363600" cy="60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7" name=""/>
                <p:cNvGrpSpPr/>
                <p:nvPr/>
              </p:nvGrpSpPr>
              <p:grpSpPr>
                <a:xfrm>
                  <a:off x="2261880" y="3637800"/>
                  <a:ext cx="363600" cy="120960"/>
                  <a:chOff x="2261880" y="3637800"/>
                  <a:chExt cx="363600" cy="12096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 flipH="1">
                    <a:off x="2261880" y="3637800"/>
                    <a:ext cx="6012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2383200" y="363780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2322360" y="363780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2504160" y="363780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2444040" y="3637800"/>
                    <a:ext cx="6012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2565000" y="3637800"/>
                    <a:ext cx="60480" cy="120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H="1">
                    <a:off x="2322000" y="3637800"/>
                    <a:ext cx="2422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5" name=""/>
              <p:cNvGrpSpPr/>
              <p:nvPr/>
            </p:nvGrpSpPr>
            <p:grpSpPr>
              <a:xfrm>
                <a:off x="2262240" y="1271520"/>
                <a:ext cx="363600" cy="4938480"/>
                <a:chOff x="2262240" y="1271520"/>
                <a:chExt cx="363600" cy="4938480"/>
              </a:xfrm>
            </p:grpSpPr>
            <p:grpSp>
              <p:nvGrpSpPr>
                <p:cNvPr id="1526" name=""/>
                <p:cNvGrpSpPr/>
                <p:nvPr/>
              </p:nvGrpSpPr>
              <p:grpSpPr>
                <a:xfrm>
                  <a:off x="2262240" y="1271520"/>
                  <a:ext cx="363600" cy="2365920"/>
                  <a:chOff x="2262240" y="1271520"/>
                  <a:chExt cx="363600" cy="2365920"/>
                </a:xfrm>
              </p:grpSpPr>
              <p:sp>
                <p:nvSpPr>
                  <p:cNvPr id="1527" name=""/>
                  <p:cNvSpPr/>
                  <p:nvPr/>
                </p:nvSpPr>
                <p:spPr>
                  <a:xfrm>
                    <a:off x="2262240" y="1822680"/>
                    <a:ext cx="363600" cy="1814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2262240" y="1271520"/>
                    <a:ext cx="36360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17">
                        <a:moveTo>
                          <a:pt x="0" y="517"/>
                        </a:moveTo>
                        <a:lnTo>
                          <a:pt x="13" y="340"/>
                        </a:lnTo>
                        <a:lnTo>
                          <a:pt x="38" y="194"/>
                        </a:lnTo>
                        <a:lnTo>
                          <a:pt x="80" y="83"/>
                        </a:lnTo>
                        <a:lnTo>
                          <a:pt x="128" y="12"/>
                        </a:lnTo>
                        <a:lnTo>
                          <a:pt x="160" y="0"/>
                        </a:lnTo>
                        <a:lnTo>
                          <a:pt x="189" y="12"/>
                        </a:lnTo>
                        <a:lnTo>
                          <a:pt x="228" y="80"/>
                        </a:lnTo>
                        <a:lnTo>
                          <a:pt x="271" y="194"/>
                        </a:lnTo>
                        <a:lnTo>
                          <a:pt x="296" y="338"/>
                        </a:lnTo>
                        <a:lnTo>
                          <a:pt x="308" y="5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9" name=""/>
                <p:cNvGrpSpPr/>
                <p:nvPr/>
              </p:nvGrpSpPr>
              <p:grpSpPr>
                <a:xfrm>
                  <a:off x="2262240" y="3637800"/>
                  <a:ext cx="363600" cy="2572200"/>
                  <a:chOff x="2262240" y="3637800"/>
                  <a:chExt cx="363600" cy="257220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2262240" y="3637800"/>
                    <a:ext cx="363600" cy="12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2262240" y="4365720"/>
                    <a:ext cx="363600" cy="24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14145"/>
                      </a:gs>
                      <a:gs pos="50000">
                        <a:srgbClr val="9caaac"/>
                      </a:gs>
                      <a:gs pos="100000">
                        <a:srgbClr val="21414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262240" y="3698280"/>
                    <a:ext cx="363600" cy="2511720"/>
                    <a:chOff x="2262240" y="3698280"/>
                    <a:chExt cx="363600" cy="25117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262240" y="4136760"/>
                      <a:ext cx="3636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262240" y="5275800"/>
                      <a:ext cx="363600" cy="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444040" y="3698280"/>
                      <a:ext cx="36360" cy="251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14145"/>
                        </a:gs>
                        <a:gs pos="50000">
                          <a:srgbClr val="9caaac"/>
                        </a:gs>
                        <a:gs pos="100000">
                          <a:srgbClr val="21414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ly reusable elements in today’s launch flee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LOX / LH2 cryo st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6013440" y="2571840"/>
            <a:ext cx="1072800" cy="4147560"/>
            <a:chOff x="6013440" y="2571840"/>
            <a:chExt cx="1072800" cy="4147560"/>
          </a:xfrm>
        </p:grpSpPr>
        <p:sp>
          <p:nvSpPr>
            <p:cNvPr id="1538" name=""/>
            <p:cNvSpPr/>
            <p:nvPr/>
          </p:nvSpPr>
          <p:spPr>
            <a:xfrm>
              <a:off x="6213240" y="4377960"/>
              <a:ext cx="685080" cy="61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331320" y="4536360"/>
              <a:ext cx="435960" cy="1656360"/>
            </a:xfrm>
            <a:prstGeom prst="rect">
              <a:avLst/>
            </a:pr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31320" y="4290840"/>
              <a:ext cx="435960" cy="245160"/>
            </a:xfrm>
            <a:prstGeom prst="rect">
              <a:avLst/>
            </a:prstGeom>
            <a:gradFill rotWithShape="0">
              <a:gsLst>
                <a:gs pos="0">
                  <a:srgbClr val="201f29"/>
                </a:gs>
                <a:gs pos="50000">
                  <a:srgbClr val="7b789e"/>
                </a:gs>
                <a:gs pos="100000">
                  <a:srgbClr val="201f2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331320" y="2571840"/>
              <a:ext cx="435960" cy="1719000"/>
            </a:xfrm>
            <a:custGeom>
              <a:avLst/>
              <a:gdLst/>
              <a:ahLst/>
              <a:rect l="l" t="t" r="r" b="b"/>
              <a:pathLst>
                <a:path w="336" h="1329">
                  <a:moveTo>
                    <a:pt x="0" y="928"/>
                  </a:moveTo>
                  <a:lnTo>
                    <a:pt x="0" y="511"/>
                  </a:lnTo>
                  <a:lnTo>
                    <a:pt x="14" y="336"/>
                  </a:lnTo>
                  <a:lnTo>
                    <a:pt x="41" y="192"/>
                  </a:lnTo>
                  <a:lnTo>
                    <a:pt x="87" y="82"/>
                  </a:lnTo>
                  <a:lnTo>
                    <a:pt x="140" y="12"/>
                  </a:lnTo>
                  <a:lnTo>
                    <a:pt x="174" y="0"/>
                  </a:lnTo>
                  <a:lnTo>
                    <a:pt x="206" y="12"/>
                  </a:lnTo>
                  <a:lnTo>
                    <a:pt x="249" y="79"/>
                  </a:lnTo>
                  <a:lnTo>
                    <a:pt x="296" y="192"/>
                  </a:lnTo>
                  <a:lnTo>
                    <a:pt x="323" y="334"/>
                  </a:lnTo>
                  <a:lnTo>
                    <a:pt x="336" y="506"/>
                  </a:lnTo>
                  <a:lnTo>
                    <a:pt x="336" y="923"/>
                  </a:lnTo>
                  <a:lnTo>
                    <a:pt x="336" y="1329"/>
                  </a:lnTo>
                  <a:lnTo>
                    <a:pt x="0" y="1329"/>
                  </a:lnTo>
                  <a:lnTo>
                    <a:pt x="0" y="928"/>
                  </a:lnTo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13440" y="4229640"/>
              <a:ext cx="312480" cy="2354040"/>
            </a:xfrm>
            <a:custGeom>
              <a:avLst/>
              <a:gdLst/>
              <a:ahLst/>
              <a:rect l="l" t="t" r="r" b="b"/>
              <a:pathLst>
                <a:path w="241" h="1842">
                  <a:moveTo>
                    <a:pt x="187" y="0"/>
                  </a:moveTo>
                  <a:lnTo>
                    <a:pt x="158" y="9"/>
                  </a:lnTo>
                  <a:lnTo>
                    <a:pt x="41" y="205"/>
                  </a:lnTo>
                  <a:lnTo>
                    <a:pt x="30" y="226"/>
                  </a:lnTo>
                  <a:lnTo>
                    <a:pt x="26" y="248"/>
                  </a:lnTo>
                  <a:lnTo>
                    <a:pt x="25" y="1777"/>
                  </a:lnTo>
                  <a:lnTo>
                    <a:pt x="0" y="1842"/>
                  </a:lnTo>
                  <a:lnTo>
                    <a:pt x="241" y="1842"/>
                  </a:lnTo>
                  <a:lnTo>
                    <a:pt x="214" y="1777"/>
                  </a:lnTo>
                  <a:lnTo>
                    <a:pt x="214" y="224"/>
                  </a:lnTo>
                  <a:lnTo>
                    <a:pt x="214" y="17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73760" y="4229640"/>
              <a:ext cx="312480" cy="2354040"/>
            </a:xfrm>
            <a:custGeom>
              <a:avLst/>
              <a:gdLst/>
              <a:ahLst/>
              <a:rect l="l" t="t" r="r" b="b"/>
              <a:pathLst>
                <a:path w="241" h="1842">
                  <a:moveTo>
                    <a:pt x="54" y="0"/>
                  </a:moveTo>
                  <a:lnTo>
                    <a:pt x="83" y="9"/>
                  </a:lnTo>
                  <a:lnTo>
                    <a:pt x="200" y="205"/>
                  </a:lnTo>
                  <a:lnTo>
                    <a:pt x="211" y="226"/>
                  </a:lnTo>
                  <a:lnTo>
                    <a:pt x="215" y="248"/>
                  </a:lnTo>
                  <a:lnTo>
                    <a:pt x="216" y="1777"/>
                  </a:lnTo>
                  <a:lnTo>
                    <a:pt x="241" y="1842"/>
                  </a:lnTo>
                  <a:lnTo>
                    <a:pt x="0" y="1842"/>
                  </a:lnTo>
                  <a:lnTo>
                    <a:pt x="27" y="1777"/>
                  </a:lnTo>
                  <a:lnTo>
                    <a:pt x="27" y="224"/>
                  </a:lnTo>
                  <a:lnTo>
                    <a:pt x="27" y="17"/>
                  </a:lnTo>
                  <a:lnTo>
                    <a:pt x="54" y="0"/>
                  </a:lnTo>
                  <a:close/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49440" y="6586560"/>
              <a:ext cx="236160" cy="1328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50" y="0"/>
                  </a:moveTo>
                  <a:lnTo>
                    <a:pt x="174" y="52"/>
                  </a:lnTo>
                  <a:lnTo>
                    <a:pt x="182" y="120"/>
                  </a:lnTo>
                  <a:lnTo>
                    <a:pt x="0" y="120"/>
                  </a:lnTo>
                  <a:lnTo>
                    <a:pt x="8" y="52"/>
                  </a:lnTo>
                  <a:lnTo>
                    <a:pt x="30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11560" y="6584040"/>
              <a:ext cx="235800" cy="1328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50" y="0"/>
                  </a:moveTo>
                  <a:lnTo>
                    <a:pt x="174" y="52"/>
                  </a:lnTo>
                  <a:lnTo>
                    <a:pt x="182" y="120"/>
                  </a:lnTo>
                  <a:lnTo>
                    <a:pt x="0" y="120"/>
                  </a:lnTo>
                  <a:lnTo>
                    <a:pt x="8" y="52"/>
                  </a:lnTo>
                  <a:lnTo>
                    <a:pt x="30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60920" y="6503760"/>
              <a:ext cx="163440" cy="1299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95" y="0"/>
                  </a:moveTo>
                  <a:lnTo>
                    <a:pt x="113" y="42"/>
                  </a:lnTo>
                  <a:lnTo>
                    <a:pt x="126" y="102"/>
                  </a:lnTo>
                  <a:lnTo>
                    <a:pt x="0" y="102"/>
                  </a:lnTo>
                  <a:lnTo>
                    <a:pt x="16" y="42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31320" y="6193080"/>
              <a:ext cx="435960" cy="168480"/>
            </a:xfrm>
            <a:custGeom>
              <a:avLst/>
              <a:gdLst/>
              <a:ahLst/>
              <a:rect l="l" t="t" r="r" b="b"/>
              <a:pathLst>
                <a:path w="336" h="146">
                  <a:moveTo>
                    <a:pt x="240" y="146"/>
                  </a:moveTo>
                  <a:lnTo>
                    <a:pt x="336" y="0"/>
                  </a:lnTo>
                  <a:lnTo>
                    <a:pt x="0" y="0"/>
                  </a:lnTo>
                  <a:lnTo>
                    <a:pt x="95" y="144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14400" y="6236280"/>
              <a:ext cx="96840" cy="9684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454440" y="6361560"/>
              <a:ext cx="186840" cy="295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81800" y="6391080"/>
              <a:ext cx="122760" cy="11088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6331320" y="6162840"/>
              <a:ext cx="435960" cy="2916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331320" y="6070320"/>
              <a:ext cx="43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3" name=""/>
            <p:cNvGrpSpPr/>
            <p:nvPr/>
          </p:nvGrpSpPr>
          <p:grpSpPr>
            <a:xfrm>
              <a:off x="6048360" y="4536360"/>
              <a:ext cx="999000" cy="1963080"/>
              <a:chOff x="6048360" y="4536360"/>
              <a:chExt cx="999000" cy="1963080"/>
            </a:xfrm>
          </p:grpSpPr>
          <p:sp>
            <p:nvSpPr>
              <p:cNvPr id="1554" name=""/>
              <p:cNvSpPr/>
              <p:nvPr/>
            </p:nvSpPr>
            <p:spPr>
              <a:xfrm>
                <a:off x="6809400" y="649944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813360" y="621540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813360" y="615456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813360" y="566352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813360" y="517284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13360" y="468180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809400" y="453636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048360" y="649944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051600" y="621540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051600" y="615456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051600" y="566352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051600" y="517284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051600" y="468180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048360" y="4536360"/>
                <a:ext cx="23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 flipV="1">
              <a:off x="6767280" y="6131520"/>
              <a:ext cx="186840" cy="612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6144120" y="6131520"/>
              <a:ext cx="186840" cy="6120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3067200" y="2022480"/>
            <a:ext cx="361800" cy="4697280"/>
            <a:chOff x="3067200" y="2022480"/>
            <a:chExt cx="361800" cy="4697280"/>
          </a:xfrm>
        </p:grpSpPr>
        <p:sp>
          <p:nvSpPr>
            <p:cNvPr id="1571" name=""/>
            <p:cNvSpPr/>
            <p:nvPr/>
          </p:nvSpPr>
          <p:spPr>
            <a:xfrm>
              <a:off x="3067200" y="2578320"/>
              <a:ext cx="361800" cy="1069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67200" y="2022480"/>
              <a:ext cx="361800" cy="568440"/>
            </a:xfrm>
            <a:custGeom>
              <a:avLst/>
              <a:gdLst/>
              <a:ahLst/>
              <a:rect l="l" t="t" r="r" b="b"/>
              <a:pathLst>
                <a:path w="308" h="517">
                  <a:moveTo>
                    <a:pt x="0" y="517"/>
                  </a:moveTo>
                  <a:lnTo>
                    <a:pt x="13" y="340"/>
                  </a:lnTo>
                  <a:lnTo>
                    <a:pt x="38" y="194"/>
                  </a:lnTo>
                  <a:lnTo>
                    <a:pt x="80" y="83"/>
                  </a:lnTo>
                  <a:lnTo>
                    <a:pt x="128" y="12"/>
                  </a:lnTo>
                  <a:lnTo>
                    <a:pt x="160" y="0"/>
                  </a:lnTo>
                  <a:lnTo>
                    <a:pt x="189" y="12"/>
                  </a:lnTo>
                  <a:lnTo>
                    <a:pt x="228" y="80"/>
                  </a:lnTo>
                  <a:lnTo>
                    <a:pt x="271" y="194"/>
                  </a:lnTo>
                  <a:lnTo>
                    <a:pt x="296" y="338"/>
                  </a:lnTo>
                  <a:lnTo>
                    <a:pt x="308" y="512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067200" y="3648240"/>
              <a:ext cx="361800" cy="264960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067200" y="3649320"/>
              <a:ext cx="361800" cy="2666160"/>
            </a:xfrm>
            <a:prstGeom prst="rect">
              <a:avLst/>
            </a:prstGeom>
            <a:gradFill rotWithShape="0">
              <a:gsLst>
                <a:gs pos="0">
                  <a:srgbClr val="214145"/>
                </a:gs>
                <a:gs pos="50000">
                  <a:srgbClr val="9caaac"/>
                </a:gs>
                <a:gs pos="100000">
                  <a:srgbClr val="21414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4960" y="6567840"/>
              <a:ext cx="200880" cy="15192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95" y="0"/>
                  </a:moveTo>
                  <a:lnTo>
                    <a:pt x="113" y="42"/>
                  </a:lnTo>
                  <a:lnTo>
                    <a:pt x="126" y="102"/>
                  </a:lnTo>
                  <a:lnTo>
                    <a:pt x="0" y="102"/>
                  </a:lnTo>
                  <a:lnTo>
                    <a:pt x="16" y="42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067200" y="6316920"/>
              <a:ext cx="361800" cy="252360"/>
            </a:xfrm>
            <a:custGeom>
              <a:avLst/>
              <a:gdLst>
                <a:gd name="textAreaLeft" fmla="*/ 103320 w 361800"/>
                <a:gd name="textAreaRight" fmla="*/ 258480 w 361800"/>
                <a:gd name="textAreaTop" fmla="*/ 72000 h 252360"/>
                <a:gd name="textAreaBottom" fmla="*/ 180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50" y="21600"/>
                  </a:lnTo>
                  <a:lnTo>
                    <a:pt x="795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067200" y="3737520"/>
              <a:ext cx="361800" cy="2439720"/>
              <a:chOff x="3067200" y="3737520"/>
              <a:chExt cx="361800" cy="24397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3067200" y="3737520"/>
                <a:ext cx="361800" cy="753840"/>
                <a:chOff x="3067200" y="3737520"/>
                <a:chExt cx="361800" cy="75384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3067200" y="373752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067200" y="414324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067200" y="443340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067200" y="449136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3" name=""/>
              <p:cNvGrpSpPr/>
              <p:nvPr/>
            </p:nvGrpSpPr>
            <p:grpSpPr>
              <a:xfrm>
                <a:off x="3067200" y="5274360"/>
                <a:ext cx="361800" cy="812880"/>
                <a:chOff x="3067200" y="5274360"/>
                <a:chExt cx="361800" cy="81288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3067200" y="527436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067200" y="602928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067200" y="6087240"/>
                  <a:ext cx="3618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7" name=""/>
              <p:cNvSpPr/>
              <p:nvPr/>
            </p:nvSpPr>
            <p:spPr>
              <a:xfrm>
                <a:off x="3247920" y="3768480"/>
                <a:ext cx="36360" cy="2408760"/>
              </a:xfrm>
              <a:prstGeom prst="rect">
                <a:avLst/>
              </a:prstGeom>
              <a:gradFill rotWithShape="0">
                <a:gsLst>
                  <a:gs pos="0">
                    <a:srgbClr val="214145"/>
                  </a:gs>
                  <a:gs pos="50000">
                    <a:srgbClr val="9caaac"/>
                  </a:gs>
                  <a:gs pos="100000">
                    <a:srgbClr val="21414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8" name=""/>
          <p:cNvGrpSpPr/>
          <p:nvPr/>
        </p:nvGrpSpPr>
        <p:grpSpPr>
          <a:xfrm>
            <a:off x="3605040" y="2363760"/>
            <a:ext cx="331920" cy="4349160"/>
            <a:chOff x="3605040" y="2363760"/>
            <a:chExt cx="331920" cy="4349160"/>
          </a:xfrm>
        </p:grpSpPr>
        <p:grpSp>
          <p:nvGrpSpPr>
            <p:cNvPr id="1589" name=""/>
            <p:cNvGrpSpPr/>
            <p:nvPr/>
          </p:nvGrpSpPr>
          <p:grpSpPr>
            <a:xfrm>
              <a:off x="3605040" y="2363760"/>
              <a:ext cx="331920" cy="1908720"/>
              <a:chOff x="3605040" y="2363760"/>
              <a:chExt cx="331920" cy="1908720"/>
            </a:xfrm>
          </p:grpSpPr>
          <p:sp>
            <p:nvSpPr>
              <p:cNvPr id="1590" name=""/>
              <p:cNvSpPr/>
              <p:nvPr/>
            </p:nvSpPr>
            <p:spPr>
              <a:xfrm>
                <a:off x="3605040" y="3240360"/>
                <a:ext cx="331920" cy="62280"/>
              </a:xfrm>
              <a:custGeom>
                <a:avLst/>
                <a:gdLst>
                  <a:gd name="textAreaLeft" fmla="*/ 56160 w 331920"/>
                  <a:gd name="textAreaRight" fmla="*/ 275760 w 331920"/>
                  <a:gd name="textAreaTop" fmla="*/ 10440 h 62280"/>
                  <a:gd name="textAreaBottom" fmla="*/ 5184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50" y="21600"/>
                    </a:lnTo>
                    <a:lnTo>
                      <a:pt x="345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605040" y="2860560"/>
                <a:ext cx="331920" cy="379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60120" y="3930840"/>
                <a:ext cx="221400" cy="231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60120" y="3357720"/>
                <a:ext cx="221400" cy="574200"/>
              </a:xfrm>
              <a:prstGeom prst="rect">
                <a:avLst/>
              </a:prstGeom>
              <a:gradFill rotWithShape="0">
                <a:gsLst>
                  <a:gs pos="0">
                    <a:srgbClr val="5a4723"/>
                  </a:gs>
                  <a:gs pos="50000">
                    <a:srgbClr val="b69148"/>
                  </a:gs>
                  <a:gs pos="100000">
                    <a:srgbClr val="5a472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05040" y="2363760"/>
                <a:ext cx="331920" cy="496800"/>
              </a:xfrm>
              <a:custGeom>
                <a:avLst/>
                <a:gdLst/>
                <a:ahLst/>
                <a:rect l="l" t="t" r="r" b="b"/>
                <a:pathLst>
                  <a:path w="288" h="384">
                    <a:moveTo>
                      <a:pt x="0" y="384"/>
                    </a:moveTo>
                    <a:lnTo>
                      <a:pt x="93" y="93"/>
                    </a:lnTo>
                    <a:lnTo>
                      <a:pt x="126" y="15"/>
                    </a:lnTo>
                    <a:lnTo>
                      <a:pt x="144" y="0"/>
                    </a:lnTo>
                    <a:lnTo>
                      <a:pt x="164" y="15"/>
                    </a:lnTo>
                    <a:lnTo>
                      <a:pt x="195" y="93"/>
                    </a:lnTo>
                    <a:lnTo>
                      <a:pt x="288" y="384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0120" y="3302640"/>
                <a:ext cx="221400" cy="547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3625560" y="4158720"/>
                <a:ext cx="291600" cy="113760"/>
              </a:xfrm>
              <a:custGeom>
                <a:avLst/>
                <a:gdLst>
                  <a:gd name="textAreaLeft" fmla="*/ 42840 w 291600"/>
                  <a:gd name="textAreaRight" fmla="*/ 248760 w 291600"/>
                  <a:gd name="textAreaTop" fmla="*/ 16560 h 113760"/>
                  <a:gd name="textAreaBottom" fmla="*/ 97200 h 11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039" y="21600"/>
                    </a:lnTo>
                    <a:lnTo>
                      <a:pt x="25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3625560" y="4272840"/>
              <a:ext cx="291600" cy="2440080"/>
              <a:chOff x="3625560" y="4272840"/>
              <a:chExt cx="291600" cy="2440080"/>
            </a:xfrm>
          </p:grpSpPr>
          <p:sp>
            <p:nvSpPr>
              <p:cNvPr id="1598" name=""/>
              <p:cNvSpPr/>
              <p:nvPr/>
            </p:nvSpPr>
            <p:spPr>
              <a:xfrm>
                <a:off x="3625560" y="4272840"/>
                <a:ext cx="291600" cy="79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3709440" y="6593400"/>
                <a:ext cx="116280" cy="119520"/>
              </a:xfrm>
              <a:custGeom>
                <a:avLst/>
                <a:gdLst>
                  <a:gd name="textAreaLeft" fmla="*/ 25560 w 116280"/>
                  <a:gd name="textAreaRight" fmla="*/ 90720 w 116280"/>
                  <a:gd name="textAreaTop" fmla="*/ 26280 h 119520"/>
                  <a:gd name="textAreaBottom" fmla="*/ 93240 h 11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5560" y="4352040"/>
                <a:ext cx="291600" cy="1988280"/>
              </a:xfrm>
              <a:prstGeom prst="rect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25560" y="6340320"/>
                <a:ext cx="291600" cy="110520"/>
              </a:xfrm>
              <a:custGeom>
                <a:avLst/>
                <a:gdLst>
                  <a:gd name="textAreaLeft" fmla="*/ 43200 w 291600"/>
                  <a:gd name="textAreaRight" fmla="*/ 248400 w 291600"/>
                  <a:gd name="textAreaTop" fmla="*/ 16200 h 110520"/>
                  <a:gd name="textAreaBottom" fmla="*/ 94320 h 11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53" y="21600"/>
                    </a:lnTo>
                    <a:lnTo>
                      <a:pt x="26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50000">
                    <a:srgbClr val="808080"/>
                  </a:gs>
                  <a:gs pos="100000">
                    <a:srgbClr val="40404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63720" y="6450840"/>
                <a:ext cx="215280" cy="1447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760200" y="5613120"/>
                <a:ext cx="20520" cy="881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4" name=""/>
          <p:cNvSpPr/>
          <p:nvPr/>
        </p:nvSpPr>
        <p:spPr>
          <a:xfrm>
            <a:off x="468720" y="2055960"/>
            <a:ext cx="75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uttle I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40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300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245640" y="2131920"/>
            <a:ext cx="75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iane 5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46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165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15320" y="1903320"/>
            <a:ext cx="70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tlas V 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3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90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71800" y="258912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tlas I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97.5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905200" y="152244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lta 4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95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7010280" y="2265480"/>
            <a:ext cx="792000" cy="4448160"/>
            <a:chOff x="7010280" y="2265480"/>
            <a:chExt cx="792000" cy="4448160"/>
          </a:xfrm>
        </p:grpSpPr>
        <p:sp>
          <p:nvSpPr>
            <p:cNvPr id="1610" name=""/>
            <p:cNvSpPr/>
            <p:nvPr/>
          </p:nvSpPr>
          <p:spPr>
            <a:xfrm flipV="1">
              <a:off x="7307280" y="6564600"/>
              <a:ext cx="198000" cy="147960"/>
            </a:xfrm>
            <a:custGeom>
              <a:avLst/>
              <a:gdLst>
                <a:gd name="textAreaLeft" fmla="*/ 24480 w 198000"/>
                <a:gd name="textAreaRight" fmla="*/ 173520 w 198000"/>
                <a:gd name="textAreaTop" fmla="*/ 18360 h 147960"/>
                <a:gd name="textAreaBottom" fmla="*/ 129600 h 14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13" y="21600"/>
                  </a:lnTo>
                  <a:lnTo>
                    <a:pt x="168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57600" y="2265480"/>
              <a:ext cx="297000" cy="642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436"/>
                  </a:moveTo>
                  <a:lnTo>
                    <a:pt x="0" y="288"/>
                  </a:lnTo>
                  <a:lnTo>
                    <a:pt x="44" y="77"/>
                  </a:lnTo>
                  <a:lnTo>
                    <a:pt x="78" y="32"/>
                  </a:lnTo>
                  <a:lnTo>
                    <a:pt x="114" y="7"/>
                  </a:lnTo>
                  <a:lnTo>
                    <a:pt x="145" y="0"/>
                  </a:lnTo>
                  <a:lnTo>
                    <a:pt x="179" y="7"/>
                  </a:lnTo>
                  <a:lnTo>
                    <a:pt x="208" y="27"/>
                  </a:lnTo>
                  <a:lnTo>
                    <a:pt x="248" y="79"/>
                  </a:lnTo>
                  <a:lnTo>
                    <a:pt x="288" y="288"/>
                  </a:lnTo>
                  <a:lnTo>
                    <a:pt x="288" y="433"/>
                  </a:lnTo>
                  <a:lnTo>
                    <a:pt x="288" y="624"/>
                  </a:lnTo>
                  <a:lnTo>
                    <a:pt x="0" y="624"/>
                  </a:lnTo>
                  <a:lnTo>
                    <a:pt x="0" y="436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57600" y="2561760"/>
              <a:ext cx="297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76320" y="2957040"/>
              <a:ext cx="259920" cy="4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76320" y="3006720"/>
              <a:ext cx="259920" cy="395280"/>
            </a:xfrm>
            <a:prstGeom prst="rect">
              <a:avLst/>
            </a:prstGeom>
            <a:gradFill rotWithShape="0">
              <a:gsLst>
                <a:gs pos="0">
                  <a:srgbClr val="738d7f"/>
                </a:gs>
                <a:gs pos="50000">
                  <a:srgbClr val="ced7d3"/>
                </a:gs>
                <a:gs pos="100000">
                  <a:srgbClr val="738d7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57600" y="2908080"/>
              <a:ext cx="297000" cy="48960"/>
            </a:xfrm>
            <a:custGeom>
              <a:avLst/>
              <a:gdLst>
                <a:gd name="textAreaLeft" fmla="*/ 32400 w 297000"/>
                <a:gd name="textAreaRight" fmla="*/ 264600 w 297000"/>
                <a:gd name="textAreaTop" fmla="*/ 5400 h 48960"/>
                <a:gd name="textAreaBottom" fmla="*/ 43560 h 4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75" y="21600"/>
                  </a:lnTo>
                  <a:lnTo>
                    <a:pt x="11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76320" y="3402000"/>
              <a:ext cx="259920" cy="9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76320" y="3747960"/>
              <a:ext cx="259920" cy="98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76320" y="3501000"/>
              <a:ext cx="259920" cy="246960"/>
            </a:xfrm>
            <a:prstGeom prst="rect">
              <a:avLst/>
            </a:prstGeom>
            <a:gradFill rotWithShape="0">
              <a:gsLst>
                <a:gs pos="0">
                  <a:srgbClr val="738d7f"/>
                </a:gs>
                <a:gs pos="50000">
                  <a:srgbClr val="ced7d3"/>
                </a:gs>
                <a:gs pos="100000">
                  <a:srgbClr val="738d7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76320" y="3846960"/>
              <a:ext cx="259920" cy="98856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76320" y="4983840"/>
              <a:ext cx="259920" cy="1531800"/>
            </a:xfrm>
            <a:prstGeom prst="rect">
              <a:avLst/>
            </a:prstGeom>
            <a:gradFill rotWithShape="0">
              <a:gsLst>
                <a:gs pos="0">
                  <a:srgbClr val="120400"/>
                </a:gs>
                <a:gs pos="50000">
                  <a:srgbClr val="cc3300"/>
                </a:gs>
                <a:gs pos="100000">
                  <a:srgbClr val="1204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76320" y="4835520"/>
              <a:ext cx="259920" cy="147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14141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76320" y="6515640"/>
              <a:ext cx="259920" cy="9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a82800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09280" y="4993920"/>
              <a:ext cx="196920" cy="346680"/>
            </a:xfrm>
            <a:custGeom>
              <a:avLst/>
              <a:gdLst/>
              <a:ahLst/>
              <a:rect l="l" t="t" r="r" b="b"/>
              <a:pathLst>
                <a:path w="191" h="337">
                  <a:moveTo>
                    <a:pt x="141" y="10"/>
                  </a:moveTo>
                  <a:lnTo>
                    <a:pt x="171" y="0"/>
                  </a:lnTo>
                  <a:lnTo>
                    <a:pt x="191" y="14"/>
                  </a:lnTo>
                  <a:lnTo>
                    <a:pt x="191" y="337"/>
                  </a:lnTo>
                  <a:lnTo>
                    <a:pt x="0" y="337"/>
                  </a:lnTo>
                  <a:lnTo>
                    <a:pt x="0" y="321"/>
                  </a:lnTo>
                  <a:lnTo>
                    <a:pt x="8" y="292"/>
                  </a:lnTo>
                  <a:lnTo>
                    <a:pt x="117" y="42"/>
                  </a:lnTo>
                  <a:lnTo>
                    <a:pt x="141" y="1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09280" y="5934240"/>
              <a:ext cx="198000" cy="444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109280" y="5785920"/>
              <a:ext cx="198000" cy="14796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09280" y="6378840"/>
              <a:ext cx="198000" cy="14796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109280" y="5340960"/>
              <a:ext cx="198000" cy="444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7141320" y="6596280"/>
              <a:ext cx="85320" cy="117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109280" y="6527160"/>
              <a:ext cx="198000" cy="77040"/>
            </a:xfrm>
            <a:custGeom>
              <a:avLst/>
              <a:gdLst>
                <a:gd name="textAreaLeft" fmla="*/ 48600 w 198000"/>
                <a:gd name="textAreaRight" fmla="*/ 149400 w 198000"/>
                <a:gd name="textAreaTop" fmla="*/ 18720 h 77040"/>
                <a:gd name="textAreaBottom" fmla="*/ 58320 h 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87" y="21600"/>
                  </a:lnTo>
                  <a:lnTo>
                    <a:pt x="64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5280" y="5932800"/>
              <a:ext cx="198000" cy="444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77640" y="6596280"/>
              <a:ext cx="85320" cy="117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05280" y="5784840"/>
              <a:ext cx="198000" cy="14796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05280" y="6377760"/>
              <a:ext cx="198000" cy="14796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05280" y="5339880"/>
              <a:ext cx="198000" cy="444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7505280" y="4993920"/>
              <a:ext cx="197280" cy="346680"/>
            </a:xfrm>
            <a:custGeom>
              <a:avLst/>
              <a:gdLst/>
              <a:ahLst/>
              <a:rect l="l" t="t" r="r" b="b"/>
              <a:pathLst>
                <a:path w="191" h="337">
                  <a:moveTo>
                    <a:pt x="141" y="10"/>
                  </a:moveTo>
                  <a:lnTo>
                    <a:pt x="171" y="0"/>
                  </a:lnTo>
                  <a:lnTo>
                    <a:pt x="191" y="14"/>
                  </a:lnTo>
                  <a:lnTo>
                    <a:pt x="191" y="337"/>
                  </a:lnTo>
                  <a:lnTo>
                    <a:pt x="0" y="337"/>
                  </a:lnTo>
                  <a:lnTo>
                    <a:pt x="0" y="321"/>
                  </a:lnTo>
                  <a:lnTo>
                    <a:pt x="8" y="292"/>
                  </a:lnTo>
                  <a:lnTo>
                    <a:pt x="117" y="42"/>
                  </a:lnTo>
                  <a:lnTo>
                    <a:pt x="141" y="1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05280" y="6526080"/>
              <a:ext cx="198000" cy="77040"/>
            </a:xfrm>
            <a:custGeom>
              <a:avLst/>
              <a:gdLst>
                <a:gd name="textAreaLeft" fmla="*/ 48600 w 198000"/>
                <a:gd name="textAreaRight" fmla="*/ 149400 w 198000"/>
                <a:gd name="textAreaTop" fmla="*/ 18720 h 77040"/>
                <a:gd name="textAreaBottom" fmla="*/ 58320 h 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87" y="21600"/>
                  </a:lnTo>
                  <a:lnTo>
                    <a:pt x="64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5400000">
              <a:off x="6985440" y="6402960"/>
              <a:ext cx="197640" cy="148320"/>
            </a:xfrm>
            <a:prstGeom prst="parallelogram">
              <a:avLst>
                <a:gd name="adj" fmla="val 33313"/>
              </a:avLst>
            </a:prstGeom>
            <a:gradFill rotWithShape="0">
              <a:gsLst>
                <a:gs pos="0">
                  <a:srgbClr val="c1c1c1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7629120" y="6401880"/>
              <a:ext cx="197640" cy="148320"/>
            </a:xfrm>
            <a:prstGeom prst="parallelogram">
              <a:avLst>
                <a:gd name="adj" fmla="val 3331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374240" y="5922720"/>
              <a:ext cx="62640" cy="99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374240" y="6021720"/>
              <a:ext cx="62640" cy="444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775280" y="2265120"/>
            <a:ext cx="911160" cy="4473000"/>
            <a:chOff x="7775280" y="2265120"/>
            <a:chExt cx="911160" cy="4473000"/>
          </a:xfrm>
        </p:grpSpPr>
        <p:sp>
          <p:nvSpPr>
            <p:cNvPr id="1642" name=""/>
            <p:cNvSpPr/>
            <p:nvPr/>
          </p:nvSpPr>
          <p:spPr>
            <a:xfrm flipV="1">
              <a:off x="7826040" y="6608520"/>
              <a:ext cx="151560" cy="129240"/>
            </a:xfrm>
            <a:custGeom>
              <a:avLst/>
              <a:gdLst>
                <a:gd name="textAreaLeft" fmla="*/ 26280 w 151560"/>
                <a:gd name="textAreaRight" fmla="*/ 125280 w 151560"/>
                <a:gd name="textAreaTop" fmla="*/ 22320 h 129240"/>
                <a:gd name="textAreaBottom" fmla="*/ 106920 h 12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b0200"/>
                </a:gs>
                <a:gs pos="50000">
                  <a:srgbClr val="cc3300"/>
                </a:gs>
                <a:gs pos="100000">
                  <a:srgbClr val="0b0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028720" y="3125160"/>
              <a:ext cx="404640" cy="151560"/>
            </a:xfrm>
            <a:custGeom>
              <a:avLst/>
              <a:gdLst>
                <a:gd name="textAreaLeft" fmla="*/ 51840 w 404640"/>
                <a:gd name="textAreaRight" fmla="*/ 352800 w 404640"/>
                <a:gd name="textAreaTop" fmla="*/ 19440 h 151560"/>
                <a:gd name="textAreaBottom" fmla="*/ 132120 h 15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63280" y="3529800"/>
              <a:ext cx="335160" cy="5565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50000">
                  <a:srgbClr val="757575"/>
                </a:gs>
                <a:gs pos="100000">
                  <a:srgbClr val="29292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063280" y="5603760"/>
              <a:ext cx="335160" cy="657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063280" y="4592160"/>
              <a:ext cx="335160" cy="15156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63280" y="6261120"/>
              <a:ext cx="335160" cy="20232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129880" y="6514200"/>
              <a:ext cx="202320" cy="1008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185" y="114"/>
                  </a:lnTo>
                  <a:lnTo>
                    <a:pt x="171" y="192"/>
                  </a:lnTo>
                  <a:lnTo>
                    <a:pt x="24" y="192"/>
                  </a:lnTo>
                  <a:lnTo>
                    <a:pt x="8" y="114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f5f5f5"/>
                </a:gs>
                <a:gs pos="100000">
                  <a:srgbClr val="c0c0c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063280" y="4743720"/>
              <a:ext cx="335160" cy="86004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063280" y="4136760"/>
              <a:ext cx="335160" cy="45504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063280" y="3277080"/>
              <a:ext cx="335160" cy="25272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cc6600"/>
                </a:gs>
                <a:gs pos="100000">
                  <a:srgbClr val="9933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63280" y="4086360"/>
              <a:ext cx="335160" cy="5040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8484480" y="6608520"/>
              <a:ext cx="151560" cy="129240"/>
            </a:xfrm>
            <a:custGeom>
              <a:avLst/>
              <a:gdLst>
                <a:gd name="textAreaLeft" fmla="*/ 26280 w 151560"/>
                <a:gd name="textAreaRight" fmla="*/ 125280 w 151560"/>
                <a:gd name="textAreaTop" fmla="*/ 22320 h 129240"/>
                <a:gd name="textAreaBottom" fmla="*/ 106920 h 12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b0200"/>
                </a:gs>
                <a:gs pos="50000">
                  <a:srgbClr val="cc3300"/>
                </a:gs>
                <a:gs pos="100000">
                  <a:srgbClr val="0b0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8164800" y="6615360"/>
              <a:ext cx="126360" cy="100800"/>
            </a:xfrm>
            <a:custGeom>
              <a:avLst/>
              <a:gdLst>
                <a:gd name="textAreaLeft" fmla="*/ 25920 w 126360"/>
                <a:gd name="textAreaRight" fmla="*/ 100440 w 126360"/>
                <a:gd name="textAreaTop" fmla="*/ 20520 h 100800"/>
                <a:gd name="textAreaBottom" fmla="*/ 80280 h 1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b5b5b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7775280" y="5420160"/>
              <a:ext cx="253080" cy="1194840"/>
              <a:chOff x="7775280" y="5420160"/>
              <a:chExt cx="253080" cy="1194840"/>
            </a:xfrm>
          </p:grpSpPr>
          <p:sp>
            <p:nvSpPr>
              <p:cNvPr id="1656" name=""/>
              <p:cNvSpPr/>
              <p:nvPr/>
            </p:nvSpPr>
            <p:spPr>
              <a:xfrm flipH="1">
                <a:off x="7774920" y="5420160"/>
                <a:ext cx="253080" cy="1194840"/>
              </a:xfrm>
              <a:custGeom>
                <a:avLst/>
                <a:gdLst/>
                <a:ahLst/>
                <a:rect l="l" t="t" r="r" b="b"/>
                <a:pathLst>
                  <a:path w="36" h="424">
                    <a:moveTo>
                      <a:pt x="11" y="7"/>
                    </a:moveTo>
                    <a:lnTo>
                      <a:pt x="18" y="0"/>
                    </a:lnTo>
                    <a:lnTo>
                      <a:pt x="24" y="7"/>
                    </a:lnTo>
                    <a:lnTo>
                      <a:pt x="35" y="66"/>
                    </a:lnTo>
                    <a:lnTo>
                      <a:pt x="35" y="419"/>
                    </a:lnTo>
                    <a:lnTo>
                      <a:pt x="31" y="423"/>
                    </a:lnTo>
                    <a:lnTo>
                      <a:pt x="4" y="423"/>
                    </a:lnTo>
                    <a:lnTo>
                      <a:pt x="0" y="419"/>
                    </a:lnTo>
                    <a:lnTo>
                      <a:pt x="0" y="66"/>
                    </a:lnTo>
                    <a:lnTo>
                      <a:pt x="11" y="7"/>
                    </a:lnTo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791840" y="6574320"/>
                <a:ext cx="218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793640" y="5601960"/>
                <a:ext cx="218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819560" y="5540400"/>
                <a:ext cx="168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8433720" y="5416200"/>
              <a:ext cx="252720" cy="1199160"/>
              <a:chOff x="8433720" y="5416200"/>
              <a:chExt cx="252720" cy="1199160"/>
            </a:xfrm>
          </p:grpSpPr>
          <p:sp>
            <p:nvSpPr>
              <p:cNvPr id="1661" name=""/>
              <p:cNvSpPr/>
              <p:nvPr/>
            </p:nvSpPr>
            <p:spPr>
              <a:xfrm>
                <a:off x="8433720" y="5416200"/>
                <a:ext cx="252720" cy="1199160"/>
              </a:xfrm>
              <a:custGeom>
                <a:avLst/>
                <a:gdLst/>
                <a:ahLst/>
                <a:rect l="l" t="t" r="r" b="b"/>
                <a:pathLst>
                  <a:path w="36" h="424">
                    <a:moveTo>
                      <a:pt x="11" y="7"/>
                    </a:moveTo>
                    <a:lnTo>
                      <a:pt x="18" y="0"/>
                    </a:lnTo>
                    <a:lnTo>
                      <a:pt x="24" y="7"/>
                    </a:lnTo>
                    <a:lnTo>
                      <a:pt x="35" y="66"/>
                    </a:lnTo>
                    <a:lnTo>
                      <a:pt x="35" y="419"/>
                    </a:lnTo>
                    <a:lnTo>
                      <a:pt x="31" y="423"/>
                    </a:lnTo>
                    <a:lnTo>
                      <a:pt x="4" y="423"/>
                    </a:lnTo>
                    <a:lnTo>
                      <a:pt x="0" y="419"/>
                    </a:lnTo>
                    <a:lnTo>
                      <a:pt x="0" y="66"/>
                    </a:lnTo>
                    <a:lnTo>
                      <a:pt x="11" y="7"/>
                    </a:lnTo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448480" y="657720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449920" y="560160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475840" y="5539680"/>
                <a:ext cx="168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 flipV="1">
              <a:off x="8028720" y="2416320"/>
              <a:ext cx="404640" cy="151560"/>
            </a:xfrm>
            <a:custGeom>
              <a:avLst/>
              <a:gdLst>
                <a:gd name="textAreaLeft" fmla="*/ 60840 w 404640"/>
                <a:gd name="textAreaRight" fmla="*/ 343800 w 404640"/>
                <a:gd name="textAreaTop" fmla="*/ 22680 h 151560"/>
                <a:gd name="textAreaBottom" fmla="*/ 128880 h 15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1" y="21600"/>
                  </a:lnTo>
                  <a:lnTo>
                    <a:pt x="26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8079120" y="2264760"/>
              <a:ext cx="303480" cy="151560"/>
            </a:xfrm>
            <a:custGeom>
              <a:avLst/>
              <a:gdLst>
                <a:gd name="textAreaLeft" fmla="*/ 99000 w 303480"/>
                <a:gd name="textAreaRight" fmla="*/ 204480 w 303480"/>
                <a:gd name="textAreaTop" fmla="*/ 49320 h 151560"/>
                <a:gd name="textAreaBottom" fmla="*/ 102240 h 15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076" y="21600"/>
                  </a:lnTo>
                  <a:lnTo>
                    <a:pt x="95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28720" y="2568960"/>
              <a:ext cx="404640" cy="556200"/>
            </a:xfrm>
            <a:prstGeom prst="rect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063280" y="6463800"/>
              <a:ext cx="335160" cy="50400"/>
            </a:xfrm>
            <a:custGeom>
              <a:avLst/>
              <a:gdLst>
                <a:gd name="textAreaLeft" fmla="*/ 63360 w 335160"/>
                <a:gd name="textAreaRight" fmla="*/ 271800 w 335160"/>
                <a:gd name="textAreaTop" fmla="*/ 9360 h 50400"/>
                <a:gd name="textAreaBottom" fmla="*/ 41040 h 5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389" y="21600"/>
                  </a:lnTo>
                  <a:lnTo>
                    <a:pt x="421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50000">
                  <a:srgbClr val="ffffff"/>
                </a:gs>
                <a:gs pos="100000">
                  <a:srgbClr val="c1c1c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32560" y="4035600"/>
              <a:ext cx="24120" cy="2377080"/>
            </a:xfrm>
            <a:prstGeom prst="rect">
              <a:avLst/>
            </a:prstGeom>
            <a:gradFill rotWithShape="0">
              <a:gsLst>
                <a:gs pos="0">
                  <a:srgbClr val="bcd393"/>
                </a:gs>
                <a:gs pos="50000">
                  <a:srgbClr val="d9e6c3"/>
                </a:gs>
                <a:gs pos="100000">
                  <a:srgbClr val="bcd39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927200" y="5603760"/>
              <a:ext cx="2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81800" y="560376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927200" y="6463800"/>
              <a:ext cx="2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281800" y="646380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4" name=""/>
          <p:cNvSpPr/>
          <p:nvPr/>
        </p:nvSpPr>
        <p:spPr>
          <a:xfrm>
            <a:off x="7772400" y="1703520"/>
            <a:ext cx="971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-I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9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80M(1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042320" y="1676520"/>
            <a:ext cx="1187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SLV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2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45M(1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4394160" y="1819440"/>
            <a:ext cx="776160" cy="4920480"/>
            <a:chOff x="4394160" y="1819440"/>
            <a:chExt cx="776160" cy="4920480"/>
          </a:xfrm>
        </p:grpSpPr>
        <p:grpSp>
          <p:nvGrpSpPr>
            <p:cNvPr id="1677" name=""/>
            <p:cNvGrpSpPr/>
            <p:nvPr/>
          </p:nvGrpSpPr>
          <p:grpSpPr>
            <a:xfrm>
              <a:off x="4560120" y="4355280"/>
              <a:ext cx="442800" cy="2067480"/>
              <a:chOff x="4560120" y="4355280"/>
              <a:chExt cx="442800" cy="2067480"/>
            </a:xfrm>
          </p:grpSpPr>
          <p:sp>
            <p:nvSpPr>
              <p:cNvPr id="1678" name=""/>
              <p:cNvSpPr/>
              <p:nvPr/>
            </p:nvSpPr>
            <p:spPr>
              <a:xfrm>
                <a:off x="4560120" y="4355280"/>
                <a:ext cx="165960" cy="136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4836600" y="4355280"/>
                <a:ext cx="165960" cy="136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560120" y="6409080"/>
                <a:ext cx="165960" cy="136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4836600" y="6409080"/>
                <a:ext cx="165960" cy="1368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4394160" y="4030200"/>
              <a:ext cx="776160" cy="2698560"/>
              <a:chOff x="4394160" y="4030200"/>
              <a:chExt cx="776160" cy="2698560"/>
            </a:xfrm>
          </p:grpSpPr>
          <p:grpSp>
            <p:nvGrpSpPr>
              <p:cNvPr id="1683" name=""/>
              <p:cNvGrpSpPr/>
              <p:nvPr/>
            </p:nvGrpSpPr>
            <p:grpSpPr>
              <a:xfrm>
                <a:off x="4933440" y="4030200"/>
                <a:ext cx="236880" cy="2698560"/>
                <a:chOff x="4933440" y="4030200"/>
                <a:chExt cx="236880" cy="269856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4933440" y="4030200"/>
                  <a:ext cx="235800" cy="33156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5" name=""/>
                <p:cNvGrpSpPr/>
                <p:nvPr/>
              </p:nvGrpSpPr>
              <p:grpSpPr>
                <a:xfrm>
                  <a:off x="4939560" y="6519240"/>
                  <a:ext cx="224640" cy="110520"/>
                  <a:chOff x="4939560" y="6519240"/>
                  <a:chExt cx="224640" cy="11052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4944240" y="6519240"/>
                    <a:ext cx="218880" cy="11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7" name=""/>
                  <p:cNvGrpSpPr/>
                  <p:nvPr/>
                </p:nvGrpSpPr>
                <p:grpSpPr>
                  <a:xfrm>
                    <a:off x="4939560" y="6519240"/>
                    <a:ext cx="224640" cy="110520"/>
                    <a:chOff x="4939560" y="6519240"/>
                    <a:chExt cx="224640" cy="110520"/>
                  </a:xfrm>
                </p:grpSpPr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493956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10084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499320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15484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504720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3" name=""/>
                <p:cNvSpPr/>
                <p:nvPr/>
              </p:nvSpPr>
              <p:spPr>
                <a:xfrm>
                  <a:off x="4933440" y="4361760"/>
                  <a:ext cx="236880" cy="218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4" name=""/>
                <p:cNvGrpSpPr/>
                <p:nvPr/>
              </p:nvGrpSpPr>
              <p:grpSpPr>
                <a:xfrm>
                  <a:off x="4933440" y="4527720"/>
                  <a:ext cx="236880" cy="1878840"/>
                  <a:chOff x="4933440" y="4527720"/>
                  <a:chExt cx="236880" cy="187884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4933440" y="558504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4933440" y="584964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4933440" y="611388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4933440" y="637812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4933440" y="452772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4933440" y="479196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4933440" y="505620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4933440" y="532080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3" name=""/>
                <p:cNvSpPr/>
                <p:nvPr/>
              </p:nvSpPr>
              <p:spPr>
                <a:xfrm>
                  <a:off x="4953960" y="6629760"/>
                  <a:ext cx="205920" cy="99000"/>
                </a:xfrm>
                <a:custGeom>
                  <a:avLst/>
                  <a:gdLst/>
                  <a:ahLst/>
                  <a:rect l="l" t="t" r="r" b="b"/>
                  <a:pathLst>
                    <a:path w="202" h="86">
                      <a:moveTo>
                        <a:pt x="28" y="0"/>
                      </a:moveTo>
                      <a:lnTo>
                        <a:pt x="172" y="0"/>
                      </a:lnTo>
                      <a:lnTo>
                        <a:pt x="190" y="26"/>
                      </a:lnTo>
                      <a:lnTo>
                        <a:pt x="202" y="53"/>
                      </a:lnTo>
                      <a:lnTo>
                        <a:pt x="154" y="69"/>
                      </a:lnTo>
                      <a:lnTo>
                        <a:pt x="61" y="84"/>
                      </a:lnTo>
                      <a:lnTo>
                        <a:pt x="0" y="86"/>
                      </a:lnTo>
                      <a:lnTo>
                        <a:pt x="7" y="4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64d0c"/>
                    </a:gs>
                    <a:gs pos="50000">
                      <a:srgbClr val="bca91c"/>
                    </a:gs>
                    <a:gs pos="100000">
                      <a:srgbClr val="564d0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4394160" y="4030200"/>
                <a:ext cx="236880" cy="2698560"/>
                <a:chOff x="4394160" y="4030200"/>
                <a:chExt cx="236880" cy="269856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4394160" y="4030200"/>
                  <a:ext cx="235800" cy="331560"/>
                </a:xfrm>
                <a:custGeom>
                  <a:avLst/>
                  <a:gdLst/>
                  <a:ahLst/>
                  <a:rect l="l" t="t" r="r" b="b"/>
                  <a:pathLst>
                    <a:path w="288" h="384">
                      <a:moveTo>
                        <a:pt x="0" y="384"/>
                      </a:moveTo>
                      <a:lnTo>
                        <a:pt x="93" y="93"/>
                      </a:lnTo>
                      <a:lnTo>
                        <a:pt x="126" y="15"/>
                      </a:lnTo>
                      <a:lnTo>
                        <a:pt x="144" y="0"/>
                      </a:lnTo>
                      <a:lnTo>
                        <a:pt x="164" y="15"/>
                      </a:lnTo>
                      <a:lnTo>
                        <a:pt x="195" y="93"/>
                      </a:lnTo>
                      <a:lnTo>
                        <a:pt x="288" y="384"/>
                      </a:lnTo>
                      <a:lnTo>
                        <a:pt x="0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6" name=""/>
                <p:cNvGrpSpPr/>
                <p:nvPr/>
              </p:nvGrpSpPr>
              <p:grpSpPr>
                <a:xfrm>
                  <a:off x="4399920" y="6519240"/>
                  <a:ext cx="224640" cy="110520"/>
                  <a:chOff x="4399920" y="6519240"/>
                  <a:chExt cx="224640" cy="11052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>
                    <a:off x="4404600" y="6519240"/>
                    <a:ext cx="218880" cy="11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e6e6e6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4399920" y="6519240"/>
                    <a:ext cx="224640" cy="110520"/>
                    <a:chOff x="4399920" y="6519240"/>
                    <a:chExt cx="224640" cy="11052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439992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456120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445356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461520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4507560" y="6519240"/>
                      <a:ext cx="9360" cy="110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4" name=""/>
                <p:cNvSpPr/>
                <p:nvPr/>
              </p:nvSpPr>
              <p:spPr>
                <a:xfrm>
                  <a:off x="4394160" y="4361760"/>
                  <a:ext cx="236880" cy="218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6e6e6"/>
                    </a:gs>
                    <a:gs pos="100000">
                      <a:srgbClr val="b2b2b2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4394160" y="4527720"/>
                  <a:ext cx="236880" cy="1878840"/>
                  <a:chOff x="4394160" y="4527720"/>
                  <a:chExt cx="236880" cy="187884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4394160" y="558504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4394160" y="584964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4394160" y="611388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394160" y="637812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4394160" y="452772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4394160" y="479196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4394160" y="505620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4394160" y="5320800"/>
                    <a:ext cx="236880" cy="28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a4723"/>
                      </a:gs>
                      <a:gs pos="50000">
                        <a:srgbClr val="b69148"/>
                      </a:gs>
                      <a:gs pos="100000">
                        <a:srgbClr val="5a472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4" name=""/>
                <p:cNvSpPr/>
                <p:nvPr/>
              </p:nvSpPr>
              <p:spPr>
                <a:xfrm flipH="1">
                  <a:off x="4403520" y="6629760"/>
                  <a:ext cx="206280" cy="99000"/>
                </a:xfrm>
                <a:custGeom>
                  <a:avLst/>
                  <a:gdLst/>
                  <a:ahLst/>
                  <a:rect l="l" t="t" r="r" b="b"/>
                  <a:pathLst>
                    <a:path w="202" h="86">
                      <a:moveTo>
                        <a:pt x="28" y="0"/>
                      </a:moveTo>
                      <a:lnTo>
                        <a:pt x="172" y="0"/>
                      </a:lnTo>
                      <a:lnTo>
                        <a:pt x="190" y="26"/>
                      </a:lnTo>
                      <a:lnTo>
                        <a:pt x="202" y="53"/>
                      </a:lnTo>
                      <a:lnTo>
                        <a:pt x="154" y="69"/>
                      </a:lnTo>
                      <a:lnTo>
                        <a:pt x="61" y="84"/>
                      </a:lnTo>
                      <a:lnTo>
                        <a:pt x="0" y="86"/>
                      </a:lnTo>
                      <a:lnTo>
                        <a:pt x="7" y="4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64d0c"/>
                    </a:gs>
                    <a:gs pos="50000">
                      <a:srgbClr val="bca91c"/>
                    </a:gs>
                    <a:gs pos="100000">
                      <a:srgbClr val="564d0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5" name=""/>
            <p:cNvGrpSpPr/>
            <p:nvPr/>
          </p:nvGrpSpPr>
          <p:grpSpPr>
            <a:xfrm>
              <a:off x="4578840" y="1819440"/>
              <a:ext cx="403920" cy="1990440"/>
              <a:chOff x="4578840" y="1819440"/>
              <a:chExt cx="403920" cy="1990440"/>
            </a:xfrm>
          </p:grpSpPr>
          <p:sp>
            <p:nvSpPr>
              <p:cNvPr id="1726" name=""/>
              <p:cNvSpPr/>
              <p:nvPr/>
            </p:nvSpPr>
            <p:spPr>
              <a:xfrm>
                <a:off x="4578840" y="1819440"/>
                <a:ext cx="403920" cy="492840"/>
              </a:xfrm>
              <a:custGeom>
                <a:avLst/>
                <a:gdLst/>
                <a:ahLst/>
                <a:rect l="l" t="t" r="r" b="b"/>
                <a:pathLst>
                  <a:path w="350" h="428">
                    <a:moveTo>
                      <a:pt x="0" y="428"/>
                    </a:moveTo>
                    <a:lnTo>
                      <a:pt x="43" y="169"/>
                    </a:lnTo>
                    <a:lnTo>
                      <a:pt x="145" y="23"/>
                    </a:lnTo>
                    <a:lnTo>
                      <a:pt x="180" y="0"/>
                    </a:lnTo>
                    <a:lnTo>
                      <a:pt x="215" y="23"/>
                    </a:lnTo>
                    <a:lnTo>
                      <a:pt x="308" y="169"/>
                    </a:lnTo>
                    <a:lnTo>
                      <a:pt x="350" y="424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578840" y="2300760"/>
                <a:ext cx="403920" cy="1509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633920" y="2012760"/>
                <a:ext cx="290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4578840" y="3810240"/>
              <a:ext cx="403920" cy="2929680"/>
              <a:chOff x="4578840" y="3810240"/>
              <a:chExt cx="403920" cy="2929680"/>
            </a:xfrm>
          </p:grpSpPr>
          <p:sp>
            <p:nvSpPr>
              <p:cNvPr id="1730" name=""/>
              <p:cNvSpPr/>
              <p:nvPr/>
            </p:nvSpPr>
            <p:spPr>
              <a:xfrm>
                <a:off x="4578840" y="3810240"/>
                <a:ext cx="403920" cy="110520"/>
              </a:xfrm>
              <a:custGeom>
                <a:avLst/>
                <a:gdLst>
                  <a:gd name="textAreaLeft" fmla="*/ 74880 w 403920"/>
                  <a:gd name="textAreaRight" fmla="*/ 329040 w 403920"/>
                  <a:gd name="textAreaTop" fmla="*/ 20520 h 110520"/>
                  <a:gd name="textAreaBottom" fmla="*/ 90000 h 11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27" y="21600"/>
                    </a:lnTo>
                    <a:lnTo>
                      <a:pt x="407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989898"/>
                  </a:gs>
                  <a:gs pos="100000">
                    <a:srgbClr val="3333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4719600" y="6629040"/>
                <a:ext cx="130320" cy="110520"/>
              </a:xfrm>
              <a:custGeom>
                <a:avLst/>
                <a:gdLst>
                  <a:gd name="textAreaLeft" fmla="*/ 24120 w 130320"/>
                  <a:gd name="textAreaRight" fmla="*/ 106200 w 130320"/>
                  <a:gd name="textAreaTop" fmla="*/ 20520 h 110520"/>
                  <a:gd name="textAreaBottom" fmla="*/ 90000 h 11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37" y="21600"/>
                    </a:lnTo>
                    <a:lnTo>
                      <a:pt x="406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1200"/>
                  </a:gs>
                  <a:gs pos="50000">
                    <a:srgbClr val="663300"/>
                  </a:gs>
                  <a:gs pos="100000">
                    <a:srgbClr val="2412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656960" y="3919680"/>
                <a:ext cx="248400" cy="78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bebebe"/>
                  </a:gs>
                  <a:gs pos="100000">
                    <a:srgbClr val="80808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656960" y="4915080"/>
                <a:ext cx="248400" cy="60804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656960" y="6352920"/>
                <a:ext cx="248400" cy="221040"/>
              </a:xfrm>
              <a:custGeom>
                <a:avLst/>
                <a:gdLst>
                  <a:gd name="textAreaLeft" fmla="*/ 54360 w 248400"/>
                  <a:gd name="textAreaRight" fmla="*/ 194040 w 248400"/>
                  <a:gd name="textAreaTop" fmla="*/ 48600 h 221040"/>
                  <a:gd name="textAreaBottom" fmla="*/ 172440 h 2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3800"/>
                  </a:gs>
                  <a:gs pos="50000">
                    <a:srgbClr val="b16601"/>
                  </a:gs>
                  <a:gs pos="100000">
                    <a:srgbClr val="6238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56960" y="5744520"/>
                <a:ext cx="248400" cy="60804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656960" y="5523480"/>
                <a:ext cx="248400" cy="221040"/>
              </a:xfrm>
              <a:prstGeom prst="rect">
                <a:avLst/>
              </a:prstGeom>
              <a:gradFill rotWithShape="0">
                <a:gsLst>
                  <a:gs pos="0">
                    <a:srgbClr val="7c7363"/>
                  </a:gs>
                  <a:gs pos="50000">
                    <a:srgbClr val="bdaf97"/>
                  </a:gs>
                  <a:gs pos="100000">
                    <a:srgbClr val="7c736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656960" y="6352920"/>
                <a:ext cx="248400" cy="77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656960" y="3986280"/>
                <a:ext cx="248400" cy="928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6e6e6"/>
                  </a:gs>
                  <a:gs pos="100000">
                    <a:srgbClr val="b2b2b2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656960" y="4417200"/>
                <a:ext cx="248400" cy="3312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656960" y="4607640"/>
                <a:ext cx="248400" cy="8604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656960" y="4159080"/>
                <a:ext cx="248400" cy="54000"/>
              </a:xfrm>
              <a:prstGeom prst="rect">
                <a:avLst/>
              </a:prstGeom>
              <a:gradFill rotWithShape="0">
                <a:gsLst>
                  <a:gs pos="0">
                    <a:srgbClr val="645b4b"/>
                  </a:gs>
                  <a:gs pos="50000">
                    <a:srgbClr val="b4a488"/>
                  </a:gs>
                  <a:gs pos="100000">
                    <a:srgbClr val="645b4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50560" y="6574320"/>
                <a:ext cx="68040" cy="550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535353"/>
                  </a:gs>
                  <a:gs pos="100000">
                    <a:srgbClr val="333333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4923000" y="5694480"/>
              <a:ext cx="81720" cy="781920"/>
              <a:chOff x="4923000" y="5694480"/>
              <a:chExt cx="81720" cy="781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4923000" y="5787720"/>
                <a:ext cx="81720" cy="653760"/>
              </a:xfrm>
              <a:prstGeom prst="rect">
                <a:avLst/>
              </a:prstGeom>
              <a:gradFill rotWithShape="0">
                <a:gsLst>
                  <a:gs pos="0">
                    <a:srgbClr val="450000"/>
                  </a:gs>
                  <a:gs pos="50000">
                    <a:srgbClr val="990000"/>
                  </a:gs>
                  <a:gs pos="100000">
                    <a:srgbClr val="450000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924080" y="5694480"/>
                <a:ext cx="80280" cy="93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8e8e8e"/>
                  </a:gs>
                  <a:gs pos="50000">
                    <a:srgbClr val="ffffff"/>
                  </a:gs>
                  <a:gs pos="100000">
                    <a:srgbClr val="8e8e8e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4923360" y="6443280"/>
                <a:ext cx="80280" cy="33120"/>
              </a:xfrm>
              <a:custGeom>
                <a:avLst/>
                <a:gdLst>
                  <a:gd name="textAreaLeft" fmla="*/ 17640 w 80280"/>
                  <a:gd name="textAreaRight" fmla="*/ 62640 w 80280"/>
                  <a:gd name="textAreaTop" fmla="*/ 7200 h 33120"/>
                  <a:gd name="textAreaBottom" fmla="*/ 25920 h 3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4f4f"/>
                  </a:gs>
                  <a:gs pos="50000">
                    <a:srgbClr val="dddddd"/>
                  </a:gs>
                  <a:gs pos="100000">
                    <a:srgbClr val="4f4f4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7" name=""/>
          <p:cNvSpPr/>
          <p:nvPr/>
        </p:nvSpPr>
        <p:spPr>
          <a:xfrm>
            <a:off x="4419720" y="1246320"/>
            <a:ext cx="971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tan IV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86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400M(1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8625960" y="2109960"/>
            <a:ext cx="518040" cy="4630320"/>
            <a:chOff x="8625960" y="2109960"/>
            <a:chExt cx="518040" cy="4630320"/>
          </a:xfrm>
        </p:grpSpPr>
        <p:sp>
          <p:nvSpPr>
            <p:cNvPr id="1749" name=""/>
            <p:cNvSpPr/>
            <p:nvPr/>
          </p:nvSpPr>
          <p:spPr>
            <a:xfrm>
              <a:off x="8741520" y="2398320"/>
              <a:ext cx="286560" cy="3618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8741520" y="6637320"/>
              <a:ext cx="114120" cy="102960"/>
            </a:xfrm>
            <a:custGeom>
              <a:avLst/>
              <a:gdLst>
                <a:gd name="textAreaLeft" fmla="*/ 30240 w 114120"/>
                <a:gd name="textAreaRight" fmla="*/ 83880 w 114120"/>
                <a:gd name="textAreaTop" fmla="*/ 27360 h 102960"/>
                <a:gd name="textAreaBottom" fmla="*/ 7560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50000">
                  <a:srgbClr val="cfcfcf"/>
                </a:gs>
                <a:gs pos="100000">
                  <a:srgbClr val="5f5f5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68520" y="2915280"/>
              <a:ext cx="232920" cy="7750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41520" y="4052520"/>
              <a:ext cx="286560" cy="6202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41520" y="4776480"/>
              <a:ext cx="286560" cy="6202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741520" y="2760480"/>
              <a:ext cx="286560" cy="102960"/>
            </a:xfrm>
            <a:custGeom>
              <a:avLst/>
              <a:gdLst>
                <a:gd name="textAreaLeft" fmla="*/ 37800 w 286560"/>
                <a:gd name="textAreaRight" fmla="*/ 248760 w 286560"/>
                <a:gd name="textAreaTop" fmla="*/ 13320 h 102960"/>
                <a:gd name="textAreaBottom" fmla="*/ 8964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0" y="21600"/>
                  </a:lnTo>
                  <a:lnTo>
                    <a:pt x="198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dddddd"/>
                </a:gs>
                <a:gs pos="100000">
                  <a:srgbClr val="91919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8741520" y="3690000"/>
              <a:ext cx="286560" cy="309960"/>
            </a:xfrm>
            <a:custGeom>
              <a:avLst/>
              <a:gdLst>
                <a:gd name="textAreaLeft" fmla="*/ 37800 w 286560"/>
                <a:gd name="textAreaRight" fmla="*/ 248760 w 286560"/>
                <a:gd name="textAreaTop" fmla="*/ 40680 h 309960"/>
                <a:gd name="textAreaBottom" fmla="*/ 269280 h 3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1" y="21600"/>
                  </a:lnTo>
                  <a:lnTo>
                    <a:pt x="197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dddddd"/>
                </a:gs>
                <a:gs pos="100000">
                  <a:srgbClr val="91919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741520" y="5551560"/>
              <a:ext cx="286560" cy="7750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741520" y="6304320"/>
              <a:ext cx="286560" cy="3326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741520" y="5500080"/>
              <a:ext cx="286560" cy="5148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741520" y="5396760"/>
              <a:ext cx="286560" cy="10296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eaeaea"/>
                </a:gs>
                <a:gs pos="100000">
                  <a:srgbClr val="c9c9c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741520" y="6430320"/>
              <a:ext cx="286560" cy="5148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741520" y="4001040"/>
              <a:ext cx="286560" cy="5148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2" name=""/>
            <p:cNvGrpSpPr/>
            <p:nvPr/>
          </p:nvGrpSpPr>
          <p:grpSpPr>
            <a:xfrm>
              <a:off x="8784720" y="5551560"/>
              <a:ext cx="206280" cy="878400"/>
              <a:chOff x="8784720" y="5551560"/>
              <a:chExt cx="206280" cy="8784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8956440" y="5551560"/>
                <a:ext cx="34560" cy="878400"/>
                <a:chOff x="8956440" y="5551560"/>
                <a:chExt cx="34560" cy="87840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8970120" y="5896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956440" y="5865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970120" y="5833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956440" y="5802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970120" y="5770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8956440" y="5740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8970120" y="5707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8956440" y="5677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8970120" y="5644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8956440" y="5614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970120" y="55821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956440" y="55515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8970120" y="5959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956440" y="5928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970120" y="60213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8956440" y="59907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970120" y="60843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956440" y="60537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970120" y="61470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8956440" y="6116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8970120" y="621072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956440" y="6179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970120" y="62730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956440" y="6242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8970120" y="63356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8956440" y="63050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970120" y="63986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956440" y="63680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8784720" y="5551560"/>
                <a:ext cx="34560" cy="878400"/>
                <a:chOff x="8784720" y="5551560"/>
                <a:chExt cx="34560" cy="87840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8798400" y="5896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784720" y="5865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798400" y="5833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8784720" y="5802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8798400" y="5770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8784720" y="5740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798400" y="5707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8784720" y="5677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8798400" y="56448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8784720" y="56142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8798400" y="55821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8784720" y="55515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8798400" y="59594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8784720" y="59288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8798400" y="60213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8784720" y="59907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8798400" y="60843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784720" y="605376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798400" y="61470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8784720" y="6116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8798400" y="621072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8784720" y="6179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8798400" y="62730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784720" y="624240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8798400" y="63356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8784720" y="63050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8798400" y="63986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784720" y="6368040"/>
                  <a:ext cx="20880" cy="31320"/>
                </a:xfrm>
                <a:prstGeom prst="rect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1" name=""/>
            <p:cNvSpPr/>
            <p:nvPr/>
          </p:nvSpPr>
          <p:spPr>
            <a:xfrm>
              <a:off x="8768520" y="2863800"/>
              <a:ext cx="232920" cy="51480"/>
            </a:xfrm>
            <a:prstGeom prst="rect">
              <a:avLst/>
            </a:prstGeom>
            <a:gradFill rotWithShape="0">
              <a:gsLst>
                <a:gs pos="0">
                  <a:srgbClr val="141414"/>
                </a:gs>
                <a:gs pos="50000">
                  <a:srgbClr val="808080"/>
                </a:gs>
                <a:gs pos="100000">
                  <a:srgbClr val="14141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8914320" y="6637320"/>
              <a:ext cx="114120" cy="102960"/>
            </a:xfrm>
            <a:custGeom>
              <a:avLst/>
              <a:gdLst>
                <a:gd name="textAreaLeft" fmla="*/ 30240 w 114120"/>
                <a:gd name="textAreaRight" fmla="*/ 83880 w 114120"/>
                <a:gd name="textAreaTop" fmla="*/ 27360 h 102960"/>
                <a:gd name="textAreaBottom" fmla="*/ 7560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50000">
                  <a:srgbClr val="cfcfcf"/>
                </a:gs>
                <a:gs pos="100000">
                  <a:srgbClr val="5f5f5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741520" y="6637320"/>
              <a:ext cx="286560" cy="30960"/>
            </a:xfrm>
            <a:custGeom>
              <a:avLst/>
              <a:gdLst>
                <a:gd name="textAreaLeft" fmla="*/ 30960 w 286560"/>
                <a:gd name="textAreaRight" fmla="*/ 255600 w 286560"/>
                <a:gd name="textAreaTop" fmla="*/ 3240 h 30960"/>
                <a:gd name="textAreaBottom" fmla="*/ 27720 h 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0" y="21600"/>
                  </a:lnTo>
                  <a:lnTo>
                    <a:pt x="108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89898"/>
                </a:gs>
                <a:gs pos="50000">
                  <a:srgbClr val="b2b2b2"/>
                </a:gs>
                <a:gs pos="100000">
                  <a:srgbClr val="98989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41520" y="4724640"/>
              <a:ext cx="286560" cy="102960"/>
            </a:xfrm>
            <a:prstGeom prst="blockArc">
              <a:avLst>
                <a:gd name="adj1" fmla="val 10800000"/>
                <a:gd name="adj2" fmla="val 0"/>
                <a:gd name="adj3" fmla="val 48750"/>
              </a:avLst>
            </a:prstGeom>
            <a:gradFill rotWithShape="0">
              <a:gsLst>
                <a:gs pos="0">
                  <a:srgbClr val="491200"/>
                </a:gs>
                <a:gs pos="50000">
                  <a:srgbClr val="cc3300"/>
                </a:gs>
                <a:gs pos="100000">
                  <a:srgbClr val="4912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8741520" y="4672440"/>
              <a:ext cx="286560" cy="103680"/>
              <a:chOff x="8741520" y="4672440"/>
              <a:chExt cx="286560" cy="103680"/>
            </a:xfrm>
          </p:grpSpPr>
          <p:sp>
            <p:nvSpPr>
              <p:cNvPr id="1826" name=""/>
              <p:cNvSpPr/>
              <p:nvPr/>
            </p:nvSpPr>
            <p:spPr>
              <a:xfrm>
                <a:off x="8741520" y="4672800"/>
                <a:ext cx="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741520" y="467280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77160" y="467244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813160" y="467280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8848800" y="467244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884800" y="467280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8920440" y="467244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956440" y="467280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8992440" y="4672440"/>
                <a:ext cx="3564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9028080" y="4672800"/>
                <a:ext cx="0" cy="10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8625960" y="6482160"/>
              <a:ext cx="518040" cy="187200"/>
              <a:chOff x="8625960" y="6482160"/>
              <a:chExt cx="518040" cy="187200"/>
            </a:xfrm>
          </p:grpSpPr>
          <p:sp>
            <p:nvSpPr>
              <p:cNvPr id="1837" name=""/>
              <p:cNvSpPr/>
              <p:nvPr/>
            </p:nvSpPr>
            <p:spPr>
              <a:xfrm>
                <a:off x="9028800" y="6482160"/>
                <a:ext cx="115200" cy="1872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8625600" y="6482160"/>
                <a:ext cx="114840" cy="1872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9028800" y="6528600"/>
                <a:ext cx="115200" cy="140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8625600" y="6528600"/>
                <a:ext cx="114840" cy="140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0"/>
                    </a:moveTo>
                    <a:lnTo>
                      <a:pt x="144" y="96"/>
                    </a:lnTo>
                    <a:lnTo>
                      <a:pt x="144" y="192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8882280" y="6482160"/>
                <a:ext cx="14400" cy="187200"/>
                <a:chOff x="8882280" y="6482160"/>
                <a:chExt cx="14400" cy="1872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8882280" y="6482160"/>
                  <a:ext cx="14400" cy="1872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0"/>
                      </a:moveTo>
                      <a:lnTo>
                        <a:pt x="144" y="96"/>
                      </a:lnTo>
                      <a:lnTo>
                        <a:pt x="144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bdbdb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8882280" y="6528600"/>
                  <a:ext cx="14400" cy="140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0"/>
                      </a:moveTo>
                      <a:lnTo>
                        <a:pt x="144" y="96"/>
                      </a:lnTo>
                      <a:lnTo>
                        <a:pt x="144" y="192"/>
                      </a:lnTo>
                      <a:lnTo>
                        <a:pt x="0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bdbdb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4" name=""/>
            <p:cNvGrpSpPr/>
            <p:nvPr/>
          </p:nvGrpSpPr>
          <p:grpSpPr>
            <a:xfrm>
              <a:off x="8741520" y="2109960"/>
              <a:ext cx="286560" cy="288000"/>
              <a:chOff x="8741520" y="2109960"/>
              <a:chExt cx="286560" cy="288000"/>
            </a:xfrm>
          </p:grpSpPr>
          <p:sp>
            <p:nvSpPr>
              <p:cNvPr id="1845" name=""/>
              <p:cNvSpPr/>
              <p:nvPr/>
            </p:nvSpPr>
            <p:spPr>
              <a:xfrm>
                <a:off x="8820000" y="2109960"/>
                <a:ext cx="129240" cy="122400"/>
              </a:xfrm>
              <a:prstGeom prst="blockArc">
                <a:avLst>
                  <a:gd name="adj1" fmla="val 10800000"/>
                  <a:gd name="adj2" fmla="val 0"/>
                  <a:gd name="adj3" fmla="val 48750"/>
                </a:avLst>
              </a:pr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8741520" y="2153160"/>
                <a:ext cx="286560" cy="244800"/>
              </a:xfrm>
              <a:custGeom>
                <a:avLst/>
                <a:gdLst>
                  <a:gd name="textAreaLeft" fmla="*/ 68040 w 286560"/>
                  <a:gd name="textAreaRight" fmla="*/ 218520 w 286560"/>
                  <a:gd name="textAreaTop" fmla="*/ 57960 h 244800"/>
                  <a:gd name="textAreaBottom" fmla="*/ 186840 h 24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10" y="21600"/>
                    </a:lnTo>
                    <a:lnTo>
                      <a:pt x="609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50000">
                    <a:srgbClr val="ffffff"/>
                  </a:gs>
                  <a:gs pos="100000">
                    <a:srgbClr val="dbdbdb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"/>
          <p:cNvSpPr/>
          <p:nvPr/>
        </p:nvSpPr>
        <p:spPr>
          <a:xfrm>
            <a:off x="8467560" y="1523880"/>
            <a:ext cx="80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Z-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1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55M(1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5264280" y="2292480"/>
            <a:ext cx="748800" cy="4425480"/>
            <a:chOff x="5264280" y="2292480"/>
            <a:chExt cx="748800" cy="4425480"/>
          </a:xfrm>
        </p:grpSpPr>
        <p:sp>
          <p:nvSpPr>
            <p:cNvPr id="1849" name=""/>
            <p:cNvSpPr/>
            <p:nvPr/>
          </p:nvSpPr>
          <p:spPr>
            <a:xfrm>
              <a:off x="5471640" y="2292480"/>
              <a:ext cx="333720" cy="873000"/>
            </a:xfrm>
            <a:custGeom>
              <a:avLst/>
              <a:gdLst/>
              <a:ahLst/>
              <a:rect l="l" t="t" r="r" b="b"/>
              <a:pathLst>
                <a:path w="285" h="752">
                  <a:moveTo>
                    <a:pt x="0" y="525"/>
                  </a:moveTo>
                  <a:lnTo>
                    <a:pt x="0" y="289"/>
                  </a:lnTo>
                  <a:lnTo>
                    <a:pt x="44" y="93"/>
                  </a:lnTo>
                  <a:lnTo>
                    <a:pt x="77" y="39"/>
                  </a:lnTo>
                  <a:lnTo>
                    <a:pt x="113" y="9"/>
                  </a:lnTo>
                  <a:lnTo>
                    <a:pt x="143" y="0"/>
                  </a:lnTo>
                  <a:lnTo>
                    <a:pt x="177" y="9"/>
                  </a:lnTo>
                  <a:lnTo>
                    <a:pt x="206" y="33"/>
                  </a:lnTo>
                  <a:lnTo>
                    <a:pt x="245" y="95"/>
                  </a:lnTo>
                  <a:lnTo>
                    <a:pt x="285" y="286"/>
                  </a:lnTo>
                  <a:lnTo>
                    <a:pt x="285" y="522"/>
                  </a:lnTo>
                  <a:lnTo>
                    <a:pt x="285" y="752"/>
                  </a:lnTo>
                  <a:lnTo>
                    <a:pt x="0" y="752"/>
                  </a:lnTo>
                  <a:lnTo>
                    <a:pt x="0" y="525"/>
                  </a:lnTo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471640" y="2626560"/>
              <a:ext cx="333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471640" y="4465080"/>
              <a:ext cx="333720" cy="389880"/>
            </a:xfrm>
            <a:custGeom>
              <a:avLst/>
              <a:gdLst>
                <a:gd name="textAreaLeft" fmla="*/ 57960 w 333720"/>
                <a:gd name="textAreaRight" fmla="*/ 275760 w 333720"/>
                <a:gd name="textAreaTop" fmla="*/ 67680 h 389880"/>
                <a:gd name="textAreaBottom" fmla="*/ 322200 h 3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527440" y="4020120"/>
              <a:ext cx="222480" cy="445680"/>
            </a:xfrm>
            <a:prstGeom prst="rect">
              <a:avLst/>
            </a:pr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27440" y="3796920"/>
              <a:ext cx="222480" cy="222840"/>
            </a:xfrm>
            <a:prstGeom prst="rect">
              <a:avLst/>
            </a:pr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27440" y="3240000"/>
              <a:ext cx="222480" cy="556920"/>
            </a:xfrm>
            <a:prstGeom prst="rect">
              <a:avLst/>
            </a:prstGeom>
            <a:gradFill rotWithShape="0">
              <a:gsLst>
                <a:gs pos="0">
                  <a:srgbClr val="201f29"/>
                </a:gs>
                <a:gs pos="50000">
                  <a:srgbClr val="7b789e"/>
                </a:gs>
                <a:gs pos="100000">
                  <a:srgbClr val="201f29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71640" y="3165480"/>
              <a:ext cx="333720" cy="74160"/>
            </a:xfrm>
            <a:custGeom>
              <a:avLst/>
              <a:gdLst>
                <a:gd name="textAreaLeft" fmla="*/ 57960 w 333720"/>
                <a:gd name="textAreaRight" fmla="*/ 275760 w 333720"/>
                <a:gd name="textAreaTop" fmla="*/ 12600 h 74160"/>
                <a:gd name="textAreaBottom" fmla="*/ 615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1" y="21600"/>
                  </a:lnTo>
                  <a:lnTo>
                    <a:pt x="35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86681"/>
                </a:gs>
                <a:gs pos="50000">
                  <a:srgbClr val="afacd8"/>
                </a:gs>
                <a:gs pos="100000">
                  <a:srgbClr val="686681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471640" y="4967280"/>
              <a:ext cx="333720" cy="557280"/>
            </a:xfrm>
            <a:prstGeom prst="rect">
              <a:avLst/>
            </a:pr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71640" y="5702400"/>
              <a:ext cx="333720" cy="72396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471640" y="4856040"/>
              <a:ext cx="333720" cy="111240"/>
            </a:xfrm>
            <a:prstGeom prst="rect">
              <a:avLst/>
            </a:prstGeom>
            <a:gradFill rotWithShape="0">
              <a:gsLst>
                <a:gs pos="0">
                  <a:srgbClr val="b7c5ff"/>
                </a:gs>
                <a:gs pos="50000">
                  <a:srgbClr val="d7defe"/>
                </a:gs>
                <a:gs pos="100000">
                  <a:srgbClr val="b7c5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471640" y="5524560"/>
              <a:ext cx="333720" cy="177480"/>
            </a:xfrm>
            <a:prstGeom prst="rect">
              <a:avLst/>
            </a:prstGeom>
            <a:gradFill rotWithShape="0">
              <a:gsLst>
                <a:gs pos="0">
                  <a:srgbClr val="b7c5ff"/>
                </a:gs>
                <a:gs pos="50000">
                  <a:srgbClr val="d7defe"/>
                </a:gs>
                <a:gs pos="100000">
                  <a:srgbClr val="b7c5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5447520" y="6258960"/>
              <a:ext cx="119160" cy="325080"/>
            </a:xfrm>
            <a:custGeom>
              <a:avLst/>
              <a:gdLst>
                <a:gd name="textAreaLeft" fmla="*/ 22320 w 119160"/>
                <a:gd name="textAreaRight" fmla="*/ 96840 w 119160"/>
                <a:gd name="textAreaTop" fmla="*/ 60840 h 325080"/>
                <a:gd name="textAreaBottom" fmla="*/ 2642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77" y="21600"/>
                  </a:lnTo>
                  <a:lnTo>
                    <a:pt x="412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5709240" y="6258960"/>
              <a:ext cx="118080" cy="325080"/>
            </a:xfrm>
            <a:custGeom>
              <a:avLst/>
              <a:gdLst>
                <a:gd name="textAreaLeft" fmla="*/ 20880 w 118080"/>
                <a:gd name="textAreaRight" fmla="*/ 97200 w 118080"/>
                <a:gd name="textAreaTop" fmla="*/ 57960 h 325080"/>
                <a:gd name="textAreaBottom" fmla="*/ 26712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89" y="21600"/>
                  </a:lnTo>
                  <a:lnTo>
                    <a:pt x="381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3c7f7"/>
                </a:gs>
                <a:gs pos="50000">
                  <a:srgbClr val="eff0fc"/>
                </a:gs>
                <a:gs pos="100000">
                  <a:srgbClr val="c3c7f7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844960" y="6442920"/>
              <a:ext cx="146160" cy="120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0"/>
                  </a:moveTo>
                  <a:lnTo>
                    <a:pt x="1" y="104"/>
                  </a:lnTo>
                  <a:lnTo>
                    <a:pt x="97" y="104"/>
                  </a:lnTo>
                  <a:lnTo>
                    <a:pt x="13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819400" y="5456160"/>
              <a:ext cx="193680" cy="990000"/>
            </a:xfrm>
            <a:custGeom>
              <a:avLst/>
              <a:gdLst/>
              <a:ahLst/>
              <a:rect l="l" t="t" r="r" b="b"/>
              <a:pathLst>
                <a:path w="36" h="424">
                  <a:moveTo>
                    <a:pt x="11" y="7"/>
                  </a:moveTo>
                  <a:lnTo>
                    <a:pt x="18" y="0"/>
                  </a:lnTo>
                  <a:lnTo>
                    <a:pt x="24" y="7"/>
                  </a:lnTo>
                  <a:lnTo>
                    <a:pt x="35" y="66"/>
                  </a:lnTo>
                  <a:lnTo>
                    <a:pt x="35" y="419"/>
                  </a:lnTo>
                  <a:lnTo>
                    <a:pt x="31" y="423"/>
                  </a:lnTo>
                  <a:lnTo>
                    <a:pt x="4" y="423"/>
                  </a:lnTo>
                  <a:lnTo>
                    <a:pt x="0" y="419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913360" y="6563880"/>
              <a:ext cx="96120" cy="1321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86240" y="6440760"/>
              <a:ext cx="145800" cy="120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0"/>
                  </a:moveTo>
                  <a:lnTo>
                    <a:pt x="1" y="104"/>
                  </a:lnTo>
                  <a:lnTo>
                    <a:pt x="97" y="104"/>
                  </a:lnTo>
                  <a:lnTo>
                    <a:pt x="13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64280" y="5454000"/>
              <a:ext cx="193320" cy="990360"/>
            </a:xfrm>
            <a:custGeom>
              <a:avLst/>
              <a:gdLst/>
              <a:ahLst/>
              <a:rect l="l" t="t" r="r" b="b"/>
              <a:pathLst>
                <a:path w="36" h="424">
                  <a:moveTo>
                    <a:pt x="11" y="7"/>
                  </a:moveTo>
                  <a:lnTo>
                    <a:pt x="18" y="0"/>
                  </a:lnTo>
                  <a:lnTo>
                    <a:pt x="24" y="7"/>
                  </a:lnTo>
                  <a:lnTo>
                    <a:pt x="35" y="66"/>
                  </a:lnTo>
                  <a:lnTo>
                    <a:pt x="35" y="419"/>
                  </a:lnTo>
                  <a:lnTo>
                    <a:pt x="31" y="423"/>
                  </a:lnTo>
                  <a:lnTo>
                    <a:pt x="4" y="423"/>
                  </a:lnTo>
                  <a:lnTo>
                    <a:pt x="0" y="419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5266800" y="6561720"/>
              <a:ext cx="96120" cy="1321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563440" y="6435000"/>
              <a:ext cx="145800" cy="120600"/>
            </a:xfrm>
            <a:custGeom>
              <a:avLst/>
              <a:gdLst/>
              <a:ahLst/>
              <a:rect l="l" t="t" r="r" b="b"/>
              <a:pathLst>
                <a:path w="126" h="104">
                  <a:moveTo>
                    <a:pt x="126" y="0"/>
                  </a:moveTo>
                  <a:lnTo>
                    <a:pt x="112" y="104"/>
                  </a:lnTo>
                  <a:lnTo>
                    <a:pt x="16" y="104"/>
                  </a:lnTo>
                  <a:lnTo>
                    <a:pt x="0" y="0"/>
                  </a:lnTo>
                  <a:lnTo>
                    <a:pt x="126" y="0"/>
                  </a:lnTo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537160" y="5448240"/>
              <a:ext cx="193320" cy="990000"/>
            </a:xfrm>
            <a:custGeom>
              <a:avLst/>
              <a:gdLst/>
              <a:ahLst/>
              <a:rect l="l" t="t" r="r" b="b"/>
              <a:pathLst>
                <a:path w="36" h="424">
                  <a:moveTo>
                    <a:pt x="11" y="7"/>
                  </a:moveTo>
                  <a:lnTo>
                    <a:pt x="18" y="0"/>
                  </a:lnTo>
                  <a:lnTo>
                    <a:pt x="24" y="7"/>
                  </a:lnTo>
                  <a:lnTo>
                    <a:pt x="35" y="66"/>
                  </a:lnTo>
                  <a:lnTo>
                    <a:pt x="35" y="419"/>
                  </a:lnTo>
                  <a:lnTo>
                    <a:pt x="31" y="423"/>
                  </a:lnTo>
                  <a:lnTo>
                    <a:pt x="4" y="423"/>
                  </a:lnTo>
                  <a:lnTo>
                    <a:pt x="0" y="419"/>
                  </a:lnTo>
                  <a:lnTo>
                    <a:pt x="0" y="66"/>
                  </a:lnTo>
                  <a:lnTo>
                    <a:pt x="11" y="7"/>
                  </a:lnTo>
                </a:path>
              </a:pathLst>
            </a:custGeom>
            <a:gradFill rotWithShape="0">
              <a:gsLst>
                <a:gs pos="0">
                  <a:srgbClr val="c2e2e8"/>
                </a:gs>
                <a:gs pos="50000">
                  <a:srgbClr val="ebf5f7"/>
                </a:gs>
                <a:gs pos="100000">
                  <a:srgbClr val="c2e2e8"/>
                </a:gs>
              </a:gsLst>
              <a:lin ang="108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89000" y="6555960"/>
              <a:ext cx="100440" cy="13428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56" y="0"/>
                  </a:moveTo>
                  <a:lnTo>
                    <a:pt x="75" y="49"/>
                  </a:lnTo>
                  <a:lnTo>
                    <a:pt x="87" y="111"/>
                  </a:lnTo>
                  <a:lnTo>
                    <a:pt x="45" y="116"/>
                  </a:lnTo>
                  <a:lnTo>
                    <a:pt x="0" y="109"/>
                  </a:lnTo>
                  <a:lnTo>
                    <a:pt x="10" y="46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6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554080" y="641268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55160" y="560700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74960" y="5556240"/>
              <a:ext cx="128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832360" y="641268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833440" y="560700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853240" y="5556240"/>
              <a:ext cx="128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275800" y="641268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276880" y="5607000"/>
              <a:ext cx="1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96320" y="5556240"/>
              <a:ext cx="128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750280" y="6584760"/>
              <a:ext cx="96120" cy="1321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5438520" y="6585840"/>
              <a:ext cx="96120" cy="1321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4" y="0"/>
                  </a:moveTo>
                  <a:lnTo>
                    <a:pt x="22" y="11"/>
                  </a:lnTo>
                  <a:lnTo>
                    <a:pt x="30" y="26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1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gradFill rotWithShape="0">
              <a:gsLst>
                <a:gs pos="0">
                  <a:srgbClr val="333300"/>
                </a:gs>
                <a:gs pos="50000">
                  <a:srgbClr val="686843"/>
                </a:gs>
                <a:gs pos="100000">
                  <a:srgbClr val="333300"/>
                </a:gs>
              </a:gsLst>
              <a:lin ang="10800000"/>
            </a:gradFill>
            <a:ln cap="rnd" w="3240">
              <a:solidFill>
                <a:srgbClr val="41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269320" y="1827360"/>
            <a:ext cx="75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iane 44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5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120M(2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130840" y="836640"/>
            <a:ext cx="75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lta 4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6 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$187M(20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533520" y="2438280"/>
            <a:ext cx="8534160" cy="4267440"/>
            <a:chOff x="533520" y="2438280"/>
            <a:chExt cx="8534160" cy="4267440"/>
          </a:xfrm>
        </p:grpSpPr>
        <p:sp>
          <p:nvSpPr>
            <p:cNvPr id="1885" name=""/>
            <p:cNvSpPr/>
            <p:nvPr/>
          </p:nvSpPr>
          <p:spPr>
            <a:xfrm>
              <a:off x="2133720" y="3581280"/>
              <a:ext cx="609480" cy="2895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05320" y="3200400"/>
              <a:ext cx="53316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95680" y="3124080"/>
              <a:ext cx="60984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248520" y="4191120"/>
              <a:ext cx="609480" cy="2209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0080" y="3124080"/>
              <a:ext cx="45720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3520" y="2666880"/>
              <a:ext cx="838080" cy="3810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001000" y="3962520"/>
              <a:ext cx="457200" cy="2743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162920" y="2743200"/>
              <a:ext cx="4572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001000" y="3276720"/>
              <a:ext cx="45720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686800" y="2666880"/>
              <a:ext cx="38088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71800" y="2971800"/>
              <a:ext cx="533520" cy="76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133720" y="2438280"/>
              <a:ext cx="609480" cy="129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886200" y="3809880"/>
              <a:ext cx="53352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7:23:27Z</dcterms:created>
  <dc:creator>bblair</dc:creator>
  <dc:description/>
  <dc:language>en-US</dc:language>
  <cp:lastModifiedBy>brad</cp:lastModifiedBy>
  <dcterms:modified xsi:type="dcterms:W3CDTF">2006-11-01T16:36:58Z</dcterms:modified>
  <cp:revision>109</cp:revision>
  <dc:subject/>
  <dc:title>Gas station in LEO?</dc:title>
</cp:coreProperties>
</file>