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34.jpeg" ContentType="image/jpeg"/>
  <Override PartName="/ppt/media/image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jpeg" ContentType="image/jpeg"/>
  <Override PartName="/ppt/media/image13.png" ContentType="image/png"/>
  <Override PartName="/ppt/media/image32.png" ContentType="image/png"/>
  <Override PartName="/ppt/media/image12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005-144E-48C7-8783-39BC5586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943-E4D1-42A6-8F0B-7A7EFD69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845-2162-41F4-AD08-32C5A6C2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B0B-F595-4478-A1C0-DCB35331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8BC-B0A7-409A-B589-011D85FD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3DE-1AFF-4347-8441-1078A1C7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FD6-20A7-4A0E-AF67-D36FEDC6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91A-2195-4D5B-B703-B0462694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98B-BB5D-4989-9058-8781FDC1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F42-325C-45DD-9E6D-642EC151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D43-3F12-4434-86CC-E6256405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8FB-2D74-4E17-9F15-4951E469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839D-F900-406C-8A66-B534C8B41478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90792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ASIBILITY CONCEPT OF CRE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ECTED SPACES WITH GREAT SI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BALANCED INTERIOR TEMPER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INDUSTRIAL ACTIVITIE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58920" y="3644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B. Boldoghy, J. Kummert, I. Szilágy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T. Varga, Sz. Bérczi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450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NewRomanPS-BoldMT"/>
              </a:rPr>
              <a:t>SPACE RESOURCES ROUNDTABLE V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NewRomanPS-BoldMT"/>
              </a:rPr>
              <a:t>October</a:t>
            </a:r>
            <a:r>
              <a:rPr b="1" lang="en-US" sz="2400" spc="-1" strike="noStrike">
                <a:solidFill>
                  <a:srgbClr val="ffffcc"/>
                </a:solidFill>
                <a:latin typeface="TimesNewRomanPS-BoldMT"/>
              </a:rPr>
              <a:t> </a:t>
            </a:r>
            <a:r>
              <a:rPr b="1" lang="hu-HU" sz="2400" spc="-1" strike="noStrike">
                <a:solidFill>
                  <a:srgbClr val="ffffcc"/>
                </a:solidFill>
                <a:latin typeface="TimesNewRomanPS-BoldMT"/>
              </a:rPr>
              <a:t>31</a:t>
            </a:r>
            <a:r>
              <a:rPr b="1" lang="en-US" sz="2400" spc="-1" strike="noStrike">
                <a:solidFill>
                  <a:srgbClr val="ffffcc"/>
                </a:solidFill>
                <a:latin typeface="TimesNewRomanPS-BoldMT"/>
              </a:rPr>
              <a:t>–</a:t>
            </a:r>
            <a:r>
              <a:rPr b="1" lang="hu-HU" sz="2400" spc="-1" strike="noStrike">
                <a:solidFill>
                  <a:srgbClr val="ffffcc"/>
                </a:solidFill>
                <a:latin typeface="TimesNewRomanPS-BoldMT"/>
              </a:rPr>
              <a:t> November </a:t>
            </a:r>
            <a:r>
              <a:rPr b="1" lang="en-US" sz="2400" spc="-1" strike="noStrike">
                <a:solidFill>
                  <a:srgbClr val="ffffcc"/>
                </a:solidFill>
                <a:latin typeface="TimesNewRomanPS-BoldMT"/>
              </a:rPr>
              <a:t>2, 200</a:t>
            </a:r>
            <a:r>
              <a:rPr b="1" lang="hu-HU" sz="2400" spc="-1" strike="noStrike">
                <a:solidFill>
                  <a:srgbClr val="ffffcc"/>
                </a:solidFill>
                <a:latin typeface="TimesNewRomanPS-BoldM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TimesNewRomanPS-BoldMT"/>
              </a:rPr>
              <a:t>Colorado School of 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88000" y="117360"/>
            <a:ext cx="4200480" cy="2806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4920" y="3213000"/>
            <a:ext cx="910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mplacement of the building elements made of Lunar materi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or th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rom the both side, to ensure the balanced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vertic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63052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eating the arched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9890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Filling and/or balancing the level of the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096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hoosing a suitable Lunar val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88000" y="119160"/>
            <a:ext cx="4224240" cy="2805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4076640"/>
            <a:ext cx="88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inaling the loadbearing arched structure by the building elements, and 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emoving the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vertic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63052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eating the arched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9890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Filling and/or balancing the level of the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2096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hoosing a suitable Lunar val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0" y="3213000"/>
            <a:ext cx="910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mplacement of the building elements made of Lunar materi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or th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rom the both side, to ensure the balanced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88000" y="117360"/>
            <a:ext cx="4224240" cy="2806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49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eating joinings and entries, and after filling the space above the arched structure with Lunar regol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vertic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076640"/>
            <a:ext cx="88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inaling the loadbearing arched structure by the building elements, and 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emoving the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63052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eating the arched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890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Filling and/or balancing the level of the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2096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hoosing a suitable Lunar val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3213000"/>
            <a:ext cx="910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mplacement of the building elements made of Lunar materi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or th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rom the both side, to ensure the balanced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88000" y="119160"/>
            <a:ext cx="4209840" cy="2805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57340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rrangement of the shaped domed inn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mplacement of the habitable and/or industrial mod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vertic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076640"/>
            <a:ext cx="88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inaling the loadbearing arched structure by the building elements, and 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emoving the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63052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eating the arched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9890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Filling and/or balancing the level of the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096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hoosing a suitable Lunar val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0" y="3213000"/>
            <a:ext cx="910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mplacement of the building elements made of Lunar materi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or th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rom the both side, to ensure the balanced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9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eating joinings and entries, and after filling the space above the arched structure with Lunar regol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981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ilding the Lunar valley by steps,                       on the lengthwise of the Lunar vall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40360" y="119160"/>
            <a:ext cx="4911480" cy="2805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horizont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916160" cy="280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horizont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700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Determinate the place of th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81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ilding the Lunar valley by steps,                       on the lengthwise of the Lunar vall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916160" cy="2808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horizont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700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Determinate the place of th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1258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Indicating of the first ste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81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ilding the Lunar valley by steps,                       on the lengthwise of the Lunar vall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91616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horizont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700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Determinate the place of th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1258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Indicating of the first ste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492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Creating the arched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981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ilding the Lunar valley by steps,                       on the lengthwise of the Lunar vall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916160" cy="2808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horizont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Determinate the place of th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1258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Indicating of the first ste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492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Creating the arched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0" y="2917800"/>
            <a:ext cx="65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Emplacement of the building elements made of Lunar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81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ilding the Lunar valley by steps,                       on the lengthwise of the Lunar vall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9161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horizont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00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Determinate the place of th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1258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Indicating of the first ste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492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Creating the arched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0" y="2924280"/>
            <a:ext cx="65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Emplacement of the building elements made of Lunar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20" y="3284640"/>
            <a:ext cx="85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Finaling the loadbearing arched structure by the building elements of the firs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81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ilding the Lunar valley by steps,                       on the lengthwise of the Lunar vall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49360" y="307800"/>
            <a:ext cx="783576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he essence of our propo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rotected interior spaces of great size and of balanced interior 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an be created from Lunar raw materials applying traditional earthl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echnolog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ese protected spaces are created to be suitable for long term hum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ay as well as carrying out industrial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257800" cy="323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5200" y="5949360"/>
            <a:ext cx="82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oss section of a protected interior space of great size and of balanc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terior temperature formed in a Lunar ditch made suitable for industrial activ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916160" cy="2808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horizont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700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Determinate the place of th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1258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Indicating of the first ste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Creating the arched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0" y="2924280"/>
            <a:ext cx="65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Emplacement of the building elements made of Lunar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20" y="3284640"/>
            <a:ext cx="85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Finaling the loadbearing arched structure by the building elements of the firs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" y="363852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dicating 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81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ilding the Lunar valley by steps,                       on the lengthwise of the Lunar vall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916160" cy="2808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horizont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700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Determinate the place of th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1258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Indicating of the first ste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492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Creating the arched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0" y="2924280"/>
            <a:ext cx="65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Emplacement of the building elements made of Lunar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20" y="3284640"/>
            <a:ext cx="85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Finaling the loadbearing arched structure by the building elements of the firs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" y="363852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dicating 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" y="3998880"/>
            <a:ext cx="57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eating the arched building fram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981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ilding the Lunar valley by steps,                       on the lengthwise of the Lunar vall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916160" cy="2808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horizont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00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Determinate the place of th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258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Indicating of the first ste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492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Creating the arched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0" y="2924280"/>
            <a:ext cx="65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Emplacement of the building elements made of Lunar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20" y="3284640"/>
            <a:ext cx="85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Finaling the loadbearing arched structure by the building elements of the firs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" y="363852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dicating 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00" y="3998880"/>
            <a:ext cx="57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eating the arched building fram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00" y="436572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mplacement of the building elements made of Lunar materi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981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ilding the Lunar valley by steps,                       on the lengthwise of the Lunar vall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916160" cy="2808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horizont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700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Determinate the place of th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1258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Indicating of the first ste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492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Creating the arched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0" y="2924280"/>
            <a:ext cx="65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Emplacement of the building elements made of Lunar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20" y="3284640"/>
            <a:ext cx="85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Finaling the loadbearing arched structure by the building elements of the firs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" y="363852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dicating 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00" y="3998880"/>
            <a:ext cx="57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eating the arched building fram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00" y="436572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mplacement of the building elements made of Lunar materi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" y="4724280"/>
            <a:ext cx="89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inaling the loadbearing arched structure by the building element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981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ilding the Lunar valley by steps,                       on the lengthwise of the Lunar vall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916160" cy="2808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horizont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700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Determinate the place of th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1258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Indicating of the first ste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492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Creating the arched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0" y="2924280"/>
            <a:ext cx="65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Emplacement of the building elements made of Lunar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920" y="3284640"/>
            <a:ext cx="85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Finaling the loadbearing arched structure by the building elements of the firs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" y="363852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dicating 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00" y="3998880"/>
            <a:ext cx="57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eating the arched building fram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00" y="436572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mplacement of the building elements made of Lunar materi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" y="4724280"/>
            <a:ext cx="89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inaling the loadbearing arched structure by the building element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084640"/>
            <a:ext cx="64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dicating of the thir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981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ilding the Lunar valley by steps,                       on the lengthwise of the Lunar vall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916160" cy="2808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horizont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700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Determinate the place of th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1258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Indicating of the first ste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492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Creating the arched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0" y="2924280"/>
            <a:ext cx="65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Emplacement of the building elements made of Lunar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920" y="3284640"/>
            <a:ext cx="85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Finaling the loadbearing arched structure by the building elements of the firs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" y="363852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dicating 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00" y="3998880"/>
            <a:ext cx="57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eating the arched building fram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00" y="436572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mplacement of the building elements made of Lunar materi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" y="4724280"/>
            <a:ext cx="89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inaling the loadbearing arched structure by the building element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084640"/>
            <a:ext cx="64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dicating of the thir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445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orming the loadbearing arched structure by the building elements of the thir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981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ilding the Lunar valley by steps,                       on the lengthwise of the Lunar vall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916160" cy="2808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horizont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00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Determinate the place of th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1258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Indicating of the first ste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492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Creating the arched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0" y="2924280"/>
            <a:ext cx="65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Emplacement of the building elements made of Lunar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20" y="3284640"/>
            <a:ext cx="85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Finaling the loadbearing arched structure by the building elements of the firs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" y="363852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dicating 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00" y="3998880"/>
            <a:ext cx="57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eating the arched building fram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00" y="436572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mplacement of the building elements made of Lunar materi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00" y="4724280"/>
            <a:ext cx="89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inaling the loadbearing arched structure by the building element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084640"/>
            <a:ext cx="64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dicating of the thir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5445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orming the loadbearing arched structure by the building elements of the thir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805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dicating of the fourt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1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ilding the Lunar valley by steps,                       on the lengthwise of the Lunar vall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916160" cy="2808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horizont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00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Determinate the place of th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1258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Indicating of the first ste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492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Creating the arched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0" y="2924280"/>
            <a:ext cx="65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Emplacement of the building elements made of Lunar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20" y="3284640"/>
            <a:ext cx="85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Finaling the loadbearing arched structure by the building elements of the firs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" y="363852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dicating 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00" y="3998880"/>
            <a:ext cx="57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eating the arched building fram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00" y="436572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mplacement of the building elements made of Lunar materi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000" y="4724280"/>
            <a:ext cx="89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inaling the loadbearing arched structure by the building element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the secon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084640"/>
            <a:ext cx="64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dicating of the thir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445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orming the loadbearing arched structure by the building elements of the thir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805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dicating of the fourt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230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orming the loadbearing arched structure by the building elements of the fourt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9810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ilding the Lunar valley by steps,                       on the lengthwise of the Lunar vall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211640" y="115920"/>
            <a:ext cx="4843440" cy="2808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90792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ulti functional, great size inner space, preferably consist of more sec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0" y="1844280"/>
            <a:ext cx="428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engthwise layout of a protected inter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pace of balanced inner 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uitable for industrial activ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640" y="26028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he result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0" y="2998080"/>
            <a:ext cx="69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e domed spaces formed this way can be of strikingly great si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s Lunar rocks are of great solidity similarly to earth rock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nd are loaded by only 1/6 Lunar gravi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o for example a span of 80 m (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height of 30 m (M) can be achie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with unlimited leng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e thickness of the covering protec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ocal soil can be 10-15 m (H) ensu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alanced temperature protected spac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ccordance with our previous conc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716360" y="3716280"/>
            <a:ext cx="42102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0280" y="135000"/>
            <a:ext cx="888372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ractical asp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ue to the fact, that mineral materials of various condition and consist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re at our disposal on the Moon in great quantities to make the necess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ilding elements, building blocks, so the structural solutions provi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y these can be primarily consider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f there is solid and great size rocks  on the chosen spot or nearb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en by automatic disintegration of these rocks rectangular or wedge-sha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lements can be made suitable to create vaulted structures well-kn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 the Earth for 10,000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f there is no solid rock material of suitable size near the chosen loc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en the loadbearing building elements suitable for use in vaulted structures should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de from local loose rock debris (Lunar soil, Lunar regol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is can take pl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By the use of bonding material delivered from the Ear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By the use of minimal bonding material, but applying especially great press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By heating, melting, e.g. with the use of solar energ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By using a hybrid  melting technology, when due to cost-saving reasons a rock-m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de of Lunar regolith of basalt type is produced to ’cement’ the loose rock deb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o create an agglomerate-like material structure to be filled into a m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73240"/>
            <a:ext cx="568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he problem to be 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Under Lunar conditions the outer 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luctuation on the surfac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xtremely wide, abt. 300 K near the equ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ue to the lack of atmosphere the outer 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adiation is considerable as well and it rea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e surface without diminishing, and the probabilit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eteorite impact is great as w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t is a factor to be considered from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view of long term human st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s well as from the point of view of 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dustrial activity to be carried out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e Mo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92720" y="3933720"/>
            <a:ext cx="3657600" cy="2270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12000" y="404640"/>
            <a:ext cx="27144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440" y="-26640"/>
            <a:ext cx="913428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referred realiz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orming of the arch takes place lengthwise on the lower surfa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Lunar ditch or valley, previously balanced in steps of a few meters or 10 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with the use of a stave (arch frame) suitable for the purp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e building elements of the arch made from Lunar materials on the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re placed on the surface with the help of robo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t is optional to use bonding material for connecting the building eleme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t on basis of the earthly experiences an arch, which is properly built is self-support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ts elements stand in themselves without a bonding mater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e arch structure created this way is covered by the local Lunar soil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 the way described in our previous abstract – by a drag-line or excav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867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e arch-like roof structure formed in the Lunar ditch or valley can be further extend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xpanded lengthwise. It can be limited by the local conditions on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58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o it is possible to create divided space of different sections going from outside towards the inter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530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t is furthermore possible to make protected spaces of smaller s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y inside separation and gas-proof insulation within the great inner space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Within these spaces further smaller spaces can be form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uch as dwelling units and rooms for special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480" y="11160"/>
            <a:ext cx="5212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spects of 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 case of a possible practical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mbined with the concept of the previ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ilding structure of balanced interior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tave-like arch is made in a Lunar valle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itch or crater which can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used for multiple purpo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581640" cy="2592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2492280"/>
            <a:ext cx="84596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is way storing places and manufactu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loors can be housed within the great protected space form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s well as dwelling moduls, the exterior environmen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which does not touch Lunar rocks direct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ut in given case an protected interior space filled or not filled with g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us the outer approach of the moduls placed inside, their fix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lteration is solved without the necessity of moving Lunar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485892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he advantages of our proposal: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We use building elements, which are possible to produce from exten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ocal materials on the Mo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We create protected spaces of great size from the building elements, making use of the local possibilities on the Moon, ensuring balanced interior temperature at the sam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21400" y="2924280"/>
            <a:ext cx="72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ank you for your attention</a:t>
            </a:r>
            <a:r>
              <a:rPr b="1" lang="hu-HU" sz="40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1840" y="190800"/>
            <a:ext cx="4704120" cy="62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Joining to previous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We described in our previous public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at if pre-fabricated moduls are plac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 the suitable Lunar surface form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(ditch, valley, crater) in such a w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at they are covered with Lunar regolith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uitable thickness of abt. 10-15 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en an environment of balanced exter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emperature is created for the modu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(LEAG Conference 2005, Hous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is concept is appropriate only to cre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human environment of sma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ize for long term human st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nd it makes possible the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nd delivery to the Moon of dwel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oduls of ISS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e issue is raised, how to create prot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paces of great size with balanced i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emperature suitable for industrial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67160" y="2852640"/>
            <a:ext cx="3192480" cy="3886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51640" y="345960"/>
            <a:ext cx="2333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6000" y="3069360"/>
            <a:ext cx="580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roduction of building elements (bricks) from Lunar regolith by pressing, using adhesives, melt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eation of loadbearing structu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rimarily arches in Lunar surface form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(valley, ditch, crater) of suitabl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vering of this loadbearing structure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bove in a proper thickness (10-15 m or mor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y Lunar regoli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8200" y="2421000"/>
            <a:ext cx="40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our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321600" y="2790720"/>
            <a:ext cx="1922400" cy="1069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91280" y="5373720"/>
            <a:ext cx="2125800" cy="1353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4149720"/>
            <a:ext cx="1051200" cy="103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020000" y="4149720"/>
            <a:ext cx="1728720" cy="10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2680" y="44280"/>
            <a:ext cx="78904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Our 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o create protected interior spaces of balanced tempera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f great size under Lunar conditions, which are suitable for industrial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eyond human stay as w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ese spaces should be created under Lunar conditions from Lunar ra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terials and with technologies used on the sp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6000" y="1270080"/>
            <a:ext cx="557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rotected interior space of great size is creat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with an interior temperature free from fluctuations of exterior irradiation and due to the inner heath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he interior temperature is balanc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espectively fluctuates to a small extent around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verage temperature of (abt. –20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7280" y="876240"/>
            <a:ext cx="3168720" cy="240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6080" y="235080"/>
            <a:ext cx="39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he result of our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7280" y="4124160"/>
            <a:ext cx="51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The interior space of great size formed this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s suitable to house industrial technology and/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welling modules and it is protected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xternal cosmic radiation and meteorite impacts as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30974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88000" y="117360"/>
            <a:ext cx="4211640" cy="280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vertic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209600"/>
            <a:ext cx="543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hoosing a suitable Lunar val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88000" y="115920"/>
            <a:ext cx="4243320" cy="280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9890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Filling and/or balancing the level of the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vertic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096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hoosing a suitable Lunar val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788000" y="115920"/>
            <a:ext cx="4209840" cy="280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63052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eating the arched build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7120" y="115920"/>
            <a:ext cx="38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in steps of re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 vertical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9890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- Filling and/or balancing the level of the 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2096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hoosing a suitable Lunar val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9:53:19Z</dcterms:created>
  <dc:creator>Kókány András</dc:creator>
  <dc:description/>
  <dc:language>en-US</dc:language>
  <cp:lastModifiedBy>Kókány András</cp:lastModifiedBy>
  <dcterms:modified xsi:type="dcterms:W3CDTF">2006-10-31T14:00:05Z</dcterms:modified>
  <cp:revision>44</cp:revision>
  <dc:subject/>
  <dc:title>1. dia</dc:title>
</cp:coreProperties>
</file>