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0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C5BC-6FD5-4BC2-89F3-B3287C8D7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120" y="274320"/>
            <a:ext cx="72392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5262-14CB-4C33-8581-1313DCA8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120" y="274320"/>
            <a:ext cx="72392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A901-7CB5-4B9A-9A6E-069162E17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120" y="274320"/>
            <a:ext cx="72392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E14A-0291-4A9C-9E92-06FDE4121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3316-8210-43EA-B5EE-288FA81CE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274320"/>
            <a:ext cx="72392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3DA2-6725-4C95-9BB0-E55BAA25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120" y="274320"/>
            <a:ext cx="72392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19636-08A3-4298-B691-59BFAA3B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120" y="274320"/>
            <a:ext cx="72392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F792D-D424-4004-9451-029895F1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120" y="274320"/>
            <a:ext cx="72392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FDDF9-EB2D-48EB-88B6-31EE598F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752120" y="274320"/>
            <a:ext cx="723924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EF1C-5AF1-4280-8E20-8B7C9AA8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120" y="274320"/>
            <a:ext cx="72392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0A77-AED0-46DB-AD31-07FB58E1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274320"/>
            <a:ext cx="72392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A176-0D94-49C5-AFA5-4CE5A9B2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274320"/>
            <a:ext cx="72392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46A0-92AE-4D1E-B473-C51F0B99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120" y="274320"/>
            <a:ext cx="72392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14A6-F647-4792-8858-72980935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120" y="274320"/>
            <a:ext cx="72392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6F11B-76D0-407C-AF61-004C3C5F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120" y="274320"/>
            <a:ext cx="72392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80B79-AE38-4F21-B1B5-AA65DF068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2120" y="274320"/>
            <a:ext cx="72392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D32E3-65E6-490A-9B48-C7DD06D74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274320"/>
            <a:ext cx="72392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2F98-24D5-4281-BD50-4A9DC388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120" y="274320"/>
            <a:ext cx="72392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FCB6-0431-4AA0-9C51-AB455B49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274320"/>
            <a:ext cx="72392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5174-F6BB-495D-B608-9235EEA8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120" y="274320"/>
            <a:ext cx="723924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8499-5339-4DCA-9B5A-53A3859E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120" y="274320"/>
            <a:ext cx="72392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134F-9616-4AB2-8D52-D8F87695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120" y="274320"/>
            <a:ext cx="72392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FE90-58BC-4D14-9DBC-D86BF7E4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120" y="274320"/>
            <a:ext cx="72392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F0FD-FD60-42C2-8159-75E309AC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274320"/>
            <a:ext cx="72392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99"/>
              </a:spcBef>
              <a:buClr>
                <a:srgbClr val="003399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162000">
              <a:spcBef>
                <a:spcPts val="7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03160" indent="-177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81080" indent="-163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166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166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166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4920"/>
            <a:ext cx="2362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362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C392-40D6-422F-9FA9-53E93BD1A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066680"/>
            <a:ext cx="9144000" cy="792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57240" y="380880"/>
            <a:ext cx="1619280" cy="46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7CA0-CB88-4D56-9BEA-3A149C265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066680"/>
            <a:ext cx="9144000" cy="792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-9360"/>
            <a:ext cx="9144000" cy="15285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9200" indent="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25320" algn="ctr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17640" algn="ctr">
              <a:spcBef>
                <a:spcPts val="1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04920" algn="ctr"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204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204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hotojournal.jpl.nasa.gov/catalog/PIA01333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photojournal.jpl.nasa.gov/catalog/PIA08756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photojournal.jpl.nasa.gov/catalog/PIA00405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OMPARATIVE STUDY OF ISRU-BASED TRANSPORTATION ARCHITECTURES FOR THE MOON AND MARS: LOX-LH2 vs. LOX-METHANE 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Javier Díaz &amp; Begoña Rui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pace Resources Roundtable VII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lden, Colorad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0-31-200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52120" y="274320"/>
            <a:ext cx="72392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Impact"/>
              </a:rPr>
              <a:t>Mars Ascent Vehicle</a:t>
            </a: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1620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ta V mars surface – mars orbit: 4016 m/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1620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der Payload baseline: 6269 kg (from DRM 3.0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1620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ssion duration: 760 day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30040" indent="-23004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X/L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and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0760" indent="-158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Inert Mass: 9080 k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0760" indent="-158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ired L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4403 k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0760" indent="-158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 L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boiloff during mission: 50.3 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0760" indent="-158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ired LOX: 19611 k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0760" indent="-158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 LOX boiloff during mission: 11.6 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0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0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X/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d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0760" indent="-158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Inert Mass: 6589 k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0760" indent="-158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ired 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5137 k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0760" indent="-158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 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boiloff during mission: 15.3 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0760" indent="-158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ired LOX: 17997 k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0760" indent="-158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 LOX boiloff during mission: 12.2 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0760" indent="-158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Sabatier: 1481 k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0760" indent="-158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tra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ank: 626 k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120" y="274320"/>
            <a:ext cx="72392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Impact"/>
              </a:rPr>
              <a:t>FULLY REUSABLE ISRU MARS </a:t>
            </a: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119240" y="1971720"/>
            <a:ext cx="690552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120" y="274320"/>
            <a:ext cx="72392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Impact"/>
              </a:rPr>
              <a:t>CONCLUSIONS</a:t>
            </a: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ing an lunar equatorial location, for a reusable lander between Moon and EML1, LOX/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opulsion system option has lower mining and processing requirements than LOX/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being a better option if both oxidizer and fuel are produced on the Moon. This is assuming that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ncentration (50 ppm assumed) is less than 60% C concentration (150 ppm assumed). If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ncentration is 60% or higher than C concentration, LOX/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ould be the best op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only oxygen is produced on the Moon, LOX/L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ould be a better option due to lower fuel requirements to be transported from Ear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out the use of lunar polar resources (ice/hydrogen) the development of a reusable transportation architecture between EML1 and LEO supporting transportation to /from the Moon and Mars is not feasi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tion operations (water / hydrogen) in the polar regions maybe not feasible due to extreme environment condi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120" y="274320"/>
            <a:ext cx="72392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Impact"/>
              </a:rPr>
              <a:t>Questions?</a:t>
            </a: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2001"/>
              </a:spcBef>
              <a:buClr>
                <a:srgbClr val="003399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buClr>
                <a:srgbClr val="003399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adiaz@mines.edu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120" y="274320"/>
            <a:ext cx="72392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Impact"/>
              </a:rPr>
              <a:t>RESOURCE AVAILABILITY</a:t>
            </a: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5791320"/>
            <a:ext cx="2666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High-Resolution MOC Image of Phobo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10280" y="4114800"/>
            <a:ext cx="1486080" cy="21528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934320" y="6248520"/>
            <a:ext cx="2209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99"/>
              </a:spcBef>
              <a:buClr>
                <a:srgbClr val="003399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ob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162000">
              <a:spcBef>
                <a:spcPts val="5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91520" y="1066680"/>
            <a:ext cx="1600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99"/>
              </a:spcBef>
              <a:buClr>
                <a:srgbClr val="003399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162000">
              <a:spcBef>
                <a:spcPts val="5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This picture is a composite of Mars Global Surveyor (MGS) Mars Orbiter Camera (MOC) daily global images acquired at Ls 107° of the Acidalia/Mare Erythraeum face during a previous Mars yea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96080" y="16765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Mo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0880" y="472428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219320" y="2438280"/>
            <a:ext cx="3124080" cy="2057400"/>
          </a:xfrm>
          <a:prstGeom prst="wedgeRoundRectCallout">
            <a:avLst>
              <a:gd name="adj1" fmla="val -47407"/>
              <a:gd name="adj2" fmla="val 73921"/>
              <a:gd name="adj3" fmla="val 16667"/>
            </a:avLst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0800000">
            <a:off x="4419720" y="2057040"/>
            <a:ext cx="3124080" cy="1752480"/>
          </a:xfrm>
          <a:prstGeom prst="wedgeRoundRectCallout">
            <a:avLst>
              <a:gd name="adj1" fmla="val -50611"/>
              <a:gd name="adj2" fmla="val 66754"/>
              <a:gd name="adj3" fmla="val 16667"/>
            </a:avLst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3428640" y="4648320"/>
            <a:ext cx="3429000" cy="1676160"/>
          </a:xfrm>
          <a:prstGeom prst="wedgeRoundRectCallout">
            <a:avLst>
              <a:gd name="adj1" fmla="val -45560"/>
              <a:gd name="adj2" fmla="val 6183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25909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295280" y="2666880"/>
          <a:ext cx="2971800" cy="1644840"/>
        </p:xfrm>
        <a:graphic>
          <a:graphicData uri="http://schemas.openxmlformats.org/drawingml/2006/table">
            <a:tbl>
              <a:tblPr/>
              <a:tblGrid>
                <a:gridCol w="482760"/>
                <a:gridCol w="812880"/>
                <a:gridCol w="911160"/>
                <a:gridCol w="765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9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e Deposi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~ 1.5% wt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9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ar W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rywhe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~ 50 pp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ar W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rywhe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~ 150 to 210 pp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9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roclastic Gla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rywhe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~ 4% (yield) wt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4572000" y="2209680"/>
          <a:ext cx="2819520" cy="1390680"/>
        </p:xfrm>
        <a:graphic>
          <a:graphicData uri="http://schemas.openxmlformats.org/drawingml/2006/table">
            <a:tbl>
              <a:tblPr/>
              <a:tblGrid>
                <a:gridCol w="457200"/>
                <a:gridCol w="914400"/>
                <a:gridCol w="914400"/>
                <a:gridCol w="533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1" lang="en-US" sz="9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mosphe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rywhe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~ 95% wt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9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und Wa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rywhe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~ 10% wt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9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e Deposi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p to 90% wt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581280" y="4952880"/>
          <a:ext cx="3048120" cy="1138320"/>
        </p:xfrm>
        <a:graphic>
          <a:graphicData uri="http://schemas.openxmlformats.org/drawingml/2006/table">
            <a:tbl>
              <a:tblPr/>
              <a:tblGrid>
                <a:gridCol w="457200"/>
                <a:gridCol w="990720"/>
                <a:gridCol w="838080"/>
                <a:gridCol w="762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9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onaceous Chondri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rywhe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~ 12.6% wt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onaceous Chondri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rywhe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~ 4.43% wt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9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und Wa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rywhe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~ 10% wt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52120" y="274320"/>
            <a:ext cx="72392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Impact"/>
              </a:rPr>
              <a:t>PERFORMANCE</a:t>
            </a: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5360" indent="-225360">
              <a:spcBef>
                <a:spcPts val="700"/>
              </a:spcBef>
              <a:buClr>
                <a:srgbClr val="003399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X/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0680" indent="-155520">
              <a:spcBef>
                <a:spcPts val="45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i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70760" indent="-1706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p: Up to 470 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70760" indent="-1706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xture ratio: ~ 6: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70760" indent="-1706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iable &amp; Proven technolog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06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0680" indent="-155520">
              <a:spcBef>
                <a:spcPts val="45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70760" indent="-1706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nsity: 0.07 g/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70760" indent="-1706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iling point: 20.25 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70760" indent="-1706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ssive volume tan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70760" indent="-1706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vy tank insula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0840" y="1600200"/>
            <a:ext cx="426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99"/>
              </a:spcBef>
              <a:buClr>
                <a:srgbClr val="003399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X/C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162000">
              <a:spcBef>
                <a:spcPts val="45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i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3160" indent="-177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p: Up to 370 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3160" indent="-177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xture ratio: ~ 3.5: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3160" indent="-177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er thrust (up to 50%) than eq. LOX/H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3160" indent="-177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162000">
              <a:spcBef>
                <a:spcPts val="45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3160" indent="-177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nsity: 0.424 g/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3160" indent="-177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iling Point: 111.55 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274320"/>
            <a:ext cx="72392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Impact"/>
              </a:rPr>
              <a:t>PERFORMANCE</a:t>
            </a: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28600" y="1600200"/>
          <a:ext cx="8686080" cy="2590560"/>
        </p:xfrm>
        <a:graphic>
          <a:graphicData uri="http://schemas.openxmlformats.org/drawingml/2006/table">
            <a:tbl>
              <a:tblPr/>
              <a:tblGrid>
                <a:gridCol w="2621520"/>
                <a:gridCol w="2841120"/>
                <a:gridCol w="3223440"/>
              </a:tblGrid>
              <a:tr h="6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D-01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Eras Demi ITC"/>
                          <a:ea typeface="Times New Roman"/>
                        </a:rPr>
                        <a:t>LOX/H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Eras Demi ITC"/>
                          <a:ea typeface="Times New Roman"/>
                        </a:rPr>
                        <a:t>LOX/CH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Eras Demi ITC"/>
                          <a:ea typeface="Times New Roman"/>
                        </a:rPr>
                        <a:t>Mass (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Eras Demi ITC"/>
                          <a:ea typeface="Times New Roman"/>
                        </a:rPr>
                        <a:t>Thrust (k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Eras Demi ITC"/>
                          <a:ea typeface="Times New Roman"/>
                        </a:rPr>
                        <a:t>Isp 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Eras Demi ITC"/>
                          <a:ea typeface="Times New Roman"/>
                        </a:rPr>
                        <a:t>Mixture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42667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003399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gine: RD-0146 capable of multiple restar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RD-0146"/>
          <p:cNvPicPr/>
          <p:nvPr/>
        </p:nvPicPr>
        <p:blipFill>
          <a:blip r:embed="rId1"/>
          <a:stretch/>
        </p:blipFill>
        <p:spPr>
          <a:xfrm>
            <a:off x="2971800" y="4724280"/>
            <a:ext cx="325764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52120" y="274320"/>
            <a:ext cx="72392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Impact"/>
              </a:rPr>
              <a:t>7 Missions Lunar Scenario</a:t>
            </a: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04480" indent="-20448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ablish a robotic propellant production capability for oxygen in an equatorial lo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40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unar tanker for Moon-L1-Moon is reusa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iver lunar oxygen to L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unch a dry Lunar Lander/Ascent Vehicle (LLAV) to L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el both the descent and ascent stages at L1 for the trip to and from the lunar surface back to L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he initial scenario, the LLAV is expendable (remains at L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40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sequently, a reusable LLAV could improve scenario perform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EV is delivered to L1 separately, remains at L1 to the completion of the mission, then returns to Ear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he initial scenario, the vehicles that deliver the LLAV and CEV to L1 are expend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40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sequently, a reusable OTV between LEO and L1 could be intro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an missions can go anywhere on the Mo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40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do not refuel on the Moon, so does not need to land at the propellant production facil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40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eling is complete at L1. LLAV lands with full propellant for asc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botic propellant production can be delivered with modest missions using expendable launch vehic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usable propellant tanker provides feed-forward technology and operations to reusable human land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4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120" y="274320"/>
            <a:ext cx="72392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Impact"/>
              </a:rPr>
              <a:t>LUNAR LANDER</a:t>
            </a: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162000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ta V lunar surface – EML1: 2778 m/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162000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der Payload baseline: ESAS Lunar Mission (4 Crew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162000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sion duration: 20 d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162000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concentration: 150 ppm (equatorial loca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162000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ncentration: 50 ppm (equatorial loca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162000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 concentration: 1% (polar loca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8520" indent="-21852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X/L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an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50480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Inert Mass: 9080 k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50480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d L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4126 k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50480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% L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oiloff during mission: 1.7 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50480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d LOX: 24754 k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50480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% LOX boiloff during mission: 0.3 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X/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50480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Inert Mass: 6665 k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50480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d 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8902 k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50480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% 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oiloff during mission: 0.4 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50480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d LOX: 32047 k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50480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% LOX boiloff during mission: 0.3 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52120" y="274320"/>
            <a:ext cx="72392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Impact"/>
              </a:rPr>
              <a:t>LUNAR TANKER</a:t>
            </a: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30040" indent="-230040">
              <a:spcBef>
                <a:spcPts val="601"/>
              </a:spcBef>
              <a:buClr>
                <a:srgbClr val="003399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X/L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ank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0760" indent="-158760">
              <a:spcBef>
                <a:spcPts val="37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yload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86960" indent="-1742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X (for lander): 24754 k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86960" indent="-1742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X tank: 674 k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86960" indent="-1742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for lander): 4126 k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86960" indent="-1742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ank: 1618 k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0760" indent="-158760">
              <a:spcBef>
                <a:spcPts val="37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Inert Mass: 14284 k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0760" indent="-158760">
              <a:spcBef>
                <a:spcPts val="37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ired L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9226 k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0760" indent="-158760">
              <a:spcBef>
                <a:spcPts val="37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% L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oiloff during mission: 1.2 %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0760" indent="-158760">
              <a:spcBef>
                <a:spcPts val="37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ired LOX: 55354 k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0760" indent="-158760">
              <a:spcBef>
                <a:spcPts val="37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% LOX boiloff during mission: 0.2 %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30040" indent="-230040">
              <a:spcBef>
                <a:spcPts val="601"/>
              </a:spcBef>
              <a:buClr>
                <a:srgbClr val="003399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X/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0760" indent="-158760">
              <a:spcBef>
                <a:spcPts val="37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yload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86960" indent="-1742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X (for lander): 32047 k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86960" indent="-1742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X tank: 856 k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86960" indent="-1742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for lander): 8092 k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86960" indent="-1742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ank: 634 k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0760" indent="-158760">
              <a:spcBef>
                <a:spcPts val="37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Inert Mass: 12224 k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0760" indent="-158760">
              <a:spcBef>
                <a:spcPts val="37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ired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22671 k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0760" indent="-158760">
              <a:spcBef>
                <a:spcPts val="37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%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oiloff during mission: 0.2 %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0760" indent="-158760">
              <a:spcBef>
                <a:spcPts val="37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ired LOX: 78896 k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0760" indent="-158760">
              <a:spcBef>
                <a:spcPts val="37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% LOX boiloff during mission: 0.2 %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076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52120" y="274320"/>
            <a:ext cx="72392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Impact"/>
              </a:rPr>
              <a:t>PROPELLANT &amp; REGOLITH COMPARISON</a:t>
            </a:r>
            <a:endParaRPr b="0" lang="en-US" sz="3600" spc="-1" strike="noStrike">
              <a:solidFill>
                <a:srgbClr val="000066"/>
              </a:solidFill>
              <a:latin typeface="Impact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8600" y="2403360"/>
            <a:ext cx="4267080" cy="2917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183280" y="1600200"/>
            <a:ext cx="3197160" cy="2185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181480" y="3938760"/>
            <a:ext cx="31989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52120" y="274320"/>
            <a:ext cx="72392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Impact"/>
              </a:rPr>
              <a:t>IMLEO COMPARISON</a:t>
            </a: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47872" r="0" b="0"/>
          <a:stretch/>
        </p:blipFill>
        <p:spPr>
          <a:xfrm>
            <a:off x="457200" y="1143000"/>
            <a:ext cx="6095880" cy="2608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828800" y="3962520"/>
            <a:ext cx="609588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9T12:42:04Z</dcterms:created>
  <dc:creator>---------</dc:creator>
  <dc:description/>
  <dc:language>en-US</dc:language>
  <cp:lastModifiedBy>jadiaz</cp:lastModifiedBy>
  <dcterms:modified xsi:type="dcterms:W3CDTF">2006-11-01T16:00:50Z</dcterms:modified>
  <cp:revision>17</cp:revision>
  <dc:subject/>
  <dc:title>Slide 1</dc:title>
</cp:coreProperties>
</file>