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40.png" ContentType="image/png"/>
  <Override PartName="/ppt/media/image9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44.jpeg" ContentType="image/jpeg"/>
  <Override PartName="/ppt/media/image45.jpeg" ContentType="image/jpeg"/>
  <Override PartName="/ppt/media/image7.pct" ContentType="image/x-pict"/>
  <Override PartName="/ppt/media/image46.png" ContentType="image/png"/>
  <Override PartName="/ppt/media/image5.png" ContentType="image/png"/>
  <Override PartName="/ppt/media/image35.png" ContentType="image/png"/>
  <Override PartName="/ppt/media/image6.jpeg" ContentType="image/jpeg"/>
  <Override PartName="/ppt/media/image13.jpeg" ContentType="image/jpeg"/>
  <Override PartName="/ppt/media/image31.pct" ContentType="image/x-pict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0.png" ContentType="image/png"/>
  <Override PartName="/ppt/media/image3.jpeg" ContentType="image/jpeg"/>
  <Override PartName="/ppt/media/image25.jpeg" ContentType="image/jpe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9D9-5597-437B-82A7-D021137D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FF3-0545-423B-8EE7-2CD8204C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DD1-2460-4E23-B312-5755B7C2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A00-22F2-48E9-B952-C930BD0E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BAA-2888-4515-877F-311F0DF2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007-30EA-42A1-904F-37FE6EDA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6CE-B4D7-4A02-A7A3-BFEA81E4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074-C659-4CC5-BDFE-8159D699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87D-245A-45BB-BA50-6B711816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A89-742E-4567-88ED-F140F925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B7C-D58F-496C-91F2-05A4011F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4DF-96D2-4C8E-9563-05483B78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8CB1-0387-45E6-8683-07A9DFDAF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8440" y="6218280"/>
            <a:ext cx="1692360" cy="62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pct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Tests of the Utility of Neutron and Gamma Ray Probes for Resource Prospecting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86520" y="4848120"/>
            <a:ext cx="3056040" cy="2006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67760" y="65160"/>
            <a:ext cx="1692000" cy="625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. C. Elphic, D. J. Lawrence, 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Los Alamos National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. Chu,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Honeybee Rob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. B. Johnson,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US Army Cor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Engineers/CR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Borehole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43000" y="1371600"/>
            <a:ext cx="6627600" cy="4595400"/>
            <a:chOff x="1143000" y="1371600"/>
            <a:chExt cx="6627600" cy="459540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4449240" y="1753200"/>
              <a:ext cx="2475000" cy="192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3"/>
            <a:srcRect l="4730" t="0" r="9042" b="0"/>
            <a:stretch/>
          </p:blipFill>
          <p:spPr>
            <a:xfrm>
              <a:off x="1143000" y="4233960"/>
              <a:ext cx="6627600" cy="17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846760" y="4249440"/>
              <a:ext cx="244800" cy="529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811400" y="3678840"/>
              <a:ext cx="1285560" cy="499320"/>
              <a:chOff x="4811400" y="3678840"/>
              <a:chExt cx="1285560" cy="499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811400" y="3678840"/>
                <a:ext cx="0" cy="499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30200" y="3678840"/>
                <a:ext cx="0" cy="499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96960" y="3678840"/>
                <a:ext cx="0" cy="499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4042800" y="1371600"/>
              <a:ext cx="32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d Neutron 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80880" y="1752480"/>
            <a:ext cx="373392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drill rig on its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-cm cubes of limestone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0.1 wt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material  places between limestone bl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Limestone O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5021280" cy="3765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363760" y="12952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6: Limestone only, no p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787480" y="3297240"/>
            <a:ext cx="966960" cy="177840"/>
            <a:chOff x="2787480" y="3297240"/>
            <a:chExt cx="966960" cy="177840"/>
          </a:xfrm>
        </p:grpSpPr>
        <p:sp>
          <p:nvSpPr>
            <p:cNvPr id="205" name=""/>
            <p:cNvSpPr/>
            <p:nvPr/>
          </p:nvSpPr>
          <p:spPr>
            <a:xfrm>
              <a:off x="2787480" y="3297240"/>
              <a:ext cx="177840" cy="177840"/>
            </a:xfrm>
            <a:prstGeom prst="sun">
              <a:avLst>
                <a:gd name="adj" fmla="val 38888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97320" y="3354120"/>
              <a:ext cx="357120" cy="82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894040" y="2913120"/>
            <a:ext cx="3144600" cy="317520"/>
            <a:chOff x="2894040" y="2913120"/>
            <a:chExt cx="3144600" cy="317520"/>
          </a:xfrm>
        </p:grpSpPr>
        <p:sp>
          <p:nvSpPr>
            <p:cNvPr id="208" name=""/>
            <p:cNvSpPr/>
            <p:nvPr/>
          </p:nvSpPr>
          <p:spPr>
            <a:xfrm>
              <a:off x="2894040" y="2913480"/>
              <a:ext cx="1046520" cy="31716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43800" y="2913480"/>
              <a:ext cx="1046520" cy="31716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92120" y="2913120"/>
              <a:ext cx="1046520" cy="31716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040440" y="2922480"/>
            <a:ext cx="1046160" cy="317520"/>
          </a:xfrm>
          <a:prstGeom prst="rect">
            <a:avLst/>
          </a:prstGeom>
          <a:solidFill>
            <a:srgbClr val="808000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-cm layer of “100 wt%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039760" y="2298600"/>
            <a:ext cx="5046840" cy="3784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982160" y="151128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1: 12 sheets poly, 1/2 inch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698920" y="3460680"/>
            <a:ext cx="3854160" cy="336600"/>
            <a:chOff x="2698920" y="3460680"/>
            <a:chExt cx="3854160" cy="336600"/>
          </a:xfrm>
        </p:grpSpPr>
        <p:sp>
          <p:nvSpPr>
            <p:cNvPr id="216" name=""/>
            <p:cNvSpPr/>
            <p:nvPr/>
          </p:nvSpPr>
          <p:spPr>
            <a:xfrm>
              <a:off x="4902120" y="3460680"/>
              <a:ext cx="547920" cy="33660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98920" y="3460680"/>
              <a:ext cx="1096920" cy="3366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98720" y="3460680"/>
              <a:ext cx="1097280" cy="3366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56160" y="3460680"/>
              <a:ext cx="1096920" cy="3366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105520" y="4610160"/>
            <a:ext cx="966240" cy="177840"/>
            <a:chOff x="5105520" y="4610160"/>
            <a:chExt cx="966240" cy="177840"/>
          </a:xfrm>
        </p:grpSpPr>
        <p:sp>
          <p:nvSpPr>
            <p:cNvPr id="221" name=""/>
            <p:cNvSpPr/>
            <p:nvPr/>
          </p:nvSpPr>
          <p:spPr>
            <a:xfrm>
              <a:off x="5105520" y="4610160"/>
              <a:ext cx="177480" cy="177840"/>
            </a:xfrm>
            <a:prstGeom prst="sun">
              <a:avLst>
                <a:gd name="adj" fmla="val 38888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4667040"/>
              <a:ext cx="356760" cy="82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-cm Layer of Crushed Gypsum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1 wt%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1480" y="1401840"/>
            <a:ext cx="4976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7: Packed Gypsum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-inch wide  “bo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033640" y="2265480"/>
            <a:ext cx="5046480" cy="3784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937040" y="2548080"/>
            <a:ext cx="547920" cy="30859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598840" y="4297320"/>
            <a:ext cx="966240" cy="177840"/>
            <a:chOff x="2598840" y="4297320"/>
            <a:chExt cx="966240" cy="177840"/>
          </a:xfrm>
        </p:grpSpPr>
        <p:sp>
          <p:nvSpPr>
            <p:cNvPr id="228" name=""/>
            <p:cNvSpPr/>
            <p:nvPr/>
          </p:nvSpPr>
          <p:spPr>
            <a:xfrm>
              <a:off x="2598840" y="4297320"/>
              <a:ext cx="177480" cy="177840"/>
            </a:xfrm>
            <a:prstGeom prst="sun">
              <a:avLst>
                <a:gd name="adj" fmla="val 38888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08320" y="4354200"/>
              <a:ext cx="356760" cy="82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996840" y="1128600"/>
          <a:ext cx="7156440" cy="489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6840" y="1128600"/>
                    <a:ext cx="715644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Sn Count Rate vs. Relative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60400" y="2581200"/>
            <a:ext cx="4862520" cy="2557440"/>
          </a:xfrm>
          <a:custGeom>
            <a:avLst/>
            <a:gdLst/>
            <a:ahLst/>
            <a:rect l="l" t="t" r="r" b="b"/>
            <a:pathLst>
              <a:path w="3063" h="1611">
                <a:moveTo>
                  <a:pt x="0" y="1611"/>
                </a:moveTo>
                <a:cubicBezTo>
                  <a:pt x="479" y="1547"/>
                  <a:pt x="461" y="1551"/>
                  <a:pt x="461" y="1551"/>
                </a:cubicBezTo>
                <a:cubicBezTo>
                  <a:pt x="461" y="1551"/>
                  <a:pt x="1063" y="1480"/>
                  <a:pt x="1063" y="1480"/>
                </a:cubicBezTo>
                <a:cubicBezTo>
                  <a:pt x="1063" y="1480"/>
                  <a:pt x="1766" y="1311"/>
                  <a:pt x="2055" y="1200"/>
                </a:cubicBezTo>
                <a:cubicBezTo>
                  <a:pt x="2344" y="1089"/>
                  <a:pt x="2581" y="1042"/>
                  <a:pt x="2795" y="811"/>
                </a:cubicBezTo>
                <a:cubicBezTo>
                  <a:pt x="3009" y="580"/>
                  <a:pt x="3008" y="170"/>
                  <a:pt x="3063" y="0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14440" y="3451320"/>
            <a:ext cx="2205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shed Gyp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suming 70% volume filling f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4352760"/>
            <a:ext cx="114480" cy="317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0880" y="2327400"/>
            <a:ext cx="3292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ethylene (ice prox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49720" y="4689360"/>
            <a:ext cx="103320" cy="130320"/>
          </a:xfrm>
          <a:prstGeom prst="diamond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-628560" y="3008160"/>
            <a:ext cx="3189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Water Fraction (rel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20-cm, 10wt%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5653080"/>
            <a:ext cx="3962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Sn (thermal+epi) counts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9480" y="990720"/>
            <a:ext cx="7948800" cy="516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ma Borehole Lithodensity Lo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74880" y="1219320"/>
            <a:ext cx="3520800" cy="2895480"/>
            <a:chOff x="974880" y="1219320"/>
            <a:chExt cx="3520800" cy="2895480"/>
          </a:xfrm>
        </p:grpSpPr>
        <p:sp>
          <p:nvSpPr>
            <p:cNvPr id="243" name=""/>
            <p:cNvSpPr/>
            <p:nvPr/>
          </p:nvSpPr>
          <p:spPr>
            <a:xfrm>
              <a:off x="1355760" y="1219320"/>
              <a:ext cx="31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mma source-sensor assemb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974880" y="1219320"/>
              <a:ext cx="3200400" cy="2895480"/>
              <a:chOff x="974880" y="1219320"/>
              <a:chExt cx="3200400" cy="2895480"/>
            </a:xfrm>
          </p:grpSpPr>
          <p:pic>
            <p:nvPicPr>
              <p:cNvPr id="2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20840" y="2023920"/>
                <a:ext cx="2549520" cy="19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1429560" y="3473280"/>
                <a:ext cx="21542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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Arial"/>
                  </a:rPr>
                  <a:t>12-inches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74880" y="1219320"/>
                <a:ext cx="3200400" cy="2895480"/>
              </a:xfrm>
              <a:prstGeom prst="rect">
                <a:avLst/>
              </a:prstGeom>
              <a:noFill/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1600200" y="1143000"/>
            <a:ext cx="6867360" cy="4944600"/>
            <a:chOff x="1600200" y="1143000"/>
            <a:chExt cx="6867360" cy="4944600"/>
          </a:xfrm>
        </p:grpSpPr>
        <p:pic>
          <p:nvPicPr>
            <p:cNvPr id="249" name="" descr=""/>
            <p:cNvPicPr/>
            <p:nvPr/>
          </p:nvPicPr>
          <p:blipFill>
            <a:blip r:embed="rId3"/>
            <a:stretch/>
          </p:blipFill>
          <p:spPr>
            <a:xfrm>
              <a:off x="4395600" y="1858680"/>
              <a:ext cx="3214800" cy="23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47960" y="1143000"/>
              <a:ext cx="314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d Gamma Ray 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4"/>
            <a:srcRect l="4730" t="0" r="9042" b="0"/>
            <a:stretch/>
          </p:blipFill>
          <p:spPr>
            <a:xfrm>
              <a:off x="1600200" y="4305240"/>
              <a:ext cx="6867360" cy="178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473880" y="4319280"/>
              <a:ext cx="253800" cy="545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400720" y="3105000"/>
              <a:ext cx="1333440" cy="1142640"/>
              <a:chOff x="5400720" y="3105000"/>
              <a:chExt cx="1333440" cy="114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5400720" y="3105000"/>
                <a:ext cx="0" cy="11426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457680" y="3105000"/>
                <a:ext cx="0" cy="11426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34160" y="3105000"/>
                <a:ext cx="0" cy="11426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>
            <a:off x="5442120" y="42958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53440" y="405756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lver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629040" y="4317840"/>
            <a:ext cx="873000" cy="17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s of Gamma-gamma Log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46120" y="1879560"/>
            <a:ext cx="79884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estone o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01520" y="1676520"/>
            <a:ext cx="4380120" cy="3429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rcRect l="7820" t="0" r="5679" b="0"/>
          <a:stretch/>
        </p:blipFill>
        <p:spPr>
          <a:xfrm>
            <a:off x="4761000" y="1685880"/>
            <a:ext cx="4230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1081080" y="2751120"/>
            <a:ext cx="2513880" cy="304560"/>
            <a:chOff x="1081080" y="2751120"/>
            <a:chExt cx="2513880" cy="304560"/>
          </a:xfrm>
        </p:grpSpPr>
        <p:sp>
          <p:nvSpPr>
            <p:cNvPr id="266" name=""/>
            <p:cNvSpPr/>
            <p:nvPr/>
          </p:nvSpPr>
          <p:spPr>
            <a:xfrm>
              <a:off x="1081080" y="2751120"/>
              <a:ext cx="0" cy="30456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94600" y="2751120"/>
              <a:ext cx="0" cy="30456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" name=""/>
            <p:cNvCxnSpPr/>
            <p:nvPr/>
          </p:nvCxnSpPr>
          <p:spPr>
            <a:xfrm>
              <a:off x="1081080" y="2903040"/>
              <a:ext cx="2514240" cy="1080"/>
            </a:xfrm>
            <a:prstGeom prst="straightConnector1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69" name=""/>
          <p:cNvSpPr/>
          <p:nvPr/>
        </p:nvSpPr>
        <p:spPr>
          <a:xfrm>
            <a:off x="1844640" y="2611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0240" y="2346480"/>
            <a:ext cx="30895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0240" y="3778200"/>
            <a:ext cx="3089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0240" y="4127400"/>
            <a:ext cx="3089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-cm Layer of Polyeth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42920" y="1708200"/>
            <a:ext cx="4570200" cy="3429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867200" y="1701720"/>
            <a:ext cx="40831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2481120" y="2698920"/>
            <a:ext cx="346680" cy="304560"/>
            <a:chOff x="2481120" y="2698920"/>
            <a:chExt cx="346680" cy="304560"/>
          </a:xfrm>
        </p:grpSpPr>
        <p:sp>
          <p:nvSpPr>
            <p:cNvPr id="277" name=""/>
            <p:cNvSpPr/>
            <p:nvPr/>
          </p:nvSpPr>
          <p:spPr>
            <a:xfrm>
              <a:off x="2481120" y="2698920"/>
              <a:ext cx="0" cy="3045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27440" y="2698920"/>
              <a:ext cx="0" cy="3045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9" name=""/>
            <p:cNvCxnSpPr/>
            <p:nvPr/>
          </p:nvCxnSpPr>
          <p:spPr>
            <a:xfrm>
              <a:off x="2481120" y="2850840"/>
              <a:ext cx="347040" cy="1080"/>
            </a:xfrm>
            <a:prstGeom prst="straightConnector1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80" name=""/>
          <p:cNvGrpSpPr/>
          <p:nvPr/>
        </p:nvGrpSpPr>
        <p:grpSpPr>
          <a:xfrm>
            <a:off x="952560" y="2706840"/>
            <a:ext cx="1510920" cy="304560"/>
            <a:chOff x="952560" y="2706840"/>
            <a:chExt cx="1510920" cy="304560"/>
          </a:xfrm>
        </p:grpSpPr>
        <p:sp>
          <p:nvSpPr>
            <p:cNvPr id="281" name=""/>
            <p:cNvSpPr/>
            <p:nvPr/>
          </p:nvSpPr>
          <p:spPr>
            <a:xfrm>
              <a:off x="952560" y="2706840"/>
              <a:ext cx="0" cy="30456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63120" y="2706840"/>
              <a:ext cx="0" cy="30456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/>
            <p:nvPr/>
          </p:nvCxnSpPr>
          <p:spPr>
            <a:xfrm>
              <a:off x="952560" y="2858760"/>
              <a:ext cx="1511280" cy="1080"/>
            </a:xfrm>
            <a:prstGeom prst="straightConnector1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2847960" y="2701800"/>
            <a:ext cx="1079640" cy="304560"/>
            <a:chOff x="2847960" y="2701800"/>
            <a:chExt cx="1079640" cy="304560"/>
          </a:xfrm>
        </p:grpSpPr>
        <p:sp>
          <p:nvSpPr>
            <p:cNvPr id="285" name=""/>
            <p:cNvSpPr/>
            <p:nvPr/>
          </p:nvSpPr>
          <p:spPr>
            <a:xfrm>
              <a:off x="2847960" y="2701800"/>
              <a:ext cx="0" cy="30456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27240" y="2701800"/>
              <a:ext cx="0" cy="30456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7" name=""/>
            <p:cNvCxnSpPr/>
            <p:nvPr/>
          </p:nvCxnSpPr>
          <p:spPr>
            <a:xfrm>
              <a:off x="2847960" y="2853720"/>
              <a:ext cx="1080000" cy="1080"/>
            </a:xfrm>
            <a:prstGeom prst="straightConnector1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88" name=""/>
          <p:cNvSpPr/>
          <p:nvPr/>
        </p:nvSpPr>
        <p:spPr>
          <a:xfrm>
            <a:off x="1238400" y="2419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51000" y="2419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2640" y="2419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S-1 Lunar Basalt Simu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31760" y="1741320"/>
            <a:ext cx="4570560" cy="3429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rcRect l="5785" t="0" r="0" b="0"/>
          <a:stretch/>
        </p:blipFill>
        <p:spPr>
          <a:xfrm>
            <a:off x="4952880" y="1741320"/>
            <a:ext cx="40849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1128240" y="2825640"/>
            <a:ext cx="1814400" cy="304560"/>
            <a:chOff x="1128240" y="2825640"/>
            <a:chExt cx="1814400" cy="304560"/>
          </a:xfrm>
        </p:grpSpPr>
        <p:sp>
          <p:nvSpPr>
            <p:cNvPr id="295" name=""/>
            <p:cNvSpPr/>
            <p:nvPr/>
          </p:nvSpPr>
          <p:spPr>
            <a:xfrm>
              <a:off x="1128600" y="2825640"/>
              <a:ext cx="0" cy="30456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42640" y="2825640"/>
              <a:ext cx="0" cy="30456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7" name=""/>
            <p:cNvCxnSpPr/>
            <p:nvPr/>
          </p:nvCxnSpPr>
          <p:spPr>
            <a:xfrm>
              <a:off x="1128240" y="2977560"/>
              <a:ext cx="1814760" cy="1080"/>
            </a:xfrm>
            <a:prstGeom prst="straightConnector1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98" name=""/>
          <p:cNvGrpSpPr/>
          <p:nvPr/>
        </p:nvGrpSpPr>
        <p:grpSpPr>
          <a:xfrm>
            <a:off x="3319560" y="2835360"/>
            <a:ext cx="557640" cy="304560"/>
            <a:chOff x="3319560" y="2835360"/>
            <a:chExt cx="557640" cy="304560"/>
          </a:xfrm>
        </p:grpSpPr>
        <p:sp>
          <p:nvSpPr>
            <p:cNvPr id="299" name=""/>
            <p:cNvSpPr/>
            <p:nvPr/>
          </p:nvSpPr>
          <p:spPr>
            <a:xfrm>
              <a:off x="3319560" y="2835360"/>
              <a:ext cx="0" cy="30456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76840" y="2835360"/>
              <a:ext cx="0" cy="30456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1" name=""/>
            <p:cNvCxnSpPr/>
            <p:nvPr/>
          </p:nvCxnSpPr>
          <p:spPr>
            <a:xfrm>
              <a:off x="3319560" y="2987280"/>
              <a:ext cx="558000" cy="1080"/>
            </a:xfrm>
            <a:prstGeom prst="straightConnector1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02" name=""/>
          <p:cNvSpPr/>
          <p:nvPr/>
        </p:nvSpPr>
        <p:spPr>
          <a:xfrm>
            <a:off x="1514520" y="249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06760" y="249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90960" y="249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957040" y="2835360"/>
            <a:ext cx="336960" cy="304560"/>
            <a:chOff x="2957040" y="2835360"/>
            <a:chExt cx="336960" cy="304560"/>
          </a:xfrm>
        </p:grpSpPr>
        <p:sp>
          <p:nvSpPr>
            <p:cNvPr id="306" name=""/>
            <p:cNvSpPr/>
            <p:nvPr/>
          </p:nvSpPr>
          <p:spPr>
            <a:xfrm>
              <a:off x="2957400" y="2835360"/>
              <a:ext cx="0" cy="304560"/>
            </a:xfrm>
            <a:prstGeom prst="line">
              <a:avLst/>
            </a:prstGeom>
            <a:ln w="190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94000" y="2835360"/>
              <a:ext cx="0" cy="304560"/>
            </a:xfrm>
            <a:prstGeom prst="line">
              <a:avLst/>
            </a:prstGeom>
            <a:ln w="190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>
              <a:off x="2957040" y="2987280"/>
              <a:ext cx="337320" cy="1080"/>
            </a:xfrm>
            <a:prstGeom prst="straightConnector1">
              <a:avLst/>
            </a:prstGeom>
            <a:ln w="19080">
              <a:solidFill>
                <a:srgbClr val="cccc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84872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ivation for H Prospec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ers, LEAG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s neutron spectrometer for prospecting hydrogen/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ble to localize and characteri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6668" t="0" r="9523" b="0"/>
          <a:stretch/>
        </p:blipFill>
        <p:spPr>
          <a:xfrm>
            <a:off x="4191120" y="2341440"/>
            <a:ext cx="4724280" cy="4287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unar Polar Volatile Extraction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-to-hard Ratio &amp; Material 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157400" y="1127160"/>
            <a:ext cx="6827760" cy="512136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5370480" y="3306600"/>
            <a:ext cx="763560" cy="304560"/>
            <a:chOff x="5370480" y="3306600"/>
            <a:chExt cx="763560" cy="304560"/>
          </a:xfrm>
        </p:grpSpPr>
        <p:sp>
          <p:nvSpPr>
            <p:cNvPr id="312" name=""/>
            <p:cNvSpPr/>
            <p:nvPr/>
          </p:nvSpPr>
          <p:spPr>
            <a:xfrm>
              <a:off x="5370480" y="3306600"/>
              <a:ext cx="0" cy="3045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33680" y="3306600"/>
              <a:ext cx="0" cy="3045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4" name=""/>
            <p:cNvCxnSpPr/>
            <p:nvPr/>
          </p:nvCxnSpPr>
          <p:spPr>
            <a:xfrm>
              <a:off x="5370480" y="3458520"/>
              <a:ext cx="763920" cy="1080"/>
            </a:xfrm>
            <a:prstGeom prst="straightConnector1">
              <a:avLst/>
            </a:prstGeom>
            <a:ln w="1908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15" name=""/>
          <p:cNvGrpSpPr/>
          <p:nvPr/>
        </p:nvGrpSpPr>
        <p:grpSpPr>
          <a:xfrm>
            <a:off x="5345280" y="4476600"/>
            <a:ext cx="546120" cy="304560"/>
            <a:chOff x="5345280" y="4476600"/>
            <a:chExt cx="546120" cy="304560"/>
          </a:xfrm>
        </p:grpSpPr>
        <p:sp>
          <p:nvSpPr>
            <p:cNvPr id="316" name=""/>
            <p:cNvSpPr/>
            <p:nvPr/>
          </p:nvSpPr>
          <p:spPr>
            <a:xfrm>
              <a:off x="5345280" y="4476600"/>
              <a:ext cx="0" cy="3045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91040" y="4476600"/>
              <a:ext cx="0" cy="3045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8" name=""/>
            <p:cNvCxnSpPr/>
            <p:nvPr/>
          </p:nvCxnSpPr>
          <p:spPr>
            <a:xfrm>
              <a:off x="5345280" y="4628520"/>
              <a:ext cx="546480" cy="1080"/>
            </a:xfrm>
            <a:prstGeom prst="straightConnector1">
              <a:avLst/>
            </a:prstGeom>
            <a:ln w="1908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mas &amp; Average Atomic Numbe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rcRect l="0" t="9441" r="0" b="0"/>
          <a:stretch/>
        </p:blipFill>
        <p:spPr>
          <a:xfrm>
            <a:off x="2168640" y="1600200"/>
            <a:ext cx="4841640" cy="43848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295440" y="23814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yethyl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83560" y="47070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77240" y="452268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09360" y="50547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L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079720" y="6232680"/>
            <a:ext cx="63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get “average” composition of soil with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4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rface neutron pro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cates H depo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ssays deposit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pth &amp; abund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not need a neutron source (ac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mic ray-produced neutrons are all you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ity: 200 ppm H and up, depth &lt; ~70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rehole neutron pro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ts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m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igraphic profile - abundance vs. dep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rehole gamma lithodensity lo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composition (low Z vs. high Z), FeO &amp; Ti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il bulk den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 cm Layer of Polyeth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048040" y="2057400"/>
            <a:ext cx="5046480" cy="37846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099520" y="1219320"/>
            <a:ext cx="49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3: 3 sheets poly, 1/2 inch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30920" y="2343240"/>
            <a:ext cx="136440" cy="30859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743200" y="4114800"/>
            <a:ext cx="966960" cy="177840"/>
            <a:chOff x="2743200" y="4114800"/>
            <a:chExt cx="966960" cy="177840"/>
          </a:xfrm>
        </p:grpSpPr>
        <p:sp>
          <p:nvSpPr>
            <p:cNvPr id="335" name=""/>
            <p:cNvSpPr/>
            <p:nvPr/>
          </p:nvSpPr>
          <p:spPr>
            <a:xfrm>
              <a:off x="2743200" y="4114800"/>
              <a:ext cx="177840" cy="177840"/>
            </a:xfrm>
            <a:prstGeom prst="sun">
              <a:avLst>
                <a:gd name="adj" fmla="val 38888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3040" y="4171680"/>
              <a:ext cx="357120" cy="82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out of Icy Depos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79360" y="4791240"/>
            <a:ext cx="6608880" cy="523800"/>
          </a:xfrm>
          <a:prstGeom prst="rect">
            <a:avLst/>
          </a:prstGeom>
          <a:blipFill rotWithShape="0">
            <a:blip r:embed="rId2">
              <a:alphaModFix amt="35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79360" y="5934240"/>
            <a:ext cx="6610680" cy="517320"/>
          </a:xfrm>
          <a:prstGeom prst="rect">
            <a:avLst/>
          </a:pr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173240" y="5937120"/>
          <a:ext cx="6611760" cy="453960"/>
        </p:xfrm>
        <a:graphic>
          <a:graphicData uri="http://schemas.openxmlformats.org/drawingml/2006/table">
            <a:tbl>
              <a:tblPr/>
              <a:tblGrid>
                <a:gridCol w="228240"/>
                <a:gridCol w="228600"/>
                <a:gridCol w="228600"/>
                <a:gridCol w="228600"/>
                <a:gridCol w="230400"/>
                <a:gridCol w="225360"/>
                <a:gridCol w="228600"/>
                <a:gridCol w="225360"/>
                <a:gridCol w="230400"/>
                <a:gridCol w="226800"/>
                <a:gridCol w="228600"/>
                <a:gridCol w="225360"/>
                <a:gridCol w="228600"/>
                <a:gridCol w="228600"/>
                <a:gridCol w="228600"/>
                <a:gridCol w="228600"/>
                <a:gridCol w="225720"/>
                <a:gridCol w="228600"/>
                <a:gridCol w="226800"/>
                <a:gridCol w="228600"/>
                <a:gridCol w="227160"/>
                <a:gridCol w="226800"/>
                <a:gridCol w="228600"/>
                <a:gridCol w="227160"/>
                <a:gridCol w="230040"/>
                <a:gridCol w="227160"/>
                <a:gridCol w="228600"/>
                <a:gridCol w="228600"/>
                <a:gridCol w="2286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1173240" y="4794120"/>
          <a:ext cx="6611760" cy="453960"/>
        </p:xfrm>
        <a:graphic>
          <a:graphicData uri="http://schemas.openxmlformats.org/drawingml/2006/table">
            <a:tbl>
              <a:tblPr/>
              <a:tblGrid>
                <a:gridCol w="228240"/>
                <a:gridCol w="228600"/>
                <a:gridCol w="228600"/>
                <a:gridCol w="228600"/>
                <a:gridCol w="230400"/>
                <a:gridCol w="225360"/>
                <a:gridCol w="228600"/>
                <a:gridCol w="225360"/>
                <a:gridCol w="230400"/>
                <a:gridCol w="226800"/>
                <a:gridCol w="228600"/>
                <a:gridCol w="225360"/>
                <a:gridCol w="228600"/>
                <a:gridCol w="228600"/>
                <a:gridCol w="228600"/>
                <a:gridCol w="228600"/>
                <a:gridCol w="225720"/>
                <a:gridCol w="228600"/>
                <a:gridCol w="226800"/>
                <a:gridCol w="228600"/>
                <a:gridCol w="227160"/>
                <a:gridCol w="226800"/>
                <a:gridCol w="228600"/>
                <a:gridCol w="227160"/>
                <a:gridCol w="230040"/>
                <a:gridCol w="227160"/>
                <a:gridCol w="228600"/>
                <a:gridCol w="228600"/>
                <a:gridCol w="2286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1173240" y="1359000"/>
            <a:ext cx="6643440" cy="1828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182600" y="1384200"/>
          <a:ext cx="6611760" cy="181620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  <a:gridCol w="228600"/>
                <a:gridCol w="228600"/>
                <a:gridCol w="230040"/>
                <a:gridCol w="225720"/>
                <a:gridCol w="228600"/>
                <a:gridCol w="225360"/>
                <a:gridCol w="230040"/>
                <a:gridCol w="227160"/>
                <a:gridCol w="228600"/>
                <a:gridCol w="225360"/>
                <a:gridCol w="228600"/>
                <a:gridCol w="228600"/>
                <a:gridCol w="228600"/>
                <a:gridCol w="228600"/>
                <a:gridCol w="225360"/>
                <a:gridCol w="228600"/>
                <a:gridCol w="227160"/>
                <a:gridCol w="228600"/>
                <a:gridCol w="226800"/>
                <a:gridCol w="227160"/>
                <a:gridCol w="228600"/>
                <a:gridCol w="226800"/>
                <a:gridCol w="230400"/>
                <a:gridCol w="226800"/>
                <a:gridCol w="228600"/>
                <a:gridCol w="228600"/>
                <a:gridCol w="2286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2359080" y="1430280"/>
            <a:ext cx="841320" cy="838080"/>
          </a:xfrm>
          <a:prstGeom prst="ellipse">
            <a:avLst/>
          </a:prstGeom>
          <a:solidFill>
            <a:srgbClr val="6666ff">
              <a:alpha val="25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45080" y="1413000"/>
            <a:ext cx="841320" cy="838080"/>
          </a:xfrm>
          <a:prstGeom prst="ellipse">
            <a:avLst/>
          </a:prstGeom>
          <a:solidFill>
            <a:srgbClr val="6666ff">
              <a:alpha val="55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07240" y="1411200"/>
            <a:ext cx="841320" cy="838440"/>
          </a:xfrm>
          <a:prstGeom prst="ellipse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60680" y="2746440"/>
            <a:ext cx="420480" cy="4204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32080" y="1852560"/>
            <a:ext cx="420480" cy="420840"/>
          </a:xfrm>
          <a:prstGeom prst="ellipse">
            <a:avLst/>
          </a:prstGeom>
          <a:solidFill>
            <a:srgbClr val="6666ff">
              <a:alpha val="23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11800" y="1844640"/>
            <a:ext cx="420840" cy="420840"/>
          </a:xfrm>
          <a:prstGeom prst="ellipse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68320" y="1511280"/>
            <a:ext cx="209880" cy="209520"/>
          </a:xfrm>
          <a:prstGeom prst="ellipse">
            <a:avLst/>
          </a:prstGeom>
          <a:solidFill>
            <a:srgbClr val="6666ff">
              <a:alpha val="23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84520" y="1960560"/>
            <a:ext cx="209520" cy="209520"/>
          </a:xfrm>
          <a:prstGeom prst="ellipse">
            <a:avLst/>
          </a:prstGeom>
          <a:solidFill>
            <a:srgbClr val="6666ff">
              <a:alpha val="52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86360" y="1511280"/>
            <a:ext cx="209520" cy="209520"/>
          </a:xfrm>
          <a:prstGeom prst="ellipse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03480" y="2627280"/>
            <a:ext cx="209520" cy="2095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30480" y="1395360"/>
            <a:ext cx="420840" cy="420840"/>
          </a:xfrm>
          <a:prstGeom prst="ellipse">
            <a:avLst/>
          </a:prstGeom>
          <a:solidFill>
            <a:srgbClr val="6666ff">
              <a:alpha val="52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44880" y="2327400"/>
            <a:ext cx="841320" cy="838080"/>
          </a:xfrm>
          <a:prstGeom prst="ellipse">
            <a:avLst/>
          </a:prstGeom>
          <a:solidFill>
            <a:srgbClr val="66ffff">
              <a:alpha val="55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05240" y="2317680"/>
            <a:ext cx="841680" cy="838440"/>
          </a:xfrm>
          <a:prstGeom prst="ellipse">
            <a:avLst/>
          </a:prstGeom>
          <a:solidFill>
            <a:srgbClr val="66ff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4760" y="2746440"/>
            <a:ext cx="420480" cy="420480"/>
          </a:xfrm>
          <a:prstGeom prst="ellipse">
            <a:avLst/>
          </a:prstGeom>
          <a:solidFill>
            <a:srgbClr val="66ff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781680" y="2401920"/>
            <a:ext cx="209520" cy="209520"/>
          </a:xfrm>
          <a:prstGeom prst="ellipse">
            <a:avLst/>
          </a:prstGeom>
          <a:solidFill>
            <a:srgbClr val="66ff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54800" y="2637000"/>
            <a:ext cx="209520" cy="2095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95680" y="2405160"/>
            <a:ext cx="209520" cy="209520"/>
          </a:xfrm>
          <a:prstGeom prst="ellipse">
            <a:avLst/>
          </a:prstGeom>
          <a:solidFill>
            <a:srgbClr val="66ffff">
              <a:alpha val="52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67360" y="2751120"/>
            <a:ext cx="420480" cy="420840"/>
          </a:xfrm>
          <a:prstGeom prst="ellipse">
            <a:avLst/>
          </a:prstGeom>
          <a:solidFill>
            <a:srgbClr val="66ffff">
              <a:alpha val="52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81280" y="3605040"/>
            <a:ext cx="420840" cy="420840"/>
          </a:xfrm>
          <a:prstGeom prst="ellipse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67360" y="3605040"/>
            <a:ext cx="420480" cy="420840"/>
          </a:xfrm>
          <a:prstGeom prst="ellipse">
            <a:avLst/>
          </a:prstGeom>
          <a:solidFill>
            <a:srgbClr val="66ff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57840" y="3616200"/>
            <a:ext cx="1797840" cy="440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0 wt%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464800" y="3616200"/>
            <a:ext cx="1656000" cy="440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3 wt%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789600" y="4846680"/>
            <a:ext cx="841680" cy="166680"/>
          </a:xfrm>
          <a:prstGeom prst="rect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00640" y="4846680"/>
            <a:ext cx="420840" cy="166680"/>
          </a:xfrm>
          <a:prstGeom prst="rect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54680" y="4846680"/>
            <a:ext cx="209520" cy="166680"/>
          </a:xfrm>
          <a:prstGeom prst="rect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29240" y="4940280"/>
            <a:ext cx="841320" cy="166680"/>
          </a:xfrm>
          <a:prstGeom prst="rect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25800" y="4940280"/>
            <a:ext cx="420840" cy="166680"/>
          </a:xfrm>
          <a:prstGeom prst="rect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73360" y="4940280"/>
            <a:ext cx="209520" cy="166680"/>
          </a:xfrm>
          <a:prstGeom prst="rect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345760" y="5075280"/>
            <a:ext cx="841320" cy="166680"/>
          </a:xfrm>
          <a:prstGeom prst="rect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747800" y="5075280"/>
            <a:ext cx="209520" cy="166680"/>
          </a:xfrm>
          <a:prstGeom prst="rect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8960" y="2281320"/>
            <a:ext cx="152280" cy="228600"/>
            <a:chOff x="858960" y="2281320"/>
            <a:chExt cx="152280" cy="228600"/>
          </a:xfrm>
        </p:grpSpPr>
        <p:grpSp>
          <p:nvGrpSpPr>
            <p:cNvPr id="375" name=""/>
            <p:cNvGrpSpPr/>
            <p:nvPr/>
          </p:nvGrpSpPr>
          <p:grpSpPr>
            <a:xfrm>
              <a:off x="858960" y="2281320"/>
              <a:ext cx="152280" cy="228600"/>
              <a:chOff x="858960" y="2281320"/>
              <a:chExt cx="152280" cy="228600"/>
            </a:xfrm>
          </p:grpSpPr>
          <p:sp>
            <p:nvSpPr>
              <p:cNvPr id="376" name=""/>
              <p:cNvSpPr/>
              <p:nvPr/>
            </p:nvSpPr>
            <p:spPr>
              <a:xfrm>
                <a:off x="858960" y="22813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58960" y="25099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936720" y="2281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743040" y="19684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 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993600" y="4791240"/>
            <a:ext cx="152280" cy="518400"/>
            <a:chOff x="993600" y="4791240"/>
            <a:chExt cx="152280" cy="518400"/>
          </a:xfrm>
        </p:grpSpPr>
        <p:grpSp>
          <p:nvGrpSpPr>
            <p:cNvPr id="381" name=""/>
            <p:cNvGrpSpPr/>
            <p:nvPr/>
          </p:nvGrpSpPr>
          <p:grpSpPr>
            <a:xfrm>
              <a:off x="993600" y="4791240"/>
              <a:ext cx="152280" cy="517680"/>
              <a:chOff x="993600" y="4791240"/>
              <a:chExt cx="152280" cy="517680"/>
            </a:xfrm>
          </p:grpSpPr>
          <p:sp>
            <p:nvSpPr>
              <p:cNvPr id="382" name=""/>
              <p:cNvSpPr/>
              <p:nvPr/>
            </p:nvSpPr>
            <p:spPr>
              <a:xfrm>
                <a:off x="993600" y="47912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993600" y="53089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1071360" y="4791240"/>
              <a:ext cx="0" cy="51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743040" y="4940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 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89400" y="5997600"/>
            <a:ext cx="841680" cy="166680"/>
          </a:xfrm>
          <a:prstGeom prst="rect">
            <a:avLst/>
          </a:prstGeom>
          <a:solidFill>
            <a:srgbClr val="66ff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03880" y="5997600"/>
            <a:ext cx="420840" cy="166680"/>
          </a:xfrm>
          <a:prstGeom prst="rect">
            <a:avLst/>
          </a:prstGeom>
          <a:solidFill>
            <a:srgbClr val="66ff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81680" y="5997600"/>
            <a:ext cx="209520" cy="166680"/>
          </a:xfrm>
          <a:prstGeom prst="rect">
            <a:avLst/>
          </a:prstGeom>
          <a:solidFill>
            <a:srgbClr val="66ff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036960" y="6078600"/>
            <a:ext cx="841320" cy="166680"/>
          </a:xfrm>
          <a:prstGeom prst="rect">
            <a:avLst/>
          </a:prstGeom>
          <a:solidFill>
            <a:srgbClr val="66ff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6072120"/>
            <a:ext cx="209520" cy="166680"/>
          </a:xfrm>
          <a:prstGeom prst="rect">
            <a:avLst/>
          </a:prstGeom>
          <a:solidFill>
            <a:srgbClr val="66ff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993600" y="5934240"/>
            <a:ext cx="152280" cy="518400"/>
            <a:chOff x="993600" y="5934240"/>
            <a:chExt cx="152280" cy="518400"/>
          </a:xfrm>
        </p:grpSpPr>
        <p:grpSp>
          <p:nvGrpSpPr>
            <p:cNvPr id="392" name=""/>
            <p:cNvGrpSpPr/>
            <p:nvPr/>
          </p:nvGrpSpPr>
          <p:grpSpPr>
            <a:xfrm>
              <a:off x="993600" y="5934240"/>
              <a:ext cx="152280" cy="517680"/>
              <a:chOff x="993600" y="5934240"/>
              <a:chExt cx="152280" cy="517680"/>
            </a:xfrm>
          </p:grpSpPr>
          <p:sp>
            <p:nvSpPr>
              <p:cNvPr id="393" name=""/>
              <p:cNvSpPr/>
              <p:nvPr/>
            </p:nvSpPr>
            <p:spPr>
              <a:xfrm>
                <a:off x="993600" y="59342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993600" y="64519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071360" y="5934240"/>
              <a:ext cx="0" cy="51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743040" y="60897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 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1040" y="5937120"/>
            <a:ext cx="209520" cy="166680"/>
          </a:xfrm>
          <a:prstGeom prst="rect">
            <a:avLst/>
          </a:prstGeom>
          <a:solidFill>
            <a:srgbClr val="66ff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5640" y="5935680"/>
            <a:ext cx="420840" cy="166680"/>
          </a:xfrm>
          <a:prstGeom prst="rect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5932440"/>
            <a:ext cx="209880" cy="166680"/>
          </a:xfrm>
          <a:prstGeom prst="rect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30960" y="4424400"/>
            <a:ext cx="4152240" cy="398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th profile of top line of pu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538360" y="5533920"/>
            <a:ext cx="4618440" cy="398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th profile of bottom line of pu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44760" y="2630520"/>
            <a:ext cx="209520" cy="209520"/>
          </a:xfrm>
          <a:prstGeom prst="ellipse">
            <a:avLst/>
          </a:prstGeom>
          <a:noFill/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49720" y="6075360"/>
            <a:ext cx="420840" cy="166680"/>
          </a:xfrm>
          <a:prstGeom prst="rect">
            <a:avLst/>
          </a:prstGeom>
          <a:solidFill>
            <a:srgbClr val="66ff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58680" y="3187800"/>
            <a:ext cx="711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1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2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6922800" y="1863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     B      C      D     E      F      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2959200"/>
            <a:ext cx="6670800" cy="144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1409400" y="1345680"/>
            <a:ext cx="3240" cy="184788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426320" y="5075280"/>
            <a:ext cx="420840" cy="166680"/>
          </a:xfrm>
          <a:prstGeom prst="rect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1640" y="1004760"/>
            <a:ext cx="4030200" cy="368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 denote burial depths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 Rate vs. Relative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1192320" y="1190520"/>
            <a:ext cx="6735600" cy="50515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 rot="16200000">
            <a:off x="-120600" y="3249360"/>
            <a:ext cx="3189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Water Fraction (rel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20-cm, 10wt%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743200" y="5899320"/>
            <a:ext cx="3962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Sn (thermal+epi) counts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81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SA-Supported Instrument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666880"/>
            <a:ext cx="4191120" cy="3353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instruments detect hydro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280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face Neutron Probe (SNeu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des on rover, ‘dowses’ for subsurface 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28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ehole Neutron Probe (BNeu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integrated in drill string, detects layers of buried water 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21320" y="3402000"/>
            <a:ext cx="3720960" cy="1317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649760" y="5059440"/>
            <a:ext cx="3713040" cy="1027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5" name=""/>
          <p:cNvSpPr/>
          <p:nvPr/>
        </p:nvSpPr>
        <p:spPr>
          <a:xfrm>
            <a:off x="533520" y="1219320"/>
            <a:ext cx="7924680" cy="205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 Instrument Development Program (S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nd Resource Utilization eXplorer (CRUX, ES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2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1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ions for SNeuP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7680" y="1066680"/>
            <a:ext cx="3943440" cy="525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>
            <a:lum contrast="48000"/>
          </a:blip>
          <a:srcRect l="22327" t="6696" r="0" b="12931"/>
          <a:stretch/>
        </p:blipFill>
        <p:spPr>
          <a:xfrm>
            <a:off x="4853160" y="1066680"/>
            <a:ext cx="390996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2880" y="1239840"/>
            <a:ext cx="3657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tube forms used to confine moistened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5280" y="987480"/>
            <a:ext cx="36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ishing off the sand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657680" y="3913200"/>
            <a:ext cx="4113360" cy="2736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08440" y="3975120"/>
            <a:ext cx="3657600" cy="703800"/>
          </a:xfrm>
          <a:prstGeom prst="rect">
            <a:avLst/>
          </a:prstGeom>
          <a:noFill/>
          <a:ln w="0">
            <a:noFill/>
          </a:ln>
          <a:effectLst>
            <a:outerShdw dist="25376" dir="19700355" blurRad="0" rotWithShape="0">
              <a:srgbClr val="000000">
                <a:alpha val="8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 and instrumented sled ready to go into M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382240" cy="98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ished Setup For SNeuP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22440" y="4270320"/>
            <a:ext cx="3525840" cy="2127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0400" y="4002120"/>
            <a:ext cx="4140000" cy="2571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956120" y="1079640"/>
            <a:ext cx="3200400" cy="2592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42960" y="4314960"/>
            <a:ext cx="3657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ed carries instrument, pulled by stepper mo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73520" y="4013280"/>
            <a:ext cx="3657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ed also carries neutron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0080" y="4916520"/>
            <a:ext cx="6094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52520" y="946080"/>
            <a:ext cx="3913200" cy="293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960" y="917640"/>
            <a:ext cx="38862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NeuP track and stepper motor installed.  Instrument sled is near mid-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70160" y="20257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Mapping Depos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12821" t="35156" r="18009" b="10456"/>
          <a:stretch/>
        </p:blipFill>
        <p:spPr>
          <a:xfrm>
            <a:off x="762120" y="1316160"/>
            <a:ext cx="7696080" cy="4543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rcRect l="12787" t="35405" r="20223" b="37175"/>
          <a:stretch/>
        </p:blipFill>
        <p:spPr>
          <a:xfrm>
            <a:off x="758880" y="3627360"/>
            <a:ext cx="745812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28960" y="3787920"/>
            <a:ext cx="985680" cy="98244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07000" y="3768840"/>
            <a:ext cx="985680" cy="98100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42120" y="3765600"/>
            <a:ext cx="986040" cy="98244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09600" y="5330880"/>
            <a:ext cx="493920" cy="49356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41400" y="4282920"/>
            <a:ext cx="493560" cy="49392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43720" y="4273560"/>
            <a:ext cx="493560" cy="49356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6680" y="3882960"/>
            <a:ext cx="244440" cy="24624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63920" y="4410000"/>
            <a:ext cx="246240" cy="24624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62840" y="3882960"/>
            <a:ext cx="244440" cy="24624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00" y="5191200"/>
            <a:ext cx="245880" cy="24588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70360" y="3747960"/>
            <a:ext cx="493560" cy="49212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32120" y="4840200"/>
            <a:ext cx="985680" cy="981000"/>
          </a:xfrm>
          <a:prstGeom prst="ellipse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4829040"/>
            <a:ext cx="986040" cy="981360"/>
          </a:xfrm>
          <a:prstGeom prst="ellipse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8120" y="5330880"/>
            <a:ext cx="493560" cy="493560"/>
          </a:xfrm>
          <a:prstGeom prst="ellipse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11880" y="4927680"/>
            <a:ext cx="244440" cy="244440"/>
          </a:xfrm>
          <a:prstGeom prst="ellipse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3640" y="5202360"/>
            <a:ext cx="245880" cy="245880"/>
          </a:xfrm>
          <a:prstGeom prst="ellipse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32400" y="4930920"/>
            <a:ext cx="245880" cy="245880"/>
          </a:xfrm>
          <a:prstGeom prst="ellipse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8280" y="5337000"/>
            <a:ext cx="492120" cy="492480"/>
          </a:xfrm>
          <a:prstGeom prst="ellipse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8680" y="5194440"/>
            <a:ext cx="246240" cy="245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11320" y="1487520"/>
            <a:ext cx="986040" cy="98280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91160" y="1467000"/>
            <a:ext cx="985680" cy="98244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24840" y="1465200"/>
            <a:ext cx="985680" cy="98280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92320" y="3029040"/>
            <a:ext cx="493560" cy="49356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25560" y="1982880"/>
            <a:ext cx="492120" cy="49212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26080" y="1973160"/>
            <a:ext cx="493920" cy="49212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19040" y="1582560"/>
            <a:ext cx="246240" cy="24480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8080" y="2108160"/>
            <a:ext cx="245880" cy="24624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45200" y="1582560"/>
            <a:ext cx="246240" cy="24480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7360" y="2889360"/>
            <a:ext cx="245880" cy="24588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52720" y="1446120"/>
            <a:ext cx="493920" cy="493920"/>
          </a:xfrm>
          <a:prstGeom prst="ellipse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4480" y="2538360"/>
            <a:ext cx="987480" cy="982800"/>
          </a:xfrm>
          <a:prstGeom prst="ellipse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46720" y="2527200"/>
            <a:ext cx="987480" cy="982800"/>
          </a:xfrm>
          <a:prstGeom prst="ellipse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41920" y="3029040"/>
            <a:ext cx="492120" cy="493560"/>
          </a:xfrm>
          <a:prstGeom prst="ellipse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94600" y="2625840"/>
            <a:ext cx="245880" cy="245880"/>
          </a:xfrm>
          <a:prstGeom prst="ellipse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66000" y="2900520"/>
            <a:ext cx="246240" cy="245880"/>
          </a:xfrm>
          <a:prstGeom prst="ellipse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16560" y="2629080"/>
            <a:ext cx="244440" cy="245880"/>
          </a:xfrm>
          <a:prstGeom prst="ellipse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30640" y="3035160"/>
            <a:ext cx="493920" cy="492120"/>
          </a:xfrm>
          <a:prstGeom prst="ellipse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11400" y="2894040"/>
            <a:ext cx="245880" cy="2444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rcRect l="82149" t="6182" r="7506" b="9656"/>
          <a:stretch/>
        </p:blipFill>
        <p:spPr>
          <a:xfrm>
            <a:off x="8253360" y="1295280"/>
            <a:ext cx="757440" cy="4622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rcRect l="5736" t="18399" r="18449" b="54068"/>
          <a:stretch/>
        </p:blipFill>
        <p:spPr>
          <a:xfrm>
            <a:off x="142920" y="1365120"/>
            <a:ext cx="810108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16200000">
            <a:off x="6392880" y="3326760"/>
            <a:ext cx="43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mal + epithermal Counts/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7040" y="5848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1.25                2.5                3.75              5.0                6.25            7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position (m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-624600" y="4515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position (m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878040"/>
            <a:ext cx="420480" cy="420480"/>
          </a:xfrm>
          <a:prstGeom prst="ellipse">
            <a:avLst/>
          </a:prstGeom>
          <a:solidFill>
            <a:srgbClr val="6666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48040" y="878040"/>
            <a:ext cx="420840" cy="420480"/>
          </a:xfrm>
          <a:prstGeom prst="ellipse">
            <a:avLst/>
          </a:prstGeom>
          <a:solidFill>
            <a:srgbClr val="66ffff">
              <a:alpha val="88000"/>
            </a:srgbClr>
          </a:solidFill>
          <a:ln w="936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38880" y="888840"/>
            <a:ext cx="1797840" cy="440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0 wt%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5840" y="888840"/>
            <a:ext cx="1656000" cy="440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3 wt%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1295280"/>
            <a:ext cx="441936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2 Energy Ranges for Depth  &amp; Abundance Prox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0" t="0" r="5602" b="0"/>
          <a:stretch/>
        </p:blipFill>
        <p:spPr>
          <a:xfrm>
            <a:off x="152280" y="1341360"/>
            <a:ext cx="4388040" cy="39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 flipV="1">
            <a:off x="1281240" y="2520720"/>
            <a:ext cx="3060720" cy="18730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611360" y="3638520"/>
            <a:ext cx="274680" cy="425520"/>
          </a:xfrm>
          <a:prstGeom prst="line">
            <a:avLst/>
          </a:prstGeom>
          <a:ln w="1908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233360" y="2998800"/>
            <a:ext cx="2578320" cy="892080"/>
          </a:xfrm>
          <a:prstGeom prst="line">
            <a:avLst/>
          </a:prstGeom>
          <a:ln cap="rnd" w="19080">
            <a:solidFill>
              <a:srgbClr val="66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062000" y="3408480"/>
            <a:ext cx="2576520" cy="860400"/>
          </a:xfrm>
          <a:prstGeom prst="line">
            <a:avLst/>
          </a:prstGeom>
          <a:ln cap="rnd" w="19080">
            <a:solidFill>
              <a:srgbClr val="66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01880" y="28576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ff"/>
                </a:solidFill>
                <a:latin typeface="Arial"/>
              </a:rPr>
              <a:t>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55000" y="324324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ff"/>
                </a:solidFill>
                <a:latin typeface="Arial"/>
              </a:rPr>
              <a:t>1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62960" y="430524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ff"/>
                </a:solidFill>
                <a:latin typeface="Arial"/>
              </a:rPr>
              <a:t>3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135080" y="4320720"/>
            <a:ext cx="360360" cy="81000"/>
          </a:xfrm>
          <a:prstGeom prst="line">
            <a:avLst/>
          </a:prstGeom>
          <a:ln cap="rnd" w="19080">
            <a:solidFill>
              <a:srgbClr val="66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8240" y="2550960"/>
            <a:ext cx="143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lope gives WEH 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3124080"/>
            <a:ext cx="119160" cy="7477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033880" y="1447920"/>
            <a:ext cx="4028760" cy="1209240"/>
            <a:chOff x="5033880" y="1447920"/>
            <a:chExt cx="4028760" cy="1209240"/>
          </a:xfrm>
        </p:grpSpPr>
        <p:pic>
          <p:nvPicPr>
            <p:cNvPr id="137" name="" descr=""/>
            <p:cNvPicPr/>
            <p:nvPr/>
          </p:nvPicPr>
          <p:blipFill>
            <a:blip r:embed="rId3"/>
            <a:srcRect l="12821" t="63265" r="18009" b="10456"/>
            <a:stretch/>
          </p:blipFill>
          <p:spPr>
            <a:xfrm>
              <a:off x="5080320" y="1467000"/>
              <a:ext cx="398232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4"/>
            <a:srcRect l="12787" t="35405" r="20223" b="37175"/>
            <a:stretch/>
          </p:blipFill>
          <p:spPr>
            <a:xfrm>
              <a:off x="5078160" y="1447920"/>
              <a:ext cx="3858840" cy="120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735880" y="1533240"/>
              <a:ext cx="509040" cy="51768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21520" y="1522440"/>
              <a:ext cx="509040" cy="51768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33000" y="1521000"/>
              <a:ext cx="511200" cy="51768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10720" y="2346120"/>
              <a:ext cx="256320" cy="26064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73200" y="1793520"/>
              <a:ext cx="254520" cy="26028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71560" y="1788480"/>
              <a:ext cx="256320" cy="26028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78040" y="1583280"/>
              <a:ext cx="125640" cy="12852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77480" y="1861560"/>
              <a:ext cx="127440" cy="12816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75000" y="1583280"/>
              <a:ext cx="125640" cy="12852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33880" y="2273040"/>
              <a:ext cx="127080" cy="13032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87360" y="1512360"/>
              <a:ext cx="256320" cy="25884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50600" y="2087280"/>
              <a:ext cx="510840" cy="517680"/>
            </a:xfrm>
            <a:prstGeom prst="ellipse">
              <a:avLst/>
            </a:prstGeom>
            <a:noFill/>
            <a:ln w="284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62080" y="2082240"/>
              <a:ext cx="509040" cy="517680"/>
            </a:xfrm>
            <a:prstGeom prst="ellipse">
              <a:avLst/>
            </a:prstGeom>
            <a:noFill/>
            <a:ln w="284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78400" y="2346120"/>
              <a:ext cx="256320" cy="260640"/>
            </a:xfrm>
            <a:prstGeom prst="ellipse">
              <a:avLst/>
            </a:prstGeom>
            <a:noFill/>
            <a:ln w="284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17160" y="2134080"/>
              <a:ext cx="127440" cy="128520"/>
            </a:xfrm>
            <a:prstGeom prst="ellipse">
              <a:avLst/>
            </a:prstGeom>
            <a:noFill/>
            <a:ln w="284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64920" y="2278440"/>
              <a:ext cx="127080" cy="130320"/>
            </a:xfrm>
            <a:prstGeom prst="ellipse">
              <a:avLst/>
            </a:prstGeom>
            <a:noFill/>
            <a:ln w="284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30080" y="2135880"/>
              <a:ext cx="127080" cy="129960"/>
            </a:xfrm>
            <a:prstGeom prst="ellipse">
              <a:avLst/>
            </a:prstGeom>
            <a:noFill/>
            <a:ln w="284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32080" y="2349720"/>
              <a:ext cx="254520" cy="260640"/>
            </a:xfrm>
            <a:prstGeom prst="ellipse">
              <a:avLst/>
            </a:prstGeom>
            <a:noFill/>
            <a:ln w="284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87360" y="2275200"/>
              <a:ext cx="127080" cy="1299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5"/>
          <a:srcRect l="12297" t="34194" r="15934" b="36516"/>
          <a:stretch/>
        </p:blipFill>
        <p:spPr>
          <a:xfrm>
            <a:off x="5072040" y="2708280"/>
            <a:ext cx="3906720" cy="1206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rcRect l="12648" t="34446" r="16285" b="36048"/>
          <a:stretch/>
        </p:blipFill>
        <p:spPr>
          <a:xfrm>
            <a:off x="5072040" y="4041720"/>
            <a:ext cx="3868920" cy="1216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rot="16200000">
            <a:off x="4214160" y="30232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H 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4180680" y="430668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th 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230360" y="183456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S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760" y="5052960"/>
            <a:ext cx="4352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Arial"/>
              </a:rPr>
              <a:t>HeS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hermal + epithermal) count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-1305000" y="2981160"/>
            <a:ext cx="335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pithermal) count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14720" y="5962680"/>
            <a:ext cx="4647960" cy="6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H Proxy =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.8)/(</a:t>
            </a:r>
            <a:r>
              <a:rPr b="0" lang="en-US" sz="1800" spc="-1" strike="noStrike">
                <a:solidFill>
                  <a:srgbClr val="408000"/>
                </a:solidFill>
                <a:latin typeface="Arial"/>
              </a:rPr>
              <a:t>HeS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1.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Proxy =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.1*(</a:t>
            </a:r>
            <a:r>
              <a:rPr b="0" lang="en-US" sz="1800" spc="-1" strike="noStrike">
                <a:solidFill>
                  <a:srgbClr val="408000"/>
                </a:solidFill>
                <a:latin typeface="Arial"/>
              </a:rPr>
              <a:t>HeS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582560" y="3679560"/>
            <a:ext cx="270000" cy="407880"/>
          </a:xfrm>
          <a:prstGeom prst="line">
            <a:avLst/>
          </a:prstGeom>
          <a:ln w="19080">
            <a:solidFill>
              <a:srgbClr val="00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rcRect l="82735" t="6182" r="10720" b="9656"/>
          <a:stretch/>
        </p:blipFill>
        <p:spPr>
          <a:xfrm rot="5400000">
            <a:off x="8000280" y="5322240"/>
            <a:ext cx="479520" cy="1465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288200" y="5548320"/>
            <a:ext cx="1905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 WEH 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67680" y="6289560"/>
            <a:ext cx="1904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 depth 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ehole Test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29240" y="3886200"/>
            <a:ext cx="3674880" cy="2755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645080" y="998640"/>
            <a:ext cx="3660840" cy="2744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71600" y="990720"/>
            <a:ext cx="3593880" cy="5767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19040" y="1090440"/>
            <a:ext cx="3657600" cy="703800"/>
          </a:xfrm>
          <a:prstGeom prst="rect">
            <a:avLst/>
          </a:prstGeom>
          <a:noFill/>
          <a:ln w="0">
            <a:noFill/>
          </a:ln>
          <a:effectLst>
            <a:outerShdw dist="37938" dir="21306055" blurRad="0" rotWithShape="0">
              <a:srgbClr val="00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rehole test assembly during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67120" y="987480"/>
            <a:ext cx="3657600" cy="398880"/>
          </a:xfrm>
          <a:prstGeom prst="rect">
            <a:avLst/>
          </a:prstGeom>
          <a:noFill/>
          <a:ln w="0">
            <a:noFill/>
          </a:ln>
          <a:effectLst>
            <a:outerShdw dist="37938" dir="21306055" blurRad="0" rotWithShape="0">
              <a:srgbClr val="00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y for a 3 wt% la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622840"/>
            <a:ext cx="3641760" cy="1008720"/>
          </a:xfrm>
          <a:prstGeom prst="rect">
            <a:avLst/>
          </a:prstGeom>
          <a:noFill/>
          <a:ln w="0">
            <a:noFill/>
          </a:ln>
          <a:effectLst>
            <a:outerShdw dist="37938" dir="21306055" blurRad="0" rotWithShape="0">
              <a:srgbClr val="00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per motor and pulley system for raising/lowering D-HY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ehole Neutron 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91680" y="114624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ehole Tes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3719" t="4867" r="7005" b="3713"/>
          <a:stretch/>
        </p:blipFill>
        <p:spPr>
          <a:xfrm>
            <a:off x="3809880" y="1812960"/>
            <a:ext cx="4648320" cy="453384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4309560" y="2362320"/>
            <a:ext cx="4007160" cy="3224160"/>
            <a:chOff x="4309560" y="2362320"/>
            <a:chExt cx="4007160" cy="3224160"/>
          </a:xfrm>
        </p:grpSpPr>
        <p:sp>
          <p:nvSpPr>
            <p:cNvPr id="181" name=""/>
            <p:cNvSpPr/>
            <p:nvPr/>
          </p:nvSpPr>
          <p:spPr>
            <a:xfrm rot="5400000">
              <a:off x="6212520" y="459000"/>
              <a:ext cx="201240" cy="4007160"/>
            </a:xfrm>
            <a:prstGeom prst="rect">
              <a:avLst/>
            </a:prstGeom>
            <a:solidFill>
              <a:srgbClr val="00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6111000" y="1366920"/>
              <a:ext cx="403920" cy="4007160"/>
            </a:xfrm>
            <a:prstGeom prst="rect">
              <a:avLst/>
            </a:prstGeom>
            <a:solidFill>
              <a:srgbClr val="0000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6212520" y="2473200"/>
              <a:ext cx="201240" cy="4007160"/>
            </a:xfrm>
            <a:prstGeom prst="rect">
              <a:avLst/>
            </a:prstGeom>
            <a:solidFill>
              <a:srgbClr val="0000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6111000" y="3380760"/>
              <a:ext cx="403920" cy="4007160"/>
            </a:xfrm>
            <a:prstGeom prst="rect">
              <a:avLst/>
            </a:prstGeom>
            <a:solidFill>
              <a:srgbClr val="00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8267760" y="2286000"/>
            <a:ext cx="7239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rcRect l="0" t="0" r="6011" b="0"/>
          <a:stretch/>
        </p:blipFill>
        <p:spPr>
          <a:xfrm>
            <a:off x="380880" y="1832040"/>
            <a:ext cx="3111480" cy="4340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279400" y="197316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-sec running aver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63720" y="257976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rmal+epithe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24440" y="31384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pithe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6:52:43Z</dcterms:created>
  <dc:creator>Rick Elphic</dc:creator>
  <dc:description/>
  <dc:language>en-US</dc:language>
  <cp:lastModifiedBy>Rick Elphic</cp:lastModifiedBy>
  <dcterms:modified xsi:type="dcterms:W3CDTF">2006-10-31T16:45:59Z</dcterms:modified>
  <cp:revision>61</cp:revision>
  <dc:subject/>
  <dc:title>Tests of the Utility of Neutron and Gamma Ray Probes for Resource Prospecting and</dc:title>
</cp:coreProperties>
</file>