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2570040"/>
            <a:ext cx="10080720" cy="26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ivate and Public Secto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Space Resourc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les D. O'D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omix Software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6480" y="1378080"/>
            <a:ext cx="9174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sion of Space Dividend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of delivering a cheque to each qualified cit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iver the funds to where they would do the most good on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-credit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erad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-world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ing zero-emission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Space Dividend Fund to address issues of concern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ever that migh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where we gain public support for ISRU and spac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6480" y="1378080"/>
            <a:ext cx="9174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ly Addressing Public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technology would have a direct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s of interest to a vocal part of the lobbying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verty reduction, AIDS research, environmental protectio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traditionally opposed to "waste" of spac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brought on-board to support thos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goo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ining attention of decision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iving time with mainstream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izing suppo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uld now find it in their interest to lobby for IS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6480" y="1378080"/>
            <a:ext cx="91742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Altruism for ISRU or Spac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bbyists will be acting in their own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 Space Dividend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resources for their own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promoting ISRU and effective space development at the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would decision-makers agr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vernments searching for opportunities to be "Earth-friendly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Dividend Fund provides a 'big ticket' item which cost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hough tax revenue is given to S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's future tax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-makers today benefit as there is no impact on current bud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resource industry does not yet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6480" y="1378080"/>
            <a:ext cx="917424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Dividend Fund is a Long-Term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ing an economic sector which does not yet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ting up a long-term fund to address long-term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lobbying groups we want to attract already think on that time-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ying foundations for funding 20+ years from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Dividend Fund works on the timeline they're us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from ISRU success would fit with their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bbying for ISRU would assist their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6480" y="1378080"/>
            <a:ext cx="91742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hing New or Com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ready being done in one form or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arent, public non-profit “mega charity”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ll and Melinda Gates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nding $1 Billion + each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askan Permanent Fund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ng for almost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ready a part of business re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be paid whether or not a Space Dividend Fund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not use those tools to promote ISRU and space develop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6480" y="1378080"/>
            <a:ext cx="917424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Dividend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latively uncomplicated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strong public support for spac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possibility of program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/ Flexibly addressing concerns of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hile enabling programs to develop eff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wasted resources attempting to satisfy unrelated moving-target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programs can forget about building public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ntrate on the job to be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6480" y="1378080"/>
            <a:ext cx="917424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umm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RU technologies are vulnerable to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RU is not guaranteed to continue as part of EM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s with strong public support can survive recessionary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-makers don't dare cancel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support for ISRU and space technology can be bu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ax treaties and other financi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address concerns of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6480" y="1378080"/>
            <a:ext cx="917424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umm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pace Dividend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ed by taxes generated from profitable space resource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public affinity with spac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compromising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pting existing public interest bodies to lobby for IS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furthering their own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per request:  info@senomix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6480" y="1378080"/>
            <a:ext cx="917424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U - Vulnerable to Canc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th, Moon, Mars and Beyon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without In-Situ Resource Utilization (ISR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ing ISRU doesn't prevent core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xpensive in long-term bu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dgetarily, year-to-year, less expensive to cut ISRU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 economic downturn (every 5-7 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 makers will identify items for cost-cu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RU research is both expensive and exp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6480" y="1378080"/>
            <a:ext cx="917424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Government Programs Also Non-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trak R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icultural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ion would continue with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those programs have strong public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objection to cancellation would be very v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, the programs will 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ardless of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6480" y="1378080"/>
            <a:ext cx="9174240" cy="49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Build Similar Public Support for IS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we tie space programs to public concer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the public and decision-makers can identif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ly making ISRU invulnerable to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mportantly:  Can this be done without affe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ology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 program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nt to see ISRU developed in the most effective way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want to deal with “moving target”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policies and "spin-offs"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 separate organization made explicitly for that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which does not affect engineer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6480" y="1378080"/>
            <a:ext cx="83026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ska Permanent Fund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d as a constitutional amend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ation for the day when there is no 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 twenty-five percent of all mineral lease rentals, royalties, royalty sales proceed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deral mineral revenue-sharing payments and bonuses received by the state be placed in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anent fund, the principal of which may only be used for income-producing investment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rticle IX, Section 15 - State of Alaska, 1977)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me from those invest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ed by cheque, annually, to all qualified state resi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ong public affinity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see cash from the program every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6480" y="1378080"/>
            <a:ext cx="91742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Affinity with Resource Extraction and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es are left to maximize profitability however they would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need to satisfy secondary commi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's left to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for corporations and resource extraction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affec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es can operate as they would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act is on Government taxes collected, not business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6480" y="1378080"/>
            <a:ext cx="91742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This Be Done For IS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a mechanism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public affinity with spac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programs politically invulnerable to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out affecting the implementation of thos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ace Dividend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 to the Alaskan Permanent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tax trea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% of all national taxes paid by space-resource busin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s directed to a separate, public, transparent non-profi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purpose:  Manage the distribution of funds col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22760" y="1378080"/>
            <a:ext cx="54579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s removed from taxes col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 profit remains untou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 is to Government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company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companies with taxable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ng tax free?  Zero paid to S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 incentives would still stimulat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ith Alaskan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pace Dividend Fund would not in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s of space-based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the space resource economy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x base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do fund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360" y="1600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946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970680"/>
            <a:ext cx="10080720" cy="590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22760" y="1378080"/>
            <a:ext cx="5457960" cy="42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ing a 2030 space resourc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very $10 Billion in (gross) industry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$3.5 Billion collected in national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ssuming a ~35% corporate 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$900 Million for Space Dividend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360" y="1600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