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9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989160" y="0"/>
            <a:ext cx="3049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23640" y="688680"/>
            <a:ext cx="459252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c23c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37800" y="4363560"/>
            <a:ext cx="516276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726040"/>
            <a:ext cx="304956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989160" y="8726040"/>
            <a:ext cx="304956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58BC-2280-4F30-AC94-5EF3561D8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24000" y="6890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7800" y="4363560"/>
            <a:ext cx="516276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questions are remarkably basic and are more or less commonly recogniz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05A4-20FB-4DC5-961A-016C007E84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63360" y="3889440"/>
            <a:ext cx="78454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043BC-B699-4DD8-A0EC-778223D6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63360" y="3889440"/>
            <a:ext cx="38282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83480" y="3889440"/>
            <a:ext cx="38282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672C-9716-407D-A7BC-082FF9A3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63360" y="3889440"/>
            <a:ext cx="252612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6200" y="3889440"/>
            <a:ext cx="252612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9040" y="3889440"/>
            <a:ext cx="252612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A7B5-11DA-4471-A057-EDCBF7CA55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87120" y="3240"/>
            <a:ext cx="6140520" cy="39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63360" y="3889440"/>
            <a:ext cx="38282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63360" y="1290600"/>
            <a:ext cx="784548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A16C3-0378-455C-9E7C-E9320774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3480" y="3889440"/>
            <a:ext cx="38282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63360" y="3889440"/>
            <a:ext cx="78454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63360" y="3889440"/>
            <a:ext cx="78454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63360" y="3889440"/>
            <a:ext cx="38282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83480" y="3889440"/>
            <a:ext cx="38282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252612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16200" y="1290600"/>
            <a:ext cx="252612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9040" y="1290600"/>
            <a:ext cx="252612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63360" y="3889440"/>
            <a:ext cx="252612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16200" y="3889440"/>
            <a:ext cx="252612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9040" y="3889440"/>
            <a:ext cx="252612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78454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4403-CB0D-436B-9C41-22B71B02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46BC-18EB-4BE6-B4A0-041C5999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A70B1-07F6-45C2-94FA-E48D3695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787120" y="3240"/>
            <a:ext cx="6140520" cy="39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2165C-6801-4674-8043-B2CA712F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63360" y="3889440"/>
            <a:ext cx="38282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2918-D325-4FE8-914E-DB2E161F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83480" y="3889440"/>
            <a:ext cx="38282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BC1AA-BFB3-4073-89B8-342388E3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63360" y="1290600"/>
            <a:ext cx="38282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83480" y="1290600"/>
            <a:ext cx="38282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63360" y="3889440"/>
            <a:ext cx="78454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629C-AAC2-4804-AFF5-462CCD2C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-360" y="6621120"/>
            <a:ext cx="8780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B06F0EC-3EC3-4FA0-8841-A2DE02929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c23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63360" y="1290600"/>
            <a:ext cx="78454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82600" indent="-282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82600" indent="-282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82600" indent="-282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82600" indent="-282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82600" indent="-282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lastslide"/>
          </p:cNvPr>
          <p:cNvSpPr/>
          <p:nvPr/>
        </p:nvSpPr>
        <p:spPr>
          <a:xfrm>
            <a:off x="8933040" y="0"/>
            <a:ext cx="210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7639200" y="6486480"/>
            <a:ext cx="150480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 Rickm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0B31-2840-428B-B9C2-065215E7150A}" type="datetime3">
              <a:rPr b="0" lang="en-US" sz="900" spc="-1" strike="noStrike">
                <a:solidFill>
                  <a:srgbClr val="000000"/>
                </a:solidFill>
                <a:latin typeface="Arial"/>
              </a:rPr>
              <a:t>July 29, 2026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6: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33360" y="4719240"/>
            <a:ext cx="336096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c23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06360" y="3727440"/>
            <a:ext cx="0" cy="301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0"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8280" indent="112680" algn="ctr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9080" indent="112680" algn="ctr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112680" algn="ctr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112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112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38400" y="5856120"/>
            <a:ext cx="600048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 Rickman, C Owens, R Howard, C McLemor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shall Space Flight Cent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v 2, 2006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39840" y="4419720"/>
            <a:ext cx="7523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QUIREMENTS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ECHNOLOGIES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ING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EASURING SIMU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c23c"/>
                </a:solidFill>
                <a:latin typeface="Times New Roman"/>
              </a:rPr>
              <a:t>SPACE RESOURCES ROUNDTABLE V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c23c"/>
                </a:solidFill>
                <a:latin typeface="Arial"/>
              </a:rPr>
              <a:t>Figures of Merit</a:t>
            </a: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219320"/>
            <a:ext cx="75438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3280" indent="-2332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233280">
              <a:lnSpc>
                <a:spcPct val="6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ic Fra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ra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lut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233280">
              <a:lnSpc>
                <a:spcPct val="6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233280">
              <a:lnSpc>
                <a:spcPct val="6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 (may subdivide th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233280">
              <a:lnSpc>
                <a:spcPct val="6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6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methods are sti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2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simulant to specific Apollo regolith samples (core and/or surface samp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D029-12C1-4E29-A8F8-A70F23B0C34B}" type="slidenum">
              <a:t>10</a:t>
            </a:fld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c23c"/>
                </a:solidFill>
                <a:latin typeface="Arial"/>
              </a:rPr>
              <a:t>Figures of Merit, Commentary</a:t>
            </a: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219320"/>
            <a:ext cx="7543800" cy="41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90480" indent="-2332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ed as a computer algorithm with fixed inpu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2332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to be extensible in response to new knowledge or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2332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, many practical virt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ompare between simula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ed, objective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do not have to understand the all the details of the background skills which go into making the simu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rs shielded from vague spec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3EC5-3453-49BB-ACB5-0DDD3B2B61FC}" type="slidenum">
              <a:t>11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c23c"/>
                </a:solidFill>
                <a:latin typeface="Arial"/>
              </a:rPr>
              <a:t>Contributors</a:t>
            </a: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822960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68640" indent="0" algn="just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an Batis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Colorado, Bou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8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ul Carpen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E Systems Analytical and Ordnance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8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ymond Fren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FC/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8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s Hoelz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dyne Brown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8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k Howar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dyne Brown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8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ck Owe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dyne Brown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8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Lindsa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nar and Planetary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8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ole McLemo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FC/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8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h Nob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C/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8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g Stoes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8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g Rickm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FC/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8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n Ridl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8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rent Sibil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RC Aerospace Co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8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an Wentwor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, Inc., Engineering and Science Contrac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86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 Wils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0DB99-7ED4-4388-AAEF-B3782D30951B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c23c"/>
                </a:solidFill>
                <a:latin typeface="Arial"/>
              </a:rPr>
              <a:t>A Description of Lunar Regolith</a:t>
            </a: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5181120"/>
            <a:ext cx="29718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1177920"/>
            <a:ext cx="4849560" cy="3013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287960" y="3522600"/>
            <a:ext cx="4856040" cy="3030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10120" y="649116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Sourcebook, 1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490E-4E31-4C2E-BEE0-BFEE2C789659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240"/>
            <a:ext cx="80899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c23c"/>
                </a:solidFill>
                <a:latin typeface="Arial"/>
              </a:rPr>
              <a:t>Requirements</a:t>
            </a:r>
            <a:endParaRPr b="1" lang="en-US" sz="32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54380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requirements for the projec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verall effort must be practical. This is an engineering eff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mulant should have known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ser should understand the simulants limi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ust be practical to compare results from different simul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nt must be suitable for a wide range of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requirements for the simul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plicate what will be found on the Moon to a sufficient degree and to the extent pract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0C27-0A1D-4FED-927A-AEE7C53F5B49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c23c"/>
                </a:solidFill>
                <a:latin typeface="Arial"/>
              </a:rPr>
              <a:t>Intended Users</a:t>
            </a: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219320"/>
            <a:ext cx="754380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3280" indent="-2332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2332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2332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2332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2332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2332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 indent="-2332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26B6-D703-457C-A050-DEFD0518DBEE}" type="slidenum">
              <a:t>5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c23c"/>
                </a:solidFill>
                <a:latin typeface="Arial"/>
              </a:rPr>
              <a:t>Basic Facts about Regolith</a:t>
            </a: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48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heterogeneity is higher than anything terrestria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ology and mineralogy range across the igneous spectrum but are dominated by a small sub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 compositions of interest are at the limits or outside the bounds of terrestrial s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ic fragments, glass, minerals and agglutinates are the major constitu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minor phases (less than 5% but greater than 1000 ppm) exist and are wide spread.  Some of these phases are likely to be major problems for extractive processes.  Examples include S, P, Cl, and 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lutinates are locally very abundant, forming the majority of the regoli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43E5-BB53-4890-8FF9-FAFA78CE7933}" type="slidenum">
              <a:t>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c23c"/>
                </a:solidFill>
                <a:latin typeface="Arial"/>
              </a:rPr>
              <a:t>What We Don’t Know</a:t>
            </a: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390680"/>
            <a:ext cx="7543800" cy="22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mpossible at this time to know how much simulant to m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on’t know all the users of the simul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on’t know where we are landing on the Mo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if we knew where we were landing, unless it is one of the Apollo sites, we don’t know its geology (selenolog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D9EA-680A-4263-A970-28FF7311D490}" type="slidenum">
              <a:t>7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c23c"/>
                </a:solidFill>
                <a:latin typeface="Arial"/>
              </a:rPr>
              <a:t>Technical Specialties</a:t>
            </a: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on Earth and how to put the simulant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Ge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ive metallurgy (grinding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 size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ing of particulate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ctually exists on the M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nar geology (sele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26A4D-933A-419D-ADB2-CA509FB3FABB}" type="slidenum">
              <a:t>8</a:t>
            </a:fld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87120" y="3240"/>
            <a:ext cx="61405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c23c"/>
                </a:solidFill>
                <a:latin typeface="Arial"/>
              </a:rPr>
              <a:t>Approach</a:t>
            </a:r>
            <a:endParaRPr b="1" lang="en-US" sz="3000" spc="-1" strike="noStrike">
              <a:solidFill>
                <a:srgbClr val="e5c23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54380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tasks done in parallel - many tasks are it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re the necessary characterization of the lunar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process control technology through a prototype eff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suitable source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the FoM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erminology, methodology, baseline conditions and provide users with gui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FoM for all available simu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the practicality and cost performance of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B7E4-5591-4627-B542-8E46873D6D90}" type="slidenum">
              <a:t>9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7:36:49Z</dcterms:created>
  <dc:creator>Doug Rickman</dc:creator>
  <dc:description/>
  <dc:language>en-US</dc:language>
  <cp:lastModifiedBy>j</cp:lastModifiedBy>
  <cp:lastPrinted>2006-03-29T23:57:56Z</cp:lastPrinted>
  <dcterms:modified xsi:type="dcterms:W3CDTF">2006-11-02T16:11:31Z</dcterms:modified>
  <cp:revision>498</cp:revision>
  <dc:subject/>
  <dc:title>Space Resources Roundtable 2006</dc:title>
</cp:coreProperties>
</file>