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85A-B87E-4002-BA23-E8A3AEDB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463-D86A-4539-BF84-B0893F2B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191-CB82-488B-B0E2-F4F492D4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2C0-E4BA-4F81-94EE-046625FD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E11-F1B6-4614-AD03-4AF40CD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BA5-3544-4FA1-A53E-AA1C762C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EF4-30B6-4975-B66E-49EE55A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D80-5706-4A08-BF9E-CDC4EFB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D32-23D4-4BDC-A80D-108536E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2DE-90F9-43E6-9DEC-E6CD3316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BE1-AFD0-43F0-B31A-9E01954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55E-FC87-4140-A74F-7D1A739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A68C-53C5-4A83-8B75-467CDCB7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040" y="410760"/>
            <a:ext cx="42069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Layered Architectures for Mitigation and Processing of Planetary Dust for Manned and Robotic Space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7560" y="6172200"/>
            <a:ext cx="51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PACE RESOURCES ROUNDTABLE VIII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1000" y="3429000"/>
            <a:ext cx="40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Arial"/>
              </a:rPr>
              <a:t>Fred A. S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Arial"/>
              </a:rPr>
              <a:t>Space Environment Technologie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Arial"/>
              </a:rPr>
              <a:t>Infrastructure and Standards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Arial"/>
              </a:rPr>
              <a:t>Gary J. Rodrig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Arial"/>
              </a:rPr>
              <a:t>sysRAND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DEA is a Notion with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54520" y="1599840"/>
            <a:ext cx="420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. Harrison Schmitt crystalized our thinking about establishing a layered architecture for human and robotics exploration and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. Schmitt suggested that a '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yers of an on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 approach be used to mitigate dust for Lunar and Martian Astronau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notion anchors our layering concepts by providing for an astronaut-centered mitigation lay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149560"/>
            <a:ext cx="4208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 R&amp;D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54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chitecture has common science layers as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ayer 3 the table splits into mitigation and exploitatio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ion seeks to leverage dust behaviors in order to minimize the presence of dust in habited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ation seeks to leverage dust behaviors in order to optimize industrial mining and conver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Ls achieved through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2149560"/>
          <a:ext cx="4313160" cy="283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49560"/>
                    <a:ext cx="43131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igatio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851440" y="1325160"/>
            <a:ext cx="32004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ion Layers are used to define dust concentrations and map the appropriateness of any particular mitigation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itigation method should have an efficacy span of at least two orders of magn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ions should be overlapped for redundancy in the event of a failure of a method to operate as int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39720" y="1965240"/>
          <a:ext cx="522288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965240"/>
                    <a:ext cx="522288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9080" y="1600200"/>
            <a:ext cx="27432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al Placard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9480" y="1325160"/>
            <a:ext cx="43880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ards are used inside of airlocks, cabins and other occupied spaces to indicate the mitigation capacity which is designed for that volu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ards can also be placed on equipment, such as EVA S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evel may span one of more orders-of-magnitude of du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e Astronaut-orientation of the mitigation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 the National Institute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d to Dust Hazard Mi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1325520"/>
            <a:ext cx="2843280" cy="4240080"/>
            <a:chOff x="914400" y="1325520"/>
            <a:chExt cx="2843280" cy="4240080"/>
          </a:xfrm>
        </p:grpSpPr>
        <p:sp>
          <p:nvSpPr>
            <p:cNvPr id="59" name=""/>
            <p:cNvSpPr/>
            <p:nvPr/>
          </p:nvSpPr>
          <p:spPr>
            <a:xfrm>
              <a:off x="914400" y="1325520"/>
              <a:ext cx="2835360" cy="420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914400" y="1325520"/>
            <a:ext cx="2843280" cy="424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325520"/>
                      <a:ext cx="2843280" cy="424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 flipH="1" flipV="1">
            <a:off x="2651040" y="3703320"/>
            <a:ext cx="2286000" cy="54756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l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agramming To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9480" y="1325160"/>
            <a:ext cx="43880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D system would be useful in the design of habitats, labs, shops, airlocks, garages, stations, malls, and other enclosed spaces subject to contamination by planetary d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expanded to include spacecraft, EVA suits and robo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tility of this system is evaluated through the use of a prototype implemented on MS Ex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 is christened after Dr. Schmitt'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yers of on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39720" y="1508040"/>
          <a:ext cx="2774880" cy="115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508040"/>
                    <a:ext cx="27748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54120" y="2789280"/>
          <a:ext cx="2774880" cy="11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4120" y="2789280"/>
                    <a:ext cx="27748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39720" y="4068720"/>
          <a:ext cx="2774880" cy="1158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4068720"/>
                    <a:ext cx="27748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54120" y="5349960"/>
          <a:ext cx="3413160" cy="1176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54120" y="5349960"/>
                    <a:ext cx="3413160" cy="11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03880" y="5349960"/>
          <a:ext cx="3413160" cy="11588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03880" y="5349960"/>
                    <a:ext cx="341316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rcial Dust Joint 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sd_logo_banner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5486400" cy="56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ysAEROLogo" descr=""/>
          <p:cNvPicPr/>
          <p:nvPr/>
        </p:nvPicPr>
        <p:blipFill>
          <a:blip r:embed="rId2"/>
          <a:stretch/>
        </p:blipFill>
        <p:spPr>
          <a:xfrm>
            <a:off x="822240" y="4343400"/>
            <a:ext cx="809640" cy="822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36640" y="439092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AND 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ff"/>
                </a:solidFill>
                <a:latin typeface="Arial"/>
              </a:rPr>
              <a:t>Applications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4756320"/>
            <a:ext cx="52117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3:30:12Z</dcterms:created>
  <dc:creator>Gary Rodriguez</dc:creator>
  <dc:description/>
  <dc:language>en-US</dc:language>
  <cp:lastModifiedBy>Gary Rodriguez</cp:lastModifiedBy>
  <dcterms:modified xsi:type="dcterms:W3CDTF">2006-10-31T03:38:39Z</dcterms:modified>
  <cp:revision>8</cp:revision>
  <dc:subject/>
  <dc:title>Dust R&amp;D Plan</dc:title>
</cp:coreProperties>
</file>