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1.jpeg" ContentType="image/jpeg"/>
  <Override PartName="/ppt/media/image29.png" ContentType="image/png"/>
  <Override PartName="/ppt/media/image32.wmf" ContentType="image/x-wmf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25.wmf" ContentType="image/x-wmf"/>
  <Override PartName="/ppt/media/image23.jpeg" ContentType="image/jpeg"/>
  <Override PartName="/ppt/media/image1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33.wmf" ContentType="image/x-wmf"/>
  <Override PartName="/ppt/media/image48.png" ContentType="image/png"/>
  <Override PartName="/ppt/media/image31.png" ContentType="image/png"/>
  <Override PartName="/ppt/media/image49.wmf" ContentType="image/x-wmf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26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media/image9.png" ContentType="image/png"/>
  <Override PartName="/ppt/media/image10.wmf" ContentType="image/x-wmf"/>
  <Override PartName="/ppt/media/image47.wmf" ContentType="image/x-wmf"/>
  <Override PartName="/ppt/media/image4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D4AF-F92E-4CE8-8D5C-A48F31788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6C81-A7C4-47DE-8E97-E24F0875B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056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C06E-E1A7-4C42-BAAD-1CDDBF8C4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596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840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596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840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332A-7782-4C1E-902F-37FF692AF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34290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EFBF-F340-4DB1-9D80-97FB199AF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5056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52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5056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596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840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52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596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840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6BB3-575F-492C-8989-47EFF8EFB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2548-D2B3-4D2F-8CD3-4D5209D3C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33F7-128F-483B-BCB2-C13F3CF17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34290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AE4B-01DD-4F14-8A53-658B3400F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7E1E-6977-4D8C-9996-C40D1CB03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056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7717-F246-4643-BD52-CDCE1CCBA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4585-0398-4C23-B38F-3D25BC733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599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ts val="15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ts val="1599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ts val="1599"/>
              </a:lnSpc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ts val="1599"/>
              </a:lnSpc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ts val="1599"/>
              </a:lnSpc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1360" y="6029280"/>
            <a:ext cx="38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9DF-6889-4043-BAA4-245047F41A8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  <a:p>
            <a:pPr lvl="1" marL="457200" indent="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ts val="1599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ts val="1599"/>
              </a:lnSpc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ts val="1599"/>
              </a:lnSpc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37.png"/><Relationship Id="rId15" Type="http://schemas.openxmlformats.org/officeDocument/2006/relationships/image" Target="../media/image37.png"/><Relationship Id="rId16" Type="http://schemas.openxmlformats.org/officeDocument/2006/relationships/image" Target="../media/image37.png"/><Relationship Id="rId17" Type="http://schemas.openxmlformats.org/officeDocument/2006/relationships/image" Target="../media/image37.png"/><Relationship Id="rId18" Type="http://schemas.openxmlformats.org/officeDocument/2006/relationships/image" Target="../media/image37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image" Target="../media/image37.png"/><Relationship Id="rId22" Type="http://schemas.openxmlformats.org/officeDocument/2006/relationships/image" Target="../media/image4.png"/><Relationship Id="rId23" Type="http://schemas.openxmlformats.org/officeDocument/2006/relationships/image" Target="../media/image3.jpeg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1.wm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31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5.png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20.png"/><Relationship Id="rId32" Type="http://schemas.openxmlformats.org/officeDocument/2006/relationships/image" Target="../media/image17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3.jpeg"/><Relationship Id="rId3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20.png"/><Relationship Id="rId30" Type="http://schemas.openxmlformats.org/officeDocument/2006/relationships/image" Target="../media/image17.png"/><Relationship Id="rId31" Type="http://schemas.openxmlformats.org/officeDocument/2006/relationships/image" Target="../media/image20.png"/><Relationship Id="rId32" Type="http://schemas.openxmlformats.org/officeDocument/2006/relationships/image" Target="../media/image20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17.png"/><Relationship Id="rId36" Type="http://schemas.openxmlformats.org/officeDocument/2006/relationships/image" Target="../media/image20.png"/><Relationship Id="rId37" Type="http://schemas.openxmlformats.org/officeDocument/2006/relationships/image" Target="../media/image20.png"/><Relationship Id="rId38" Type="http://schemas.openxmlformats.org/officeDocument/2006/relationships/image" Target="../media/image20.png"/><Relationship Id="rId39" Type="http://schemas.openxmlformats.org/officeDocument/2006/relationships/image" Target="../media/image18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7.png"/><Relationship Id="rId65" Type="http://schemas.openxmlformats.org/officeDocument/2006/relationships/image" Target="../media/image17.png"/><Relationship Id="rId66" Type="http://schemas.openxmlformats.org/officeDocument/2006/relationships/image" Target="../media/image3.jpeg"/><Relationship Id="rId6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1880" y="24379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4000"/>
                </a:solidFill>
                <a:latin typeface="Arial"/>
              </a:rPr>
              <a:t>Kinetic Investigation of Water-Production </a:t>
            </a:r>
            <a:br>
              <a:rPr sz="2400"/>
            </a:br>
            <a:r>
              <a:rPr b="0" lang="en-US" sz="2400" spc="-1" strike="noStrike">
                <a:solidFill>
                  <a:srgbClr val="804000"/>
                </a:solidFill>
                <a:latin typeface="Arial"/>
              </a:rPr>
              <a:t>from Lunar Soil Simulant by H</a:t>
            </a:r>
            <a:r>
              <a:rPr b="0" lang="en-US" sz="2400" spc="-1" strike="noStrike" baseline="-25000">
                <a:solidFill>
                  <a:srgbClr val="804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804000"/>
                </a:solidFill>
                <a:latin typeface="Arial"/>
              </a:rPr>
              <a:t> Reduction</a:t>
            </a:r>
            <a:endParaRPr b="1" lang="en-US" sz="2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pace Resources Roundtable VIII</a:t>
            </a: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Nov.1, 2006, Golden, CO</a:t>
            </a:r>
            <a:endParaRPr b="0" lang="en-US" sz="1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5019840"/>
            <a:ext cx="4400640" cy="122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T. Watanabe, S. Komatsuza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Tokyo Institute of Technology,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H. Kanamori,  S. Ao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Shimizu Corporation,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temperature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513" name=""/>
          <p:cNvSpPr/>
          <p:nvPr/>
        </p:nvSpPr>
        <p:spPr>
          <a:xfrm>
            <a:off x="671400" y="4898880"/>
            <a:ext cx="7251840" cy="170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00000"/>
              </a:lnSpc>
              <a:spcBef>
                <a:spcPts val="1199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Water-production rate increases with temperature up to 1273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99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Decrease in water-production rate over 1273 K is due to melted part of glassy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2"/>
          <a:srcRect l="0" t="6532" r="0" b="0"/>
          <a:stretch/>
        </p:blipFill>
        <p:spPr>
          <a:xfrm>
            <a:off x="4608360" y="898560"/>
            <a:ext cx="4138920" cy="385920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/>
          <p:cNvPicPr/>
          <p:nvPr/>
        </p:nvPicPr>
        <p:blipFill>
          <a:blip r:embed="rId3"/>
          <a:srcRect l="0" t="6517" r="0" b="0"/>
          <a:stretch/>
        </p:blipFill>
        <p:spPr>
          <a:xfrm>
            <a:off x="162000" y="885960"/>
            <a:ext cx="4141800" cy="3871800"/>
          </a:xfrm>
          <a:prstGeom prst="rect">
            <a:avLst/>
          </a:prstGeom>
          <a:ln w="0">
            <a:noFill/>
          </a:ln>
        </p:spPr>
      </p:pic>
      <p:grpSp>
        <p:nvGrpSpPr>
          <p:cNvPr id="1516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517" name="" descr=""/>
            <p:cNvPicPr/>
            <p:nvPr/>
          </p:nvPicPr>
          <p:blipFill>
            <a:blip r:embed="rId4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C58C-2C67-4735-A2B1-3CFA2E7EB6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rmogravimetry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430200" y="1200240"/>
            <a:ext cx="8282160" cy="2016000"/>
            <a:chOff x="430200" y="1200240"/>
            <a:chExt cx="8282160" cy="2016000"/>
          </a:xfrm>
        </p:grpSpPr>
        <p:sp>
          <p:nvSpPr>
            <p:cNvPr id="1521" name=""/>
            <p:cNvSpPr/>
            <p:nvPr/>
          </p:nvSpPr>
          <p:spPr>
            <a:xfrm>
              <a:off x="430200" y="1200240"/>
              <a:ext cx="8282160" cy="20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0200" y="1271520"/>
              <a:ext cx="403236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080"/>
                  </a:solidFill>
                  <a:latin typeface="Arial"/>
                  <a:ea typeface="ＭＳ ゴシック"/>
                </a:rPr>
                <a:t>Experimental Cond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633240" y="3651120"/>
            <a:ext cx="7602840" cy="2648880"/>
            <a:chOff x="633240" y="3651120"/>
            <a:chExt cx="7602840" cy="2648880"/>
          </a:xfrm>
        </p:grpSpPr>
        <p:sp>
          <p:nvSpPr>
            <p:cNvPr id="1524" name=""/>
            <p:cNvSpPr/>
            <p:nvPr/>
          </p:nvSpPr>
          <p:spPr>
            <a:xfrm>
              <a:off x="2727360" y="4494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727360" y="5241960"/>
              <a:ext cx="22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579760" y="4494240"/>
              <a:ext cx="294480" cy="49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52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522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2579760" y="4577400"/>
              <a:ext cx="294480" cy="66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2206800" y="477504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06800" y="491004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4067280" y="416232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14880" y="416232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14880" y="449424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514760" y="424512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4160" y="424512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844800" y="48261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44800" y="4992840"/>
              <a:ext cx="11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664160" y="4826160"/>
              <a:ext cx="2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664160" y="4494240"/>
              <a:ext cx="2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60800" y="441180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960800" y="498780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960800" y="4411800"/>
              <a:ext cx="24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960800" y="5326200"/>
              <a:ext cx="24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416720" y="441180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416720" y="49928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416720" y="47433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7937640" y="4576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37640" y="45766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416720" y="49928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640640" y="49928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790040" y="49928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90040" y="499284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937640" y="499284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937640" y="51595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161200" y="4576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086680" y="452592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36080" y="45435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086680" y="5208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22800" y="4913280"/>
              <a:ext cx="357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3249720" y="4676760"/>
              <a:ext cx="148680" cy="248760"/>
              <a:chOff x="3249720" y="4676760"/>
              <a:chExt cx="148680" cy="248760"/>
            </a:xfrm>
          </p:grpSpPr>
          <p:sp>
            <p:nvSpPr>
              <p:cNvPr id="1560" name=""/>
              <p:cNvSpPr/>
              <p:nvPr/>
            </p:nvSpPr>
            <p:spPr>
              <a:xfrm>
                <a:off x="3323520" y="47588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249720" y="4758840"/>
                <a:ext cx="14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249720" y="4676760"/>
                <a:ext cx="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3398400" y="4676760"/>
                <a:ext cx="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>
              <a:off x="5183280" y="4941720"/>
              <a:ext cx="149040" cy="16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94360" y="4910040"/>
              <a:ext cx="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343640" y="5326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"/>
            <p:cNvGrpSpPr/>
            <p:nvPr/>
          </p:nvGrpSpPr>
          <p:grpSpPr>
            <a:xfrm>
              <a:off x="7605720" y="5213520"/>
              <a:ext cx="237600" cy="183600"/>
              <a:chOff x="7605720" y="5213520"/>
              <a:chExt cx="237600" cy="183600"/>
            </a:xfrm>
          </p:grpSpPr>
          <p:sp>
            <p:nvSpPr>
              <p:cNvPr id="1568" name=""/>
              <p:cNvSpPr/>
              <p:nvPr/>
            </p:nvSpPr>
            <p:spPr>
              <a:xfrm>
                <a:off x="7605720" y="521352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605720" y="5397120"/>
                <a:ext cx="23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7843320" y="521352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4032360" y="4117680"/>
              <a:ext cx="222120" cy="164880"/>
              <a:chOff x="4032360" y="4117680"/>
              <a:chExt cx="222120" cy="164880"/>
            </a:xfrm>
          </p:grpSpPr>
          <p:sp>
            <p:nvSpPr>
              <p:cNvPr id="1572" name=""/>
              <p:cNvSpPr/>
              <p:nvPr/>
            </p:nvSpPr>
            <p:spPr>
              <a:xfrm flipV="1">
                <a:off x="4032360" y="4117680"/>
                <a:ext cx="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032360" y="4118040"/>
                <a:ext cx="22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254480" y="4118040"/>
                <a:ext cx="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3282840" y="4660920"/>
              <a:ext cx="76320" cy="824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 flipV="1">
              <a:off x="1941120" y="4064040"/>
              <a:ext cx="138132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433520" y="372600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43480" y="3995640"/>
              <a:ext cx="288720" cy="24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54320" y="3651120"/>
              <a:ext cx="108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as In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66960" y="4675320"/>
              <a:ext cx="233280" cy="3222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79360" y="43750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a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38560" y="5576760"/>
              <a:ext cx="22536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97360" y="5962680"/>
              <a:ext cx="110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urn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2206800" y="4826160"/>
              <a:ext cx="111600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3240" y="5326200"/>
              <a:ext cx="162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rmocou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6151680" y="4161960"/>
              <a:ext cx="7452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53120" y="380376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rmobal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416720" y="4576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93040" y="4576680"/>
              <a:ext cx="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416720" y="4660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2606760" y="3992400"/>
              <a:ext cx="1295280" cy="395280"/>
              <a:chOff x="2606760" y="3992400"/>
              <a:chExt cx="1295280" cy="395280"/>
            </a:xfrm>
          </p:grpSpPr>
          <p:sp>
            <p:nvSpPr>
              <p:cNvPr id="1592" name=""/>
              <p:cNvSpPr/>
              <p:nvPr/>
            </p:nvSpPr>
            <p:spPr>
              <a:xfrm rot="5400000">
                <a:off x="3056760" y="3542400"/>
                <a:ext cx="395280" cy="1295280"/>
              </a:xfrm>
              <a:prstGeom prst="rect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feb4b4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3785040" y="4189680"/>
                <a:ext cx="56160" cy="138960"/>
                <a:chOff x="3785040" y="4189680"/>
                <a:chExt cx="56160" cy="138960"/>
              </a:xfrm>
            </p:grpSpPr>
            <p:sp>
              <p:nvSpPr>
                <p:cNvPr id="1594" name=""/>
                <p:cNvSpPr/>
                <p:nvPr/>
              </p:nvSpPr>
              <p:spPr>
                <a:xfrm flipH="1" flipV="1">
                  <a:off x="3807720" y="418968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3785040" y="4190040"/>
                  <a:ext cx="226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3718440" y="4189680"/>
                <a:ext cx="66240" cy="138960"/>
                <a:chOff x="3718440" y="4189680"/>
                <a:chExt cx="66240" cy="138960"/>
              </a:xfrm>
            </p:grpSpPr>
            <p:sp>
              <p:nvSpPr>
                <p:cNvPr id="1597" name=""/>
                <p:cNvSpPr/>
                <p:nvPr/>
              </p:nvSpPr>
              <p:spPr>
                <a:xfrm flipH="1" flipV="1">
                  <a:off x="3751560" y="418968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>
                  <a:off x="3718440" y="419004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3652560" y="4189680"/>
                <a:ext cx="65520" cy="138960"/>
                <a:chOff x="3652560" y="4189680"/>
                <a:chExt cx="65520" cy="138960"/>
              </a:xfrm>
            </p:grpSpPr>
            <p:sp>
              <p:nvSpPr>
                <p:cNvPr id="1600" name=""/>
                <p:cNvSpPr/>
                <p:nvPr/>
              </p:nvSpPr>
              <p:spPr>
                <a:xfrm flipH="1" flipV="1">
                  <a:off x="3685320" y="418968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>
                  <a:off x="3652560" y="419004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3595320" y="4189680"/>
                <a:ext cx="56160" cy="138960"/>
                <a:chOff x="3595320" y="4189680"/>
                <a:chExt cx="56160" cy="138960"/>
              </a:xfrm>
            </p:grpSpPr>
            <p:sp>
              <p:nvSpPr>
                <p:cNvPr id="1603" name=""/>
                <p:cNvSpPr/>
                <p:nvPr/>
              </p:nvSpPr>
              <p:spPr>
                <a:xfrm flipH="1" flipV="1">
                  <a:off x="3618360" y="418968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3595320" y="4190040"/>
                  <a:ext cx="230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3528720" y="4189680"/>
                <a:ext cx="66240" cy="138960"/>
                <a:chOff x="3528720" y="4189680"/>
                <a:chExt cx="66240" cy="138960"/>
              </a:xfrm>
            </p:grpSpPr>
            <p:sp>
              <p:nvSpPr>
                <p:cNvPr id="1606" name=""/>
                <p:cNvSpPr/>
                <p:nvPr/>
              </p:nvSpPr>
              <p:spPr>
                <a:xfrm flipH="1" flipV="1">
                  <a:off x="3562200" y="418968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3528720" y="419004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3461760" y="4189680"/>
                <a:ext cx="66240" cy="138960"/>
                <a:chOff x="3461760" y="4189680"/>
                <a:chExt cx="66240" cy="138960"/>
              </a:xfrm>
            </p:grpSpPr>
            <p:sp>
              <p:nvSpPr>
                <p:cNvPr id="1609" name=""/>
                <p:cNvSpPr/>
                <p:nvPr/>
              </p:nvSpPr>
              <p:spPr>
                <a:xfrm flipH="1" flipV="1">
                  <a:off x="3494880" y="418968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3461760" y="419004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3406680" y="4189680"/>
                <a:ext cx="54720" cy="138960"/>
                <a:chOff x="3406680" y="4189680"/>
                <a:chExt cx="54720" cy="138960"/>
              </a:xfrm>
            </p:grpSpPr>
            <p:sp>
              <p:nvSpPr>
                <p:cNvPr id="1612" name=""/>
                <p:cNvSpPr/>
                <p:nvPr/>
              </p:nvSpPr>
              <p:spPr>
                <a:xfrm flipH="1" flipV="1">
                  <a:off x="3428640" y="418968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3406680" y="4190040"/>
                  <a:ext cx="219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3339720" y="4189680"/>
                <a:ext cx="66240" cy="138960"/>
                <a:chOff x="3339720" y="4189680"/>
                <a:chExt cx="66240" cy="138960"/>
              </a:xfrm>
            </p:grpSpPr>
            <p:sp>
              <p:nvSpPr>
                <p:cNvPr id="1615" name=""/>
                <p:cNvSpPr/>
                <p:nvPr/>
              </p:nvSpPr>
              <p:spPr>
                <a:xfrm flipH="1" flipV="1">
                  <a:off x="3372480" y="418968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3339720" y="419004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3273840" y="4189680"/>
                <a:ext cx="65520" cy="138960"/>
                <a:chOff x="3273840" y="4189680"/>
                <a:chExt cx="65520" cy="138960"/>
              </a:xfrm>
            </p:grpSpPr>
            <p:sp>
              <p:nvSpPr>
                <p:cNvPr id="1618" name=""/>
                <p:cNvSpPr/>
                <p:nvPr/>
              </p:nvSpPr>
              <p:spPr>
                <a:xfrm flipH="1" flipV="1">
                  <a:off x="3306600" y="418968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3273840" y="419004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3216600" y="4189680"/>
                <a:ext cx="56160" cy="138960"/>
                <a:chOff x="3216600" y="4189680"/>
                <a:chExt cx="56160" cy="13896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 flipV="1">
                  <a:off x="3239280" y="418968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3216600" y="4190040"/>
                  <a:ext cx="226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3150000" y="4189680"/>
                <a:ext cx="66240" cy="138960"/>
                <a:chOff x="3150000" y="4189680"/>
                <a:chExt cx="66240" cy="138960"/>
              </a:xfrm>
            </p:grpSpPr>
            <p:sp>
              <p:nvSpPr>
                <p:cNvPr id="1624" name=""/>
                <p:cNvSpPr/>
                <p:nvPr/>
              </p:nvSpPr>
              <p:spPr>
                <a:xfrm flipH="1" flipV="1">
                  <a:off x="3183120" y="418968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3150000" y="419004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3081600" y="4189680"/>
                <a:ext cx="67680" cy="138960"/>
                <a:chOff x="3081600" y="4189680"/>
                <a:chExt cx="67680" cy="138960"/>
              </a:xfrm>
            </p:grpSpPr>
            <p:sp>
              <p:nvSpPr>
                <p:cNvPr id="1627" name=""/>
                <p:cNvSpPr/>
                <p:nvPr/>
              </p:nvSpPr>
              <p:spPr>
                <a:xfrm flipH="1" flipV="1">
                  <a:off x="3114720" y="4189680"/>
                  <a:ext cx="345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3081600" y="419004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3026520" y="4189680"/>
                <a:ext cx="54720" cy="138960"/>
                <a:chOff x="3026520" y="4189680"/>
                <a:chExt cx="54720" cy="138960"/>
              </a:xfrm>
            </p:grpSpPr>
            <p:sp>
              <p:nvSpPr>
                <p:cNvPr id="1630" name=""/>
                <p:cNvSpPr/>
                <p:nvPr/>
              </p:nvSpPr>
              <p:spPr>
                <a:xfrm flipH="1" flipV="1">
                  <a:off x="3047760" y="418968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3026520" y="4190040"/>
                  <a:ext cx="212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2958480" y="4189680"/>
                <a:ext cx="67680" cy="138960"/>
                <a:chOff x="2958480" y="4189680"/>
                <a:chExt cx="67680" cy="138960"/>
              </a:xfrm>
            </p:grpSpPr>
            <p:sp>
              <p:nvSpPr>
                <p:cNvPr id="1633" name=""/>
                <p:cNvSpPr/>
                <p:nvPr/>
              </p:nvSpPr>
              <p:spPr>
                <a:xfrm flipH="1" flipV="1">
                  <a:off x="2991240" y="4189680"/>
                  <a:ext cx="349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2958480" y="419004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2891880" y="4189680"/>
                <a:ext cx="66240" cy="138960"/>
                <a:chOff x="2891880" y="4189680"/>
                <a:chExt cx="66240" cy="138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 flipV="1">
                  <a:off x="2925000" y="418968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2891880" y="419004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2835000" y="4189680"/>
                <a:ext cx="56160" cy="138960"/>
                <a:chOff x="2835000" y="4189680"/>
                <a:chExt cx="56160" cy="138960"/>
              </a:xfrm>
            </p:grpSpPr>
            <p:sp>
              <p:nvSpPr>
                <p:cNvPr id="1639" name=""/>
                <p:cNvSpPr/>
                <p:nvPr/>
              </p:nvSpPr>
              <p:spPr>
                <a:xfrm flipH="1" flipV="1">
                  <a:off x="2857680" y="418968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2835000" y="4190040"/>
                  <a:ext cx="226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2768400" y="4189680"/>
                <a:ext cx="66240" cy="138960"/>
                <a:chOff x="2768400" y="4189680"/>
                <a:chExt cx="66240" cy="138960"/>
              </a:xfrm>
            </p:grpSpPr>
            <p:sp>
              <p:nvSpPr>
                <p:cNvPr id="1642" name=""/>
                <p:cNvSpPr/>
                <p:nvPr/>
              </p:nvSpPr>
              <p:spPr>
                <a:xfrm flipH="1" flipV="1">
                  <a:off x="2801520" y="418968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2768400" y="4190040"/>
                  <a:ext cx="3312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2701440" y="4189680"/>
                <a:ext cx="66240" cy="138960"/>
                <a:chOff x="2701440" y="4189680"/>
                <a:chExt cx="66240" cy="138960"/>
              </a:xfrm>
            </p:grpSpPr>
            <p:sp>
              <p:nvSpPr>
                <p:cNvPr id="1645" name=""/>
                <p:cNvSpPr/>
                <p:nvPr/>
              </p:nvSpPr>
              <p:spPr>
                <a:xfrm flipH="1" flipV="1">
                  <a:off x="2734920" y="4189680"/>
                  <a:ext cx="3276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H="1">
                  <a:off x="2701440" y="4190040"/>
                  <a:ext cx="3348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2590920" y="5360760"/>
              <a:ext cx="1366560" cy="431640"/>
              <a:chOff x="2590920" y="5360760"/>
              <a:chExt cx="1366560" cy="431640"/>
            </a:xfrm>
          </p:grpSpPr>
          <p:sp>
            <p:nvSpPr>
              <p:cNvPr id="1648" name=""/>
              <p:cNvSpPr/>
              <p:nvPr/>
            </p:nvSpPr>
            <p:spPr>
              <a:xfrm rot="16200000">
                <a:off x="3058200" y="4893120"/>
                <a:ext cx="431640" cy="1366560"/>
              </a:xfrm>
              <a:prstGeom prst="rect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feb4b4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9" name=""/>
              <p:cNvGrpSpPr/>
              <p:nvPr/>
            </p:nvGrpSpPr>
            <p:grpSpPr>
              <a:xfrm>
                <a:off x="2655000" y="5424840"/>
                <a:ext cx="59040" cy="151920"/>
                <a:chOff x="2655000" y="5424840"/>
                <a:chExt cx="59040" cy="15192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2655000" y="542520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2690280" y="5424840"/>
                  <a:ext cx="237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2" name=""/>
              <p:cNvGrpSpPr/>
              <p:nvPr/>
            </p:nvGrpSpPr>
            <p:grpSpPr>
              <a:xfrm>
                <a:off x="2714760" y="5424840"/>
                <a:ext cx="69840" cy="151920"/>
                <a:chOff x="2714760" y="5424840"/>
                <a:chExt cx="69840" cy="15192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2714760" y="542520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V="1">
                  <a:off x="2749680" y="542484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2784960" y="5424840"/>
                <a:ext cx="69120" cy="151920"/>
                <a:chOff x="2784960" y="5424840"/>
                <a:chExt cx="69120" cy="15192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2784960" y="542520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V="1">
                  <a:off x="2819520" y="542484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"/>
              <p:cNvGrpSpPr/>
              <p:nvPr/>
            </p:nvGrpSpPr>
            <p:grpSpPr>
              <a:xfrm>
                <a:off x="2855160" y="5424840"/>
                <a:ext cx="59040" cy="151920"/>
                <a:chOff x="2855160" y="5424840"/>
                <a:chExt cx="59040" cy="151920"/>
              </a:xfrm>
            </p:grpSpPr>
            <p:sp>
              <p:nvSpPr>
                <p:cNvPr id="1659" name=""/>
                <p:cNvSpPr/>
                <p:nvPr/>
              </p:nvSpPr>
              <p:spPr>
                <a:xfrm>
                  <a:off x="2855160" y="542520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V="1">
                  <a:off x="2890080" y="5424840"/>
                  <a:ext cx="241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2914920" y="5424840"/>
                <a:ext cx="69840" cy="151920"/>
                <a:chOff x="2914920" y="5424840"/>
                <a:chExt cx="69840" cy="15192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2914920" y="542520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2949480" y="542484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"/>
              <p:cNvGrpSpPr/>
              <p:nvPr/>
            </p:nvGrpSpPr>
            <p:grpSpPr>
              <a:xfrm>
                <a:off x="2985480" y="5424840"/>
                <a:ext cx="69840" cy="151920"/>
                <a:chOff x="2985480" y="5424840"/>
                <a:chExt cx="69840" cy="15192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2985480" y="542520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3020400" y="542484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3056040" y="5424840"/>
                <a:ext cx="57600" cy="151920"/>
                <a:chOff x="3056040" y="5424840"/>
                <a:chExt cx="57600" cy="1519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3056040" y="5425200"/>
                  <a:ext cx="3420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V="1">
                  <a:off x="3090240" y="5424840"/>
                  <a:ext cx="2340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3114360" y="5424840"/>
                <a:ext cx="69840" cy="151920"/>
                <a:chOff x="3114360" y="5424840"/>
                <a:chExt cx="69840" cy="1519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114360" y="542520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3149640" y="542484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3184560" y="5424840"/>
                <a:ext cx="69120" cy="151920"/>
                <a:chOff x="3184560" y="5424840"/>
                <a:chExt cx="69120" cy="15192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3184560" y="542520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3219120" y="542484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3254760" y="5424840"/>
                <a:ext cx="59040" cy="151920"/>
                <a:chOff x="3254760" y="5424840"/>
                <a:chExt cx="59040" cy="15192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254760" y="542520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V="1">
                  <a:off x="3290040" y="5424840"/>
                  <a:ext cx="237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3314520" y="5424840"/>
                <a:ext cx="69840" cy="151920"/>
                <a:chOff x="3314520" y="5424840"/>
                <a:chExt cx="69840" cy="15192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3314520" y="542520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V="1">
                  <a:off x="3349440" y="542484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3385080" y="5424840"/>
                <a:ext cx="71280" cy="151920"/>
                <a:chOff x="3385080" y="5424840"/>
                <a:chExt cx="71280" cy="1519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3385080" y="5425200"/>
                  <a:ext cx="363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V="1">
                  <a:off x="3421440" y="542484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5" name=""/>
              <p:cNvGrpSpPr/>
              <p:nvPr/>
            </p:nvGrpSpPr>
            <p:grpSpPr>
              <a:xfrm>
                <a:off x="3456720" y="5424840"/>
                <a:ext cx="57600" cy="151920"/>
                <a:chOff x="3456720" y="5424840"/>
                <a:chExt cx="57600" cy="151920"/>
              </a:xfrm>
            </p:grpSpPr>
            <p:sp>
              <p:nvSpPr>
                <p:cNvPr id="1686" name=""/>
                <p:cNvSpPr/>
                <p:nvPr/>
              </p:nvSpPr>
              <p:spPr>
                <a:xfrm>
                  <a:off x="3456720" y="542520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3492000" y="5424840"/>
                  <a:ext cx="223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3515040" y="5424840"/>
                <a:ext cx="70920" cy="151920"/>
                <a:chOff x="3515040" y="5424840"/>
                <a:chExt cx="70920" cy="15192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3515040" y="5425200"/>
                  <a:ext cx="367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3551760" y="5424840"/>
                  <a:ext cx="3420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3587040" y="5424840"/>
                <a:ext cx="69840" cy="151920"/>
                <a:chOff x="3587040" y="5424840"/>
                <a:chExt cx="69840" cy="15192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3587040" y="542520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3621960" y="542484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"/>
              <p:cNvGrpSpPr/>
              <p:nvPr/>
            </p:nvGrpSpPr>
            <p:grpSpPr>
              <a:xfrm>
                <a:off x="3657240" y="5424840"/>
                <a:ext cx="59040" cy="151920"/>
                <a:chOff x="3657240" y="5424840"/>
                <a:chExt cx="59040" cy="15192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3657240" y="542520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3692520" y="5424840"/>
                  <a:ext cx="237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3717000" y="5424840"/>
                <a:ext cx="69840" cy="151920"/>
                <a:chOff x="3717000" y="5424840"/>
                <a:chExt cx="69840" cy="15192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717000" y="542520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V="1">
                  <a:off x="3751920" y="5424840"/>
                  <a:ext cx="3492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3787560" y="5424840"/>
                <a:ext cx="69840" cy="151920"/>
                <a:chOff x="3787560" y="5424840"/>
                <a:chExt cx="69840" cy="15192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3787560" y="5425200"/>
                  <a:ext cx="3456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V="1">
                  <a:off x="3822120" y="5424840"/>
                  <a:ext cx="352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3" name=""/>
            <p:cNvSpPr/>
            <p:nvPr/>
          </p:nvSpPr>
          <p:spPr>
            <a:xfrm>
              <a:off x="4894200" y="53611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62200" y="52880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4200" y="52880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51440" y="43434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25880" y="43689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694400" y="44560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78200" y="420840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30720" y="4456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78040" y="44560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454880" y="4368960"/>
              <a:ext cx="158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7454880" y="5032440"/>
              <a:ext cx="1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86560" y="46958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486560" y="5040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91480" y="5040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517840" y="4456080"/>
              <a:ext cx="28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flipV="1">
              <a:off x="2517120" y="4566600"/>
              <a:ext cx="31716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16" y="339"/>
                  </a:moveTo>
                  <a:arcTo wR="10800" hR="10800" stAng="-6263400" swAng="6263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8116" y="339"/>
                  </a:moveTo>
                  <a:arcTo wR="10800" hR="10800" stAng="-6263400" swAng="62634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496800" y="1690560"/>
            <a:ext cx="8013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2092320"/>
                <a:tab algn="l" pos="314640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[ K 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973, 1023, 1073, 1123, 1173, 1223, 1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092320"/>
                <a:tab algn="l" pos="314640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cen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 mol/L 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93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1.34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1.79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092320"/>
                <a:tab algn="l" pos="314640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Sample We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[ mg 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092320"/>
                <a:tab algn="l" pos="314640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Particle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[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m 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70, (30, 1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21" name="" descr=""/>
            <p:cNvPicPr/>
            <p:nvPr/>
          </p:nvPicPr>
          <p:blipFill>
            <a:blip r:embed="rId4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5AED-705D-4EB2-8ED8-8D2FB1698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" descr=""/>
          <p:cNvPicPr/>
          <p:nvPr/>
        </p:nvPicPr>
        <p:blipFill>
          <a:blip r:embed="rId2"/>
          <a:srcRect l="0" t="16545" r="0" b="0"/>
          <a:stretch/>
        </p:blipFill>
        <p:spPr>
          <a:xfrm>
            <a:off x="88920" y="1866960"/>
            <a:ext cx="4883040" cy="4084560"/>
          </a:xfrm>
          <a:prstGeom prst="rect">
            <a:avLst/>
          </a:prstGeom>
          <a:ln w="0">
            <a:noFill/>
          </a:ln>
        </p:spPr>
      </p:pic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tion (TG)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25" name=""/>
          <p:cNvSpPr/>
          <p:nvPr/>
        </p:nvSpPr>
        <p:spPr>
          <a:xfrm>
            <a:off x="2338560" y="2421000"/>
            <a:ext cx="16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ample: 100 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387440" y="2085840"/>
            <a:ext cx="1800" cy="3235320"/>
          </a:xfrm>
          <a:prstGeom prst="line">
            <a:avLst/>
          </a:prstGeom>
          <a:ln cap="rnd" w="1260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36560" y="1041480"/>
            <a:ext cx="2070360" cy="649080"/>
          </a:xfrm>
          <a:prstGeom prst="wedgeRoundRectCallout">
            <a:avLst>
              <a:gd name="adj1" fmla="val -62268"/>
              <a:gd name="adj2" fmla="val 268337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ゴシック"/>
              </a:rPr>
              <a:t>3%-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ＭＳ ゴシック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ゴシック"/>
              </a:rPr>
              <a:t> in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ゴシック"/>
              </a:rPr>
              <a:t>at 1173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4689360" y="939960"/>
            <a:ext cx="4157640" cy="5777280"/>
            <a:chOff x="4689360" y="939960"/>
            <a:chExt cx="4157640" cy="5777280"/>
          </a:xfrm>
        </p:grpSpPr>
        <p:sp>
          <p:nvSpPr>
            <p:cNvPr id="1729" name=""/>
            <p:cNvSpPr/>
            <p:nvPr/>
          </p:nvSpPr>
          <p:spPr>
            <a:xfrm>
              <a:off x="5186520" y="3760920"/>
              <a:ext cx="3660480" cy="1406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: Reaction rate [ mol k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: Rate constant [ L k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ＭＳ Ｐゴシック"/>
                </a:rPr>
                <a:t>H</a:t>
              </a:r>
              <a:r>
                <a:rPr b="0" i="1" lang="en-US" sz="2000" spc="-1" strike="noStrike" baseline="-40000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: 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conc. [ mol 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: Activation energy [J mo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689360" y="939960"/>
              <a:ext cx="2325960" cy="1161720"/>
            </a:xfrm>
            <a:prstGeom prst="wedgeRoundRectCallout">
              <a:avLst>
                <a:gd name="adj1" fmla="val -174435"/>
                <a:gd name="adj2" fmla="val 219263"/>
                <a:gd name="adj3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080"/>
                  </a:solidFill>
                  <a:latin typeface="Arial"/>
                  <a:ea typeface="ＭＳ Ｐゴシック"/>
                </a:rPr>
                <a:t>Rate eq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45160" y="5213520"/>
              <a:ext cx="3197160" cy="15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buClr>
                  <a:srgbClr val="408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8000"/>
                  </a:solidFill>
                  <a:latin typeface="Arial"/>
                  <a:ea typeface="ＭＳ Ｐゴシック"/>
                </a:rPr>
                <a:t>Order of re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buClr>
                  <a:srgbClr val="408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8000"/>
                  </a:solidFill>
                  <a:latin typeface="Arial"/>
                  <a:ea typeface="ＭＳ Ｐゴシック"/>
                </a:rPr>
                <a:t>Rate const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buClr>
                  <a:srgbClr val="408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8000"/>
                  </a:solidFill>
                  <a:latin typeface="Arial"/>
                  <a:ea typeface="ＭＳ Ｐゴシック"/>
                </a:rPr>
                <a:t>Activation ener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buClr>
                  <a:srgbClr val="408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8000"/>
                  </a:solidFill>
                  <a:latin typeface="Arial"/>
                  <a:ea typeface="ＭＳ Ｐゴシック"/>
                </a:rPr>
                <a:t>Rate-controlling 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2" name=""/>
                <p:cNvSpPr txBox="1"/>
                <p:nvPr/>
              </p:nvSpPr>
              <p:spPr>
                <a:xfrm>
                  <a:off x="5257800" y="1568520"/>
                  <a:ext cx="11905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C</m:t>
                          </m:r>
                        </m:e>
                        <m:sub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33" name=""/>
            <p:cNvSpPr/>
            <p:nvPr/>
          </p:nvSpPr>
          <p:spPr>
            <a:xfrm>
              <a:off x="5423040" y="2374920"/>
              <a:ext cx="3336840" cy="1222200"/>
            </a:xfrm>
            <a:prstGeom prst="wedgeEllipseCallout">
              <a:avLst>
                <a:gd name="adj1" fmla="val -34254"/>
                <a:gd name="adj2" fmla="val -8987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rrhenius eq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053040" y="2814480"/>
                  <a:ext cx="1854360" cy="70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5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36" name="" descr=""/>
            <p:cNvPicPr/>
            <p:nvPr/>
          </p:nvPicPr>
          <p:blipFill>
            <a:blip r:embed="rId7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7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3EBB-861D-44CC-969C-DB6B728CB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centration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39" name=""/>
          <p:cNvSpPr/>
          <p:nvPr/>
        </p:nvSpPr>
        <p:spPr>
          <a:xfrm>
            <a:off x="1990800" y="5640480"/>
            <a:ext cx="4746600" cy="87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Reduction is 1st-order reaction with H</a:t>
            </a:r>
            <a:r>
              <a:rPr b="0" lang="en-US" sz="24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 concen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1160640" y="4970520"/>
            <a:ext cx="6536880" cy="450360"/>
            <a:chOff x="1160640" y="4970520"/>
            <a:chExt cx="6536880" cy="450360"/>
          </a:xfrm>
        </p:grpSpPr>
        <p:sp>
          <p:nvSpPr>
            <p:cNvPr id="1741" name=""/>
            <p:cNvSpPr/>
            <p:nvPr/>
          </p:nvSpPr>
          <p:spPr>
            <a:xfrm>
              <a:off x="1160640" y="4980240"/>
              <a:ext cx="340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  <a:ea typeface="ＭＳ Ｐゴシック"/>
                </a:rPr>
                <a:t>High-concentration of H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Arial"/>
                  <a:ea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503600" y="5042160"/>
              <a:ext cx="649080" cy="299880"/>
            </a:xfrm>
            <a:prstGeom prst="rightArrow">
              <a:avLst>
                <a:gd name="adj1" fmla="val 50000"/>
                <a:gd name="adj2" fmla="val 5411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002200" y="4970520"/>
              <a:ext cx="26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  <a:ea typeface="ＭＳ Ｐゴシック"/>
                </a:rPr>
                <a:t>High reaction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4" name="" descr=""/>
          <p:cNvPicPr/>
          <p:nvPr/>
        </p:nvPicPr>
        <p:blipFill>
          <a:blip r:embed="rId4"/>
          <a:srcRect l="0" t="6532" r="0" b="0"/>
          <a:stretch/>
        </p:blipFill>
        <p:spPr>
          <a:xfrm>
            <a:off x="4400640" y="906480"/>
            <a:ext cx="4519440" cy="3859200"/>
          </a:xfrm>
          <a:prstGeom prst="rect">
            <a:avLst/>
          </a:prstGeom>
          <a:ln w="0">
            <a:noFill/>
          </a:ln>
        </p:spPr>
      </p:pic>
      <p:pic>
        <p:nvPicPr>
          <p:cNvPr id="1745" name="" descr=""/>
          <p:cNvPicPr/>
          <p:nvPr/>
        </p:nvPicPr>
        <p:blipFill>
          <a:blip r:embed="rId5"/>
          <a:srcRect l="0" t="6517" r="0" b="0"/>
          <a:stretch/>
        </p:blipFill>
        <p:spPr>
          <a:xfrm>
            <a:off x="152280" y="888840"/>
            <a:ext cx="4235400" cy="3870360"/>
          </a:xfrm>
          <a:prstGeom prst="rect">
            <a:avLst/>
          </a:prstGeom>
          <a:ln w="0">
            <a:noFill/>
          </a:ln>
        </p:spPr>
      </p:pic>
      <p:grpSp>
        <p:nvGrpSpPr>
          <p:cNvPr id="1746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47" name="" descr=""/>
            <p:cNvPicPr/>
            <p:nvPr/>
          </p:nvPicPr>
          <p:blipFill>
            <a:blip r:embed="rId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8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600880" y="1284120"/>
                <a:ext cx="119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C3E4-957E-477B-B8E8-F2A8F10E3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225360" y="5135400"/>
            <a:ext cx="3459240" cy="127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henius plot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aphicFrame>
        <p:nvGraphicFramePr>
          <p:cNvPr id="1752" name=""/>
          <p:cNvGraphicFramePr/>
          <p:nvPr/>
        </p:nvGraphicFramePr>
        <p:xfrm>
          <a:off x="3659040" y="4917960"/>
          <a:ext cx="4494240" cy="1447560"/>
        </p:xfrm>
        <a:graphic>
          <a:graphicData uri="http://schemas.openxmlformats.org/drawingml/2006/table">
            <a:tbl>
              <a:tblPr/>
              <a:tblGrid>
                <a:gridCol w="2418120"/>
                <a:gridCol w="2076120"/>
              </a:tblGrid>
              <a:tr h="48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Weight L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-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kJ/mol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ff"/>
                          </a:solidFill>
                          <a:latin typeface="Arial"/>
                        </a:rPr>
                        <a:t>0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ff"/>
                          </a:solidFill>
                          <a:latin typeface="Arial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3" name=""/>
          <p:cNvSpPr/>
          <p:nvPr/>
        </p:nvSpPr>
        <p:spPr>
          <a:xfrm flipH="1">
            <a:off x="3333240" y="5548320"/>
            <a:ext cx="885960" cy="9360"/>
          </a:xfrm>
          <a:prstGeom prst="line">
            <a:avLst/>
          </a:prstGeom>
          <a:ln w="82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3354120" y="6022800"/>
            <a:ext cx="879480" cy="0"/>
          </a:xfrm>
          <a:prstGeom prst="line">
            <a:avLst/>
          </a:prstGeom>
          <a:ln w="82440">
            <a:solidFill>
              <a:srgbClr val="8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379760" y="576756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6" name="" descr=""/>
          <p:cNvPicPr/>
          <p:nvPr/>
        </p:nvPicPr>
        <p:blipFill>
          <a:blip r:embed="rId2"/>
          <a:srcRect l="0" t="17427" r="0" b="0"/>
          <a:stretch/>
        </p:blipFill>
        <p:spPr>
          <a:xfrm>
            <a:off x="4614840" y="930240"/>
            <a:ext cx="4459320" cy="3840120"/>
          </a:xfrm>
          <a:prstGeom prst="rect">
            <a:avLst/>
          </a:prstGeom>
          <a:ln w="0">
            <a:noFill/>
          </a:ln>
        </p:spPr>
      </p:pic>
      <p:pic>
        <p:nvPicPr>
          <p:cNvPr id="1757" name="" descr=""/>
          <p:cNvPicPr/>
          <p:nvPr/>
        </p:nvPicPr>
        <p:blipFill>
          <a:blip r:embed="rId3"/>
          <a:srcRect l="0" t="6532" r="0" b="0"/>
          <a:stretch/>
        </p:blipFill>
        <p:spPr>
          <a:xfrm>
            <a:off x="155520" y="898560"/>
            <a:ext cx="4232160" cy="3857760"/>
          </a:xfrm>
          <a:prstGeom prst="rect">
            <a:avLst/>
          </a:prstGeom>
          <a:ln w="0">
            <a:noFill/>
          </a:ln>
        </p:spPr>
      </p:pic>
      <p:sp>
        <p:nvSpPr>
          <p:cNvPr id="1758" name=""/>
          <p:cNvSpPr/>
          <p:nvPr/>
        </p:nvSpPr>
        <p:spPr>
          <a:xfrm>
            <a:off x="380520" y="5410080"/>
            <a:ext cx="2877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Fe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O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Arial"/>
                <a:ea typeface="ＭＳ Ｐゴシック"/>
              </a:rPr>
              <a:t>3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 + H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 →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2F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O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+ H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812880" y="5883120"/>
            <a:ext cx="2426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00ff"/>
                </a:solidFill>
                <a:latin typeface="Arial"/>
                <a:ea typeface="ＭＳ Ｐゴシック"/>
              </a:rPr>
              <a:t>FeO + H</a:t>
            </a:r>
            <a:r>
              <a:rPr b="0" lang="ja-JP" sz="1800" spc="-1" strike="noStrike" baseline="-25000">
                <a:solidFill>
                  <a:srgbClr val="8000ff"/>
                </a:solidFill>
                <a:latin typeface="Arial"/>
                <a:ea typeface="ＭＳ Ｐゴシック"/>
              </a:rPr>
              <a:t>2</a:t>
            </a:r>
            <a:r>
              <a:rPr b="0" lang="ja-JP" sz="1800" spc="-1" strike="noStrike">
                <a:solidFill>
                  <a:srgbClr val="8000ff"/>
                </a:solidFill>
                <a:latin typeface="Arial"/>
                <a:ea typeface="ＭＳ Ｐゴシック"/>
              </a:rPr>
              <a:t> →</a:t>
            </a:r>
            <a:r>
              <a:rPr b="0" lang="ja-JP" sz="1800" spc="-1" strike="noStrike">
                <a:solidFill>
                  <a:srgbClr val="8000ff"/>
                </a:solidFill>
                <a:latin typeface="Arial"/>
                <a:ea typeface="Times New Roman"/>
              </a:rPr>
              <a:t> Fe + H</a:t>
            </a:r>
            <a:r>
              <a:rPr b="0" lang="ja-JP" sz="1800" spc="-1" strike="noStrike" baseline="-25000">
                <a:solidFill>
                  <a:srgbClr val="8000ff"/>
                </a:solidFill>
                <a:latin typeface="Arial"/>
                <a:ea typeface="Times New Roman"/>
              </a:rPr>
              <a:t>2</a:t>
            </a:r>
            <a:r>
              <a:rPr b="0" lang="ja-JP" sz="1800" spc="-1" strike="noStrike">
                <a:solidFill>
                  <a:srgbClr val="8000ff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61" name="" descr=""/>
            <p:cNvPicPr/>
            <p:nvPr/>
          </p:nvPicPr>
          <p:blipFill>
            <a:blip r:embed="rId4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2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575320" y="3154320"/>
                <a:ext cx="1397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163A-25D6-437D-BB31-559D185EBA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65" name=""/>
          <p:cNvSpPr/>
          <p:nvPr/>
        </p:nvSpPr>
        <p:spPr>
          <a:xfrm>
            <a:off x="582480" y="4300560"/>
            <a:ext cx="8259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4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The reduction is first-order reaction with H</a:t>
            </a:r>
            <a:r>
              <a:rPr b="0" lang="ja-JP" sz="24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2</a:t>
            </a: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 concen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4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I</a:t>
            </a: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nitial stage is reduction of Fe</a:t>
            </a:r>
            <a:r>
              <a:rPr b="0" lang="ja-JP" sz="24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2</a:t>
            </a: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O</a:t>
            </a:r>
            <a:r>
              <a:rPr b="0" lang="ja-JP" sz="24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3</a:t>
            </a: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4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FeTiO</a:t>
            </a:r>
            <a:r>
              <a:rPr b="0" lang="ja-JP" sz="24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3</a:t>
            </a: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 and FeO are reduced at the following s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4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Reaction rate of FeO reduction should be estim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4000" y="1039680"/>
            <a:ext cx="847728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00000"/>
              </a:lnSpc>
              <a:spcBef>
                <a:spcPts val="24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H</a:t>
            </a:r>
            <a:r>
              <a:rPr b="0" lang="ja-JP" sz="3200" spc="-1" strike="noStrike" baseline="-25000">
                <a:solidFill>
                  <a:srgbClr val="800080"/>
                </a:solidFill>
                <a:latin typeface="Arial"/>
                <a:ea typeface="ＭＳ Ｐゴシック"/>
              </a:rPr>
              <a:t>2</a:t>
            </a:r>
            <a:r>
              <a:rPr b="0" lang="ja-JP" sz="32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 reduction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optimum process for O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duction from ilmenite on the m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24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Chemical re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ate-controlling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xed bed re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24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246560" y="3083040"/>
            <a:ext cx="649440" cy="299880"/>
          </a:xfrm>
          <a:prstGeom prst="rightArrow">
            <a:avLst>
              <a:gd name="adj1" fmla="val 50000"/>
              <a:gd name="adj2" fmla="val 54142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69" name="" descr=""/>
            <p:cNvPicPr/>
            <p:nvPr/>
          </p:nvPicPr>
          <p:blipFill>
            <a:blip r:embed="rId3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0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0771-3BF2-4F36-8B2D-21493985E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process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aphicFrame>
        <p:nvGraphicFramePr>
          <p:cNvPr id="1772" name=""/>
          <p:cNvGraphicFramePr/>
          <p:nvPr/>
        </p:nvGraphicFramePr>
        <p:xfrm>
          <a:off x="101520" y="1143000"/>
          <a:ext cx="8942400" cy="4387680"/>
        </p:xfrm>
        <a:graphic>
          <a:graphicData uri="http://schemas.openxmlformats.org/drawingml/2006/table">
            <a:tbl>
              <a:tblPr/>
              <a:tblGrid>
                <a:gridCol w="800280"/>
                <a:gridCol w="1766880"/>
                <a:gridCol w="909720"/>
                <a:gridCol w="598320"/>
                <a:gridCol w="1320840"/>
                <a:gridCol w="770040"/>
                <a:gridCol w="888840"/>
                <a:gridCol w="819000"/>
                <a:gridCol w="652680"/>
                <a:gridCol w="415800"/>
              </a:tblGrid>
              <a:tr h="92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K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kJ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therm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kJ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ectrolysis of H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400" spc="-1" strike="noStrike" baseline="-30000">
                          <a:solidFill>
                            <a:srgbClr val="8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reduction of H</a:t>
                      </a:r>
                      <a:r>
                        <a:rPr b="1" lang="en-US" sz="1400" spc="-1" strike="noStrike" baseline="-30000">
                          <a:solidFill>
                            <a:srgbClr val="8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7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50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lysis  of CO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olysis of CO</a:t>
                      </a:r>
                      <a:r>
                        <a:rPr b="0" lang="ja-JP" sz="14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a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tier re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reduction of fluor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m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3" name=""/>
          <p:cNvSpPr/>
          <p:nvPr/>
        </p:nvSpPr>
        <p:spPr>
          <a:xfrm>
            <a:off x="1741320" y="5875200"/>
            <a:ext cx="5521320" cy="579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H</a:t>
            </a:r>
            <a:r>
              <a:rPr b="0" lang="en-US" sz="28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 reduction is optimum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75" name="" descr=""/>
            <p:cNvPicPr/>
            <p:nvPr/>
          </p:nvPicPr>
          <p:blipFill>
            <a:blip r:embed="rId23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6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3C05-9642-4394-887A-7FF57546A0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 composition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78" name=""/>
          <p:cNvSpPr/>
          <p:nvPr/>
        </p:nvSpPr>
        <p:spPr>
          <a:xfrm>
            <a:off x="1436760" y="5530680"/>
            <a:ext cx="6254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librium composition of FeT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T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1 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2"/>
          <a:srcRect l="0" t="23236" r="10197" b="0"/>
          <a:stretch/>
        </p:blipFill>
        <p:spPr>
          <a:xfrm>
            <a:off x="1676520" y="1066680"/>
            <a:ext cx="573696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780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81" name="" descr=""/>
            <p:cNvPicPr/>
            <p:nvPr/>
          </p:nvPicPr>
          <p:blipFill>
            <a:blip r:embed="rId3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2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971D-F60F-49E9-A9CD-76280745123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84" name=""/>
          <p:cNvSpPr/>
          <p:nvPr/>
        </p:nvSpPr>
        <p:spPr>
          <a:xfrm>
            <a:off x="2349360" y="5661000"/>
            <a:ext cx="4411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Initial reduction rate is rapid, followed by rapid decr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212840" y="932040"/>
            <a:ext cx="6718320" cy="745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xperimental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nt: 10 g, H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4 L/min, 1173 K, 303 k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6" name="" descr=""/>
          <p:cNvPicPr/>
          <p:nvPr/>
        </p:nvPicPr>
        <p:blipFill>
          <a:blip r:embed="rId3"/>
          <a:srcRect l="0" t="14735" r="0" b="0"/>
          <a:stretch/>
        </p:blipFill>
        <p:spPr>
          <a:xfrm>
            <a:off x="217440" y="1922400"/>
            <a:ext cx="4103640" cy="3483000"/>
          </a:xfrm>
          <a:prstGeom prst="rect">
            <a:avLst/>
          </a:prstGeom>
          <a:ln w="0">
            <a:noFill/>
          </a:ln>
        </p:spPr>
      </p:pic>
      <p:pic>
        <p:nvPicPr>
          <p:cNvPr id="1787" name="" descr=""/>
          <p:cNvPicPr/>
          <p:nvPr/>
        </p:nvPicPr>
        <p:blipFill>
          <a:blip r:embed="rId4"/>
          <a:srcRect l="0" t="6083" r="0" b="0"/>
          <a:stretch/>
        </p:blipFill>
        <p:spPr>
          <a:xfrm>
            <a:off x="4654440" y="1649520"/>
            <a:ext cx="3948120" cy="3890880"/>
          </a:xfrm>
          <a:prstGeom prst="rect">
            <a:avLst/>
          </a:prstGeom>
          <a:ln w="0">
            <a:noFill/>
          </a:ln>
        </p:spPr>
      </p:pic>
      <p:grpSp>
        <p:nvGrpSpPr>
          <p:cNvPr id="1788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89" name="" descr=""/>
            <p:cNvPicPr/>
            <p:nvPr/>
          </p:nvPicPr>
          <p:blipFill>
            <a:blip r:embed="rId5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0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9E14-0F6D-4369-98A3-444FCEFECF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particle size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92" name=""/>
          <p:cNvSpPr/>
          <p:nvPr/>
        </p:nvSpPr>
        <p:spPr>
          <a:xfrm>
            <a:off x="4629240" y="4533840"/>
            <a:ext cx="39700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sufficient reduction at inner part of large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470480" y="2079720"/>
            <a:ext cx="416088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maller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igher rate of weigh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Larger weight lo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3"/>
          <a:stretch/>
        </p:blipFill>
        <p:spPr>
          <a:xfrm>
            <a:off x="138240" y="1144440"/>
            <a:ext cx="4410000" cy="4867560"/>
          </a:xfrm>
          <a:prstGeom prst="rect">
            <a:avLst/>
          </a:prstGeom>
          <a:ln w="0">
            <a:noFill/>
          </a:ln>
        </p:spPr>
      </p:pic>
      <p:sp>
        <p:nvSpPr>
          <p:cNvPr id="1795" name=""/>
          <p:cNvSpPr/>
          <p:nvPr/>
        </p:nvSpPr>
        <p:spPr>
          <a:xfrm>
            <a:off x="4675320" y="2705040"/>
            <a:ext cx="649080" cy="300240"/>
          </a:xfrm>
          <a:prstGeom prst="rightArrow">
            <a:avLst>
              <a:gd name="adj1" fmla="val 50000"/>
              <a:gd name="adj2" fmla="val 5404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718160" y="3281400"/>
            <a:ext cx="649080" cy="299880"/>
          </a:xfrm>
          <a:prstGeom prst="rightArrow">
            <a:avLst>
              <a:gd name="adj1" fmla="val 50000"/>
              <a:gd name="adj2" fmla="val 54112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798" name="" descr=""/>
            <p:cNvPicPr/>
            <p:nvPr/>
          </p:nvPicPr>
          <p:blipFill>
            <a:blip r:embed="rId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08F-EC7F-434E-816C-CA4D49F131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1800" y="4519440"/>
            <a:ext cx="7556760" cy="1915920"/>
            <a:chOff x="361800" y="4519440"/>
            <a:chExt cx="7556760" cy="1915920"/>
          </a:xfrm>
        </p:grpSpPr>
        <p:sp>
          <p:nvSpPr>
            <p:cNvPr id="84" name=""/>
            <p:cNvSpPr/>
            <p:nvPr/>
          </p:nvSpPr>
          <p:spPr>
            <a:xfrm>
              <a:off x="361800" y="4519440"/>
              <a:ext cx="7556760" cy="19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2480" y="4574880"/>
              <a:ext cx="1973520" cy="366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Equilibr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5280" y="4993920"/>
              <a:ext cx="263700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cess 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action temper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Yield of produ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ycling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56000" y="4574880"/>
              <a:ext cx="1368360" cy="366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Kine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08240" y="5008320"/>
              <a:ext cx="213516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t transfer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ectrical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action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76840" y="4574880"/>
              <a:ext cx="2071800" cy="366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ＭＳ Ｐゴシック"/>
                </a:rPr>
                <a:t>Plant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08800" y="5022720"/>
              <a:ext cx="22446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te cond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nt sc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endence on terrestrial mat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57520" y="4790880"/>
              <a:ext cx="720720" cy="0"/>
            </a:xfrm>
            <a:prstGeom prst="line">
              <a:avLst/>
            </a:prstGeom>
            <a:ln w="8892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9520" y="4790880"/>
              <a:ext cx="720720" cy="0"/>
            </a:xfrm>
            <a:prstGeom prst="line">
              <a:avLst/>
            </a:prstGeom>
            <a:ln w="8892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866880"/>
            <a:ext cx="22910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5680" y="1382760"/>
            <a:ext cx="86882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Future missions for lunar exploration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arge scale lunar orbiting mission is planed.  (</a:t>
            </a:r>
            <a:r>
              <a:rPr b="1" i="1" lang="en-US" sz="1800" spc="-1" strike="noStrike">
                <a:solidFill>
                  <a:srgbClr val="8000ff"/>
                </a:solidFill>
                <a:latin typeface="Arial"/>
                <a:ea typeface="ＭＳ ゴシック"/>
              </a:rPr>
              <a:t>SELE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unar resource utilization technologies will be much more import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Utilization of lunar environment and re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anned lunar missions require the use of locally derived materi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124080"/>
            <a:ext cx="343872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urpose of th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4280" y="3641760"/>
            <a:ext cx="86454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of appropriate feedstock and process for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vestigation of reaction mechanism of water-production from lunar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6907-CA57-48B2-BEDA-043CC7C78C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RD analysis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801" name=""/>
          <p:cNvSpPr/>
          <p:nvPr/>
        </p:nvSpPr>
        <p:spPr>
          <a:xfrm>
            <a:off x="1292400" y="5076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Before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899320" y="50720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After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2"/>
          <a:srcRect l="0" t="16504" r="3913" b="0"/>
          <a:stretch/>
        </p:blipFill>
        <p:spPr>
          <a:xfrm>
            <a:off x="88920" y="1111320"/>
            <a:ext cx="4419720" cy="3643200"/>
          </a:xfrm>
          <a:prstGeom prst="rect">
            <a:avLst/>
          </a:prstGeom>
          <a:ln w="0">
            <a:noFill/>
          </a:ln>
        </p:spPr>
      </p:pic>
      <p:pic>
        <p:nvPicPr>
          <p:cNvPr id="1804" name="" descr=""/>
          <p:cNvPicPr/>
          <p:nvPr/>
        </p:nvPicPr>
        <p:blipFill>
          <a:blip r:embed="rId3"/>
          <a:srcRect l="0" t="16504" r="3913" b="0"/>
          <a:stretch/>
        </p:blipFill>
        <p:spPr>
          <a:xfrm>
            <a:off x="4551480" y="1098720"/>
            <a:ext cx="4413240" cy="3643200"/>
          </a:xfrm>
          <a:prstGeom prst="rect">
            <a:avLst/>
          </a:prstGeom>
          <a:ln w="0">
            <a:noFill/>
          </a:ln>
        </p:spPr>
      </p:pic>
      <p:grpSp>
        <p:nvGrpSpPr>
          <p:cNvPr id="1805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806" name="" descr=""/>
            <p:cNvPicPr/>
            <p:nvPr/>
          </p:nvPicPr>
          <p:blipFill>
            <a:blip r:embed="rId4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5E57-7A25-494C-8CA3-74932ED684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w rate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809" name=""/>
          <p:cNvSpPr/>
          <p:nvPr/>
        </p:nvSpPr>
        <p:spPr>
          <a:xfrm>
            <a:off x="905040" y="4975200"/>
            <a:ext cx="77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maller hydrogen flow rate              Lower water produc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016000" y="5589720"/>
            <a:ext cx="4954680" cy="87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Higher H</a:t>
            </a:r>
            <a:r>
              <a:rPr b="0" lang="en-US" sz="2400" spc="-1" strike="noStrike" baseline="-25000">
                <a:solidFill>
                  <a:srgbClr val="004080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O concentration in gas phase depresses the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1" name="" descr=""/>
          <p:cNvPicPr/>
          <p:nvPr/>
        </p:nvPicPr>
        <p:blipFill>
          <a:blip r:embed="rId3"/>
          <a:srcRect l="0" t="6517" r="0" b="0"/>
          <a:stretch/>
        </p:blipFill>
        <p:spPr>
          <a:xfrm>
            <a:off x="4616280" y="888840"/>
            <a:ext cx="4189680" cy="3872160"/>
          </a:xfrm>
          <a:prstGeom prst="rect">
            <a:avLst/>
          </a:prstGeom>
          <a:ln w="0">
            <a:noFill/>
          </a:ln>
        </p:spPr>
      </p:pic>
      <p:pic>
        <p:nvPicPr>
          <p:cNvPr id="1812" name="" descr=""/>
          <p:cNvPicPr/>
          <p:nvPr/>
        </p:nvPicPr>
        <p:blipFill>
          <a:blip r:embed="rId4"/>
          <a:srcRect l="0" t="6517" r="0" b="0"/>
          <a:stretch/>
        </p:blipFill>
        <p:spPr>
          <a:xfrm>
            <a:off x="158760" y="901800"/>
            <a:ext cx="4189320" cy="387180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>
            <a:off x="4222800" y="5030640"/>
            <a:ext cx="649080" cy="300240"/>
          </a:xfrm>
          <a:prstGeom prst="rightArrow">
            <a:avLst>
              <a:gd name="adj1" fmla="val 50000"/>
              <a:gd name="adj2" fmla="val 54047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815" name="" descr=""/>
            <p:cNvPicPr/>
            <p:nvPr/>
          </p:nvPicPr>
          <p:blipFill>
            <a:blip r:embed="rId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E550-7D7F-47E7-8C4A-941D7E5553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ample weight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818" name=""/>
          <p:cNvSpPr/>
          <p:nvPr/>
        </p:nvSpPr>
        <p:spPr>
          <a:xfrm>
            <a:off x="1517760" y="5338800"/>
            <a:ext cx="588636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Water-production rate per unit weight is equal in the case of 5 g and 3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" descr=""/>
          <p:cNvPicPr/>
          <p:nvPr/>
        </p:nvPicPr>
        <p:blipFill>
          <a:blip r:embed="rId2"/>
          <a:srcRect l="0" t="3266" r="0" b="0"/>
          <a:stretch/>
        </p:blipFill>
        <p:spPr>
          <a:xfrm>
            <a:off x="4160880" y="785880"/>
            <a:ext cx="4595760" cy="3994200"/>
          </a:xfrm>
          <a:prstGeom prst="rect">
            <a:avLst/>
          </a:prstGeom>
          <a:ln w="0">
            <a:noFill/>
          </a:ln>
        </p:spPr>
      </p:pic>
      <p:pic>
        <p:nvPicPr>
          <p:cNvPr id="1820" name="" descr=""/>
          <p:cNvPicPr/>
          <p:nvPr/>
        </p:nvPicPr>
        <p:blipFill>
          <a:blip r:embed="rId3"/>
          <a:srcRect l="0" t="6532" r="0" b="0"/>
          <a:stretch/>
        </p:blipFill>
        <p:spPr>
          <a:xfrm>
            <a:off x="149400" y="907920"/>
            <a:ext cx="4138560" cy="3859200"/>
          </a:xfrm>
          <a:prstGeom prst="rect">
            <a:avLst/>
          </a:prstGeom>
          <a:ln w="0">
            <a:noFill/>
          </a:ln>
        </p:spPr>
      </p:pic>
      <p:grpSp>
        <p:nvGrpSpPr>
          <p:cNvPr id="1821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822" name="" descr=""/>
            <p:cNvPicPr/>
            <p:nvPr/>
          </p:nvPicPr>
          <p:blipFill>
            <a:blip r:embed="rId4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9492-66DC-473A-8478-E6408F5F0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of resistance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63360" y="1446120"/>
                <a:ext cx="45720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03040" y="871560"/>
            <a:ext cx="33483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rinking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73120" y="5970600"/>
            <a:ext cx="70563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Chemical reaction is rate-controlling st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50920" y="35352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577880" y="3795840"/>
            <a:ext cx="1224000" cy="1152360"/>
          </a:xfrm>
          <a:prstGeom prst="donut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461960" y="3665520"/>
            <a:ext cx="1452600" cy="1424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2728800" y="377964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41520" y="33638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073160" y="386712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2268360" y="4325760"/>
            <a:ext cx="9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843280" y="45435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reacted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073160" y="530856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48000" y="511812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97080" y="438624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879560" y="440064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568520" y="440064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908000" y="532116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619280" y="5291280"/>
            <a:ext cx="61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287360" y="5307120"/>
            <a:ext cx="61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1331640" y="2556000"/>
            <a:ext cx="12708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260028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ＭＳ Ｐゴシック"/>
              </a:rPr>
              <a:t>Gas film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042920" y="3016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traparticl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2484360" y="25272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771640" y="25844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Chemical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4066920" y="2527200"/>
            <a:ext cx="730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58920" y="2527200"/>
            <a:ext cx="93672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340000" y="2527200"/>
            <a:ext cx="1368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924360" y="2527200"/>
            <a:ext cx="714240" cy="18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3" name="" descr=""/>
          <p:cNvPicPr/>
          <p:nvPr/>
        </p:nvPicPr>
        <p:blipFill>
          <a:blip r:embed="rId4"/>
          <a:srcRect l="0" t="17391" r="3258" b="0"/>
          <a:stretch/>
        </p:blipFill>
        <p:spPr>
          <a:xfrm>
            <a:off x="4924440" y="1333440"/>
            <a:ext cx="4056120" cy="3892680"/>
          </a:xfrm>
          <a:prstGeom prst="rect">
            <a:avLst/>
          </a:prstGeom>
          <a:ln w="0">
            <a:noFill/>
          </a:ln>
        </p:spPr>
      </p:pic>
      <p:grpSp>
        <p:nvGrpSpPr>
          <p:cNvPr id="1854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855" name="" descr=""/>
            <p:cNvPicPr/>
            <p:nvPr/>
          </p:nvPicPr>
          <p:blipFill>
            <a:blip r:embed="rId5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6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A7A1-C915-448F-8F46-8B0BBD23E5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ion process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02" name=""/>
          <p:cNvSpPr/>
          <p:nvPr/>
        </p:nvSpPr>
        <p:spPr>
          <a:xfrm>
            <a:off x="1779480" y="13827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Lunar Regol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79360" y="1967040"/>
          <a:ext cx="5543280" cy="2530440"/>
        </p:xfrm>
        <a:graphic>
          <a:graphicData uri="http://schemas.openxmlformats.org/drawingml/2006/table">
            <a:tbl>
              <a:tblPr/>
              <a:tblGrid>
                <a:gridCol w="1617480"/>
                <a:gridCol w="1692360"/>
                <a:gridCol w="223344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me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i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ox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,Mg)Si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v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,Mg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A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A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886280" y="793800"/>
            <a:ext cx="40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ossible Reduc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1273320"/>
            <a:ext cx="3201840" cy="510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, CO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，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ＭＳ Ｐゴシック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, C, 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000" y="4731120"/>
            <a:ext cx="6608520" cy="179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Water-production is a primary concern for lunar resources ut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Selection of adequate feedstock and reducing agents for lunar resources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9600000">
            <a:off x="4130280" y="1165320"/>
            <a:ext cx="887400" cy="581040"/>
          </a:xfrm>
          <a:custGeom>
            <a:avLst/>
            <a:gdLst>
              <a:gd name="textAreaLeft" fmla="*/ 91800 w 887400"/>
              <a:gd name="textAreaRight" fmla="*/ 795600 w 887400"/>
              <a:gd name="textAreaTop" fmla="*/ 176400 h 581040"/>
              <a:gd name="textAreaBottom" fmla="*/ 404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6559"/>
                </a:moveTo>
                <a:lnTo>
                  <a:pt x="15894" y="6559"/>
                </a:lnTo>
                <a:lnTo>
                  <a:pt x="15894" y="0"/>
                </a:lnTo>
                <a:lnTo>
                  <a:pt x="21600" y="10800"/>
                </a:lnTo>
                <a:lnTo>
                  <a:pt x="15894" y="21600"/>
                </a:lnTo>
                <a:lnTo>
                  <a:pt x="15894" y="15041"/>
                </a:lnTo>
                <a:lnTo>
                  <a:pt x="0" y="15041"/>
                </a:lnTo>
                <a:lnTo>
                  <a:pt x="2241" y="10800"/>
                </a:lnTo>
                <a:lnTo>
                  <a:pt x="0" y="655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300000">
            <a:off x="5420880" y="2352600"/>
            <a:ext cx="944640" cy="581040"/>
          </a:xfrm>
          <a:custGeom>
            <a:avLst/>
            <a:gdLst>
              <a:gd name="textAreaLeft" fmla="*/ 97920 w 944640"/>
              <a:gd name="textAreaRight" fmla="*/ 846720 w 944640"/>
              <a:gd name="textAreaTop" fmla="*/ 176400 h 581040"/>
              <a:gd name="textAreaBottom" fmla="*/ 404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6559"/>
                </a:moveTo>
                <a:lnTo>
                  <a:pt x="15894" y="6559"/>
                </a:lnTo>
                <a:lnTo>
                  <a:pt x="15894" y="0"/>
                </a:lnTo>
                <a:lnTo>
                  <a:pt x="21600" y="10800"/>
                </a:lnTo>
                <a:lnTo>
                  <a:pt x="15894" y="21600"/>
                </a:lnTo>
                <a:lnTo>
                  <a:pt x="15894" y="15041"/>
                </a:lnTo>
                <a:lnTo>
                  <a:pt x="0" y="15041"/>
                </a:lnTo>
                <a:lnTo>
                  <a:pt x="2241" y="10800"/>
                </a:lnTo>
                <a:lnTo>
                  <a:pt x="0" y="655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11960" y="2516040"/>
            <a:ext cx="2574720" cy="579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99400" y="4143240"/>
            <a:ext cx="2023920" cy="1522440"/>
            <a:chOff x="6899400" y="4143240"/>
            <a:chExt cx="2023920" cy="1522440"/>
          </a:xfrm>
        </p:grpSpPr>
        <p:sp>
          <p:nvSpPr>
            <p:cNvPr id="114" name=""/>
            <p:cNvSpPr/>
            <p:nvPr/>
          </p:nvSpPr>
          <p:spPr>
            <a:xfrm>
              <a:off x="7748640" y="4786200"/>
              <a:ext cx="2952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48640" y="4793400"/>
              <a:ext cx="2952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8640" y="4800960"/>
              <a:ext cx="2952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48640" y="4808160"/>
              <a:ext cx="29520" cy="7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48640" y="4815720"/>
              <a:ext cx="2952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45040" y="4782600"/>
              <a:ext cx="29520" cy="2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1520" y="4660560"/>
              <a:ext cx="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79080" y="4660560"/>
              <a:ext cx="720" cy="162360"/>
            </a:xfrm>
            <a:prstGeom prst="line">
              <a:avLst/>
            </a:prstGeom>
            <a:ln w="3816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86280" y="4660560"/>
              <a:ext cx="720" cy="162360"/>
            </a:xfrm>
            <a:prstGeom prst="line">
              <a:avLst/>
            </a:prstGeom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3480" y="4660560"/>
              <a:ext cx="720" cy="162360"/>
            </a:xfrm>
            <a:prstGeom prst="line">
              <a:avLst/>
            </a:prstGeom>
            <a:ln w="381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1040" y="4660560"/>
              <a:ext cx="720" cy="162360"/>
            </a:xfrm>
            <a:prstGeom prst="line">
              <a:avLst/>
            </a:prstGeom>
            <a:ln w="381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08600" y="4660560"/>
              <a:ext cx="720" cy="162360"/>
            </a:xfrm>
            <a:prstGeom prst="line">
              <a:avLst/>
            </a:prstGeom>
            <a:ln w="381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15800" y="4660560"/>
              <a:ext cx="720" cy="162360"/>
            </a:xfrm>
            <a:prstGeom prst="line">
              <a:avLst/>
            </a:prstGeom>
            <a:ln w="381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3000" y="4660560"/>
              <a:ext cx="720" cy="162360"/>
            </a:xfrm>
            <a:prstGeom prst="line">
              <a:avLst/>
            </a:prstGeom>
            <a:ln w="381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0560" y="4660560"/>
              <a:ext cx="720" cy="162360"/>
            </a:xfrm>
            <a:prstGeom prst="line">
              <a:avLst/>
            </a:prstGeom>
            <a:ln w="381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38120" y="4660560"/>
              <a:ext cx="720" cy="162360"/>
            </a:xfrm>
            <a:prstGeom prst="line">
              <a:avLst/>
            </a:prstGeom>
            <a:ln w="381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45320" y="4660560"/>
              <a:ext cx="720" cy="162360"/>
            </a:xfrm>
            <a:prstGeom prst="line">
              <a:avLst/>
            </a:prstGeom>
            <a:ln w="38160">
              <a:solidFill>
                <a:srgbClr val="e8e8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2520" y="4660560"/>
              <a:ext cx="720" cy="16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60080" y="4660560"/>
              <a:ext cx="720" cy="16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7640" y="4660560"/>
              <a:ext cx="720" cy="1623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74840" y="4660560"/>
              <a:ext cx="720" cy="162360"/>
            </a:xfrm>
            <a:prstGeom prst="line">
              <a:avLst/>
            </a:prstGeom>
            <a:ln w="38160">
              <a:solidFill>
                <a:srgbClr val="d5d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82400" y="4660560"/>
              <a:ext cx="720" cy="16236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89600" y="4660560"/>
              <a:ext cx="720" cy="162360"/>
            </a:xfrm>
            <a:prstGeom prst="line">
              <a:avLst/>
            </a:prstGeom>
            <a:ln w="381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97160" y="4660560"/>
              <a:ext cx="720" cy="162360"/>
            </a:xfrm>
            <a:prstGeom prst="line">
              <a:avLst/>
            </a:prstGeom>
            <a:ln w="381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04360" y="4660560"/>
              <a:ext cx="720" cy="1623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11920" y="4660560"/>
              <a:ext cx="720" cy="162360"/>
            </a:xfrm>
            <a:prstGeom prst="line">
              <a:avLst/>
            </a:prstGeom>
            <a:ln w="381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19120" y="4660560"/>
              <a:ext cx="720" cy="162360"/>
            </a:xfrm>
            <a:prstGeom prst="line">
              <a:avLst/>
            </a:prstGeom>
            <a:ln w="381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6680" y="4660560"/>
              <a:ext cx="720" cy="16236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33880" y="4660560"/>
              <a:ext cx="720" cy="162360"/>
            </a:xfrm>
            <a:prstGeom prst="line">
              <a:avLst/>
            </a:prstGeom>
            <a:ln w="38160">
              <a:solidFill>
                <a:srgbClr val="2a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41440" y="4660560"/>
              <a:ext cx="720" cy="162360"/>
            </a:xfrm>
            <a:prstGeom prst="line">
              <a:avLst/>
            </a:prstGeom>
            <a:ln w="3816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8640" y="4660560"/>
              <a:ext cx="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67920" y="4656600"/>
              <a:ext cx="177120" cy="16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8160" y="4756680"/>
              <a:ext cx="720" cy="6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85720" y="4756680"/>
              <a:ext cx="720" cy="66240"/>
            </a:xfrm>
            <a:prstGeom prst="line">
              <a:avLst/>
            </a:prstGeom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93280" y="4756680"/>
              <a:ext cx="720" cy="66240"/>
            </a:xfrm>
            <a:prstGeom prst="line">
              <a:avLst/>
            </a:prstGeom>
            <a:ln w="381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00480" y="4756680"/>
              <a:ext cx="720" cy="66240"/>
            </a:xfrm>
            <a:prstGeom prst="line">
              <a:avLst/>
            </a:prstGeom>
            <a:ln w="381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07680" y="4756680"/>
              <a:ext cx="720" cy="66240"/>
            </a:xfrm>
            <a:prstGeom prst="line">
              <a:avLst/>
            </a:prstGeom>
            <a:ln w="381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15240" y="4756680"/>
              <a:ext cx="720" cy="66240"/>
            </a:xfrm>
            <a:prstGeom prst="line">
              <a:avLst/>
            </a:prstGeom>
            <a:ln w="381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22800" y="4756680"/>
              <a:ext cx="720" cy="66240"/>
            </a:xfrm>
            <a:prstGeom prst="line">
              <a:avLst/>
            </a:prstGeom>
            <a:ln w="381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30000" y="4756680"/>
              <a:ext cx="720" cy="66240"/>
            </a:xfrm>
            <a:prstGeom prst="line">
              <a:avLst/>
            </a:prstGeom>
            <a:ln w="381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37200" y="4756680"/>
              <a:ext cx="720" cy="66240"/>
            </a:xfrm>
            <a:prstGeom prst="line">
              <a:avLst/>
            </a:prstGeom>
            <a:ln w="381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4760" y="4756680"/>
              <a:ext cx="720" cy="66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52320" y="4756680"/>
              <a:ext cx="720" cy="66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59520" y="4756680"/>
              <a:ext cx="720" cy="66240"/>
            </a:xfrm>
            <a:prstGeom prst="line">
              <a:avLst/>
            </a:prstGeom>
            <a:ln w="381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66720" y="4756680"/>
              <a:ext cx="720" cy="66240"/>
            </a:xfrm>
            <a:prstGeom prst="line">
              <a:avLst/>
            </a:prstGeom>
            <a:ln w="381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74280" y="4756680"/>
              <a:ext cx="720" cy="66240"/>
            </a:xfrm>
            <a:prstGeom prst="line">
              <a:avLst/>
            </a:prstGeom>
            <a:ln w="381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81840" y="4756680"/>
              <a:ext cx="720" cy="66240"/>
            </a:xfrm>
            <a:prstGeom prst="line">
              <a:avLst/>
            </a:prstGeom>
            <a:ln w="38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9040" y="4756680"/>
              <a:ext cx="720" cy="66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96600" y="4756680"/>
              <a:ext cx="720" cy="66240"/>
            </a:xfrm>
            <a:prstGeom prst="line">
              <a:avLst/>
            </a:prstGeom>
            <a:ln w="381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03800" y="4756680"/>
              <a:ext cx="720" cy="66240"/>
            </a:xfrm>
            <a:prstGeom prst="line">
              <a:avLst/>
            </a:prstGeom>
            <a:ln w="381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1360" y="4756680"/>
              <a:ext cx="720" cy="662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8560" y="4756680"/>
              <a:ext cx="720" cy="66240"/>
            </a:xfrm>
            <a:prstGeom prst="line">
              <a:avLst/>
            </a:prstGeom>
            <a:ln w="381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6120" y="4756680"/>
              <a:ext cx="720" cy="6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4560" y="4752720"/>
              <a:ext cx="147600" cy="6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4560" y="4656600"/>
              <a:ext cx="147600" cy="96120"/>
            </a:xfrm>
            <a:prstGeom prst="roundRect">
              <a:avLst>
                <a:gd name="adj" fmla="val 214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45040" y="4686120"/>
              <a:ext cx="29520" cy="2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71520" y="4631040"/>
              <a:ext cx="35460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1520" y="4638240"/>
              <a:ext cx="354600" cy="72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71520" y="4645800"/>
              <a:ext cx="354600" cy="7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1520" y="4653000"/>
              <a:ext cx="354600" cy="7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71520" y="4660560"/>
              <a:ext cx="35460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67920" y="4627080"/>
              <a:ext cx="354240" cy="29520"/>
            </a:xfrm>
            <a:prstGeom prst="roundRect">
              <a:avLst>
                <a:gd name="adj" fmla="val 4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52040" y="4656600"/>
              <a:ext cx="147600" cy="1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29160" y="4656600"/>
              <a:ext cx="147600" cy="1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2040" y="4560840"/>
              <a:ext cx="324720" cy="95760"/>
            </a:xfrm>
            <a:prstGeom prst="roundRect">
              <a:avLst>
                <a:gd name="adj" fmla="val 214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29160" y="4944960"/>
              <a:ext cx="295200" cy="325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19960" y="4944960"/>
              <a:ext cx="295200" cy="325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38400" y="4819320"/>
              <a:ext cx="767880" cy="2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6840" y="4911840"/>
              <a:ext cx="1056240" cy="517320"/>
            </a:xfrm>
            <a:custGeom>
              <a:avLst/>
              <a:gdLst/>
              <a:ahLst/>
              <a:rect l="l" t="t" r="r" b="b"/>
              <a:pathLst>
                <a:path w="1144" h="560">
                  <a:moveTo>
                    <a:pt x="160" y="0"/>
                  </a:moveTo>
                  <a:lnTo>
                    <a:pt x="0" y="560"/>
                  </a:lnTo>
                  <a:lnTo>
                    <a:pt x="64" y="560"/>
                  </a:lnTo>
                  <a:lnTo>
                    <a:pt x="256" y="104"/>
                  </a:lnTo>
                  <a:lnTo>
                    <a:pt x="896" y="104"/>
                  </a:lnTo>
                  <a:lnTo>
                    <a:pt x="1080" y="560"/>
                  </a:lnTo>
                  <a:lnTo>
                    <a:pt x="1144" y="560"/>
                  </a:lnTo>
                  <a:lnTo>
                    <a:pt x="984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11920" y="5007960"/>
              <a:ext cx="413280" cy="295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0" y="0"/>
                  </a:moveTo>
                  <a:lnTo>
                    <a:pt x="448" y="0"/>
                  </a:lnTo>
                  <a:lnTo>
                    <a:pt x="416" y="32"/>
                  </a:lnTo>
                  <a:lnTo>
                    <a:pt x="3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41440" y="5037480"/>
              <a:ext cx="354240" cy="36720"/>
            </a:xfrm>
            <a:custGeom>
              <a:avLst/>
              <a:gdLst/>
              <a:ahLst/>
              <a:rect l="l" t="t" r="r" b="b"/>
              <a:pathLst>
                <a:path w="384" h="40">
                  <a:moveTo>
                    <a:pt x="0" y="0"/>
                  </a:moveTo>
                  <a:lnTo>
                    <a:pt x="32" y="40"/>
                  </a:lnTo>
                  <a:lnTo>
                    <a:pt x="352" y="40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5074200"/>
              <a:ext cx="295200" cy="29520"/>
            </a:xfrm>
            <a:custGeom>
              <a:avLst/>
              <a:gdLst/>
              <a:ahLst/>
              <a:rect l="l" t="t" r="r" b="b"/>
              <a:pathLst>
                <a:path w="320" h="32">
                  <a:moveTo>
                    <a:pt x="0" y="0"/>
                  </a:moveTo>
                  <a:lnTo>
                    <a:pt x="32" y="32"/>
                  </a:lnTo>
                  <a:lnTo>
                    <a:pt x="288" y="32"/>
                  </a:lnTo>
                  <a:lnTo>
                    <a:pt x="3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04080" y="5107680"/>
              <a:ext cx="228600" cy="2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5040" y="5203800"/>
              <a:ext cx="347040" cy="2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11920" y="5236920"/>
              <a:ext cx="413280" cy="295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32" y="0"/>
                  </a:moveTo>
                  <a:lnTo>
                    <a:pt x="0" y="32"/>
                  </a:lnTo>
                  <a:lnTo>
                    <a:pt x="448" y="32"/>
                  </a:lnTo>
                  <a:lnTo>
                    <a:pt x="41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0960" y="5140800"/>
              <a:ext cx="295200" cy="29520"/>
            </a:xfrm>
            <a:custGeom>
              <a:avLst/>
              <a:gdLst/>
              <a:ahLst/>
              <a:rect l="l" t="t" r="r" b="b"/>
              <a:pathLst>
                <a:path w="320" h="32">
                  <a:moveTo>
                    <a:pt x="32" y="0"/>
                  </a:moveTo>
                  <a:lnTo>
                    <a:pt x="0" y="32"/>
                  </a:lnTo>
                  <a:lnTo>
                    <a:pt x="320" y="32"/>
                  </a:lnTo>
                  <a:lnTo>
                    <a:pt x="28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1440" y="5170320"/>
              <a:ext cx="354240" cy="2952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32" y="0"/>
                  </a:moveTo>
                  <a:lnTo>
                    <a:pt x="0" y="32"/>
                  </a:lnTo>
                  <a:lnTo>
                    <a:pt x="384" y="32"/>
                  </a:lnTo>
                  <a:lnTo>
                    <a:pt x="35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0960" y="4845240"/>
              <a:ext cx="295200" cy="36720"/>
            </a:xfrm>
            <a:custGeom>
              <a:avLst/>
              <a:gdLst/>
              <a:ahLst/>
              <a:rect l="l" t="t" r="r" b="b"/>
              <a:pathLst>
                <a:path w="320" h="40">
                  <a:moveTo>
                    <a:pt x="32" y="0"/>
                  </a:moveTo>
                  <a:lnTo>
                    <a:pt x="0" y="40"/>
                  </a:lnTo>
                  <a:lnTo>
                    <a:pt x="320" y="40"/>
                  </a:lnTo>
                  <a:lnTo>
                    <a:pt x="28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1440" y="4882320"/>
              <a:ext cx="354240" cy="2952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32" y="0"/>
                  </a:moveTo>
                  <a:lnTo>
                    <a:pt x="0" y="32"/>
                  </a:lnTo>
                  <a:lnTo>
                    <a:pt x="384" y="32"/>
                  </a:lnTo>
                  <a:lnTo>
                    <a:pt x="35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29160" y="4848840"/>
              <a:ext cx="177120" cy="6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38400" y="4848840"/>
              <a:ext cx="177120" cy="6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11080" y="4560840"/>
              <a:ext cx="236160" cy="25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1520" y="4564440"/>
              <a:ext cx="34704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1520" y="4572000"/>
              <a:ext cx="347040" cy="720"/>
            </a:xfrm>
            <a:prstGeom prst="line">
              <a:avLst/>
            </a:prstGeom>
            <a:ln w="381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71520" y="4579200"/>
              <a:ext cx="347040" cy="72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71520" y="4586400"/>
              <a:ext cx="347040" cy="7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71520" y="4593960"/>
              <a:ext cx="347040" cy="7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71520" y="4601520"/>
              <a:ext cx="347040" cy="720"/>
            </a:xfrm>
            <a:prstGeom prst="line">
              <a:avLst/>
            </a:prstGeom>
            <a:ln w="3816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71520" y="4608720"/>
              <a:ext cx="347040" cy="7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71520" y="4615920"/>
              <a:ext cx="347040" cy="720"/>
            </a:xfrm>
            <a:prstGeom prst="line">
              <a:avLst/>
            </a:prstGeom>
            <a:ln w="381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1520" y="4623480"/>
              <a:ext cx="3470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3960" y="4556880"/>
              <a:ext cx="354240" cy="66600"/>
            </a:xfrm>
            <a:custGeom>
              <a:avLst/>
              <a:gdLst/>
              <a:ahLst/>
              <a:rect l="l" t="t" r="r" b="b"/>
              <a:pathLst>
                <a:path w="384" h="72">
                  <a:moveTo>
                    <a:pt x="0" y="0"/>
                  </a:moveTo>
                  <a:lnTo>
                    <a:pt x="384" y="0"/>
                  </a:lnTo>
                  <a:lnTo>
                    <a:pt x="360" y="24"/>
                  </a:lnTo>
                  <a:lnTo>
                    <a:pt x="312" y="48"/>
                  </a:lnTo>
                  <a:lnTo>
                    <a:pt x="256" y="64"/>
                  </a:lnTo>
                  <a:lnTo>
                    <a:pt x="184" y="72"/>
                  </a:lnTo>
                  <a:lnTo>
                    <a:pt x="120" y="64"/>
                  </a:lnTo>
                  <a:lnTo>
                    <a:pt x="56" y="48"/>
                  </a:lnTo>
                  <a:lnTo>
                    <a:pt x="16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177040" y="4409280"/>
              <a:ext cx="132840" cy="147240"/>
              <a:chOff x="8177040" y="4409280"/>
              <a:chExt cx="132840" cy="147240"/>
            </a:xfrm>
          </p:grpSpPr>
          <p:sp>
            <p:nvSpPr>
              <p:cNvPr id="207" name=""/>
              <p:cNvSpPr/>
              <p:nvPr/>
            </p:nvSpPr>
            <p:spPr>
              <a:xfrm>
                <a:off x="8184240" y="44607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64" h="104">
                    <a:moveTo>
                      <a:pt x="32" y="0"/>
                    </a:moveTo>
                    <a:lnTo>
                      <a:pt x="0" y="104"/>
                    </a:lnTo>
                    <a:lnTo>
                      <a:pt x="64" y="104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21320" y="4424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32"/>
                    </a:moveTo>
                    <a:lnTo>
                      <a:pt x="72" y="0"/>
                    </a:lnTo>
                    <a:lnTo>
                      <a:pt x="48" y="7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77040" y="4409280"/>
                <a:ext cx="132840" cy="13284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8" y="0"/>
                    </a:moveTo>
                    <a:lnTo>
                      <a:pt x="0" y="16"/>
                    </a:lnTo>
                    <a:lnTo>
                      <a:pt x="0" y="48"/>
                    </a:lnTo>
                    <a:lnTo>
                      <a:pt x="40" y="104"/>
                    </a:lnTo>
                    <a:lnTo>
                      <a:pt x="96" y="136"/>
                    </a:lnTo>
                    <a:lnTo>
                      <a:pt x="120" y="144"/>
                    </a:lnTo>
                    <a:lnTo>
                      <a:pt x="144" y="13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770960" y="4143240"/>
              <a:ext cx="376560" cy="399600"/>
              <a:chOff x="7770960" y="4143240"/>
              <a:chExt cx="376560" cy="399600"/>
            </a:xfrm>
          </p:grpSpPr>
          <p:sp>
            <p:nvSpPr>
              <p:cNvPr id="211" name=""/>
              <p:cNvSpPr/>
              <p:nvPr/>
            </p:nvSpPr>
            <p:spPr>
              <a:xfrm>
                <a:off x="7903800" y="4298400"/>
                <a:ext cx="243720" cy="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03800" y="4305960"/>
                <a:ext cx="243720" cy="72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03800" y="4313160"/>
                <a:ext cx="243720" cy="720"/>
              </a:xfrm>
              <a:prstGeom prst="line">
                <a:avLst/>
              </a:prstGeom>
              <a:ln w="38160">
                <a:solidFill>
                  <a:srgbClr val="f0f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03800" y="4320360"/>
                <a:ext cx="243720" cy="720"/>
              </a:xfrm>
              <a:prstGeom prst="line">
                <a:avLst/>
              </a:prstGeom>
              <a:ln w="38160">
                <a:solidFill>
                  <a:srgbClr val="e8e8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03800" y="4327920"/>
                <a:ext cx="243720" cy="720"/>
              </a:xfrm>
              <a:prstGeom prst="line">
                <a:avLst/>
              </a:prstGeom>
              <a:ln w="381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03800" y="4335480"/>
                <a:ext cx="243720" cy="720"/>
              </a:xfrm>
              <a:prstGeom prst="line">
                <a:avLst/>
              </a:prstGeom>
              <a:ln w="381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03800" y="4342680"/>
                <a:ext cx="243720" cy="720"/>
              </a:xfrm>
              <a:prstGeom prst="line">
                <a:avLst/>
              </a:prstGeom>
              <a:ln w="38160">
                <a:solidFill>
                  <a:srgbClr val="d1d1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03800" y="4349880"/>
                <a:ext cx="243720" cy="720"/>
              </a:xfrm>
              <a:prstGeom prst="line">
                <a:avLst/>
              </a:prstGeom>
              <a:ln w="38160">
                <a:solidFill>
                  <a:srgbClr val="c9c9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03800" y="4357440"/>
                <a:ext cx="243720" cy="720"/>
              </a:xfrm>
              <a:prstGeom prst="line">
                <a:avLst/>
              </a:prstGeom>
              <a:ln w="38160">
                <a:solidFill>
                  <a:srgbClr val="c1c1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03800" y="4365000"/>
                <a:ext cx="243720" cy="720"/>
              </a:xfrm>
              <a:prstGeom prst="line">
                <a:avLst/>
              </a:prstGeom>
              <a:ln w="38160">
                <a:solidFill>
                  <a:srgbClr val="baba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3800" y="4372200"/>
                <a:ext cx="243720" cy="72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03800" y="4379400"/>
                <a:ext cx="243720" cy="720"/>
              </a:xfrm>
              <a:prstGeom prst="line">
                <a:avLst/>
              </a:prstGeom>
              <a:ln w="381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03800" y="4386960"/>
                <a:ext cx="243720" cy="720"/>
              </a:xfrm>
              <a:prstGeom prst="line">
                <a:avLst/>
              </a:prstGeom>
              <a:ln w="381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03800" y="4394520"/>
                <a:ext cx="243720" cy="720"/>
              </a:xfrm>
              <a:prstGeom prst="line">
                <a:avLst/>
              </a:prstGeom>
              <a:ln w="38160">
                <a:solidFill>
                  <a:srgbClr val="9b9b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903800" y="4401720"/>
                <a:ext cx="243720" cy="720"/>
              </a:xfrm>
              <a:prstGeom prst="line">
                <a:avLst/>
              </a:prstGeom>
              <a:ln w="38160">
                <a:solidFill>
                  <a:srgbClr val="9393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03800" y="4409280"/>
                <a:ext cx="243720" cy="720"/>
              </a:xfrm>
              <a:prstGeom prst="line">
                <a:avLst/>
              </a:prstGeom>
              <a:ln w="38160">
                <a:solidFill>
                  <a:srgbClr val="8b8b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03800" y="4416480"/>
                <a:ext cx="243720" cy="720"/>
              </a:xfrm>
              <a:prstGeom prst="line">
                <a:avLst/>
              </a:prstGeom>
              <a:ln w="38160">
                <a:solidFill>
                  <a:srgbClr val="838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03800" y="4424040"/>
                <a:ext cx="243720" cy="720"/>
              </a:xfrm>
              <a:prstGeom prst="line">
                <a:avLst/>
              </a:prstGeom>
              <a:ln w="38160">
                <a:solidFill>
                  <a:srgbClr val="7c7c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03800" y="4431240"/>
                <a:ext cx="243720" cy="720"/>
              </a:xfrm>
              <a:prstGeom prst="line">
                <a:avLst/>
              </a:prstGeom>
              <a:ln w="38160">
                <a:solidFill>
                  <a:srgbClr val="7474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03800" y="4438800"/>
                <a:ext cx="243720" cy="720"/>
              </a:xfrm>
              <a:prstGeom prst="line">
                <a:avLst/>
              </a:prstGeom>
              <a:ln w="38160">
                <a:solidFill>
                  <a:srgbClr val="6c6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03800" y="4446360"/>
                <a:ext cx="243720" cy="720"/>
              </a:xfrm>
              <a:prstGeom prst="line">
                <a:avLst/>
              </a:prstGeom>
              <a:ln w="3816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03800" y="4453560"/>
                <a:ext cx="243720" cy="720"/>
              </a:xfrm>
              <a:prstGeom prst="line">
                <a:avLst/>
              </a:prstGeom>
              <a:ln w="38160">
                <a:solidFill>
                  <a:srgbClr val="5d5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03800" y="4460760"/>
                <a:ext cx="243720" cy="720"/>
              </a:xfrm>
              <a:prstGeom prst="line">
                <a:avLst/>
              </a:prstGeom>
              <a:ln w="38160">
                <a:solidFill>
                  <a:srgbClr val="5555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03800" y="4468320"/>
                <a:ext cx="243720" cy="7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03800" y="4475880"/>
                <a:ext cx="243720" cy="720"/>
              </a:xfrm>
              <a:prstGeom prst="line">
                <a:avLst/>
              </a:prstGeom>
              <a:ln w="38160">
                <a:solidFill>
                  <a:srgbClr val="4545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03800" y="4483080"/>
                <a:ext cx="243720" cy="720"/>
              </a:xfrm>
              <a:prstGeom prst="line">
                <a:avLst/>
              </a:prstGeom>
              <a:ln w="38160">
                <a:solidFill>
                  <a:srgbClr val="3e3e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03800" y="4490640"/>
                <a:ext cx="243720" cy="720"/>
              </a:xfrm>
              <a:prstGeom prst="line">
                <a:avLst/>
              </a:prstGeom>
              <a:ln w="38160">
                <a:solidFill>
                  <a:srgbClr val="3636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03800" y="4497840"/>
                <a:ext cx="243720" cy="720"/>
              </a:xfrm>
              <a:prstGeom prst="line">
                <a:avLst/>
              </a:prstGeom>
              <a:ln w="381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3800" y="4505400"/>
                <a:ext cx="243720" cy="720"/>
              </a:xfrm>
              <a:prstGeom prst="line">
                <a:avLst/>
              </a:prstGeom>
              <a:ln w="381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03800" y="4512600"/>
                <a:ext cx="243720" cy="720"/>
              </a:xfrm>
              <a:prstGeom prst="line">
                <a:avLst/>
              </a:prstGeom>
              <a:ln w="38160">
                <a:solidFill>
                  <a:srgbClr val="1f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03800" y="4520160"/>
                <a:ext cx="243720" cy="720"/>
              </a:xfrm>
              <a:prstGeom prst="line">
                <a:avLst/>
              </a:prstGeom>
              <a:ln w="38160">
                <a:solidFill>
                  <a:srgbClr val="1717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903800" y="4527360"/>
                <a:ext cx="243720" cy="720"/>
              </a:xfrm>
              <a:prstGeom prst="line">
                <a:avLst/>
              </a:prstGeom>
              <a:ln w="38160">
                <a:solidFill>
                  <a:srgbClr val="0f0f0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03800" y="4534920"/>
                <a:ext cx="243720" cy="720"/>
              </a:xfrm>
              <a:prstGeom prst="line">
                <a:avLst/>
              </a:prstGeom>
              <a:ln w="38160">
                <a:solidFill>
                  <a:srgbClr val="0707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03800" y="4542120"/>
                <a:ext cx="2437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96600" y="4290840"/>
                <a:ext cx="250920" cy="250920"/>
              </a:xfrm>
              <a:custGeom>
                <a:avLst/>
                <a:gdLst/>
                <a:ahLst/>
                <a:rect l="l" t="t" r="r" b="b"/>
                <a:pathLst>
                  <a:path w="272" h="272">
                    <a:moveTo>
                      <a:pt x="0" y="272"/>
                    </a:moveTo>
                    <a:lnTo>
                      <a:pt x="272" y="0"/>
                    </a:lnTo>
                    <a:lnTo>
                      <a:pt x="272" y="32"/>
                    </a:lnTo>
                    <a:lnTo>
                      <a:pt x="256" y="80"/>
                    </a:lnTo>
                    <a:lnTo>
                      <a:pt x="224" y="128"/>
                    </a:lnTo>
                    <a:lnTo>
                      <a:pt x="184" y="184"/>
                    </a:lnTo>
                    <a:lnTo>
                      <a:pt x="128" y="224"/>
                    </a:lnTo>
                    <a:lnTo>
                      <a:pt x="80" y="256"/>
                    </a:lnTo>
                    <a:lnTo>
                      <a:pt x="32" y="272"/>
                    </a:lnTo>
                    <a:lnTo>
                      <a:pt x="0" y="27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07680" y="4187520"/>
                <a:ext cx="332280" cy="332640"/>
              </a:xfrm>
              <a:custGeom>
                <a:avLst/>
                <a:gdLst/>
                <a:ahLst/>
                <a:rect l="l" t="t" r="r" b="b"/>
                <a:pathLst>
                  <a:path w="360" h="360">
                    <a:moveTo>
                      <a:pt x="128" y="360"/>
                    </a:moveTo>
                    <a:lnTo>
                      <a:pt x="0" y="48"/>
                    </a:lnTo>
                    <a:lnTo>
                      <a:pt x="40" y="0"/>
                    </a:lnTo>
                    <a:lnTo>
                      <a:pt x="360" y="136"/>
                    </a:lnTo>
                    <a:lnTo>
                      <a:pt x="128" y="36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85360" y="4158000"/>
                <a:ext cx="66240" cy="738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1600" h="24052">
                    <a:moveTo>
                      <a:pt x="0" y="0"/>
                    </a:moveTo>
                    <a:arcTo wR="0" hR="0" stAng="16200000" swAng="-5400000"/>
                    <a:lnTo>
                      <a:pt x="0" y="24052"/>
                    </a:lnTo>
                    <a:arcTo wR="0" hR="0" stAng="10800000" swAng="-5400000"/>
                    <a:lnTo>
                      <a:pt x="21600" y="2405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70960" y="4143240"/>
                <a:ext cx="88560" cy="885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48" y="0"/>
                    </a:moveTo>
                    <a:lnTo>
                      <a:pt x="96" y="48"/>
                    </a:lnTo>
                    <a:lnTo>
                      <a:pt x="48" y="96"/>
                    </a:lnTo>
                    <a:lnTo>
                      <a:pt x="0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7264080" y="5376960"/>
              <a:ext cx="70920" cy="7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248960" y="5369760"/>
              <a:ext cx="78480" cy="81000"/>
            </a:xfrm>
            <a:prstGeom prst="line">
              <a:avLst/>
            </a:prstGeom>
            <a:ln w="25560">
              <a:solidFill>
                <a:srgbClr val="07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234560" y="5446800"/>
              <a:ext cx="4320" cy="4320"/>
            </a:xfrm>
            <a:prstGeom prst="line">
              <a:avLst/>
            </a:prstGeom>
            <a:ln w="25560">
              <a:solidFill>
                <a:srgbClr val="0f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220520" y="5432400"/>
              <a:ext cx="18360" cy="1836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220520" y="5432400"/>
              <a:ext cx="18360" cy="1836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205760" y="5416560"/>
              <a:ext cx="33120" cy="3420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191000" y="5401080"/>
              <a:ext cx="47880" cy="500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191000" y="5401080"/>
              <a:ext cx="47880" cy="5004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176960" y="5387040"/>
              <a:ext cx="61920" cy="63720"/>
            </a:xfrm>
            <a:prstGeom prst="line">
              <a:avLst/>
            </a:prstGeom>
            <a:ln w="255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162560" y="5371200"/>
              <a:ext cx="76320" cy="79560"/>
            </a:xfrm>
            <a:prstGeom prst="line">
              <a:avLst/>
            </a:prstGeom>
            <a:ln w="2556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147440" y="5356080"/>
              <a:ext cx="91440" cy="9504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147440" y="5356080"/>
              <a:ext cx="91440" cy="9504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133760" y="5341680"/>
              <a:ext cx="105120" cy="10908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119000" y="5326560"/>
              <a:ext cx="119880" cy="12456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119000" y="5326560"/>
              <a:ext cx="119880" cy="12456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104240" y="5317920"/>
              <a:ext cx="127440" cy="1328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090560" y="5317920"/>
              <a:ext cx="127080" cy="132840"/>
            </a:xfrm>
            <a:prstGeom prst="line">
              <a:avLst/>
            </a:prstGeom>
            <a:ln w="255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075440" y="5317920"/>
              <a:ext cx="127440" cy="13284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075440" y="5317920"/>
              <a:ext cx="127440" cy="13284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68960" y="5318280"/>
              <a:ext cx="119880" cy="12528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068960" y="5318280"/>
              <a:ext cx="105120" cy="109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68960" y="5318280"/>
              <a:ext cx="105120" cy="10944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068960" y="5318280"/>
              <a:ext cx="90360" cy="950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068960" y="5318280"/>
              <a:ext cx="76320" cy="7992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068960" y="5317920"/>
              <a:ext cx="61920" cy="6444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068960" y="5317920"/>
              <a:ext cx="61920" cy="6444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068960" y="5318280"/>
              <a:ext cx="46800" cy="49680"/>
            </a:xfrm>
            <a:prstGeom prst="line">
              <a:avLst/>
            </a:prstGeom>
            <a:ln w="255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68960" y="5317920"/>
              <a:ext cx="33120" cy="3492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68960" y="5317920"/>
              <a:ext cx="33120" cy="3492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068960" y="5317920"/>
              <a:ext cx="18360" cy="1908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068960" y="5318280"/>
              <a:ext cx="3600" cy="432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068960" y="5207040"/>
              <a:ext cx="95760" cy="10044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068960" y="5207040"/>
              <a:ext cx="95760" cy="100440"/>
            </a:xfrm>
            <a:prstGeom prst="line">
              <a:avLst/>
            </a:prstGeom>
            <a:ln w="2556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068960" y="5199840"/>
              <a:ext cx="88560" cy="92160"/>
            </a:xfrm>
            <a:prstGeom prst="line">
              <a:avLst/>
            </a:prstGeom>
            <a:ln w="255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068960" y="5192640"/>
              <a:ext cx="81360" cy="84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68960" y="5318280"/>
              <a:ext cx="177120" cy="13284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lnTo>
                    <a:pt x="32" y="144"/>
                  </a:lnTo>
                  <a:lnTo>
                    <a:pt x="160" y="144"/>
                  </a:lnTo>
                  <a:lnTo>
                    <a:pt x="192" y="72"/>
                  </a:lnTo>
                  <a:lnTo>
                    <a:pt x="128" y="112"/>
                  </a:lnTo>
                  <a:lnTo>
                    <a:pt x="64" y="72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20240" y="4601520"/>
              <a:ext cx="258480" cy="26604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8" y="280"/>
                  </a:moveTo>
                  <a:lnTo>
                    <a:pt x="8" y="280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0" y="16"/>
                  </a:lnTo>
                  <a:lnTo>
                    <a:pt x="280" y="24"/>
                  </a:lnTo>
                  <a:lnTo>
                    <a:pt x="280" y="24"/>
                  </a:lnTo>
                  <a:lnTo>
                    <a:pt x="280" y="32"/>
                  </a:lnTo>
                  <a:lnTo>
                    <a:pt x="32" y="280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6" y="288"/>
                  </a:lnTo>
                  <a:lnTo>
                    <a:pt x="16" y="288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8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27800" y="4860000"/>
              <a:ext cx="72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20240" y="4601520"/>
              <a:ext cx="250920" cy="258480"/>
            </a:xfrm>
            <a:custGeom>
              <a:avLst/>
              <a:gdLst/>
              <a:ahLst/>
              <a:rect l="l" t="t" r="r" b="b"/>
              <a:pathLst>
                <a:path w="272" h="280">
                  <a:moveTo>
                    <a:pt x="8" y="272"/>
                  </a:moveTo>
                  <a:lnTo>
                    <a:pt x="8" y="272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8" y="248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272" y="16"/>
                  </a:lnTo>
                  <a:lnTo>
                    <a:pt x="272" y="24"/>
                  </a:lnTo>
                  <a:lnTo>
                    <a:pt x="272" y="24"/>
                  </a:lnTo>
                  <a:lnTo>
                    <a:pt x="272" y="32"/>
                  </a:lnTo>
                  <a:lnTo>
                    <a:pt x="32" y="272"/>
                  </a:lnTo>
                  <a:lnTo>
                    <a:pt x="24" y="280"/>
                  </a:lnTo>
                  <a:lnTo>
                    <a:pt x="24" y="280"/>
                  </a:lnTo>
                  <a:lnTo>
                    <a:pt x="16" y="280"/>
                  </a:lnTo>
                  <a:lnTo>
                    <a:pt x="16" y="280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72"/>
                  </a:lnTo>
                  <a:close/>
                </a:path>
              </a:pathLst>
            </a:custGeom>
            <a:noFill/>
            <a:ln w="38160">
              <a:solidFill>
                <a:srgbClr val="0a0a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27800" y="4852440"/>
              <a:ext cx="720" cy="720"/>
            </a:xfrm>
            <a:prstGeom prst="line">
              <a:avLst/>
            </a:prstGeom>
            <a:ln w="381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27800" y="4601520"/>
              <a:ext cx="243720" cy="25092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8" y="264"/>
                  </a:moveTo>
                  <a:lnTo>
                    <a:pt x="8" y="264"/>
                  </a:lnTo>
                  <a:lnTo>
                    <a:pt x="0" y="256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8" y="240"/>
                  </a:lnTo>
                  <a:lnTo>
                    <a:pt x="8" y="240"/>
                  </a:lnTo>
                  <a:lnTo>
                    <a:pt x="240" y="8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4" y="8"/>
                  </a:lnTo>
                  <a:lnTo>
                    <a:pt x="264" y="8"/>
                  </a:lnTo>
                  <a:lnTo>
                    <a:pt x="264" y="8"/>
                  </a:lnTo>
                  <a:lnTo>
                    <a:pt x="264" y="16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32"/>
                  </a:lnTo>
                  <a:lnTo>
                    <a:pt x="32" y="264"/>
                  </a:lnTo>
                  <a:lnTo>
                    <a:pt x="24" y="272"/>
                  </a:lnTo>
                  <a:lnTo>
                    <a:pt x="24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8" y="272"/>
                  </a:lnTo>
                  <a:lnTo>
                    <a:pt x="8" y="264"/>
                  </a:lnTo>
                  <a:lnTo>
                    <a:pt x="8" y="264"/>
                  </a:lnTo>
                  <a:close/>
                </a:path>
              </a:pathLst>
            </a:custGeom>
            <a:noFill/>
            <a:ln w="38160">
              <a:solidFill>
                <a:srgbClr val="1515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35000" y="4845240"/>
              <a:ext cx="720" cy="720"/>
            </a:xfrm>
            <a:prstGeom prst="line">
              <a:avLst/>
            </a:prstGeom>
            <a:ln w="3816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35000" y="4608720"/>
              <a:ext cx="228960" cy="23616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8" y="248"/>
                  </a:moveTo>
                  <a:lnTo>
                    <a:pt x="8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8" y="224"/>
                  </a:lnTo>
                  <a:lnTo>
                    <a:pt x="8" y="224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48" y="16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248" y="32"/>
                  </a:lnTo>
                  <a:lnTo>
                    <a:pt x="32" y="248"/>
                  </a:lnTo>
                  <a:lnTo>
                    <a:pt x="24" y="256"/>
                  </a:lnTo>
                  <a:lnTo>
                    <a:pt x="24" y="256"/>
                  </a:lnTo>
                  <a:lnTo>
                    <a:pt x="16" y="256"/>
                  </a:lnTo>
                  <a:lnTo>
                    <a:pt x="16" y="256"/>
                  </a:lnTo>
                  <a:lnTo>
                    <a:pt x="8" y="256"/>
                  </a:lnTo>
                  <a:lnTo>
                    <a:pt x="8" y="248"/>
                  </a:lnTo>
                  <a:lnTo>
                    <a:pt x="8" y="248"/>
                  </a:lnTo>
                  <a:close/>
                </a:path>
              </a:pathLst>
            </a:custGeom>
            <a:noFill/>
            <a:ln w="38160">
              <a:solidFill>
                <a:srgbClr val="1f1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42560" y="4838040"/>
              <a:ext cx="720" cy="720"/>
            </a:xfrm>
            <a:prstGeom prst="line">
              <a:avLst/>
            </a:prstGeom>
            <a:ln w="38160">
              <a:solidFill>
                <a:srgbClr val="1f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42560" y="4608720"/>
              <a:ext cx="221400" cy="228960"/>
            </a:xfrm>
            <a:custGeom>
              <a:avLst/>
              <a:gdLst/>
              <a:ahLst/>
              <a:rect l="l" t="t" r="r" b="b"/>
              <a:pathLst>
                <a:path w="240" h="248">
                  <a:moveTo>
                    <a:pt x="8" y="240"/>
                  </a:moveTo>
                  <a:lnTo>
                    <a:pt x="8" y="240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24"/>
                  </a:lnTo>
                  <a:lnTo>
                    <a:pt x="8" y="22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8"/>
                  </a:lnTo>
                  <a:lnTo>
                    <a:pt x="240" y="8"/>
                  </a:lnTo>
                  <a:lnTo>
                    <a:pt x="240" y="8"/>
                  </a:lnTo>
                  <a:lnTo>
                    <a:pt x="240" y="16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" y="240"/>
                  </a:lnTo>
                  <a:lnTo>
                    <a:pt x="24" y="248"/>
                  </a:lnTo>
                  <a:lnTo>
                    <a:pt x="24" y="248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8" y="248"/>
                  </a:lnTo>
                  <a:lnTo>
                    <a:pt x="8" y="240"/>
                  </a:lnTo>
                  <a:lnTo>
                    <a:pt x="8" y="240"/>
                  </a:lnTo>
                  <a:close/>
                </a:path>
              </a:pathLst>
            </a:custGeom>
            <a:noFill/>
            <a:ln w="38160">
              <a:solidFill>
                <a:srgbClr val="2a2a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9760" y="4830480"/>
              <a:ext cx="720" cy="720"/>
            </a:xfrm>
            <a:prstGeom prst="line">
              <a:avLst/>
            </a:prstGeom>
            <a:ln w="38160">
              <a:solidFill>
                <a:srgbClr val="2a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9760" y="4608720"/>
              <a:ext cx="214200" cy="221400"/>
            </a:xfrm>
            <a:custGeom>
              <a:avLst/>
              <a:gdLst/>
              <a:ahLst/>
              <a:rect l="l" t="t" r="r" b="b"/>
              <a:pathLst>
                <a:path w="232" h="240">
                  <a:moveTo>
                    <a:pt x="8" y="232"/>
                  </a:moveTo>
                  <a:lnTo>
                    <a:pt x="8" y="232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8"/>
                  </a:lnTo>
                  <a:lnTo>
                    <a:pt x="232" y="8"/>
                  </a:lnTo>
                  <a:lnTo>
                    <a:pt x="232" y="8"/>
                  </a:lnTo>
                  <a:lnTo>
                    <a:pt x="232" y="16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4" y="232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8" y="240"/>
                  </a:lnTo>
                  <a:lnTo>
                    <a:pt x="8" y="232"/>
                  </a:lnTo>
                  <a:lnTo>
                    <a:pt x="8" y="232"/>
                  </a:lnTo>
                  <a:close/>
                </a:path>
              </a:pathLst>
            </a:custGeom>
            <a:noFill/>
            <a:ln w="38160">
              <a:solidFill>
                <a:srgbClr val="3535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57320" y="4822920"/>
              <a:ext cx="720" cy="720"/>
            </a:xfrm>
            <a:prstGeom prst="line">
              <a:avLst/>
            </a:prstGeom>
            <a:ln w="381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57320" y="4615920"/>
              <a:ext cx="199440" cy="206640"/>
            </a:xfrm>
            <a:custGeom>
              <a:avLst/>
              <a:gdLst/>
              <a:ahLst/>
              <a:rect l="l" t="t" r="r" b="b"/>
              <a:pathLst>
                <a:path w="216" h="224">
                  <a:moveTo>
                    <a:pt x="8" y="216"/>
                  </a:moveTo>
                  <a:lnTo>
                    <a:pt x="8" y="216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16" y="16"/>
                  </a:lnTo>
                  <a:lnTo>
                    <a:pt x="216" y="16"/>
                  </a:lnTo>
                  <a:lnTo>
                    <a:pt x="216" y="16"/>
                  </a:lnTo>
                  <a:lnTo>
                    <a:pt x="216" y="24"/>
                  </a:lnTo>
                  <a:lnTo>
                    <a:pt x="24" y="216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8" y="224"/>
                  </a:lnTo>
                  <a:lnTo>
                    <a:pt x="8" y="216"/>
                  </a:lnTo>
                  <a:lnTo>
                    <a:pt x="8" y="216"/>
                  </a:lnTo>
                  <a:close/>
                </a:path>
              </a:pathLst>
            </a:custGeom>
            <a:noFill/>
            <a:ln w="381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64880" y="4815720"/>
              <a:ext cx="720" cy="72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64880" y="4615920"/>
              <a:ext cx="191880" cy="19944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8" y="208"/>
                  </a:moveTo>
                  <a:lnTo>
                    <a:pt x="8" y="208"/>
                  </a:lnTo>
                  <a:lnTo>
                    <a:pt x="0" y="20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8" y="24"/>
                  </a:lnTo>
                  <a:lnTo>
                    <a:pt x="24" y="208"/>
                  </a:lnTo>
                  <a:lnTo>
                    <a:pt x="16" y="216"/>
                  </a:lnTo>
                  <a:lnTo>
                    <a:pt x="16" y="216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8" y="208"/>
                  </a:lnTo>
                  <a:lnTo>
                    <a:pt x="8" y="208"/>
                  </a:lnTo>
                  <a:close/>
                </a:path>
              </a:pathLst>
            </a:custGeom>
            <a:noFill/>
            <a:ln w="38160">
              <a:solidFill>
                <a:srgbClr val="4a4a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2080" y="4808160"/>
              <a:ext cx="720" cy="720"/>
            </a:xfrm>
            <a:prstGeom prst="line">
              <a:avLst/>
            </a:prstGeom>
            <a:ln w="381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72080" y="4623480"/>
              <a:ext cx="177120" cy="184320"/>
            </a:xfrm>
            <a:custGeom>
              <a:avLst/>
              <a:gdLst/>
              <a:ahLst/>
              <a:rect l="l" t="t" r="r" b="b"/>
              <a:pathLst>
                <a:path w="192" h="200">
                  <a:moveTo>
                    <a:pt x="8" y="192"/>
                  </a:moveTo>
                  <a:lnTo>
                    <a:pt x="8" y="192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16"/>
                  </a:lnTo>
                  <a:lnTo>
                    <a:pt x="192" y="16"/>
                  </a:lnTo>
                  <a:lnTo>
                    <a:pt x="192" y="24"/>
                  </a:lnTo>
                  <a:lnTo>
                    <a:pt x="24" y="192"/>
                  </a:lnTo>
                  <a:lnTo>
                    <a:pt x="16" y="200"/>
                  </a:lnTo>
                  <a:lnTo>
                    <a:pt x="16" y="200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8" y="192"/>
                  </a:lnTo>
                  <a:lnTo>
                    <a:pt x="8" y="192"/>
                  </a:lnTo>
                  <a:close/>
                </a:path>
              </a:pathLst>
            </a:custGeom>
            <a:noFill/>
            <a:ln w="381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79280" y="4800960"/>
              <a:ext cx="720" cy="720"/>
            </a:xfrm>
            <a:prstGeom prst="line">
              <a:avLst/>
            </a:prstGeom>
            <a:ln w="381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79280" y="4623480"/>
              <a:ext cx="169920" cy="177120"/>
            </a:xfrm>
            <a:custGeom>
              <a:avLst/>
              <a:gdLst/>
              <a:ahLst/>
              <a:rect l="l" t="t" r="r" b="b"/>
              <a:pathLst>
                <a:path w="184" h="192">
                  <a:moveTo>
                    <a:pt x="8" y="184"/>
                  </a:moveTo>
                  <a:lnTo>
                    <a:pt x="8" y="184"/>
                  </a:lnTo>
                  <a:lnTo>
                    <a:pt x="0" y="18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4" y="24"/>
                  </a:lnTo>
                  <a:lnTo>
                    <a:pt x="24" y="184"/>
                  </a:lnTo>
                  <a:lnTo>
                    <a:pt x="16" y="192"/>
                  </a:lnTo>
                  <a:lnTo>
                    <a:pt x="16" y="192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8" y="184"/>
                  </a:lnTo>
                  <a:lnTo>
                    <a:pt x="8" y="184"/>
                  </a:lnTo>
                  <a:close/>
                </a:path>
              </a:pathLst>
            </a:custGeom>
            <a:noFill/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86840" y="4793400"/>
              <a:ext cx="720" cy="72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86840" y="4623480"/>
              <a:ext cx="162360" cy="169560"/>
            </a:xfrm>
            <a:custGeom>
              <a:avLst/>
              <a:gdLst/>
              <a:ahLst/>
              <a:rect l="l" t="t" r="r" b="b"/>
              <a:pathLst>
                <a:path w="176" h="184">
                  <a:moveTo>
                    <a:pt x="8" y="176"/>
                  </a:moveTo>
                  <a:lnTo>
                    <a:pt x="8" y="176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6" y="16"/>
                  </a:lnTo>
                  <a:lnTo>
                    <a:pt x="176" y="16"/>
                  </a:lnTo>
                  <a:lnTo>
                    <a:pt x="176" y="24"/>
                  </a:lnTo>
                  <a:lnTo>
                    <a:pt x="24" y="176"/>
                  </a:lnTo>
                  <a:lnTo>
                    <a:pt x="16" y="184"/>
                  </a:lnTo>
                  <a:lnTo>
                    <a:pt x="16" y="184"/>
                  </a:lnTo>
                  <a:lnTo>
                    <a:pt x="8" y="184"/>
                  </a:lnTo>
                  <a:lnTo>
                    <a:pt x="8" y="184"/>
                  </a:lnTo>
                  <a:lnTo>
                    <a:pt x="8" y="184"/>
                  </a:lnTo>
                  <a:lnTo>
                    <a:pt x="8" y="176"/>
                  </a:lnTo>
                  <a:lnTo>
                    <a:pt x="8" y="176"/>
                  </a:lnTo>
                  <a:close/>
                </a:path>
              </a:pathLst>
            </a:custGeom>
            <a:noFill/>
            <a:ln w="38160">
              <a:solidFill>
                <a:srgbClr val="6a6a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94400" y="4786200"/>
              <a:ext cx="720" cy="720"/>
            </a:xfrm>
            <a:prstGeom prst="line">
              <a:avLst/>
            </a:prstGeom>
            <a:ln w="381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94400" y="4631040"/>
              <a:ext cx="147600" cy="155160"/>
            </a:xfrm>
            <a:custGeom>
              <a:avLst/>
              <a:gdLst/>
              <a:ahLst/>
              <a:rect l="l" t="t" r="r" b="b"/>
              <a:pathLst>
                <a:path w="160" h="168">
                  <a:moveTo>
                    <a:pt x="8" y="160"/>
                  </a:moveTo>
                  <a:lnTo>
                    <a:pt x="8" y="160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6" y="160"/>
                  </a:lnTo>
                  <a:lnTo>
                    <a:pt x="16" y="168"/>
                  </a:lnTo>
                  <a:lnTo>
                    <a:pt x="16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0"/>
                  </a:lnTo>
                  <a:lnTo>
                    <a:pt x="8" y="160"/>
                  </a:lnTo>
                  <a:close/>
                </a:path>
              </a:pathLst>
            </a:custGeom>
            <a:noFill/>
            <a:ln w="38160">
              <a:solidFill>
                <a:srgbClr val="75757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01600" y="4778640"/>
              <a:ext cx="720" cy="720"/>
            </a:xfrm>
            <a:prstGeom prst="line">
              <a:avLst/>
            </a:prstGeom>
            <a:ln w="381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01600" y="4631040"/>
              <a:ext cx="140040" cy="147600"/>
            </a:xfrm>
            <a:custGeom>
              <a:avLst/>
              <a:gdLst/>
              <a:ahLst/>
              <a:rect l="l" t="t" r="r" b="b"/>
              <a:pathLst>
                <a:path w="152" h="160">
                  <a:moveTo>
                    <a:pt x="8" y="152"/>
                  </a:moveTo>
                  <a:lnTo>
                    <a:pt x="8" y="152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6" y="152"/>
                  </a:lnTo>
                  <a:lnTo>
                    <a:pt x="16" y="160"/>
                  </a:lnTo>
                  <a:lnTo>
                    <a:pt x="16" y="160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152"/>
                  </a:lnTo>
                  <a:lnTo>
                    <a:pt x="8" y="152"/>
                  </a:lnTo>
                  <a:close/>
                </a:path>
              </a:pathLst>
            </a:custGeom>
            <a:noFill/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08800" y="4771440"/>
              <a:ext cx="720" cy="72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08800" y="4638240"/>
              <a:ext cx="125640" cy="13284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0" y="144"/>
                  </a:moveTo>
                  <a:lnTo>
                    <a:pt x="0" y="14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6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381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08800" y="4771440"/>
              <a:ext cx="720" cy="720"/>
            </a:xfrm>
            <a:prstGeom prst="line">
              <a:avLst/>
            </a:prstGeom>
            <a:ln w="381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16360" y="4638240"/>
              <a:ext cx="118080" cy="125640"/>
            </a:xfrm>
            <a:custGeom>
              <a:avLst/>
              <a:gdLst/>
              <a:ahLst/>
              <a:rect l="l" t="t" r="r" b="b"/>
              <a:pathLst>
                <a:path w="128" h="136">
                  <a:moveTo>
                    <a:pt x="0" y="136"/>
                  </a:moveTo>
                  <a:lnTo>
                    <a:pt x="0" y="13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16"/>
                  </a:lnTo>
                  <a:lnTo>
                    <a:pt x="16" y="136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noFill/>
            <a:ln w="38160">
              <a:solidFill>
                <a:srgbClr val="9595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16360" y="4763880"/>
              <a:ext cx="720" cy="720"/>
            </a:xfrm>
            <a:prstGeom prst="line">
              <a:avLst/>
            </a:prstGeom>
            <a:ln w="381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23920" y="4638240"/>
              <a:ext cx="110520" cy="11808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0" y="128"/>
                  </a:moveTo>
                  <a:lnTo>
                    <a:pt x="0" y="12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120" y="16"/>
                  </a:lnTo>
                  <a:lnTo>
                    <a:pt x="16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noFill/>
            <a:ln w="38160">
              <a:solidFill>
                <a:srgbClr val="9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23920" y="4756680"/>
              <a:ext cx="720" cy="720"/>
            </a:xfrm>
            <a:prstGeom prst="line">
              <a:avLst/>
            </a:prstGeom>
            <a:ln w="381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31120" y="4645800"/>
              <a:ext cx="95760" cy="103320"/>
            </a:xfrm>
            <a:custGeom>
              <a:avLst/>
              <a:gdLst/>
              <a:ahLst/>
              <a:rect l="l" t="t" r="r" b="b"/>
              <a:pathLst>
                <a:path w="104" h="112">
                  <a:moveTo>
                    <a:pt x="0" y="112"/>
                  </a:moveTo>
                  <a:lnTo>
                    <a:pt x="0" y="11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16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3816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31120" y="4749120"/>
              <a:ext cx="720" cy="720"/>
            </a:xfrm>
            <a:prstGeom prst="line">
              <a:avLst/>
            </a:prstGeom>
            <a:ln w="381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38320" y="4645800"/>
              <a:ext cx="88560" cy="9612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0" y="104"/>
                  </a:moveTo>
                  <a:lnTo>
                    <a:pt x="0" y="10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3816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38320" y="4741920"/>
              <a:ext cx="720" cy="720"/>
            </a:xfrm>
            <a:prstGeom prst="line">
              <a:avLst/>
            </a:prstGeom>
            <a:ln w="381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45880" y="4653000"/>
              <a:ext cx="73440" cy="8100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88"/>
                  </a:moveTo>
                  <a:lnTo>
                    <a:pt x="0" y="8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381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5880" y="4734360"/>
              <a:ext cx="720" cy="72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3440" y="4653000"/>
              <a:ext cx="66240" cy="734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80"/>
                  </a:moveTo>
                  <a:lnTo>
                    <a:pt x="0" y="8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38160">
              <a:solidFill>
                <a:srgbClr val="ca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53440" y="4726800"/>
              <a:ext cx="720" cy="720"/>
            </a:xfrm>
            <a:prstGeom prst="line">
              <a:avLst/>
            </a:prstGeom>
            <a:ln w="381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0640" y="4653000"/>
              <a:ext cx="59040" cy="66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38160">
              <a:solidFill>
                <a:srgbClr val="d5d5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60640" y="4719600"/>
              <a:ext cx="720" cy="720"/>
            </a:xfrm>
            <a:prstGeom prst="line">
              <a:avLst/>
            </a:prstGeom>
            <a:ln w="38160">
              <a:solidFill>
                <a:srgbClr val="d5d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67840" y="4660560"/>
              <a:ext cx="44280" cy="5148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38160">
              <a:solidFill>
                <a:srgbClr val="dfd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67840" y="4712400"/>
              <a:ext cx="720" cy="720"/>
            </a:xfrm>
            <a:prstGeom prst="line">
              <a:avLst/>
            </a:prstGeom>
            <a:ln w="381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75400" y="4660560"/>
              <a:ext cx="36720" cy="442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0" y="48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75400" y="4704840"/>
              <a:ext cx="720" cy="7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82960" y="4667760"/>
              <a:ext cx="21960" cy="295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0" y="32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38160">
              <a:solidFill>
                <a:srgbClr val="f5f5f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82960" y="4697280"/>
              <a:ext cx="720" cy="720"/>
            </a:xfrm>
            <a:prstGeom prst="line">
              <a:avLst/>
            </a:prstGeom>
            <a:ln w="38160">
              <a:solidFill>
                <a:srgbClr val="f5f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90160" y="4667760"/>
              <a:ext cx="14760" cy="219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90160" y="4690080"/>
              <a:ext cx="72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82960" y="4660560"/>
              <a:ext cx="14760" cy="219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3040" y="4593960"/>
              <a:ext cx="258120" cy="26604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8" y="280"/>
                  </a:moveTo>
                  <a:lnTo>
                    <a:pt x="8" y="280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0" y="16"/>
                  </a:lnTo>
                  <a:lnTo>
                    <a:pt x="280" y="24"/>
                  </a:lnTo>
                  <a:lnTo>
                    <a:pt x="280" y="24"/>
                  </a:lnTo>
                  <a:lnTo>
                    <a:pt x="280" y="32"/>
                  </a:lnTo>
                  <a:lnTo>
                    <a:pt x="32" y="280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6" y="288"/>
                  </a:lnTo>
                  <a:lnTo>
                    <a:pt x="16" y="288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8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61760" y="4852440"/>
              <a:ext cx="273240" cy="280800"/>
            </a:xfrm>
            <a:custGeom>
              <a:avLst/>
              <a:gdLst/>
              <a:ahLst/>
              <a:rect l="l" t="t" r="r" b="b"/>
              <a:pathLst>
                <a:path w="296" h="304">
                  <a:moveTo>
                    <a:pt x="8" y="296"/>
                  </a:moveTo>
                  <a:lnTo>
                    <a:pt x="8" y="296"/>
                  </a:lnTo>
                  <a:lnTo>
                    <a:pt x="0" y="288"/>
                  </a:lnTo>
                  <a:lnTo>
                    <a:pt x="0" y="280"/>
                  </a:lnTo>
                  <a:lnTo>
                    <a:pt x="8" y="272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8" y="0"/>
                  </a:lnTo>
                  <a:lnTo>
                    <a:pt x="296" y="8"/>
                  </a:lnTo>
                  <a:lnTo>
                    <a:pt x="296" y="8"/>
                  </a:lnTo>
                  <a:lnTo>
                    <a:pt x="296" y="8"/>
                  </a:lnTo>
                  <a:lnTo>
                    <a:pt x="296" y="16"/>
                  </a:lnTo>
                  <a:lnTo>
                    <a:pt x="296" y="24"/>
                  </a:lnTo>
                  <a:lnTo>
                    <a:pt x="296" y="32"/>
                  </a:lnTo>
                  <a:lnTo>
                    <a:pt x="296" y="32"/>
                  </a:lnTo>
                  <a:lnTo>
                    <a:pt x="32" y="296"/>
                  </a:lnTo>
                  <a:lnTo>
                    <a:pt x="24" y="304"/>
                  </a:lnTo>
                  <a:lnTo>
                    <a:pt x="24" y="304"/>
                  </a:lnTo>
                  <a:lnTo>
                    <a:pt x="16" y="304"/>
                  </a:lnTo>
                  <a:lnTo>
                    <a:pt x="16" y="304"/>
                  </a:lnTo>
                  <a:lnTo>
                    <a:pt x="8" y="304"/>
                  </a:lnTo>
                  <a:lnTo>
                    <a:pt x="8" y="296"/>
                  </a:lnTo>
                  <a:lnTo>
                    <a:pt x="8" y="29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68960" y="5126040"/>
              <a:ext cx="72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68960" y="4852440"/>
              <a:ext cx="258480" cy="273240"/>
            </a:xfrm>
            <a:custGeom>
              <a:avLst/>
              <a:gdLst/>
              <a:ahLst/>
              <a:rect l="l" t="t" r="r" b="b"/>
              <a:pathLst>
                <a:path w="280" h="296">
                  <a:moveTo>
                    <a:pt x="8" y="288"/>
                  </a:moveTo>
                  <a:lnTo>
                    <a:pt x="8" y="288"/>
                  </a:lnTo>
                  <a:lnTo>
                    <a:pt x="0" y="280"/>
                  </a:lnTo>
                  <a:lnTo>
                    <a:pt x="0" y="272"/>
                  </a:lnTo>
                  <a:lnTo>
                    <a:pt x="8" y="264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0" y="16"/>
                  </a:lnTo>
                  <a:lnTo>
                    <a:pt x="280" y="24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32" y="288"/>
                  </a:lnTo>
                  <a:lnTo>
                    <a:pt x="24" y="296"/>
                  </a:lnTo>
                  <a:lnTo>
                    <a:pt x="24" y="296"/>
                  </a:lnTo>
                  <a:lnTo>
                    <a:pt x="16" y="296"/>
                  </a:lnTo>
                  <a:lnTo>
                    <a:pt x="16" y="296"/>
                  </a:lnTo>
                  <a:lnTo>
                    <a:pt x="8" y="296"/>
                  </a:lnTo>
                  <a:lnTo>
                    <a:pt x="8" y="288"/>
                  </a:lnTo>
                  <a:lnTo>
                    <a:pt x="8" y="288"/>
                  </a:lnTo>
                  <a:close/>
                </a:path>
              </a:pathLst>
            </a:custGeom>
            <a:noFill/>
            <a:ln w="38160">
              <a:solidFill>
                <a:srgbClr val="0a0a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76520" y="5118840"/>
              <a:ext cx="720" cy="720"/>
            </a:xfrm>
            <a:prstGeom prst="line">
              <a:avLst/>
            </a:prstGeom>
            <a:ln w="381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76520" y="4852440"/>
              <a:ext cx="250920" cy="266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8" y="280"/>
                  </a:moveTo>
                  <a:lnTo>
                    <a:pt x="8" y="280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8" y="256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272" y="16"/>
                  </a:lnTo>
                  <a:lnTo>
                    <a:pt x="272" y="24"/>
                  </a:lnTo>
                  <a:lnTo>
                    <a:pt x="272" y="32"/>
                  </a:lnTo>
                  <a:lnTo>
                    <a:pt x="272" y="32"/>
                  </a:lnTo>
                  <a:lnTo>
                    <a:pt x="32" y="280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6" y="288"/>
                  </a:lnTo>
                  <a:lnTo>
                    <a:pt x="16" y="288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80"/>
                  </a:lnTo>
                  <a:close/>
                </a:path>
              </a:pathLst>
            </a:custGeom>
            <a:noFill/>
            <a:ln w="38160">
              <a:solidFill>
                <a:srgbClr val="1414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4080" y="5111280"/>
              <a:ext cx="720" cy="720"/>
            </a:xfrm>
            <a:prstGeom prst="line">
              <a:avLst/>
            </a:prstGeom>
            <a:ln w="381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4080" y="4860000"/>
              <a:ext cx="236160" cy="25128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8" y="264"/>
                  </a:moveTo>
                  <a:lnTo>
                    <a:pt x="8" y="264"/>
                  </a:lnTo>
                  <a:lnTo>
                    <a:pt x="0" y="256"/>
                  </a:lnTo>
                  <a:lnTo>
                    <a:pt x="0" y="248"/>
                  </a:lnTo>
                  <a:lnTo>
                    <a:pt x="8" y="240"/>
                  </a:lnTo>
                  <a:lnTo>
                    <a:pt x="232" y="8"/>
                  </a:lnTo>
                  <a:lnTo>
                    <a:pt x="232" y="8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256" y="16"/>
                  </a:lnTo>
                  <a:lnTo>
                    <a:pt x="256" y="24"/>
                  </a:lnTo>
                  <a:lnTo>
                    <a:pt x="256" y="32"/>
                  </a:lnTo>
                  <a:lnTo>
                    <a:pt x="256" y="32"/>
                  </a:lnTo>
                  <a:lnTo>
                    <a:pt x="24" y="264"/>
                  </a:lnTo>
                  <a:lnTo>
                    <a:pt x="24" y="272"/>
                  </a:lnTo>
                  <a:lnTo>
                    <a:pt x="24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8" y="272"/>
                  </a:lnTo>
                  <a:lnTo>
                    <a:pt x="8" y="264"/>
                  </a:lnTo>
                  <a:lnTo>
                    <a:pt x="8" y="264"/>
                  </a:lnTo>
                  <a:close/>
                </a:path>
              </a:pathLst>
            </a:custGeom>
            <a:noFill/>
            <a:ln w="38160">
              <a:solidFill>
                <a:srgbClr val="1e1e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91280" y="5104080"/>
              <a:ext cx="720" cy="720"/>
            </a:xfrm>
            <a:prstGeom prst="line">
              <a:avLst/>
            </a:prstGeom>
            <a:ln w="381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1280" y="4860000"/>
              <a:ext cx="228960" cy="243720"/>
            </a:xfrm>
            <a:custGeom>
              <a:avLst/>
              <a:gdLst/>
              <a:ahLst/>
              <a:rect l="l" t="t" r="r" b="b"/>
              <a:pathLst>
                <a:path w="248" h="264">
                  <a:moveTo>
                    <a:pt x="8" y="256"/>
                  </a:moveTo>
                  <a:lnTo>
                    <a:pt x="8" y="256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8" y="240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48" y="16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24" y="256"/>
                  </a:lnTo>
                  <a:lnTo>
                    <a:pt x="24" y="264"/>
                  </a:lnTo>
                  <a:lnTo>
                    <a:pt x="24" y="264"/>
                  </a:lnTo>
                  <a:lnTo>
                    <a:pt x="16" y="264"/>
                  </a:lnTo>
                  <a:lnTo>
                    <a:pt x="16" y="264"/>
                  </a:lnTo>
                  <a:lnTo>
                    <a:pt x="8" y="264"/>
                  </a:lnTo>
                  <a:lnTo>
                    <a:pt x="8" y="256"/>
                  </a:lnTo>
                  <a:lnTo>
                    <a:pt x="8" y="256"/>
                  </a:lnTo>
                  <a:close/>
                </a:path>
              </a:pathLst>
            </a:custGeom>
            <a:noFill/>
            <a:ln w="38160">
              <a:solidFill>
                <a:srgbClr val="282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8840" y="5096520"/>
              <a:ext cx="720" cy="720"/>
            </a:xfrm>
            <a:prstGeom prst="line">
              <a:avLst/>
            </a:prstGeom>
            <a:ln w="38160">
              <a:solidFill>
                <a:srgbClr val="28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98840" y="4860000"/>
              <a:ext cx="221400" cy="236160"/>
            </a:xfrm>
            <a:custGeom>
              <a:avLst/>
              <a:gdLst/>
              <a:ahLst/>
              <a:rect l="l" t="t" r="r" b="b"/>
              <a:pathLst>
                <a:path w="240" h="256">
                  <a:moveTo>
                    <a:pt x="8" y="248"/>
                  </a:moveTo>
                  <a:lnTo>
                    <a:pt x="8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8" y="232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8"/>
                  </a:lnTo>
                  <a:lnTo>
                    <a:pt x="240" y="8"/>
                  </a:lnTo>
                  <a:lnTo>
                    <a:pt x="240" y="8"/>
                  </a:lnTo>
                  <a:lnTo>
                    <a:pt x="240" y="16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" y="248"/>
                  </a:lnTo>
                  <a:lnTo>
                    <a:pt x="16" y="256"/>
                  </a:lnTo>
                  <a:lnTo>
                    <a:pt x="16" y="256"/>
                  </a:lnTo>
                  <a:lnTo>
                    <a:pt x="16" y="256"/>
                  </a:lnTo>
                  <a:lnTo>
                    <a:pt x="16" y="256"/>
                  </a:lnTo>
                  <a:lnTo>
                    <a:pt x="8" y="256"/>
                  </a:lnTo>
                  <a:lnTo>
                    <a:pt x="8" y="248"/>
                  </a:lnTo>
                  <a:lnTo>
                    <a:pt x="8" y="248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06040" y="5088960"/>
              <a:ext cx="720" cy="7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06040" y="4867560"/>
              <a:ext cx="206640" cy="221400"/>
            </a:xfrm>
            <a:custGeom>
              <a:avLst/>
              <a:gdLst/>
              <a:ahLst/>
              <a:rect l="l" t="t" r="r" b="b"/>
              <a:pathLst>
                <a:path w="224" h="240">
                  <a:moveTo>
                    <a:pt x="8" y="232"/>
                  </a:moveTo>
                  <a:lnTo>
                    <a:pt x="8" y="232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16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24"/>
                  </a:lnTo>
                  <a:lnTo>
                    <a:pt x="224" y="24"/>
                  </a:lnTo>
                  <a:lnTo>
                    <a:pt x="24" y="232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8" y="240"/>
                  </a:lnTo>
                  <a:lnTo>
                    <a:pt x="8" y="232"/>
                  </a:lnTo>
                  <a:lnTo>
                    <a:pt x="8" y="232"/>
                  </a:lnTo>
                  <a:close/>
                </a:path>
              </a:pathLst>
            </a:custGeom>
            <a:noFill/>
            <a:ln w="3816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13600" y="5081760"/>
              <a:ext cx="720" cy="720"/>
            </a:xfrm>
            <a:prstGeom prst="line">
              <a:avLst/>
            </a:prstGeom>
            <a:ln w="381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13600" y="4867560"/>
              <a:ext cx="199440" cy="214200"/>
            </a:xfrm>
            <a:custGeom>
              <a:avLst/>
              <a:gdLst/>
              <a:ahLst/>
              <a:rect l="l" t="t" r="r" b="b"/>
              <a:pathLst>
                <a:path w="216" h="232">
                  <a:moveTo>
                    <a:pt x="8" y="224"/>
                  </a:moveTo>
                  <a:lnTo>
                    <a:pt x="8" y="224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8" y="208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16" y="16"/>
                  </a:lnTo>
                  <a:lnTo>
                    <a:pt x="216" y="16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4" y="224"/>
                  </a:lnTo>
                  <a:lnTo>
                    <a:pt x="16" y="232"/>
                  </a:lnTo>
                  <a:lnTo>
                    <a:pt x="16" y="232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8" y="232"/>
                  </a:lnTo>
                  <a:lnTo>
                    <a:pt x="8" y="224"/>
                  </a:lnTo>
                  <a:lnTo>
                    <a:pt x="8" y="224"/>
                  </a:lnTo>
                  <a:close/>
                </a:path>
              </a:pathLst>
            </a:custGeom>
            <a:noFill/>
            <a:ln w="3816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20800" y="5074200"/>
              <a:ext cx="720" cy="720"/>
            </a:xfrm>
            <a:prstGeom prst="line">
              <a:avLst/>
            </a:prstGeom>
            <a:ln w="381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20800" y="4874760"/>
              <a:ext cx="184680" cy="199080"/>
            </a:xfrm>
            <a:custGeom>
              <a:avLst/>
              <a:gdLst/>
              <a:ahLst/>
              <a:rect l="l" t="t" r="r" b="b"/>
              <a:pathLst>
                <a:path w="200" h="216">
                  <a:moveTo>
                    <a:pt x="8" y="208"/>
                  </a:moveTo>
                  <a:lnTo>
                    <a:pt x="8" y="208"/>
                  </a:lnTo>
                  <a:lnTo>
                    <a:pt x="0" y="208"/>
                  </a:lnTo>
                  <a:lnTo>
                    <a:pt x="0" y="200"/>
                  </a:lnTo>
                  <a:lnTo>
                    <a:pt x="8" y="192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200" y="16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4" y="208"/>
                  </a:lnTo>
                  <a:lnTo>
                    <a:pt x="16" y="216"/>
                  </a:lnTo>
                  <a:lnTo>
                    <a:pt x="16" y="216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8" y="208"/>
                  </a:lnTo>
                  <a:lnTo>
                    <a:pt x="8" y="208"/>
                  </a:lnTo>
                  <a:close/>
                </a:path>
              </a:pathLst>
            </a:custGeom>
            <a:noFill/>
            <a:ln w="3816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28360" y="5067000"/>
              <a:ext cx="720" cy="720"/>
            </a:xfrm>
            <a:prstGeom prst="line">
              <a:avLst/>
            </a:prstGeom>
            <a:ln w="381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28360" y="4874760"/>
              <a:ext cx="177120" cy="19188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8" y="200"/>
                  </a:moveTo>
                  <a:lnTo>
                    <a:pt x="8" y="200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8" y="184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92" y="16"/>
                  </a:lnTo>
                  <a:lnTo>
                    <a:pt x="192" y="24"/>
                  </a:lnTo>
                  <a:lnTo>
                    <a:pt x="192" y="24"/>
                  </a:lnTo>
                  <a:lnTo>
                    <a:pt x="24" y="200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8" y="200"/>
                  </a:lnTo>
                  <a:lnTo>
                    <a:pt x="8" y="200"/>
                  </a:lnTo>
                  <a:close/>
                </a:path>
              </a:pathLst>
            </a:custGeom>
            <a:noFill/>
            <a:ln w="38160">
              <a:solidFill>
                <a:srgbClr val="5c5c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5560" y="5059440"/>
              <a:ext cx="720" cy="720"/>
            </a:xfrm>
            <a:prstGeom prst="line">
              <a:avLst/>
            </a:prstGeom>
            <a:ln w="381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35560" y="4874760"/>
              <a:ext cx="169560" cy="184680"/>
            </a:xfrm>
            <a:custGeom>
              <a:avLst/>
              <a:gdLst/>
              <a:ahLst/>
              <a:rect l="l" t="t" r="r" b="b"/>
              <a:pathLst>
                <a:path w="184" h="200">
                  <a:moveTo>
                    <a:pt x="8" y="192"/>
                  </a:moveTo>
                  <a:lnTo>
                    <a:pt x="8" y="192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8" y="176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84" y="16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6" y="192"/>
                  </a:lnTo>
                  <a:lnTo>
                    <a:pt x="16" y="200"/>
                  </a:lnTo>
                  <a:lnTo>
                    <a:pt x="16" y="200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8" y="192"/>
                  </a:lnTo>
                  <a:lnTo>
                    <a:pt x="8" y="192"/>
                  </a:lnTo>
                  <a:close/>
                </a:path>
              </a:pathLst>
            </a:custGeom>
            <a:noFill/>
            <a:ln w="381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43120" y="5052240"/>
              <a:ext cx="720" cy="720"/>
            </a:xfrm>
            <a:prstGeom prst="line">
              <a:avLst/>
            </a:prstGeom>
            <a:ln w="381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43120" y="4882320"/>
              <a:ext cx="155160" cy="169920"/>
            </a:xfrm>
            <a:custGeom>
              <a:avLst/>
              <a:gdLst/>
              <a:ahLst/>
              <a:rect l="l" t="t" r="r" b="b"/>
              <a:pathLst>
                <a:path w="168" h="184">
                  <a:moveTo>
                    <a:pt x="8" y="176"/>
                  </a:moveTo>
                  <a:lnTo>
                    <a:pt x="8" y="176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8" y="16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" y="176"/>
                  </a:lnTo>
                  <a:lnTo>
                    <a:pt x="16" y="184"/>
                  </a:lnTo>
                  <a:lnTo>
                    <a:pt x="16" y="184"/>
                  </a:lnTo>
                  <a:lnTo>
                    <a:pt x="8" y="184"/>
                  </a:lnTo>
                  <a:lnTo>
                    <a:pt x="8" y="184"/>
                  </a:lnTo>
                  <a:lnTo>
                    <a:pt x="8" y="184"/>
                  </a:lnTo>
                  <a:lnTo>
                    <a:pt x="8" y="176"/>
                  </a:lnTo>
                  <a:lnTo>
                    <a:pt x="8" y="176"/>
                  </a:lnTo>
                  <a:close/>
                </a:path>
              </a:pathLst>
            </a:custGeom>
            <a:noFill/>
            <a:ln w="3816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50680" y="5044680"/>
              <a:ext cx="720" cy="720"/>
            </a:xfrm>
            <a:prstGeom prst="line">
              <a:avLst/>
            </a:prstGeom>
            <a:ln w="381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50680" y="4882320"/>
              <a:ext cx="147600" cy="162360"/>
            </a:xfrm>
            <a:custGeom>
              <a:avLst/>
              <a:gdLst/>
              <a:ahLst/>
              <a:rect l="l" t="t" r="r" b="b"/>
              <a:pathLst>
                <a:path w="160" h="176">
                  <a:moveTo>
                    <a:pt x="8" y="168"/>
                  </a:moveTo>
                  <a:lnTo>
                    <a:pt x="8" y="168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8" y="16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6" y="168"/>
                  </a:lnTo>
                  <a:lnTo>
                    <a:pt x="16" y="176"/>
                  </a:lnTo>
                  <a:lnTo>
                    <a:pt x="16" y="176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8" y="168"/>
                  </a:lnTo>
                  <a:lnTo>
                    <a:pt x="8" y="168"/>
                  </a:lnTo>
                  <a:close/>
                </a:path>
              </a:pathLst>
            </a:custGeom>
            <a:noFill/>
            <a:ln w="38160">
              <a:solidFill>
                <a:srgbClr val="7a7a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57880" y="5037480"/>
              <a:ext cx="720" cy="720"/>
            </a:xfrm>
            <a:prstGeom prst="line">
              <a:avLst/>
            </a:prstGeom>
            <a:ln w="38160">
              <a:solidFill>
                <a:srgbClr val="7a7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57880" y="4882320"/>
              <a:ext cx="140040" cy="155160"/>
            </a:xfrm>
            <a:custGeom>
              <a:avLst/>
              <a:gdLst/>
              <a:ahLst/>
              <a:rect l="l" t="t" r="r" b="b"/>
              <a:pathLst>
                <a:path w="152" h="168">
                  <a:moveTo>
                    <a:pt x="8" y="160"/>
                  </a:moveTo>
                  <a:lnTo>
                    <a:pt x="8" y="160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8" y="152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6" y="160"/>
                  </a:lnTo>
                  <a:lnTo>
                    <a:pt x="16" y="168"/>
                  </a:lnTo>
                  <a:lnTo>
                    <a:pt x="16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0"/>
                  </a:lnTo>
                  <a:lnTo>
                    <a:pt x="8" y="160"/>
                  </a:lnTo>
                  <a:close/>
                </a:path>
              </a:pathLst>
            </a:custGeom>
            <a:noFill/>
            <a:ln w="3816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65080" y="5029920"/>
              <a:ext cx="720" cy="720"/>
            </a:xfrm>
            <a:prstGeom prst="line">
              <a:avLst/>
            </a:prstGeom>
            <a:ln w="38160">
              <a:solidFill>
                <a:srgbClr val="85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5080" y="4889520"/>
              <a:ext cx="125640" cy="140040"/>
            </a:xfrm>
            <a:custGeom>
              <a:avLst/>
              <a:gdLst/>
              <a:ahLst/>
              <a:rect l="l" t="t" r="r" b="b"/>
              <a:pathLst>
                <a:path w="136" h="152">
                  <a:moveTo>
                    <a:pt x="0" y="152"/>
                  </a:moveTo>
                  <a:lnTo>
                    <a:pt x="0" y="15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6" y="152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noFill/>
            <a:ln w="3816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5080" y="5029920"/>
              <a:ext cx="720" cy="720"/>
            </a:xfrm>
            <a:prstGeom prst="line">
              <a:avLst/>
            </a:prstGeom>
            <a:ln w="381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2640" y="4889520"/>
              <a:ext cx="118080" cy="13284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0" y="144"/>
                  </a:moveTo>
                  <a:lnTo>
                    <a:pt x="0" y="14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6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72640" y="5022720"/>
              <a:ext cx="720" cy="720"/>
            </a:xfrm>
            <a:prstGeom prst="line">
              <a:avLst/>
            </a:prstGeom>
            <a:ln w="38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80200" y="4897080"/>
              <a:ext cx="103320" cy="118080"/>
            </a:xfrm>
            <a:custGeom>
              <a:avLst/>
              <a:gdLst/>
              <a:ahLst/>
              <a:rect l="l" t="t" r="r" b="b"/>
              <a:pathLst>
                <a:path w="112" h="128">
                  <a:moveTo>
                    <a:pt x="0" y="128"/>
                  </a:moveTo>
                  <a:lnTo>
                    <a:pt x="0" y="12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6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noFill/>
            <a:ln w="38160">
              <a:solidFill>
                <a:srgbClr val="a3a3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80200" y="5015160"/>
              <a:ext cx="720" cy="720"/>
            </a:xfrm>
            <a:prstGeom prst="line">
              <a:avLst/>
            </a:prstGeom>
            <a:ln w="381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87400" y="4897080"/>
              <a:ext cx="95760" cy="110520"/>
            </a:xfrm>
            <a:custGeom>
              <a:avLst/>
              <a:gdLst/>
              <a:ahLst/>
              <a:rect l="l" t="t" r="r" b="b"/>
              <a:pathLst>
                <a:path w="104" h="120">
                  <a:moveTo>
                    <a:pt x="0" y="120"/>
                  </a:moveTo>
                  <a:lnTo>
                    <a:pt x="0" y="12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38160">
              <a:solidFill>
                <a:srgbClr val="aeae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7400" y="5007960"/>
              <a:ext cx="720" cy="720"/>
            </a:xfrm>
            <a:prstGeom prst="line">
              <a:avLst/>
            </a:prstGeom>
            <a:ln w="381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94600" y="4897080"/>
              <a:ext cx="88560" cy="10332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112"/>
                  </a:moveTo>
                  <a:lnTo>
                    <a:pt x="0" y="11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38160">
              <a:solidFill>
                <a:srgbClr val="b8b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94600" y="5000400"/>
              <a:ext cx="720" cy="720"/>
            </a:xfrm>
            <a:prstGeom prst="line">
              <a:avLst/>
            </a:prstGeom>
            <a:ln w="381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02160" y="4904280"/>
              <a:ext cx="73800" cy="8856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0" y="96"/>
                  </a:moveTo>
                  <a:lnTo>
                    <a:pt x="0" y="9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38160">
              <a:solidFill>
                <a:srgbClr val="c2c2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160" y="4992840"/>
              <a:ext cx="720" cy="720"/>
            </a:xfrm>
            <a:prstGeom prst="line">
              <a:avLst/>
            </a:prstGeom>
            <a:ln w="381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09720" y="4904280"/>
              <a:ext cx="66240" cy="810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0" y="8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38160">
              <a:solidFill>
                <a:srgbClr val="cc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9720" y="4985640"/>
              <a:ext cx="720" cy="720"/>
            </a:xfrm>
            <a:prstGeom prst="line">
              <a:avLst/>
            </a:prstGeom>
            <a:ln w="381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16920" y="4911840"/>
              <a:ext cx="51480" cy="66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38160">
              <a:solidFill>
                <a:srgbClr val="d7d7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16920" y="4978440"/>
              <a:ext cx="720" cy="720"/>
            </a:xfrm>
            <a:prstGeom prst="line">
              <a:avLst/>
            </a:prstGeom>
            <a:ln w="381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24120" y="4911840"/>
              <a:ext cx="44280" cy="5904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0" y="64"/>
                  </a:moveTo>
                  <a:lnTo>
                    <a:pt x="0" y="64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381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24120" y="4970880"/>
              <a:ext cx="720" cy="720"/>
            </a:xfrm>
            <a:prstGeom prst="line">
              <a:avLst/>
            </a:prstGeom>
            <a:ln w="381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31680" y="4911840"/>
              <a:ext cx="36720" cy="514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8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38160">
              <a:solidFill>
                <a:srgbClr val="ebeb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31680" y="4963320"/>
              <a:ext cx="720" cy="720"/>
            </a:xfrm>
            <a:prstGeom prst="line">
              <a:avLst/>
            </a:prstGeom>
            <a:ln w="381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9240" y="4919400"/>
              <a:ext cx="21960" cy="36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4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38160">
              <a:solidFill>
                <a:srgbClr val="f5f5f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39240" y="4956120"/>
              <a:ext cx="720" cy="720"/>
            </a:xfrm>
            <a:prstGeom prst="line">
              <a:avLst/>
            </a:prstGeom>
            <a:ln w="38160">
              <a:solidFill>
                <a:srgbClr val="f5f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46440" y="4919400"/>
              <a:ext cx="14760" cy="295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32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46440" y="4948920"/>
              <a:ext cx="72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9240" y="4911840"/>
              <a:ext cx="14400" cy="295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32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54560" y="4845240"/>
              <a:ext cx="273240" cy="280440"/>
            </a:xfrm>
            <a:custGeom>
              <a:avLst/>
              <a:gdLst/>
              <a:ahLst/>
              <a:rect l="l" t="t" r="r" b="b"/>
              <a:pathLst>
                <a:path w="296" h="304">
                  <a:moveTo>
                    <a:pt x="8" y="296"/>
                  </a:moveTo>
                  <a:lnTo>
                    <a:pt x="8" y="296"/>
                  </a:lnTo>
                  <a:lnTo>
                    <a:pt x="0" y="288"/>
                  </a:lnTo>
                  <a:lnTo>
                    <a:pt x="0" y="280"/>
                  </a:lnTo>
                  <a:lnTo>
                    <a:pt x="8" y="272"/>
                  </a:lnTo>
                  <a:lnTo>
                    <a:pt x="272" y="8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8" y="0"/>
                  </a:lnTo>
                  <a:lnTo>
                    <a:pt x="296" y="8"/>
                  </a:lnTo>
                  <a:lnTo>
                    <a:pt x="296" y="8"/>
                  </a:lnTo>
                  <a:lnTo>
                    <a:pt x="296" y="8"/>
                  </a:lnTo>
                  <a:lnTo>
                    <a:pt x="296" y="16"/>
                  </a:lnTo>
                  <a:lnTo>
                    <a:pt x="296" y="24"/>
                  </a:lnTo>
                  <a:lnTo>
                    <a:pt x="296" y="32"/>
                  </a:lnTo>
                  <a:lnTo>
                    <a:pt x="296" y="32"/>
                  </a:lnTo>
                  <a:lnTo>
                    <a:pt x="32" y="296"/>
                  </a:lnTo>
                  <a:lnTo>
                    <a:pt x="24" y="304"/>
                  </a:lnTo>
                  <a:lnTo>
                    <a:pt x="24" y="304"/>
                  </a:lnTo>
                  <a:lnTo>
                    <a:pt x="16" y="304"/>
                  </a:lnTo>
                  <a:lnTo>
                    <a:pt x="16" y="304"/>
                  </a:lnTo>
                  <a:lnTo>
                    <a:pt x="8" y="304"/>
                  </a:lnTo>
                  <a:lnTo>
                    <a:pt x="8" y="296"/>
                  </a:lnTo>
                  <a:lnTo>
                    <a:pt x="8" y="2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80120" y="5114880"/>
              <a:ext cx="14760" cy="221760"/>
            </a:xfrm>
            <a:custGeom>
              <a:avLst/>
              <a:gdLst>
                <a:gd name="textAreaLeft" fmla="*/ 1440 w 14760"/>
                <a:gd name="textAreaRight" fmla="*/ 13320 w 14760"/>
                <a:gd name="textAreaTop" fmla="*/ 1440 h 221760"/>
                <a:gd name="textAreaBottom" fmla="*/ 220320 h 221760"/>
              </a:gdLst>
              <a:ahLst/>
              <a:rect l="textAreaLeft" t="textAreaTop" r="textAreaRight" b="textAreaBottom"/>
              <a:pathLst>
                <a:path w="21600" h="317314">
                  <a:moveTo>
                    <a:pt x="8640" y="0"/>
                  </a:moveTo>
                  <a:arcTo wR="8640" hR="8640" stAng="16200000" swAng="-5400000"/>
                  <a:lnTo>
                    <a:pt x="0" y="308674"/>
                  </a:lnTo>
                  <a:arcTo wR="8640" hR="8640" stAng="10800000" swAng="-5400000"/>
                  <a:lnTo>
                    <a:pt x="12960" y="31731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80120" y="5114880"/>
              <a:ext cx="7200" cy="21420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214200"/>
                <a:gd name="textAreaBottom" fmla="*/ 213480 h 214200"/>
              </a:gdLst>
              <a:ahLst/>
              <a:rect l="textAreaLeft" t="textAreaTop" r="textAreaRight" b="textAreaBottom"/>
              <a:pathLst>
                <a:path w="21600" h="613029">
                  <a:moveTo>
                    <a:pt x="8100" y="0"/>
                  </a:moveTo>
                  <a:arcTo wR="8100" hR="8100" stAng="16200000" swAng="-5400000"/>
                  <a:lnTo>
                    <a:pt x="0" y="604929"/>
                  </a:lnTo>
                  <a:arcTo wR="8100" hR="8100" stAng="10800000" swAng="-5400000"/>
                  <a:lnTo>
                    <a:pt x="13500" y="613029"/>
                  </a:lnTo>
                  <a:arcTo wR="8100" hR="8100" stAng="5400000" swAng="-5400000"/>
                  <a:lnTo>
                    <a:pt x="21600" y="8100"/>
                  </a:lnTo>
                  <a:arcTo wR="8100" hR="8100" stAng="0" swAng="-5400000"/>
                  <a:close/>
                </a:path>
              </a:pathLst>
            </a:custGeom>
            <a:noFill/>
            <a:ln w="38160">
              <a:solidFill>
                <a:srgbClr val="0b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0120" y="5114880"/>
              <a:ext cx="7200" cy="20664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206640"/>
                <a:gd name="textAreaBottom" fmla="*/ 205920 h 206640"/>
              </a:gdLst>
              <a:ahLst/>
              <a:rect l="textAreaLeft" t="textAreaTop" r="textAreaRight" b="textAreaBottom"/>
              <a:pathLst>
                <a:path w="21600" h="591429">
                  <a:moveTo>
                    <a:pt x="8100" y="0"/>
                  </a:moveTo>
                  <a:arcTo wR="8100" hR="8100" stAng="16200000" swAng="-5400000"/>
                  <a:lnTo>
                    <a:pt x="0" y="583329"/>
                  </a:lnTo>
                  <a:arcTo wR="8100" hR="8100" stAng="10800000" swAng="-5400000"/>
                  <a:lnTo>
                    <a:pt x="13500" y="591429"/>
                  </a:lnTo>
                  <a:arcTo wR="8100" hR="8100" stAng="5400000" swAng="-5400000"/>
                  <a:lnTo>
                    <a:pt x="21600" y="8100"/>
                  </a:lnTo>
                  <a:arcTo wR="8100" hR="8100" stAng="0" swAng="-5400000"/>
                  <a:close/>
                </a:path>
              </a:pathLst>
            </a:custGeom>
            <a:noFill/>
            <a:ln w="3816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0120" y="5122440"/>
              <a:ext cx="7200" cy="19188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191880"/>
                <a:gd name="textAreaBottom" fmla="*/ 191160 h 191880"/>
              </a:gdLst>
              <a:ahLst/>
              <a:rect l="textAreaLeft" t="textAreaTop" r="textAreaRight" b="textAreaBottom"/>
              <a:pathLst>
                <a:path w="21600" h="549257">
                  <a:moveTo>
                    <a:pt x="8100" y="0"/>
                  </a:moveTo>
                  <a:arcTo wR="8100" hR="8100" stAng="16200000" swAng="-5400000"/>
                  <a:lnTo>
                    <a:pt x="0" y="541157"/>
                  </a:lnTo>
                  <a:arcTo wR="8100" hR="8100" stAng="10800000" swAng="-5400000"/>
                  <a:lnTo>
                    <a:pt x="13500" y="549257"/>
                  </a:lnTo>
                  <a:arcTo wR="8100" hR="8100" stAng="5400000" swAng="-5400000"/>
                  <a:lnTo>
                    <a:pt x="21600" y="8100"/>
                  </a:lnTo>
                  <a:arcTo wR="8100" hR="8100" stAng="0" swAng="-5400000"/>
                  <a:close/>
                </a:path>
              </a:pathLst>
            </a:custGeom>
            <a:noFill/>
            <a:ln w="381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80120" y="5122440"/>
              <a:ext cx="7200" cy="18468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184680"/>
                <a:gd name="textAreaBottom" fmla="*/ 183960 h 184680"/>
              </a:gdLst>
              <a:ahLst/>
              <a:rect l="textAreaLeft" t="textAreaTop" r="textAreaRight" b="textAreaBottom"/>
              <a:pathLst>
                <a:path w="21600" h="528686">
                  <a:moveTo>
                    <a:pt x="8100" y="0"/>
                  </a:moveTo>
                  <a:arcTo wR="8100" hR="8100" stAng="16200000" swAng="-5400000"/>
                  <a:lnTo>
                    <a:pt x="0" y="520586"/>
                  </a:lnTo>
                  <a:arcTo wR="8100" hR="8100" stAng="10800000" swAng="-5400000"/>
                  <a:lnTo>
                    <a:pt x="13500" y="528686"/>
                  </a:lnTo>
                  <a:arcTo wR="8100" hR="8100" stAng="5400000" swAng="-5400000"/>
                  <a:lnTo>
                    <a:pt x="21600" y="8100"/>
                  </a:lnTo>
                  <a:arcTo wR="8100" hR="8100" stAng="0" swAng="-5400000"/>
                  <a:close/>
                </a:path>
              </a:pathLst>
            </a:custGeom>
            <a:noFill/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0120" y="5122440"/>
              <a:ext cx="7200" cy="17712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177120"/>
                <a:gd name="textAreaBottom" fmla="*/ 176400 h 177120"/>
              </a:gdLst>
              <a:ahLst/>
              <a:rect l="textAreaLeft" t="textAreaTop" r="textAreaRight" b="textAreaBottom"/>
              <a:pathLst>
                <a:path w="21600" h="507086">
                  <a:moveTo>
                    <a:pt x="8100" y="0"/>
                  </a:moveTo>
                  <a:arcTo wR="8100" hR="8100" stAng="16200000" swAng="-5400000"/>
                  <a:lnTo>
                    <a:pt x="0" y="498986"/>
                  </a:lnTo>
                  <a:arcTo wR="8100" hR="8100" stAng="10800000" swAng="-5400000"/>
                  <a:lnTo>
                    <a:pt x="13500" y="507086"/>
                  </a:lnTo>
                  <a:arcTo wR="8100" hR="8100" stAng="5400000" swAng="-5400000"/>
                  <a:lnTo>
                    <a:pt x="21600" y="8100"/>
                  </a:lnTo>
                  <a:arcTo wR="8100" hR="8100" stAng="0" swAng="-5400000"/>
                  <a:close/>
                </a:path>
              </a:pathLst>
            </a:custGeom>
            <a:noFill/>
            <a:ln w="3816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7680" y="5129640"/>
              <a:ext cx="360" cy="162360"/>
            </a:xfrm>
            <a:custGeom>
              <a:avLst/>
              <a:gdLst/>
              <a:ahLst/>
              <a:rect l="l" t="t" r="r" b="b"/>
              <a:pathLst>
                <a:path w="21600" h="4881600">
                  <a:moveTo>
                    <a:pt x="7200" y="0"/>
                  </a:moveTo>
                  <a:arcTo wR="7200" hR="7200" stAng="16200000" swAng="-5400000"/>
                  <a:lnTo>
                    <a:pt x="0" y="4874400"/>
                  </a:lnTo>
                  <a:arcTo wR="7200" hR="7200" stAng="10800000" swAng="-5400000"/>
                  <a:lnTo>
                    <a:pt x="14400" y="488160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noFill/>
            <a:ln w="381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7680" y="5129640"/>
              <a:ext cx="360" cy="155160"/>
            </a:xfrm>
            <a:custGeom>
              <a:avLst/>
              <a:gdLst/>
              <a:ahLst/>
              <a:rect l="l" t="t" r="r" b="b"/>
              <a:pathLst>
                <a:path w="21600" h="4665600">
                  <a:moveTo>
                    <a:pt x="7200" y="0"/>
                  </a:moveTo>
                  <a:arcTo wR="7200" hR="7200" stAng="16200000" swAng="-5400000"/>
                  <a:lnTo>
                    <a:pt x="0" y="4658400"/>
                  </a:lnTo>
                  <a:arcTo wR="7200" hR="7200" stAng="10800000" swAng="-5400000"/>
                  <a:lnTo>
                    <a:pt x="14400" y="466560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noFill/>
            <a:ln w="381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87680" y="5137200"/>
              <a:ext cx="360" cy="140400"/>
            </a:xfrm>
            <a:custGeom>
              <a:avLst/>
              <a:gdLst/>
              <a:ahLst/>
              <a:rect l="l" t="t" r="r" b="b"/>
              <a:pathLst>
                <a:path w="21600" h="4222800">
                  <a:moveTo>
                    <a:pt x="7200" y="0"/>
                  </a:moveTo>
                  <a:arcTo wR="7200" hR="7200" stAng="16200000" swAng="-5400000"/>
                  <a:lnTo>
                    <a:pt x="0" y="4215600"/>
                  </a:lnTo>
                  <a:arcTo wR="7200" hR="7200" stAng="10800000" swAng="-5400000"/>
                  <a:lnTo>
                    <a:pt x="14400" y="422280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noFill/>
            <a:ln w="381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7680" y="5137200"/>
              <a:ext cx="360" cy="132840"/>
            </a:xfrm>
            <a:custGeom>
              <a:avLst/>
              <a:gdLst/>
              <a:ahLst/>
              <a:rect l="l" t="t" r="r" b="b"/>
              <a:pathLst>
                <a:path w="21600" h="3996000">
                  <a:moveTo>
                    <a:pt x="7200" y="0"/>
                  </a:moveTo>
                  <a:arcTo wR="7200" hR="7200" stAng="16200000" swAng="-5400000"/>
                  <a:lnTo>
                    <a:pt x="0" y="3988800"/>
                  </a:lnTo>
                  <a:arcTo wR="7200" hR="7200" stAng="10800000" swAng="-5400000"/>
                  <a:lnTo>
                    <a:pt x="14400" y="399600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noFill/>
            <a:ln w="381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7680" y="5137200"/>
              <a:ext cx="360" cy="125640"/>
            </a:xfrm>
            <a:custGeom>
              <a:avLst/>
              <a:gdLst/>
              <a:ahLst/>
              <a:rect l="l" t="t" r="r" b="b"/>
              <a:pathLst>
                <a:path w="21600" h="3780000">
                  <a:moveTo>
                    <a:pt x="7200" y="0"/>
                  </a:moveTo>
                  <a:arcTo wR="7200" hR="7200" stAng="16200000" swAng="-5400000"/>
                  <a:lnTo>
                    <a:pt x="0" y="3772800"/>
                  </a:lnTo>
                  <a:arcTo wR="7200" hR="7200" stAng="10800000" swAng="-5400000"/>
                  <a:lnTo>
                    <a:pt x="14400" y="378000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noFill/>
            <a:ln w="381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87680" y="5144760"/>
              <a:ext cx="360" cy="110520"/>
            </a:xfrm>
            <a:custGeom>
              <a:avLst/>
              <a:gdLst/>
              <a:ahLst/>
              <a:rect l="l" t="t" r="r" b="b"/>
              <a:pathLst>
                <a:path w="21600" h="3326400">
                  <a:moveTo>
                    <a:pt x="7200" y="0"/>
                  </a:moveTo>
                  <a:arcTo wR="7200" hR="7200" stAng="16200000" swAng="-5400000"/>
                  <a:lnTo>
                    <a:pt x="0" y="3319200"/>
                  </a:lnTo>
                  <a:arcTo wR="7200" hR="7200" stAng="10800000" swAng="-5400000"/>
                  <a:lnTo>
                    <a:pt x="14400" y="332640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84080" y="5133600"/>
              <a:ext cx="7200" cy="125280"/>
            </a:xfrm>
            <a:custGeom>
              <a:avLst/>
              <a:gdLst>
                <a:gd name="textAreaLeft" fmla="*/ 1080 w 7200"/>
                <a:gd name="textAreaRight" fmla="*/ 6120 w 7200"/>
                <a:gd name="textAreaTop" fmla="*/ 1080 h 125280"/>
                <a:gd name="textAreaBottom" fmla="*/ 124200 h 125280"/>
              </a:gdLst>
              <a:ahLst/>
              <a:rect l="textAreaLeft" t="textAreaTop" r="textAreaRight" b="textAreaBottom"/>
              <a:pathLst>
                <a:path w="21600" h="358971">
                  <a:moveTo>
                    <a:pt x="10800" y="0"/>
                  </a:moveTo>
                  <a:arcTo wR="10800" hR="10800" stAng="16200000" swAng="-5400000"/>
                  <a:lnTo>
                    <a:pt x="0" y="348171"/>
                  </a:lnTo>
                  <a:arcTo wR="10800" hR="10800" stAng="10800000" swAng="-5400000"/>
                  <a:lnTo>
                    <a:pt x="10800" y="3589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84080" y="5140800"/>
              <a:ext cx="7200" cy="110520"/>
            </a:xfrm>
            <a:custGeom>
              <a:avLst/>
              <a:gdLst>
                <a:gd name="textAreaLeft" fmla="*/ 1080 w 7200"/>
                <a:gd name="textAreaRight" fmla="*/ 6120 w 7200"/>
                <a:gd name="textAreaTop" fmla="*/ 1080 h 110520"/>
                <a:gd name="textAreaBottom" fmla="*/ 109440 h 110520"/>
              </a:gdLst>
              <a:ahLst/>
              <a:rect l="textAreaLeft" t="textAreaTop" r="textAreaRight" b="textAreaBottom"/>
              <a:pathLst>
                <a:path w="21600" h="316800">
                  <a:moveTo>
                    <a:pt x="10800" y="0"/>
                  </a:moveTo>
                  <a:arcTo wR="10800" hR="10800" stAng="16200000" swAng="-5400000"/>
                  <a:lnTo>
                    <a:pt x="0" y="306000"/>
                  </a:lnTo>
                  <a:arcTo wR="10800" hR="10800" stAng="10800000" swAng="-5400000"/>
                  <a:lnTo>
                    <a:pt x="10800" y="3168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4080" y="5140800"/>
              <a:ext cx="7200" cy="103320"/>
            </a:xfrm>
            <a:custGeom>
              <a:avLst/>
              <a:gdLst>
                <a:gd name="textAreaLeft" fmla="*/ 1080 w 7200"/>
                <a:gd name="textAreaRight" fmla="*/ 6120 w 7200"/>
                <a:gd name="textAreaTop" fmla="*/ 1080 h 103320"/>
                <a:gd name="textAreaBottom" fmla="*/ 102240 h 103320"/>
              </a:gdLst>
              <a:ahLst/>
              <a:rect l="textAreaLeft" t="textAreaTop" r="textAreaRight" b="textAreaBottom"/>
              <a:pathLst>
                <a:path w="21600" h="296229">
                  <a:moveTo>
                    <a:pt x="10800" y="0"/>
                  </a:moveTo>
                  <a:arcTo wR="10800" hR="10800" stAng="16200000" swAng="-5400000"/>
                  <a:lnTo>
                    <a:pt x="0" y="285429"/>
                  </a:lnTo>
                  <a:arcTo wR="10800" hR="10800" stAng="10800000" swAng="-5400000"/>
                  <a:lnTo>
                    <a:pt x="10800" y="2962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4080" y="5140800"/>
              <a:ext cx="7200" cy="96120"/>
            </a:xfrm>
            <a:custGeom>
              <a:avLst/>
              <a:gdLst>
                <a:gd name="textAreaLeft" fmla="*/ 1080 w 7200"/>
                <a:gd name="textAreaRight" fmla="*/ 6120 w 7200"/>
                <a:gd name="textAreaTop" fmla="*/ 1080 h 96120"/>
                <a:gd name="textAreaBottom" fmla="*/ 95040 h 96120"/>
              </a:gdLst>
              <a:ahLst/>
              <a:rect l="textAreaLeft" t="textAreaTop" r="textAreaRight" b="textAreaBottom"/>
              <a:pathLst>
                <a:path w="21600" h="275657">
                  <a:moveTo>
                    <a:pt x="10800" y="0"/>
                  </a:moveTo>
                  <a:arcTo wR="10800" hR="10800" stAng="16200000" swAng="-5400000"/>
                  <a:lnTo>
                    <a:pt x="0" y="264857"/>
                  </a:lnTo>
                  <a:arcTo wR="10800" hR="10800" stAng="10800000" swAng="-5400000"/>
                  <a:lnTo>
                    <a:pt x="10800" y="2756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84080" y="5148360"/>
              <a:ext cx="7200" cy="81000"/>
            </a:xfrm>
            <a:custGeom>
              <a:avLst/>
              <a:gdLst>
                <a:gd name="textAreaLeft" fmla="*/ 1080 w 7200"/>
                <a:gd name="textAreaRight" fmla="*/ 6120 w 7200"/>
                <a:gd name="textAreaTop" fmla="*/ 1080 h 81000"/>
                <a:gd name="textAreaBottom" fmla="*/ 79920 h 81000"/>
              </a:gdLst>
              <a:ahLst/>
              <a:rect l="textAreaLeft" t="textAreaTop" r="textAreaRight" b="textAreaBottom"/>
              <a:pathLst>
                <a:path w="21600" h="232457">
                  <a:moveTo>
                    <a:pt x="10800" y="0"/>
                  </a:moveTo>
                  <a:arcTo wR="10800" hR="10800" stAng="16200000" swAng="-5400000"/>
                  <a:lnTo>
                    <a:pt x="0" y="221657"/>
                  </a:lnTo>
                  <a:arcTo wR="10800" hR="10800" stAng="10800000" swAng="-5400000"/>
                  <a:lnTo>
                    <a:pt x="10800" y="2324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84080" y="5148360"/>
              <a:ext cx="7200" cy="73800"/>
            </a:xfrm>
            <a:custGeom>
              <a:avLst/>
              <a:gdLst>
                <a:gd name="textAreaLeft" fmla="*/ 1080 w 7200"/>
                <a:gd name="textAreaRight" fmla="*/ 6120 w 7200"/>
                <a:gd name="textAreaTop" fmla="*/ 1080 h 73800"/>
                <a:gd name="textAreaBottom" fmla="*/ 72720 h 73800"/>
              </a:gdLst>
              <a:ahLst/>
              <a:rect l="textAreaLeft" t="textAreaTop" r="textAreaRight" b="textAreaBottom"/>
              <a:pathLst>
                <a:path w="21600" h="211886">
                  <a:moveTo>
                    <a:pt x="10800" y="0"/>
                  </a:moveTo>
                  <a:arcTo wR="10800" hR="10800" stAng="16200000" swAng="-5400000"/>
                  <a:lnTo>
                    <a:pt x="0" y="201086"/>
                  </a:lnTo>
                  <a:arcTo wR="10800" hR="10800" stAng="10800000" swAng="-5400000"/>
                  <a:lnTo>
                    <a:pt x="10800" y="21188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c5c5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72920" y="5107680"/>
              <a:ext cx="29520" cy="236160"/>
            </a:xfrm>
            <a:custGeom>
              <a:avLst/>
              <a:gdLst>
                <a:gd name="textAreaLeft" fmla="*/ 3240 w 29520"/>
                <a:gd name="textAreaRight" fmla="*/ 26280 w 29520"/>
                <a:gd name="textAreaTop" fmla="*/ 3240 h 236160"/>
                <a:gd name="textAreaBottom" fmla="*/ 232920 h 236160"/>
              </a:gdLst>
              <a:ahLst/>
              <a:rect l="textAreaLeft" t="textAreaTop" r="textAreaRight" b="textAreaBottom"/>
              <a:pathLst>
                <a:path w="21600" h="170978">
                  <a:moveTo>
                    <a:pt x="8640" y="0"/>
                  </a:moveTo>
                  <a:arcTo wR="8640" hR="8640" stAng="16200000" swAng="-5400000"/>
                  <a:lnTo>
                    <a:pt x="0" y="162338"/>
                  </a:lnTo>
                  <a:arcTo wR="8640" hR="8640" stAng="10800000" swAng="-5400000"/>
                  <a:lnTo>
                    <a:pt x="12960" y="170978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99400" y="5481000"/>
              <a:ext cx="2023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99400" y="5481000"/>
              <a:ext cx="2023920" cy="184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99400" y="5481000"/>
              <a:ext cx="2023920" cy="184680"/>
            </a:xfrm>
            <a:custGeom>
              <a:avLst/>
              <a:gdLst/>
              <a:ahLst/>
              <a:rect l="l" t="t" r="r" b="b"/>
              <a:pathLst>
                <a:path w="2192" h="200">
                  <a:moveTo>
                    <a:pt x="0" y="0"/>
                  </a:moveTo>
                  <a:lnTo>
                    <a:pt x="2192" y="0"/>
                  </a:lnTo>
                  <a:lnTo>
                    <a:pt x="2192" y="200"/>
                  </a:lnTo>
                  <a:lnTo>
                    <a:pt x="0" y="200"/>
                  </a:lnTo>
                  <a:lnTo>
                    <a:pt x="0" y="0"/>
                  </a:lnTo>
                  <a:close/>
                  <a:moveTo>
                    <a:pt x="8" y="8"/>
                  </a:moveTo>
                  <a:lnTo>
                    <a:pt x="2184" y="8"/>
                  </a:lnTo>
                  <a:lnTo>
                    <a:pt x="2184" y="192"/>
                  </a:lnTo>
                  <a:lnTo>
                    <a:pt x="8" y="192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31400" y="5432760"/>
              <a:ext cx="177120" cy="5904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28600" y="5432760"/>
              <a:ext cx="177120" cy="5904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20800" y="5303520"/>
              <a:ext cx="155160" cy="1105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35560" y="5451480"/>
              <a:ext cx="169560" cy="110520"/>
            </a:xfrm>
            <a:custGeom>
              <a:avLst/>
              <a:gdLst/>
              <a:ahLst/>
              <a:rect l="l" t="t" r="r" b="b"/>
              <a:pathLst>
                <a:path w="184" h="120">
                  <a:moveTo>
                    <a:pt x="8" y="0"/>
                  </a:move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4" y="96"/>
                  </a:lnTo>
                  <a:lnTo>
                    <a:pt x="24" y="104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56" y="112"/>
                  </a:lnTo>
                  <a:lnTo>
                    <a:pt x="72" y="120"/>
                  </a:lnTo>
                  <a:lnTo>
                    <a:pt x="80" y="120"/>
                  </a:lnTo>
                  <a:lnTo>
                    <a:pt x="96" y="120"/>
                  </a:lnTo>
                  <a:lnTo>
                    <a:pt x="104" y="120"/>
                  </a:lnTo>
                  <a:lnTo>
                    <a:pt x="104" y="112"/>
                  </a:lnTo>
                  <a:lnTo>
                    <a:pt x="112" y="112"/>
                  </a:lnTo>
                  <a:lnTo>
                    <a:pt x="120" y="112"/>
                  </a:lnTo>
                  <a:lnTo>
                    <a:pt x="120" y="104"/>
                  </a:lnTo>
                  <a:lnTo>
                    <a:pt x="128" y="104"/>
                  </a:lnTo>
                  <a:lnTo>
                    <a:pt x="128" y="96"/>
                  </a:lnTo>
                  <a:lnTo>
                    <a:pt x="136" y="72"/>
                  </a:lnTo>
                  <a:lnTo>
                    <a:pt x="144" y="72"/>
                  </a:lnTo>
                  <a:lnTo>
                    <a:pt x="152" y="64"/>
                  </a:lnTo>
                  <a:lnTo>
                    <a:pt x="160" y="64"/>
                  </a:lnTo>
                  <a:lnTo>
                    <a:pt x="168" y="56"/>
                  </a:lnTo>
                  <a:lnTo>
                    <a:pt x="176" y="56"/>
                  </a:lnTo>
                  <a:lnTo>
                    <a:pt x="184" y="56"/>
                  </a:lnTo>
                  <a:lnTo>
                    <a:pt x="184" y="40"/>
                  </a:lnTo>
                  <a:lnTo>
                    <a:pt x="184" y="32"/>
                  </a:lnTo>
                  <a:lnTo>
                    <a:pt x="176" y="32"/>
                  </a:lnTo>
                  <a:lnTo>
                    <a:pt x="176" y="24"/>
                  </a:lnTo>
                  <a:lnTo>
                    <a:pt x="160" y="16"/>
                  </a:lnTo>
                  <a:lnTo>
                    <a:pt x="15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006960" y="3098880"/>
            <a:ext cx="3137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ＭＳ ゴシック"/>
              </a:rPr>
              <a:t>Water and O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  <a:ea typeface="ＭＳ ゴシック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ＭＳ ゴシック"/>
              </a:rPr>
              <a:t> are essential for manned lunar mi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93DB-4499-4A57-BDE7-E010ABA23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52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c consideration</a:t>
            </a:r>
            <a:endParaRPr b="1" lang="en-US" sz="1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19" name=""/>
          <p:cNvSpPr/>
          <p:nvPr/>
        </p:nvSpPr>
        <p:spPr>
          <a:xfrm>
            <a:off x="1517760" y="5822640"/>
            <a:ext cx="3314520" cy="889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Arial"/>
                <a:ea typeface="ＭＳ ゴシック"/>
              </a:rPr>
              <a:t>Iron-bearing minerals can be easily reduced by H</a:t>
            </a:r>
            <a:r>
              <a:rPr b="0" lang="en-US" sz="2000" spc="-1" strike="noStrike" baseline="-25000">
                <a:solidFill>
                  <a:srgbClr val="004080"/>
                </a:solidFill>
                <a:latin typeface="Arial"/>
                <a:ea typeface="ＭＳ ゴシック"/>
              </a:rPr>
              <a:t>2</a:t>
            </a:r>
            <a:r>
              <a:rPr b="0" lang="en-US" sz="2000" spc="-1" strike="noStrike">
                <a:solidFill>
                  <a:srgbClr val="004080"/>
                </a:solidFill>
                <a:latin typeface="Arial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812880"/>
            <a:ext cx="2455920" cy="74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Anorthite can be reduced only by F</a:t>
            </a:r>
            <a:r>
              <a:rPr b="0" lang="ja-JP" sz="2000" spc="-1" strike="noStrike" baseline="-25000">
                <a:solidFill>
                  <a:srgbClr val="006600"/>
                </a:solidFill>
                <a:latin typeface="Arial"/>
                <a:ea typeface="ＭＳ ゴシック"/>
              </a:rPr>
              <a:t>2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480" y="1601640"/>
            <a:ext cx="8921520" cy="4148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1789200"/>
            <a:ext cx="997200" cy="36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56000" y="1689120"/>
            <a:ext cx="4608720" cy="3987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32360" y="1789200"/>
            <a:ext cx="1508040" cy="366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4"/>
          <a:srcRect l="0" t="27894" r="13222" b="0"/>
          <a:stretch/>
        </p:blipFill>
        <p:spPr>
          <a:xfrm>
            <a:off x="4307040" y="2425680"/>
            <a:ext cx="4195440" cy="3224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rcRect l="0" t="31208" r="0" b="0"/>
          <a:stretch/>
        </p:blipFill>
        <p:spPr>
          <a:xfrm>
            <a:off x="228600" y="2567160"/>
            <a:ext cx="4102200" cy="3095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965840" y="1020600"/>
            <a:ext cx="661680" cy="736920"/>
          </a:xfrm>
          <a:custGeom>
            <a:avLst/>
            <a:gdLst>
              <a:gd name="textAreaLeft" fmla="*/ 0 w 661680"/>
              <a:gd name="textAreaRight" fmla="*/ 662040 w 661680"/>
              <a:gd name="textAreaTop" fmla="*/ 0 h 736920"/>
              <a:gd name="textAreaBottom" fmla="*/ 737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94" stAng="10800000" swAng="5400000"/>
                <a:lnTo>
                  <a:pt x="15125" y="3166"/>
                </a:lnTo>
                <a:lnTo>
                  <a:pt x="15125" y="0"/>
                </a:lnTo>
                <a:lnTo>
                  <a:pt x="21600" y="6079"/>
                </a:lnTo>
                <a:lnTo>
                  <a:pt x="15125" y="12158"/>
                </a:lnTo>
                <a:lnTo>
                  <a:pt x="15125" y="8992"/>
                </a:lnTo>
                <a:lnTo>
                  <a:pt x="12427" y="8992"/>
                </a:lnTo>
                <a:arcTo wR="6601" hR="3168" stAng="16200000" swAng="-5400000"/>
                <a:lnTo>
                  <a:pt x="5826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0800000">
            <a:off x="751320" y="5632200"/>
            <a:ext cx="700200" cy="785880"/>
          </a:xfrm>
          <a:custGeom>
            <a:avLst/>
            <a:gdLst>
              <a:gd name="textAreaLeft" fmla="*/ -360 w 700200"/>
              <a:gd name="textAreaRight" fmla="*/ 700200 w 70020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94" stAng="10800000" swAng="5400000"/>
                <a:lnTo>
                  <a:pt x="15125" y="3166"/>
                </a:lnTo>
                <a:lnTo>
                  <a:pt x="15125" y="0"/>
                </a:lnTo>
                <a:lnTo>
                  <a:pt x="21600" y="6079"/>
                </a:lnTo>
                <a:lnTo>
                  <a:pt x="15125" y="12158"/>
                </a:lnTo>
                <a:lnTo>
                  <a:pt x="15125" y="8992"/>
                </a:lnTo>
                <a:lnTo>
                  <a:pt x="12427" y="8992"/>
                </a:lnTo>
                <a:arcTo wR="6601" hR="3168" stAng="16200000" swAng="-5400000"/>
                <a:lnTo>
                  <a:pt x="5826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17520" y="2220840"/>
            <a:ext cx="23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lmenite (FeTiO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72280" y="2220840"/>
            <a:ext cx="28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northite (CaAl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i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r>
              <a:rPr b="1" lang="ja-JP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432" name="" descr=""/>
            <p:cNvPicPr/>
            <p:nvPr/>
          </p:nvPicPr>
          <p:blipFill>
            <a:blip r:embed="rId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4D41-1A5E-4D44-BAEF-CB3A143AA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617400"/>
            <a:ext cx="9144000" cy="2881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ion Process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3432240"/>
            <a:ext cx="9144000" cy="3197880"/>
            <a:chOff x="0" y="3432240"/>
            <a:chExt cx="9144000" cy="3197880"/>
          </a:xfrm>
        </p:grpSpPr>
        <p:sp>
          <p:nvSpPr>
            <p:cNvPr id="437" name=""/>
            <p:cNvSpPr/>
            <p:nvPr/>
          </p:nvSpPr>
          <p:spPr>
            <a:xfrm>
              <a:off x="0" y="3432240"/>
              <a:ext cx="9144000" cy="309708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90520" y="3903480"/>
              <a:ext cx="8224920" cy="2726640"/>
              <a:chOff x="290520" y="3903480"/>
              <a:chExt cx="8224920" cy="2726640"/>
            </a:xfrm>
          </p:grpSpPr>
          <p:sp>
            <p:nvSpPr>
              <p:cNvPr id="439" name=""/>
              <p:cNvSpPr/>
              <p:nvPr/>
            </p:nvSpPr>
            <p:spPr>
              <a:xfrm>
                <a:off x="1467000" y="6189480"/>
                <a:ext cx="136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4080"/>
                    </a:solidFill>
                    <a:latin typeface="Arial"/>
                    <a:ea typeface="ＭＳ Ｐゴシック"/>
                  </a:rPr>
                  <a:t>Fe + TiO</a:t>
                </a:r>
                <a:r>
                  <a:rPr b="0" lang="en-US" sz="2000" spc="-1" strike="noStrike" baseline="-25000">
                    <a:solidFill>
                      <a:srgbClr val="004080"/>
                    </a:solidFill>
                    <a:latin typeface="Arial"/>
                    <a:ea typeface="ＭＳ Ｐゴシック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06520" y="5792760"/>
                <a:ext cx="0" cy="679320"/>
              </a:xfrm>
              <a:prstGeom prst="line">
                <a:avLst/>
              </a:prstGeom>
              <a:ln w="889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0520" y="5048280"/>
                <a:ext cx="2225520" cy="1050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CO Reduction of         FeT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ＭＳ ゴシック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 (1200 K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24400" y="5045040"/>
                <a:ext cx="2347920" cy="78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ＭＳ ゴシック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 Reduction of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ＭＳ ゴシック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 (1100 K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91480" y="5041800"/>
                <a:ext cx="1623960" cy="703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Electrolys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ゴシック"/>
                  </a:rPr>
                  <a:t>(373 K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64400" y="5541840"/>
                <a:ext cx="1019160" cy="0"/>
              </a:xfrm>
              <a:prstGeom prst="line">
                <a:avLst/>
              </a:prstGeom>
              <a:ln w="88920">
                <a:solidFill>
                  <a:srgbClr val="3333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78440" y="5289480"/>
                <a:ext cx="100800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515680" y="5505480"/>
                <a:ext cx="1008360" cy="0"/>
              </a:xfrm>
              <a:prstGeom prst="line">
                <a:avLst/>
              </a:prstGeom>
              <a:ln w="8892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21000" y="4784760"/>
                <a:ext cx="97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0"/>
                    </a:solidFill>
                    <a:latin typeface="Arial"/>
                    <a:ea typeface="ＭＳ ゴシック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80"/>
                    </a:solidFill>
                    <a:latin typeface="Arial"/>
                    <a:ea typeface="ＭＳ ゴシック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27440" y="5514840"/>
                <a:ext cx="59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Arial"/>
                    <a:ea typeface="ＭＳ ゴシック"/>
                  </a:rPr>
                  <a:t>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75200" y="48736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  <a:ea typeface="ＭＳ ゴシック"/>
                  </a:rPr>
                  <a:t>H</a:t>
                </a:r>
                <a:r>
                  <a:rPr b="0" lang="en-US" sz="2000" spc="-1" strike="noStrike" baseline="-25000">
                    <a:solidFill>
                      <a:srgbClr val="ff0000"/>
                    </a:solidFill>
                    <a:latin typeface="Arial"/>
                    <a:ea typeface="ＭＳ ゴシック"/>
                  </a:rPr>
                  <a:t>2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  <a:ea typeface="ＭＳ ゴシック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45280" y="5549760"/>
                <a:ext cx="593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6666"/>
                    </a:solidFill>
                    <a:latin typeface="Arial"/>
                    <a:ea typeface="ＭＳ ゴシック"/>
                  </a:rPr>
                  <a:t>H</a:t>
                </a:r>
                <a:r>
                  <a:rPr b="0" lang="en-US" sz="2000" spc="-1" strike="noStrike" baseline="-25000">
                    <a:solidFill>
                      <a:srgbClr val="666666"/>
                    </a:solidFill>
                    <a:latin typeface="Arial"/>
                    <a:ea typeface="ＭＳ ゴシック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21640" y="4383000"/>
                <a:ext cx="593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ＭＳ ゴシック"/>
                  </a:rPr>
                  <a:t>O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  <a:ea typeface="ＭＳ ゴシック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674120" y="4401720"/>
                <a:ext cx="0" cy="64764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06520" y="4233960"/>
                <a:ext cx="1081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ff"/>
                    </a:solidFill>
                    <a:latin typeface="Arial"/>
                    <a:ea typeface="ＭＳ ゴシック"/>
                  </a:rPr>
                  <a:t>FeTiO</a:t>
                </a:r>
                <a:r>
                  <a:rPr b="1" lang="en-US" sz="2000" spc="-1" strike="noStrike" baseline="-25000">
                    <a:solidFill>
                      <a:srgbClr val="ff00ff"/>
                    </a:solidFill>
                    <a:latin typeface="Arial"/>
                    <a:ea typeface="ＭＳ ゴシック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11200" y="4362480"/>
                <a:ext cx="0" cy="647640"/>
              </a:xfrm>
              <a:prstGeom prst="line">
                <a:avLst/>
              </a:prstGeom>
              <a:ln w="8892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1480" y="4316400"/>
                <a:ext cx="792360" cy="243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+226 k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5640" y="6248520"/>
                <a:ext cx="720720" cy="243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-196 k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87680" y="4552920"/>
                <a:ext cx="792000" cy="243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-11.2 k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33840" y="5843520"/>
                <a:ext cx="792000" cy="243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+6.78 k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07240" y="4673520"/>
                <a:ext cx="720720" cy="2437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-137 k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91200" y="5923080"/>
                <a:ext cx="792360" cy="2437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+43.2 k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16040" y="5218200"/>
                <a:ext cx="1008360" cy="0"/>
              </a:xfrm>
              <a:prstGeom prst="line">
                <a:avLst/>
              </a:prstGeom>
              <a:ln w="8892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24040" y="3903480"/>
                <a:ext cx="453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8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CO reduction of ilmeni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20520" y="3602160"/>
            <a:ext cx="9123480" cy="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38200" y="763560"/>
            <a:ext cx="7834320" cy="2664720"/>
            <a:chOff x="538200" y="763560"/>
            <a:chExt cx="7834320" cy="2664720"/>
          </a:xfrm>
        </p:grpSpPr>
        <p:sp>
          <p:nvSpPr>
            <p:cNvPr id="465" name=""/>
            <p:cNvSpPr/>
            <p:nvPr/>
          </p:nvSpPr>
          <p:spPr>
            <a:xfrm>
              <a:off x="5942160" y="2462040"/>
              <a:ext cx="59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66"/>
                  </a:solidFill>
                  <a:latin typeface="Arial"/>
                  <a:ea typeface="ＭＳ ゴシック"/>
                </a:rPr>
                <a:t>H</a:t>
              </a:r>
              <a:r>
                <a:rPr b="0" lang="en-US" sz="2000" spc="-1" strike="noStrike" baseline="-25000">
                  <a:solidFill>
                    <a:srgbClr val="666666"/>
                  </a:solidFill>
                  <a:latin typeface="Arial"/>
                  <a:ea typeface="ＭＳ 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30920" y="1960560"/>
              <a:ext cx="1641600" cy="7038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lectroly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(373 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33880" y="1960560"/>
              <a:ext cx="2278080" cy="7873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Reduction of FeTi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ＭＳ ゴシック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(1200 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48320" y="2173320"/>
              <a:ext cx="120348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29240" y="2454120"/>
              <a:ext cx="1203480" cy="0"/>
            </a:xfrm>
            <a:prstGeom prst="line">
              <a:avLst/>
            </a:prstGeom>
            <a:ln w="8892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2080" y="1741320"/>
              <a:ext cx="949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ゴシック"/>
                </a:rPr>
                <a:t>H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ＭＳ ゴシック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ゴシック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73480" y="2666880"/>
              <a:ext cx="0" cy="636840"/>
            </a:xfrm>
            <a:prstGeom prst="line">
              <a:avLst/>
            </a:prstGeom>
            <a:ln w="889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05240" y="2987640"/>
              <a:ext cx="1387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080"/>
                  </a:solidFill>
                  <a:latin typeface="Arial"/>
                  <a:ea typeface="ＭＳ Ｐゴシック"/>
                </a:rPr>
                <a:t>Fe + TiO</a:t>
              </a:r>
              <a:r>
                <a:rPr b="0" lang="en-US" sz="2000" spc="-1" strike="noStrike" baseline="-25000">
                  <a:solidFill>
                    <a:srgbClr val="004080"/>
                  </a:solidFill>
                  <a:latin typeface="Arial"/>
                  <a:ea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8160" y="1325520"/>
              <a:ext cx="0" cy="635040"/>
            </a:xfrm>
            <a:prstGeom prst="line">
              <a:avLst/>
            </a:prstGeom>
            <a:ln w="889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57720" y="1309680"/>
              <a:ext cx="10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eTiO</a:t>
              </a:r>
              <a:r>
                <a:rPr b="1" lang="en-US" sz="2000" spc="-1" strike="noStrike" baseline="-25000">
                  <a:solidFill>
                    <a:srgbClr val="ff00ff"/>
                  </a:solidFill>
                  <a:latin typeface="Arial"/>
                  <a:ea typeface="ＭＳ 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16240" y="1374840"/>
              <a:ext cx="801720" cy="2437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226 k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74840" y="3032280"/>
              <a:ext cx="729000" cy="243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196 k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95920" y="1544760"/>
              <a:ext cx="728640" cy="24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146 k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37400" y="2862360"/>
              <a:ext cx="804600" cy="24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54.0 k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6320" y="763560"/>
              <a:ext cx="437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H</a:t>
              </a:r>
              <a:r>
                <a:rPr b="1" lang="ja-JP" sz="2800" spc="-1" strike="noStrike" baseline="-25000">
                  <a:solidFill>
                    <a:srgbClr val="0000ff"/>
                  </a:solidFill>
                  <a:latin typeface="Arial"/>
                  <a:ea typeface="ＭＳ Ｐゴシック"/>
                </a:rPr>
                <a:t>2</a:t>
              </a:r>
              <a:r>
                <a:rPr b="1" lang="ja-JP" sz="2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 reduction of ilme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906560" y="1598400"/>
              <a:ext cx="129060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1873080" y="2441520"/>
              <a:ext cx="12780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200" y="1987560"/>
              <a:ext cx="1733400" cy="8240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quired energy of preheating or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05720" y="126828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ＭＳ ゴシック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  <a:ea typeface="ＭＳ 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550280" y="1312560"/>
              <a:ext cx="0" cy="64764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55520" y="3406680"/>
            <a:ext cx="3143160" cy="405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 for 1-mol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487" name="" descr=""/>
            <p:cNvPicPr/>
            <p:nvPr/>
          </p:nvPicPr>
          <p:blipFill>
            <a:blip r:embed="rId19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28640" y="4280040"/>
            <a:ext cx="77202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6600"/>
                </a:solidFill>
                <a:latin typeface="Arial"/>
                <a:ea typeface="ＭＳ ゴシック"/>
              </a:rPr>
              <a:t>Understanding of the H</a:t>
            </a:r>
            <a:r>
              <a:rPr b="0" lang="ja-JP" sz="2800" spc="-1" strike="noStrike" baseline="-25000">
                <a:solidFill>
                  <a:srgbClr val="006600"/>
                </a:solidFill>
                <a:latin typeface="Arial"/>
                <a:ea typeface="ＭＳ ゴシック"/>
              </a:rPr>
              <a:t>2</a:t>
            </a:r>
            <a:r>
              <a:rPr b="0" lang="ja-JP" sz="2800" spc="-1" strike="noStrike">
                <a:solidFill>
                  <a:srgbClr val="006600"/>
                </a:solidFill>
                <a:latin typeface="Arial"/>
                <a:ea typeface="ＭＳ ゴシック"/>
              </a:rPr>
              <a:t> reduction mechanism of ilmenite is important for the 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6600"/>
                </a:solidFill>
                <a:latin typeface="Arial"/>
                <a:ea typeface="ＭＳ ゴシック"/>
              </a:rPr>
              <a:t>of lunar soil uti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9DFF-0815-451F-AE2C-8DE74C5F0D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9960" y="3166920"/>
          <a:ext cx="4968720" cy="3182760"/>
        </p:xfrm>
        <a:graphic>
          <a:graphicData uri="http://schemas.openxmlformats.org/drawingml/2006/table">
            <a:tbl>
              <a:tblPr/>
              <a:tblGrid>
                <a:gridCol w="1450800"/>
                <a:gridCol w="1722600"/>
                <a:gridCol w="1795320"/>
              </a:tblGrid>
              <a:tr h="6490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ゴシック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ゴシック"/>
                        </a:rPr>
                        <a:t>Lunar So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14 [ wt%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ar So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nt [ wt%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e</a:t>
                      </a:r>
                      <a:r>
                        <a:rPr b="1" lang="en-US" sz="1600" spc="-1" strike="noStrike" baseline="-25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2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"/>
          <p:cNvSpPr/>
          <p:nvPr/>
        </p:nvSpPr>
        <p:spPr>
          <a:xfrm>
            <a:off x="565200" y="932040"/>
            <a:ext cx="7993080" cy="143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Water-production fro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lunar soil simulan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b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ＭＳ ゴシック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           </a:t>
            </a:r>
            <a:r>
              <a:rPr b="0" i="1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Investigation of the kinetics and the mech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            </a:t>
            </a:r>
            <a:r>
              <a:rPr b="0" i="1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using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thermogravimetry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</a:t>
            </a:r>
            <a:r>
              <a:rPr b="0" i="1" lang="en-US" sz="2400" spc="-1" strike="noStrike">
                <a:solidFill>
                  <a:srgbClr val="004080"/>
                </a:solidFill>
                <a:latin typeface="Arial"/>
                <a:ea typeface="ＭＳ ゴシック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ゴシック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ゴシック"/>
              </a:rPr>
              <a:t>fixed bed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3920" y="2703600"/>
            <a:ext cx="53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ゴシック"/>
              </a:rPr>
              <a:t>Chemical composition of lunar soil simu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41920" y="2847960"/>
            <a:ext cx="3438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001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Lunar soil simulant was made by Shimizu Co., Jap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001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Median diameter: 70 </a:t>
            </a:r>
            <a:r>
              <a:rPr b="0" lang="en-US" sz="2000" spc="-1" strike="noStrike">
                <a:solidFill>
                  <a:srgbClr val="408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001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Simulant has almost the same composition with lunar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001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Fe</a:t>
            </a:r>
            <a:r>
              <a:rPr b="0" lang="en-US" sz="2000" spc="-1" strike="noStrike" baseline="-25000">
                <a:solidFill>
                  <a:srgbClr val="408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</a:t>
            </a:r>
            <a:r>
              <a:rPr b="0" lang="en-US" sz="2000" spc="-1" strike="noStrike" baseline="-25000">
                <a:solidFill>
                  <a:srgbClr val="408000"/>
                </a:solidFill>
                <a:latin typeface="Arial"/>
                <a:ea typeface="ＭＳ Ｐゴシック"/>
              </a:rPr>
              <a:t>3 </a:t>
            </a:r>
            <a:r>
              <a:rPr b="0" lang="en-US" sz="20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is included in simul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55800" y="1676520"/>
            <a:ext cx="512640" cy="360360"/>
          </a:xfrm>
          <a:prstGeom prst="rightArrow">
            <a:avLst>
              <a:gd name="adj1" fmla="val 50000"/>
              <a:gd name="adj2" fmla="val 35564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497" name="" descr=""/>
            <p:cNvPicPr/>
            <p:nvPr/>
          </p:nvPicPr>
          <p:blipFill>
            <a:blip r:embed="rId3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0789-12D7-4DCA-B40D-10CFA0501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203040" y="763560"/>
            <a:ext cx="7605000" cy="2059560"/>
            <a:chOff x="203040" y="763560"/>
            <a:chExt cx="7605000" cy="2059560"/>
          </a:xfrm>
        </p:grpSpPr>
        <p:sp>
          <p:nvSpPr>
            <p:cNvPr id="500" name=""/>
            <p:cNvSpPr/>
            <p:nvPr/>
          </p:nvSpPr>
          <p:spPr>
            <a:xfrm>
              <a:off x="203040" y="807840"/>
              <a:ext cx="7561440" cy="194328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7760" y="1209600"/>
              <a:ext cx="340344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Flow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mple 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action Temp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ticle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let 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40120" y="1195200"/>
              <a:ext cx="19936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[ L/min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[ g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[ K ]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[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[ kPa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31800" y="1195200"/>
              <a:ext cx="35762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, (2, 6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0, (3, 5, 1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073, 1173, 1223, 1273, 1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70, (30, 12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dec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6640" y="763560"/>
              <a:ext cx="348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080"/>
                  </a:solidFill>
                  <a:latin typeface="Arial"/>
                  <a:ea typeface="ＭＳ Ｐゴシック"/>
                </a:rPr>
                <a:t>Experimental Cond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bed reactor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49280" y="2919240"/>
            <a:ext cx="8410680" cy="3850920"/>
            <a:chOff x="449280" y="2919240"/>
            <a:chExt cx="8410680" cy="3850920"/>
          </a:xfrm>
        </p:grpSpPr>
        <p:sp>
          <p:nvSpPr>
            <p:cNvPr id="507" name=""/>
            <p:cNvSpPr/>
            <p:nvPr/>
          </p:nvSpPr>
          <p:spPr>
            <a:xfrm>
              <a:off x="6578640" y="2919240"/>
              <a:ext cx="66600" cy="109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78640" y="3004920"/>
              <a:ext cx="66600" cy="15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78640" y="2919240"/>
              <a:ext cx="66600" cy="15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96280" y="2927160"/>
              <a:ext cx="25200" cy="79200"/>
            </a:xfrm>
            <a:custGeom>
              <a:avLst/>
              <a:gdLst>
                <a:gd name="textAreaLeft" fmla="*/ 2880 w 25200"/>
                <a:gd name="textAreaRight" fmla="*/ 22320 w 25200"/>
                <a:gd name="textAreaTop" fmla="*/ 2880 h 79200"/>
                <a:gd name="textAreaBottom" fmla="*/ 76320 h 79200"/>
              </a:gdLst>
              <a:ahLst/>
              <a:rect l="textAreaLeft" t="textAreaTop" r="textAreaRight" b="textAreaBottom"/>
              <a:pathLst>
                <a:path w="21600" h="67234">
                  <a:moveTo>
                    <a:pt x="8640" y="0"/>
                  </a:moveTo>
                  <a:arcTo wR="8640" hR="8640" stAng="16200000" swAng="-5400000"/>
                  <a:lnTo>
                    <a:pt x="0" y="58594"/>
                  </a:lnTo>
                  <a:arcTo wR="8640" hR="8640" stAng="10800000" swAng="-5400000"/>
                  <a:lnTo>
                    <a:pt x="12960" y="6723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20040" y="2927160"/>
              <a:ext cx="25200" cy="79200"/>
            </a:xfrm>
            <a:custGeom>
              <a:avLst/>
              <a:gdLst>
                <a:gd name="textAreaLeft" fmla="*/ 2880 w 25200"/>
                <a:gd name="textAreaRight" fmla="*/ 22320 w 25200"/>
                <a:gd name="textAreaTop" fmla="*/ 2880 h 79200"/>
                <a:gd name="textAreaBottom" fmla="*/ 76320 h 79200"/>
              </a:gdLst>
              <a:ahLst/>
              <a:rect l="textAreaLeft" t="textAreaTop" r="textAreaRight" b="textAreaBottom"/>
              <a:pathLst>
                <a:path w="21600" h="67234">
                  <a:moveTo>
                    <a:pt x="8640" y="0"/>
                  </a:moveTo>
                  <a:arcTo wR="8640" hR="8640" stAng="16200000" swAng="-5400000"/>
                  <a:lnTo>
                    <a:pt x="0" y="58594"/>
                  </a:lnTo>
                  <a:arcTo wR="8640" hR="8640" stAng="10800000" swAng="-5400000"/>
                  <a:lnTo>
                    <a:pt x="12960" y="6723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72520" y="2927160"/>
              <a:ext cx="25200" cy="79200"/>
            </a:xfrm>
            <a:custGeom>
              <a:avLst/>
              <a:gdLst>
                <a:gd name="textAreaLeft" fmla="*/ 2880 w 25200"/>
                <a:gd name="textAreaRight" fmla="*/ 22320 w 25200"/>
                <a:gd name="textAreaTop" fmla="*/ 2880 h 79200"/>
                <a:gd name="textAreaBottom" fmla="*/ 76320 h 79200"/>
              </a:gdLst>
              <a:ahLst/>
              <a:rect l="textAreaLeft" t="textAreaTop" r="textAreaRight" b="textAreaBottom"/>
              <a:pathLst>
                <a:path w="21600" h="67234">
                  <a:moveTo>
                    <a:pt x="8640" y="0"/>
                  </a:moveTo>
                  <a:arcTo wR="8640" hR="8640" stAng="16200000" swAng="-5400000"/>
                  <a:lnTo>
                    <a:pt x="0" y="58594"/>
                  </a:lnTo>
                  <a:arcTo wR="8640" hR="8640" stAng="10800000" swAng="-5400000"/>
                  <a:lnTo>
                    <a:pt x="12960" y="6723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280" y="3771720"/>
              <a:ext cx="363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  <a:ea typeface="ＭＳ Ｐ明朝"/>
                </a:rPr>
                <a:t>H</a:t>
              </a:r>
              <a:r>
                <a:rPr b="0" lang="en-US" sz="1800" spc="-1" strike="noStrike" baseline="-25000">
                  <a:solidFill>
                    <a:srgbClr val="0066ff"/>
                  </a:solidFill>
                  <a:latin typeface="Arial"/>
                  <a:ea typeface="ＭＳ Ｐ明朝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86440" y="4824000"/>
              <a:ext cx="0" cy="519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74960" y="3881160"/>
              <a:ext cx="17492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60640" y="3782880"/>
              <a:ext cx="27000" cy="80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0640"/>
                <a:gd name="textAreaBottom" fmla="*/ 80640 h 80640"/>
              </a:gdLst>
              <a:ahLst/>
              <a:rect l="textAreaLeft" t="textAreaTop" r="textAreaRight" b="textAreaBottom"/>
              <a:pathLst>
                <a:path w="21600" h="63947">
                  <a:moveTo>
                    <a:pt x="0" y="0"/>
                  </a:moveTo>
                  <a:arcTo wR="0" hR="0" stAng="16200000" swAng="-5400000"/>
                  <a:lnTo>
                    <a:pt x="0" y="63947"/>
                  </a:lnTo>
                  <a:arcTo wR="0" hR="0" stAng="10800000" swAng="-5400000"/>
                  <a:lnTo>
                    <a:pt x="21600" y="6394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41560" y="3782880"/>
              <a:ext cx="52560" cy="648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13" y="0"/>
                  </a:moveTo>
                  <a:lnTo>
                    <a:pt x="51" y="38"/>
                  </a:lnTo>
                  <a:lnTo>
                    <a:pt x="38" y="51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47760" y="3782880"/>
              <a:ext cx="25560" cy="806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0640"/>
                <a:gd name="textAreaBottom" fmla="*/ 80640 h 80640"/>
              </a:gdLst>
              <a:ahLst/>
              <a:rect l="textAreaLeft" t="textAreaTop" r="textAreaRight" b="textAreaBottom"/>
              <a:pathLst>
                <a:path w="21600" h="67500">
                  <a:moveTo>
                    <a:pt x="0" y="0"/>
                  </a:moveTo>
                  <a:arcTo wR="0" hR="0" stAng="16200000" swAng="-5400000"/>
                  <a:lnTo>
                    <a:pt x="0" y="67500"/>
                  </a:lnTo>
                  <a:arcTo wR="0" hR="0" stAng="10800000" swAng="-5400000"/>
                  <a:lnTo>
                    <a:pt x="21600" y="675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27240" y="3782880"/>
              <a:ext cx="52560" cy="648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8" y="0"/>
                  </a:moveTo>
                  <a:lnTo>
                    <a:pt x="51" y="13"/>
                  </a:lnTo>
                  <a:lnTo>
                    <a:pt x="12" y="51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57400" y="3819240"/>
              <a:ext cx="11268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25720" y="3755880"/>
              <a:ext cx="586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9560" y="37558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97240" y="3665160"/>
              <a:ext cx="2030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87600" y="3868560"/>
              <a:ext cx="58680" cy="489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0"/>
                  </a:moveTo>
                  <a:lnTo>
                    <a:pt x="0" y="38"/>
                  </a:lnTo>
                  <a:lnTo>
                    <a:pt x="57" y="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08360" y="3881160"/>
              <a:ext cx="0" cy="9507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41640" y="4782960"/>
              <a:ext cx="101520" cy="177840"/>
            </a:xfrm>
            <a:custGeom>
              <a:avLst/>
              <a:gdLst>
                <a:gd name="textAreaLeft" fmla="*/ 13320 w 101520"/>
                <a:gd name="textAreaRight" fmla="*/ 88200 w 101520"/>
                <a:gd name="textAreaTop" fmla="*/ 13320 h 177840"/>
                <a:gd name="textAreaBottom" fmla="*/ 164520 h 177840"/>
              </a:gdLst>
              <a:ahLst/>
              <a:rect l="textAreaLeft" t="textAreaTop" r="textAreaRight" b="textAreaBottom"/>
              <a:pathLst>
                <a:path w="21600" h="37781">
                  <a:moveTo>
                    <a:pt x="9900" y="0"/>
                  </a:moveTo>
                  <a:arcTo wR="9900" hR="9900" stAng="16200000" swAng="-5400000"/>
                  <a:lnTo>
                    <a:pt x="0" y="27881"/>
                  </a:lnTo>
                  <a:arcTo wR="9900" hR="9900" stAng="10800000" swAng="-5400000"/>
                  <a:lnTo>
                    <a:pt x="11700" y="37781"/>
                  </a:lnTo>
                  <a:arcTo wR="9900" hR="9900" stAng="5400000" swAng="-5400000"/>
                  <a:lnTo>
                    <a:pt x="21600" y="9900"/>
                  </a:lnTo>
                  <a:arcTo wR="9900" hR="9900" stAng="0" swAng="-5400000"/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77920" y="4897080"/>
              <a:ext cx="225720" cy="554040"/>
            </a:xfrm>
            <a:custGeom>
              <a:avLst/>
              <a:gdLst>
                <a:gd name="textAreaLeft" fmla="*/ 10080 w 225720"/>
                <a:gd name="textAreaRight" fmla="*/ 215640 w 225720"/>
                <a:gd name="textAreaTop" fmla="*/ 10080 h 554040"/>
                <a:gd name="textAreaBottom" fmla="*/ 543960 h 554040"/>
              </a:gdLst>
              <a:ahLst/>
              <a:rect l="textAreaLeft" t="textAreaTop" r="textAreaRight" b="textAreaBottom"/>
              <a:pathLst>
                <a:path w="21600" h="52968">
                  <a:moveTo>
                    <a:pt x="3394" y="0"/>
                  </a:moveTo>
                  <a:arcTo wR="3394" hR="3394" stAng="16200000" swAng="-5400000"/>
                  <a:lnTo>
                    <a:pt x="0" y="49574"/>
                  </a:lnTo>
                  <a:arcTo wR="3394" hR="3394" stAng="10800000" swAng="-5400000"/>
                  <a:lnTo>
                    <a:pt x="18206" y="52968"/>
                  </a:lnTo>
                  <a:arcTo wR="3394" hR="3394" stAng="5400000" swAng="-5400000"/>
                  <a:lnTo>
                    <a:pt x="21600" y="3394"/>
                  </a:lnTo>
                  <a:arcTo wR="3394" hR="3394" stAng="0" swAng="-5400000"/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27320" y="4814640"/>
              <a:ext cx="147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09760" y="4701960"/>
              <a:ext cx="25560" cy="81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67800">
                  <a:moveTo>
                    <a:pt x="0" y="0"/>
                  </a:moveTo>
                  <a:arcTo wR="0" hR="0" stAng="16200000" swAng="-5400000"/>
                  <a:lnTo>
                    <a:pt x="0" y="67800"/>
                  </a:lnTo>
                  <a:arcTo wR="0" hR="0" stAng="10800000" swAng="-5400000"/>
                  <a:lnTo>
                    <a:pt x="21600" y="67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90680" y="4711320"/>
              <a:ext cx="52560" cy="63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13" y="0"/>
                  </a:moveTo>
                  <a:lnTo>
                    <a:pt x="51" y="38"/>
                  </a:lnTo>
                  <a:lnTo>
                    <a:pt x="38" y="51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95440" y="4701960"/>
              <a:ext cx="25560" cy="81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67800">
                  <a:moveTo>
                    <a:pt x="0" y="0"/>
                  </a:moveTo>
                  <a:arcTo wR="0" hR="0" stAng="16200000" swAng="-5400000"/>
                  <a:lnTo>
                    <a:pt x="0" y="67800"/>
                  </a:lnTo>
                  <a:arcTo wR="0" hR="0" stAng="10800000" swAng="-5400000"/>
                  <a:lnTo>
                    <a:pt x="21600" y="67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76360" y="4711320"/>
              <a:ext cx="52560" cy="63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8" y="0"/>
                  </a:moveTo>
                  <a:lnTo>
                    <a:pt x="51" y="12"/>
                  </a:lnTo>
                  <a:lnTo>
                    <a:pt x="12" y="51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06520" y="4746240"/>
              <a:ext cx="11124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3400" y="4674960"/>
              <a:ext cx="586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98680" y="4674960"/>
              <a:ext cx="586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94200" y="4717800"/>
              <a:ext cx="107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194200" y="471780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94200" y="4717800"/>
              <a:ext cx="982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292480" y="471780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98680" y="4755960"/>
              <a:ext cx="86040" cy="982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0" y="70"/>
                  </a:lnTo>
                  <a:lnTo>
                    <a:pt x="7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84720" y="4755960"/>
              <a:ext cx="85680" cy="982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70" y="0"/>
                  </a:lnTo>
                  <a:lnTo>
                    <a:pt x="0" y="32"/>
                  </a:lnTo>
                  <a:lnTo>
                    <a:pt x="7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38640" y="4674960"/>
              <a:ext cx="9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84720" y="4674960"/>
              <a:ext cx="1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0520" y="5001840"/>
              <a:ext cx="29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73440" y="4462200"/>
              <a:ext cx="71640" cy="871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70"/>
                  </a:moveTo>
                  <a:lnTo>
                    <a:pt x="70" y="70"/>
                  </a:lnTo>
                  <a:lnTo>
                    <a:pt x="38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73440" y="4373280"/>
              <a:ext cx="71640" cy="889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0"/>
                  </a:lnTo>
                  <a:lnTo>
                    <a:pt x="38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719440" y="4412520"/>
              <a:ext cx="180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19440" y="4462200"/>
              <a:ext cx="9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43200" y="3822480"/>
              <a:ext cx="101520" cy="179280"/>
            </a:xfrm>
            <a:custGeom>
              <a:avLst/>
              <a:gdLst>
                <a:gd name="textAreaLeft" fmla="*/ 13320 w 101520"/>
                <a:gd name="textAreaRight" fmla="*/ 88200 w 101520"/>
                <a:gd name="textAreaTop" fmla="*/ 13320 h 179280"/>
                <a:gd name="textAreaBottom" fmla="*/ 165960 h 179280"/>
              </a:gdLst>
              <a:ahLst/>
              <a:rect l="textAreaLeft" t="textAreaTop" r="textAreaRight" b="textAreaBottom"/>
              <a:pathLst>
                <a:path w="21600" h="38086">
                  <a:moveTo>
                    <a:pt x="9900" y="0"/>
                  </a:moveTo>
                  <a:arcTo wR="9900" hR="9900" stAng="16200000" swAng="-5400000"/>
                  <a:lnTo>
                    <a:pt x="0" y="28186"/>
                  </a:lnTo>
                  <a:arcTo wR="9900" hR="9900" stAng="10800000" swAng="-5400000"/>
                  <a:lnTo>
                    <a:pt x="11700" y="38086"/>
                  </a:lnTo>
                  <a:arcTo wR="9900" hR="9900" stAng="5400000" swAng="-5400000"/>
                  <a:lnTo>
                    <a:pt x="21600" y="9900"/>
                  </a:lnTo>
                  <a:arcTo wR="9900" hR="9900" stAng="0" swAng="-5400000"/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1280" y="3936600"/>
              <a:ext cx="223920" cy="555840"/>
            </a:xfrm>
            <a:custGeom>
              <a:avLst/>
              <a:gdLst>
                <a:gd name="textAreaLeft" fmla="*/ 10080 w 223920"/>
                <a:gd name="textAreaRight" fmla="*/ 213840 w 223920"/>
                <a:gd name="textAreaTop" fmla="*/ 10080 h 555840"/>
                <a:gd name="textAreaBottom" fmla="*/ 545760 h 555840"/>
              </a:gdLst>
              <a:ahLst/>
              <a:rect l="textAreaLeft" t="textAreaTop" r="textAreaRight" b="textAreaBottom"/>
              <a:pathLst>
                <a:path w="21600" h="53567">
                  <a:moveTo>
                    <a:pt x="3394" y="0"/>
                  </a:moveTo>
                  <a:arcTo wR="3394" hR="3394" stAng="16200000" swAng="-5400000"/>
                  <a:lnTo>
                    <a:pt x="0" y="50173"/>
                  </a:lnTo>
                  <a:arcTo wR="3394" hR="3394" stAng="10800000" swAng="-5400000"/>
                  <a:lnTo>
                    <a:pt x="18206" y="53567"/>
                  </a:lnTo>
                  <a:arcTo wR="3394" hR="3394" stAng="5400000" swAng="-5400000"/>
                  <a:lnTo>
                    <a:pt x="21600" y="3394"/>
                  </a:lnTo>
                  <a:arcTo wR="3394" hR="3394" stAng="0" swAng="-5400000"/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54320" y="5692320"/>
              <a:ext cx="1801800" cy="934920"/>
              <a:chOff x="454320" y="5692320"/>
              <a:chExt cx="1801800" cy="934920"/>
            </a:xfrm>
          </p:grpSpPr>
          <p:sp>
            <p:nvSpPr>
              <p:cNvPr id="552" name=""/>
              <p:cNvSpPr/>
              <p:nvPr/>
            </p:nvSpPr>
            <p:spPr>
              <a:xfrm>
                <a:off x="454320" y="5692320"/>
                <a:ext cx="178884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25600" y="6181200"/>
                <a:ext cx="198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30520" y="6036840"/>
                <a:ext cx="1174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明朝"/>
                  </a:rPr>
                  <a:t>Heated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5840" y="6411600"/>
                <a:ext cx="6192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11440" y="6297120"/>
                <a:ext cx="1444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明朝"/>
                  </a:rPr>
                  <a:t>Tempera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7160" y="5908320"/>
                <a:ext cx="19836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1960" y="5763600"/>
                <a:ext cx="114768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明朝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ＭＳ Ｐ明朝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明朝"/>
                  </a:rPr>
                  <a:t> flow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429000" y="483372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7720" y="4532040"/>
              <a:ext cx="100080" cy="2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605480" y="473184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81640" y="4482720"/>
              <a:ext cx="249120" cy="24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41040" y="4521960"/>
              <a:ext cx="658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9640" y="4563000"/>
              <a:ext cx="11304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3960" y="461304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30960" y="4532040"/>
              <a:ext cx="149040" cy="15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307040" y="473184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46600" y="394452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Pres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300200" y="4215960"/>
              <a:ext cx="4932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99200" y="4215960"/>
              <a:ext cx="1000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95600" y="4616280"/>
              <a:ext cx="20484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85960" y="4819320"/>
              <a:ext cx="58680" cy="493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0"/>
                  </a:moveTo>
                  <a:lnTo>
                    <a:pt x="0" y="38"/>
                  </a:lnTo>
                  <a:lnTo>
                    <a:pt x="57" y="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92480" y="3846240"/>
              <a:ext cx="85680" cy="982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0" y="70"/>
                  </a:lnTo>
                  <a:lnTo>
                    <a:pt x="7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78160" y="3846240"/>
              <a:ext cx="85680" cy="982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70" y="0"/>
                  </a:lnTo>
                  <a:lnTo>
                    <a:pt x="0" y="32"/>
                  </a:lnTo>
                  <a:lnTo>
                    <a:pt x="7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32080" y="3765240"/>
              <a:ext cx="9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78160" y="3765240"/>
              <a:ext cx="180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94040" y="3822480"/>
              <a:ext cx="1126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994040" y="3822480"/>
              <a:ext cx="14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94040" y="3822480"/>
              <a:ext cx="1033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097360" y="3822480"/>
              <a:ext cx="14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73680" y="6689520"/>
              <a:ext cx="1431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67200" y="5638680"/>
              <a:ext cx="17280" cy="10508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38760" y="6395760"/>
              <a:ext cx="87120" cy="1062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70" y="77"/>
                  </a:moveTo>
                  <a:lnTo>
                    <a:pt x="0" y="77"/>
                  </a:lnTo>
                  <a:lnTo>
                    <a:pt x="32" y="0"/>
                  </a:lnTo>
                  <a:lnTo>
                    <a:pt x="70" y="7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38760" y="6302160"/>
              <a:ext cx="87120" cy="936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70" y="0"/>
                  </a:lnTo>
                  <a:lnTo>
                    <a:pt x="32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187800" y="635256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078360" y="6395760"/>
              <a:ext cx="109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73600" y="6017760"/>
              <a:ext cx="24768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73600" y="6017760"/>
              <a:ext cx="228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973240" y="6017760"/>
              <a:ext cx="22860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73600" y="6109920"/>
              <a:ext cx="2286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96040" y="6690960"/>
              <a:ext cx="1290600" cy="18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21320" y="5800320"/>
              <a:ext cx="176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Moisture m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21120" y="5592600"/>
              <a:ext cx="27000" cy="108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27600" y="6651360"/>
              <a:ext cx="1407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5400000">
              <a:off x="4520160" y="5325120"/>
              <a:ext cx="299880" cy="222120"/>
            </a:xfrm>
            <a:prstGeom prst="roundRect">
              <a:avLst>
                <a:gd name="adj" fmla="val 1896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5400000">
              <a:off x="4535280" y="5347800"/>
              <a:ext cx="264960" cy="182520"/>
            </a:xfrm>
            <a:prstGeom prst="roundRect">
              <a:avLst>
                <a:gd name="adj" fmla="val 229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5400000">
              <a:off x="4554720" y="5283000"/>
              <a:ext cx="226800" cy="87120"/>
            </a:xfrm>
            <a:prstGeom prst="roundRect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5400000">
              <a:off x="4606200" y="5396400"/>
              <a:ext cx="71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11760" y="5297040"/>
              <a:ext cx="0" cy="301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23040" y="5300280"/>
              <a:ext cx="0" cy="303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5138640" y="6364080"/>
              <a:ext cx="33156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0800000">
              <a:off x="5371920" y="6620760"/>
              <a:ext cx="165240" cy="149400"/>
            </a:xfrm>
            <a:custGeom>
              <a:avLst/>
              <a:gdLst/>
              <a:ahLst/>
              <a:rect l="l" t="t" r="r" b="b"/>
              <a:pathLst>
                <a:path w="160" h="89">
                  <a:moveTo>
                    <a:pt x="70" y="0"/>
                  </a:moveTo>
                  <a:lnTo>
                    <a:pt x="0" y="89"/>
                  </a:lnTo>
                  <a:lnTo>
                    <a:pt x="160" y="8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59680" y="6570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52960" y="6117840"/>
              <a:ext cx="2087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Back pressure va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021120" y="5573160"/>
              <a:ext cx="307188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83360" y="6651360"/>
              <a:ext cx="9633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13200" y="5310000"/>
              <a:ext cx="100080" cy="20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260960" y="551160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7120" y="5260680"/>
              <a:ext cx="249120" cy="25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54480" y="5273280"/>
              <a:ext cx="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96520" y="5301000"/>
              <a:ext cx="6516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55480" y="5340960"/>
              <a:ext cx="11268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59440" y="539100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255560" y="5288400"/>
              <a:ext cx="6516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245480" y="5328720"/>
              <a:ext cx="11124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86440" y="5310000"/>
              <a:ext cx="149040" cy="15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962520" y="551160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84480" y="5625720"/>
              <a:ext cx="3008520" cy="190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4664160" y="5685840"/>
              <a:ext cx="936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87960" y="5254200"/>
              <a:ext cx="73080" cy="874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70"/>
                  </a:moveTo>
                  <a:lnTo>
                    <a:pt x="70" y="70"/>
                  </a:lnTo>
                  <a:lnTo>
                    <a:pt x="38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87960" y="5165280"/>
              <a:ext cx="73080" cy="8892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0"/>
                  </a:lnTo>
                  <a:lnTo>
                    <a:pt x="38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3335400" y="5203080"/>
              <a:ext cx="180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35400" y="5254200"/>
              <a:ext cx="9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59400" y="657972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71520" y="37000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45040" y="3209760"/>
              <a:ext cx="1224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ＭＳ Ｐ明朝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 flow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08840" y="3027240"/>
              <a:ext cx="170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let temper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27880" y="4076280"/>
              <a:ext cx="185760" cy="25092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67600" y="3958920"/>
              <a:ext cx="687240" cy="1801800"/>
            </a:xfrm>
            <a:custGeom>
              <a:avLst/>
              <a:gdLst/>
              <a:ahLst/>
              <a:rect l="l" t="t" r="r" b="b"/>
              <a:pathLst>
                <a:path w="761" h="1572">
                  <a:moveTo>
                    <a:pt x="0" y="1354"/>
                  </a:moveTo>
                  <a:lnTo>
                    <a:pt x="149" y="1354"/>
                  </a:lnTo>
                  <a:lnTo>
                    <a:pt x="176" y="1313"/>
                  </a:lnTo>
                  <a:lnTo>
                    <a:pt x="204" y="1354"/>
                  </a:lnTo>
                  <a:lnTo>
                    <a:pt x="244" y="1354"/>
                  </a:lnTo>
                  <a:lnTo>
                    <a:pt x="272" y="1204"/>
                  </a:lnTo>
                  <a:lnTo>
                    <a:pt x="272" y="0"/>
                  </a:lnTo>
                  <a:lnTo>
                    <a:pt x="299" y="0"/>
                  </a:lnTo>
                  <a:lnTo>
                    <a:pt x="299" y="714"/>
                  </a:lnTo>
                  <a:lnTo>
                    <a:pt x="319" y="714"/>
                  </a:lnTo>
                  <a:lnTo>
                    <a:pt x="319" y="1442"/>
                  </a:lnTo>
                  <a:lnTo>
                    <a:pt x="340" y="1470"/>
                  </a:lnTo>
                  <a:lnTo>
                    <a:pt x="428" y="1470"/>
                  </a:lnTo>
                  <a:lnTo>
                    <a:pt x="449" y="1442"/>
                  </a:lnTo>
                  <a:lnTo>
                    <a:pt x="449" y="714"/>
                  </a:lnTo>
                  <a:lnTo>
                    <a:pt x="469" y="714"/>
                  </a:lnTo>
                  <a:lnTo>
                    <a:pt x="469" y="0"/>
                  </a:lnTo>
                  <a:lnTo>
                    <a:pt x="489" y="0"/>
                  </a:lnTo>
                  <a:lnTo>
                    <a:pt x="489" y="1204"/>
                  </a:lnTo>
                  <a:lnTo>
                    <a:pt x="523" y="1354"/>
                  </a:lnTo>
                  <a:lnTo>
                    <a:pt x="564" y="1354"/>
                  </a:lnTo>
                  <a:lnTo>
                    <a:pt x="591" y="1313"/>
                  </a:lnTo>
                  <a:lnTo>
                    <a:pt x="619" y="1354"/>
                  </a:lnTo>
                  <a:lnTo>
                    <a:pt x="761" y="1354"/>
                  </a:lnTo>
                  <a:lnTo>
                    <a:pt x="761" y="1572"/>
                  </a:lnTo>
                  <a:lnTo>
                    <a:pt x="571" y="1572"/>
                  </a:lnTo>
                  <a:lnTo>
                    <a:pt x="564" y="1517"/>
                  </a:lnTo>
                  <a:lnTo>
                    <a:pt x="462" y="1538"/>
                  </a:lnTo>
                  <a:lnTo>
                    <a:pt x="469" y="1572"/>
                  </a:lnTo>
                  <a:lnTo>
                    <a:pt x="435" y="1572"/>
                  </a:lnTo>
                  <a:lnTo>
                    <a:pt x="435" y="1524"/>
                  </a:lnTo>
                  <a:lnTo>
                    <a:pt x="333" y="1524"/>
                  </a:lnTo>
                  <a:lnTo>
                    <a:pt x="333" y="1565"/>
                  </a:lnTo>
                  <a:lnTo>
                    <a:pt x="0" y="1565"/>
                  </a:lnTo>
                  <a:lnTo>
                    <a:pt x="0" y="1476"/>
                  </a:lnTo>
                  <a:lnTo>
                    <a:pt x="27" y="1476"/>
                  </a:lnTo>
                  <a:lnTo>
                    <a:pt x="27" y="1436"/>
                  </a:lnTo>
                  <a:lnTo>
                    <a:pt x="0" y="1436"/>
                  </a:lnTo>
                  <a:lnTo>
                    <a:pt x="0" y="135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04200" y="4750920"/>
              <a:ext cx="41040" cy="1338480"/>
            </a:xfrm>
            <a:custGeom>
              <a:avLst/>
              <a:gdLst/>
              <a:ahLst/>
              <a:rect l="l" t="t" r="r" b="b"/>
              <a:pathLst>
                <a:path w="62" h="1844">
                  <a:moveTo>
                    <a:pt x="7" y="1844"/>
                  </a:moveTo>
                  <a:lnTo>
                    <a:pt x="0" y="1844"/>
                  </a:lnTo>
                  <a:lnTo>
                    <a:pt x="0" y="20"/>
                  </a:lnTo>
                  <a:lnTo>
                    <a:pt x="7" y="6"/>
                  </a:lnTo>
                  <a:lnTo>
                    <a:pt x="28" y="0"/>
                  </a:lnTo>
                  <a:lnTo>
                    <a:pt x="48" y="6"/>
                  </a:lnTo>
                  <a:lnTo>
                    <a:pt x="62" y="20"/>
                  </a:lnTo>
                  <a:lnTo>
                    <a:pt x="62" y="1844"/>
                  </a:lnTo>
                  <a:lnTo>
                    <a:pt x="55" y="1844"/>
                  </a:lnTo>
                  <a:lnTo>
                    <a:pt x="55" y="20"/>
                  </a:lnTo>
                  <a:lnTo>
                    <a:pt x="41" y="6"/>
                  </a:lnTo>
                  <a:lnTo>
                    <a:pt x="28" y="6"/>
                  </a:lnTo>
                  <a:lnTo>
                    <a:pt x="14" y="6"/>
                  </a:lnTo>
                  <a:lnTo>
                    <a:pt x="7" y="20"/>
                  </a:lnTo>
                  <a:lnTo>
                    <a:pt x="7" y="1844"/>
                  </a:lnTo>
                  <a:close/>
                </a:path>
              </a:pathLst>
            </a:custGeom>
            <a:noFill/>
            <a:ln w="111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10320" y="411624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31200" y="438912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27880" y="4311360"/>
              <a:ext cx="154080" cy="39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6489720" y="5283000"/>
              <a:ext cx="235080" cy="25200"/>
              <a:chOff x="6489720" y="5283000"/>
              <a:chExt cx="235080" cy="25200"/>
            </a:xfrm>
          </p:grpSpPr>
          <p:sp>
            <p:nvSpPr>
              <p:cNvPr id="635" name=""/>
              <p:cNvSpPr/>
              <p:nvPr/>
            </p:nvSpPr>
            <p:spPr>
              <a:xfrm>
                <a:off x="6489720" y="5283000"/>
                <a:ext cx="19800" cy="25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705000" y="5283000"/>
                <a:ext cx="19800" cy="252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489720" y="5119560"/>
              <a:ext cx="235080" cy="25200"/>
              <a:chOff x="6489720" y="5119560"/>
              <a:chExt cx="235080" cy="25200"/>
            </a:xfrm>
          </p:grpSpPr>
          <p:sp>
            <p:nvSpPr>
              <p:cNvPr id="638" name=""/>
              <p:cNvSpPr/>
              <p:nvPr/>
            </p:nvSpPr>
            <p:spPr>
              <a:xfrm>
                <a:off x="6489720" y="5119560"/>
                <a:ext cx="19800" cy="252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705000" y="5119560"/>
                <a:ext cx="19800" cy="252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6489720" y="4949640"/>
              <a:ext cx="235080" cy="23760"/>
              <a:chOff x="6489720" y="4949640"/>
              <a:chExt cx="235080" cy="23760"/>
            </a:xfrm>
          </p:grpSpPr>
          <p:sp>
            <p:nvSpPr>
              <p:cNvPr id="641" name=""/>
              <p:cNvSpPr/>
              <p:nvPr/>
            </p:nvSpPr>
            <p:spPr>
              <a:xfrm>
                <a:off x="6489720" y="4949640"/>
                <a:ext cx="19800" cy="2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705000" y="4949640"/>
                <a:ext cx="19800" cy="237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489720" y="4785840"/>
              <a:ext cx="235080" cy="24120"/>
              <a:chOff x="6489720" y="4785840"/>
              <a:chExt cx="235080" cy="24120"/>
            </a:xfrm>
          </p:grpSpPr>
          <p:sp>
            <p:nvSpPr>
              <p:cNvPr id="644" name=""/>
              <p:cNvSpPr/>
              <p:nvPr/>
            </p:nvSpPr>
            <p:spPr>
              <a:xfrm>
                <a:off x="6489720" y="4785840"/>
                <a:ext cx="19800" cy="241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05000" y="4785840"/>
                <a:ext cx="19800" cy="241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489720" y="4620960"/>
              <a:ext cx="235080" cy="25200"/>
              <a:chOff x="6489720" y="4620960"/>
              <a:chExt cx="235080" cy="25200"/>
            </a:xfrm>
          </p:grpSpPr>
          <p:sp>
            <p:nvSpPr>
              <p:cNvPr id="647" name=""/>
              <p:cNvSpPr/>
              <p:nvPr/>
            </p:nvSpPr>
            <p:spPr>
              <a:xfrm>
                <a:off x="6489720" y="4620960"/>
                <a:ext cx="19800" cy="252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05000" y="4620960"/>
                <a:ext cx="198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6489720" y="4457520"/>
              <a:ext cx="235080" cy="23760"/>
              <a:chOff x="6489720" y="4457520"/>
              <a:chExt cx="235080" cy="23760"/>
            </a:xfrm>
          </p:grpSpPr>
          <p:sp>
            <p:nvSpPr>
              <p:cNvPr id="650" name=""/>
              <p:cNvSpPr/>
              <p:nvPr/>
            </p:nvSpPr>
            <p:spPr>
              <a:xfrm>
                <a:off x="6489720" y="4457520"/>
                <a:ext cx="19800" cy="2376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05000" y="4457520"/>
                <a:ext cx="19800" cy="237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489720" y="4293720"/>
              <a:ext cx="235080" cy="24120"/>
              <a:chOff x="6489720" y="4293720"/>
              <a:chExt cx="235080" cy="24120"/>
            </a:xfrm>
          </p:grpSpPr>
          <p:sp>
            <p:nvSpPr>
              <p:cNvPr id="653" name=""/>
              <p:cNvSpPr/>
              <p:nvPr/>
            </p:nvSpPr>
            <p:spPr>
              <a:xfrm>
                <a:off x="6489720" y="4293720"/>
                <a:ext cx="19800" cy="241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05000" y="4293720"/>
                <a:ext cx="19800" cy="241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489720" y="4122360"/>
              <a:ext cx="235080" cy="25560"/>
              <a:chOff x="6489720" y="4122360"/>
              <a:chExt cx="235080" cy="25560"/>
            </a:xfrm>
          </p:grpSpPr>
          <p:sp>
            <p:nvSpPr>
              <p:cNvPr id="656" name=""/>
              <p:cNvSpPr/>
              <p:nvPr/>
            </p:nvSpPr>
            <p:spPr>
              <a:xfrm>
                <a:off x="6489720" y="4122360"/>
                <a:ext cx="19800" cy="2556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705000" y="4122360"/>
                <a:ext cx="19800" cy="2556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489720" y="3958920"/>
              <a:ext cx="235080" cy="25560"/>
              <a:chOff x="6489720" y="3958920"/>
              <a:chExt cx="235080" cy="25560"/>
            </a:xfrm>
          </p:grpSpPr>
          <p:sp>
            <p:nvSpPr>
              <p:cNvPr id="659" name=""/>
              <p:cNvSpPr/>
              <p:nvPr/>
            </p:nvSpPr>
            <p:spPr>
              <a:xfrm>
                <a:off x="6489720" y="3958920"/>
                <a:ext cx="19800" cy="2556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705000" y="3958920"/>
                <a:ext cx="19800" cy="2556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683400" y="5709960"/>
              <a:ext cx="100080" cy="1634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1600" h="35226">
                  <a:moveTo>
                    <a:pt x="0" y="0"/>
                  </a:moveTo>
                  <a:arcTo wR="0" hR="0" stAng="16200000" swAng="-5400000"/>
                  <a:lnTo>
                    <a:pt x="0" y="35226"/>
                  </a:lnTo>
                  <a:arcTo wR="0" hR="0" stAng="10800000" swAng="-5400000"/>
                  <a:lnTo>
                    <a:pt x="21600" y="352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59560" y="5705280"/>
              <a:ext cx="92160" cy="15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66040" y="5876640"/>
              <a:ext cx="85680" cy="109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66040" y="5876640"/>
              <a:ext cx="85680" cy="15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66040" y="5968800"/>
              <a:ext cx="85680" cy="17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89800" y="5891040"/>
              <a:ext cx="31680" cy="79200"/>
            </a:xfrm>
            <a:custGeom>
              <a:avLst/>
              <a:gdLst>
                <a:gd name="textAreaLeft" fmla="*/ 3600 w 31680"/>
                <a:gd name="textAreaRight" fmla="*/ 28080 w 31680"/>
                <a:gd name="textAreaTop" fmla="*/ 3600 h 79200"/>
                <a:gd name="textAreaBottom" fmla="*/ 75600 h 79200"/>
              </a:gdLst>
              <a:ahLst/>
              <a:rect l="textAreaLeft" t="textAreaTop" r="textAreaRight" b="textAreaBottom"/>
              <a:pathLst>
                <a:path w="21600" h="53636">
                  <a:moveTo>
                    <a:pt x="9000" y="0"/>
                  </a:moveTo>
                  <a:arcTo wR="9000" hR="9000" stAng="16200000" swAng="-5400000"/>
                  <a:lnTo>
                    <a:pt x="0" y="44636"/>
                  </a:lnTo>
                  <a:arcTo wR="9000" hR="9000" stAng="10800000" swAng="-5400000"/>
                  <a:lnTo>
                    <a:pt x="12600" y="53636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20040" y="5891040"/>
              <a:ext cx="31680" cy="79200"/>
            </a:xfrm>
            <a:custGeom>
              <a:avLst/>
              <a:gdLst>
                <a:gd name="textAreaLeft" fmla="*/ 3600 w 31680"/>
                <a:gd name="textAreaRight" fmla="*/ 28080 w 31680"/>
                <a:gd name="textAreaTop" fmla="*/ 3600 h 79200"/>
                <a:gd name="textAreaBottom" fmla="*/ 75600 h 79200"/>
              </a:gdLst>
              <a:ahLst/>
              <a:rect l="textAreaLeft" t="textAreaTop" r="textAreaRight" b="textAreaBottom"/>
              <a:pathLst>
                <a:path w="21600" h="53636">
                  <a:moveTo>
                    <a:pt x="9000" y="0"/>
                  </a:moveTo>
                  <a:arcTo wR="9000" hR="9000" stAng="16200000" swAng="-5400000"/>
                  <a:lnTo>
                    <a:pt x="0" y="44636"/>
                  </a:lnTo>
                  <a:arcTo wR="9000" hR="9000" stAng="10800000" swAng="-5400000"/>
                  <a:lnTo>
                    <a:pt x="12600" y="53636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59560" y="5891040"/>
              <a:ext cx="32040" cy="79200"/>
            </a:xfrm>
            <a:custGeom>
              <a:avLst/>
              <a:gdLst>
                <a:gd name="textAreaLeft" fmla="*/ 3600 w 32040"/>
                <a:gd name="textAreaRight" fmla="*/ 28440 w 32040"/>
                <a:gd name="textAreaTop" fmla="*/ 3600 h 79200"/>
                <a:gd name="textAreaBottom" fmla="*/ 75600 h 79200"/>
              </a:gdLst>
              <a:ahLst/>
              <a:rect l="textAreaLeft" t="textAreaTop" r="textAreaRight" b="textAreaBottom"/>
              <a:pathLst>
                <a:path w="21600" h="53040">
                  <a:moveTo>
                    <a:pt x="9000" y="0"/>
                  </a:moveTo>
                  <a:arcTo wR="9000" hR="9000" stAng="16200000" swAng="-5400000"/>
                  <a:lnTo>
                    <a:pt x="0" y="44040"/>
                  </a:lnTo>
                  <a:arcTo wR="9000" hR="9000" stAng="10800000" swAng="-5400000"/>
                  <a:lnTo>
                    <a:pt x="12600" y="53040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44040" y="5721120"/>
              <a:ext cx="326880" cy="39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39320" y="5721120"/>
              <a:ext cx="48960" cy="39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31000" y="5714640"/>
              <a:ext cx="325440" cy="39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5200" y="5859000"/>
              <a:ext cx="50760" cy="381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7680" y="5603400"/>
              <a:ext cx="182520" cy="57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3000" y="5609880"/>
              <a:ext cx="468360" cy="30240"/>
            </a:xfrm>
            <a:custGeom>
              <a:avLst/>
              <a:gdLst/>
              <a:ahLst/>
              <a:rect l="l" t="t" r="r" b="b"/>
              <a:pathLst>
                <a:path w="517" h="28">
                  <a:moveTo>
                    <a:pt x="0" y="28"/>
                  </a:moveTo>
                  <a:lnTo>
                    <a:pt x="517" y="28"/>
                  </a:lnTo>
                  <a:lnTo>
                    <a:pt x="483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70680" y="5624280"/>
              <a:ext cx="49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37280" y="5624280"/>
              <a:ext cx="64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62840" y="5624280"/>
              <a:ext cx="49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29440" y="5624280"/>
              <a:ext cx="64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55000" y="5624280"/>
              <a:ext cx="489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21600" y="5624280"/>
              <a:ext cx="64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46800" y="5624280"/>
              <a:ext cx="478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13760" y="5624280"/>
              <a:ext cx="61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38960" y="5624280"/>
              <a:ext cx="478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05560" y="5624280"/>
              <a:ext cx="64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31120" y="5624280"/>
              <a:ext cx="237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69080" y="5714640"/>
              <a:ext cx="61920" cy="39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5600" y="5721120"/>
              <a:ext cx="63720" cy="39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824880" y="5506560"/>
              <a:ext cx="51840" cy="250560"/>
              <a:chOff x="6824880" y="5506560"/>
              <a:chExt cx="51840" cy="25056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6876000" y="5506560"/>
                <a:ext cx="720" cy="250560"/>
                <a:chOff x="6876000" y="5506560"/>
                <a:chExt cx="720" cy="2505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876000" y="55065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876000" y="553752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876000" y="556848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876000" y="5600520"/>
                  <a:ext cx="720" cy="6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876000" y="563184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876000" y="56628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876000" y="56937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876000" y="5725440"/>
                  <a:ext cx="72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876000" y="57492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6824880" y="5506560"/>
                <a:ext cx="720" cy="250560"/>
                <a:chOff x="6824880" y="5506560"/>
                <a:chExt cx="720" cy="25056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6824880" y="55065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824880" y="553752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824880" y="556848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824880" y="5600520"/>
                  <a:ext cx="720" cy="6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824880" y="563184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824880" y="56628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824880" y="56937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824880" y="5725440"/>
                  <a:ext cx="72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824880" y="57492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" name=""/>
            <p:cNvGrpSpPr/>
            <p:nvPr/>
          </p:nvGrpSpPr>
          <p:grpSpPr>
            <a:xfrm>
              <a:off x="6850080" y="5451120"/>
              <a:ext cx="1440" cy="329760"/>
              <a:chOff x="6850080" y="5451120"/>
              <a:chExt cx="1440" cy="329760"/>
            </a:xfrm>
          </p:grpSpPr>
          <p:sp>
            <p:nvSpPr>
              <p:cNvPr id="710" name=""/>
              <p:cNvSpPr/>
              <p:nvPr/>
            </p:nvSpPr>
            <p:spPr>
              <a:xfrm>
                <a:off x="6850080" y="5451120"/>
                <a:ext cx="1440" cy="63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50080" y="5537520"/>
                <a:ext cx="1440" cy="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850080" y="5568840"/>
                <a:ext cx="1440" cy="63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50080" y="5655600"/>
                <a:ext cx="1440" cy="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50080" y="5686560"/>
                <a:ext cx="1440" cy="63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850080" y="5772960"/>
                <a:ext cx="1440" cy="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321600" y="5506560"/>
              <a:ext cx="58320" cy="250560"/>
              <a:chOff x="6321600" y="5506560"/>
              <a:chExt cx="58320" cy="2505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6379200" y="5506560"/>
                <a:ext cx="720" cy="250560"/>
                <a:chOff x="6379200" y="5506560"/>
                <a:chExt cx="720" cy="2505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379200" y="55065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379200" y="553752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379200" y="556848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379200" y="5600520"/>
                  <a:ext cx="720" cy="6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379200" y="563184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379200" y="56628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79200" y="56937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379200" y="5725440"/>
                  <a:ext cx="72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79200" y="57492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321600" y="5506560"/>
                <a:ext cx="720" cy="250560"/>
                <a:chOff x="6321600" y="5506560"/>
                <a:chExt cx="720" cy="2505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321600" y="55065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321600" y="553752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321600" y="556848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321600" y="5600520"/>
                  <a:ext cx="720" cy="6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321600" y="563184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321600" y="56628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321600" y="569376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321600" y="5725440"/>
                  <a:ext cx="72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321600" y="5749200"/>
                  <a:ext cx="720" cy="7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" name=""/>
            <p:cNvGrpSpPr/>
            <p:nvPr/>
          </p:nvGrpSpPr>
          <p:grpSpPr>
            <a:xfrm>
              <a:off x="6353280" y="5451120"/>
              <a:ext cx="1440" cy="329760"/>
              <a:chOff x="6353280" y="5451120"/>
              <a:chExt cx="1440" cy="329760"/>
            </a:xfrm>
          </p:grpSpPr>
          <p:sp>
            <p:nvSpPr>
              <p:cNvPr id="738" name=""/>
              <p:cNvSpPr/>
              <p:nvPr/>
            </p:nvSpPr>
            <p:spPr>
              <a:xfrm>
                <a:off x="6353280" y="5451120"/>
                <a:ext cx="1440" cy="63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353280" y="5537520"/>
                <a:ext cx="1440" cy="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53280" y="5568840"/>
                <a:ext cx="1440" cy="63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353280" y="5655600"/>
                <a:ext cx="1440" cy="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353280" y="5686560"/>
                <a:ext cx="1440" cy="63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353280" y="5772960"/>
                <a:ext cx="1440" cy="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6573960" y="4882680"/>
              <a:ext cx="222120" cy="1186200"/>
            </a:xfrm>
            <a:custGeom>
              <a:avLst/>
              <a:gdLst/>
              <a:ahLst/>
              <a:rect l="l" t="t" r="r" b="b"/>
              <a:pathLst>
                <a:path w="252" h="1035">
                  <a:moveTo>
                    <a:pt x="198" y="1035"/>
                  </a:moveTo>
                  <a:lnTo>
                    <a:pt x="191" y="1035"/>
                  </a:lnTo>
                  <a:lnTo>
                    <a:pt x="0" y="28"/>
                  </a:lnTo>
                  <a:lnTo>
                    <a:pt x="7" y="14"/>
                  </a:lnTo>
                  <a:lnTo>
                    <a:pt x="28" y="0"/>
                  </a:lnTo>
                  <a:lnTo>
                    <a:pt x="41" y="7"/>
                  </a:lnTo>
                  <a:lnTo>
                    <a:pt x="55" y="21"/>
                  </a:lnTo>
                  <a:lnTo>
                    <a:pt x="252" y="1028"/>
                  </a:lnTo>
                  <a:lnTo>
                    <a:pt x="245" y="1028"/>
                  </a:lnTo>
                  <a:lnTo>
                    <a:pt x="55" y="21"/>
                  </a:lnTo>
                  <a:lnTo>
                    <a:pt x="4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28"/>
                  </a:lnTo>
                  <a:lnTo>
                    <a:pt x="198" y="1035"/>
                  </a:lnTo>
                  <a:close/>
                </a:path>
              </a:pathLst>
            </a:custGeom>
            <a:noFill/>
            <a:ln w="111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70800" y="5692320"/>
              <a:ext cx="117360" cy="17316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102" y="0"/>
                  </a:moveTo>
                  <a:lnTo>
                    <a:pt x="129" y="136"/>
                  </a:lnTo>
                  <a:lnTo>
                    <a:pt x="27" y="150"/>
                  </a:lnTo>
                  <a:lnTo>
                    <a:pt x="0" y="2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05720" y="5843160"/>
              <a:ext cx="90360" cy="117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1600" h="28114">
                  <a:moveTo>
                    <a:pt x="0" y="0"/>
                  </a:moveTo>
                  <a:arcTo wR="0" hR="0" stAng="16200000" swAng="-5400000"/>
                  <a:lnTo>
                    <a:pt x="0" y="28114"/>
                  </a:lnTo>
                  <a:arcTo wR="0" hR="0" stAng="10800000" swAng="-5400000"/>
                  <a:lnTo>
                    <a:pt x="21600" y="2811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99240" y="5835240"/>
              <a:ext cx="96840" cy="12564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89" y="0"/>
                  </a:moveTo>
                  <a:lnTo>
                    <a:pt x="109" y="95"/>
                  </a:lnTo>
                  <a:lnTo>
                    <a:pt x="21" y="109"/>
                  </a:lnTo>
                  <a:lnTo>
                    <a:pt x="0" y="2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99240" y="5851080"/>
              <a:ext cx="90720" cy="24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9240" y="5835240"/>
              <a:ext cx="84240" cy="3204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89" y="0"/>
                  </a:moveTo>
                  <a:lnTo>
                    <a:pt x="95" y="1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12200" y="5937120"/>
              <a:ext cx="90360" cy="23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12200" y="5928840"/>
              <a:ext cx="83880" cy="3204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95" y="0"/>
                  </a:moveTo>
                  <a:lnTo>
                    <a:pt x="95" y="13"/>
                  </a:lnTo>
                  <a:lnTo>
                    <a:pt x="7" y="27"/>
                  </a:lnTo>
                  <a:lnTo>
                    <a:pt x="0" y="1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35960" y="5857560"/>
              <a:ext cx="36360" cy="87480"/>
            </a:xfrm>
            <a:custGeom>
              <a:avLst/>
              <a:gdLst>
                <a:gd name="textAreaLeft" fmla="*/ 4320 w 36360"/>
                <a:gd name="textAreaRight" fmla="*/ 32040 w 36360"/>
                <a:gd name="textAreaTop" fmla="*/ 4320 h 87480"/>
                <a:gd name="textAreaBottom" fmla="*/ 83160 h 87480"/>
              </a:gdLst>
              <a:ahLst/>
              <a:rect l="textAreaLeft" t="textAreaTop" r="textAreaRight" b="textAreaBottom"/>
              <a:pathLst>
                <a:path w="21600" h="51671">
                  <a:moveTo>
                    <a:pt x="9000" y="0"/>
                  </a:moveTo>
                  <a:arcTo wR="9000" hR="9000" stAng="16200000" swAng="-5400000"/>
                  <a:lnTo>
                    <a:pt x="0" y="42671"/>
                  </a:lnTo>
                  <a:arcTo wR="9000" hR="9000" stAng="10800000" swAng="-5400000"/>
                  <a:lnTo>
                    <a:pt x="12600" y="51671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29480" y="5857560"/>
              <a:ext cx="36720" cy="7956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1" y="48"/>
                  </a:lnTo>
                  <a:lnTo>
                    <a:pt x="41" y="55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6200" y="5851080"/>
              <a:ext cx="36360" cy="86040"/>
            </a:xfrm>
            <a:custGeom>
              <a:avLst/>
              <a:gdLst>
                <a:gd name="textAreaLeft" fmla="*/ 4320 w 36360"/>
                <a:gd name="textAreaRight" fmla="*/ 32040 w 36360"/>
                <a:gd name="textAreaTop" fmla="*/ 4320 h 86040"/>
                <a:gd name="textAreaBottom" fmla="*/ 81720 h 86040"/>
              </a:gdLst>
              <a:ahLst/>
              <a:rect l="textAreaLeft" t="textAreaTop" r="textAreaRight" b="textAreaBottom"/>
              <a:pathLst>
                <a:path w="21600" h="50824">
                  <a:moveTo>
                    <a:pt x="9000" y="0"/>
                  </a:moveTo>
                  <a:arcTo wR="9000" hR="9000" stAng="16200000" swAng="-5400000"/>
                  <a:lnTo>
                    <a:pt x="0" y="41824"/>
                  </a:lnTo>
                  <a:arcTo wR="9000" hR="9000" stAng="10800000" swAng="-5400000"/>
                  <a:lnTo>
                    <a:pt x="12600" y="50824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59720" y="5851080"/>
              <a:ext cx="36360" cy="7776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20"/>
                  </a:moveTo>
                  <a:lnTo>
                    <a:pt x="0" y="2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41" y="47"/>
                  </a:lnTo>
                  <a:lnTo>
                    <a:pt x="41" y="54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7" y="61"/>
                  </a:lnTo>
                  <a:lnTo>
                    <a:pt x="7" y="5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705720" y="5867280"/>
              <a:ext cx="36360" cy="85680"/>
            </a:xfrm>
            <a:custGeom>
              <a:avLst/>
              <a:gdLst>
                <a:gd name="textAreaLeft" fmla="*/ 4320 w 36360"/>
                <a:gd name="textAreaRight" fmla="*/ 32040 w 36360"/>
                <a:gd name="textAreaTop" fmla="*/ 4320 h 85680"/>
                <a:gd name="textAreaBottom" fmla="*/ 81360 h 85680"/>
              </a:gdLst>
              <a:ahLst/>
              <a:rect l="textAreaLeft" t="textAreaTop" r="textAreaRight" b="textAreaBottom"/>
              <a:pathLst>
                <a:path w="21600" h="50612">
                  <a:moveTo>
                    <a:pt x="9000" y="0"/>
                  </a:moveTo>
                  <a:arcTo wR="9000" hR="9000" stAng="16200000" swAng="-5400000"/>
                  <a:lnTo>
                    <a:pt x="0" y="41612"/>
                  </a:lnTo>
                  <a:arcTo wR="9000" hR="9000" stAng="10800000" swAng="-5400000"/>
                  <a:lnTo>
                    <a:pt x="12600" y="50612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99240" y="5867280"/>
              <a:ext cx="36720" cy="7776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1" y="48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61360" y="3366720"/>
              <a:ext cx="75960" cy="34452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7680" y="5324040"/>
              <a:ext cx="185760" cy="5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97680" y="5339880"/>
              <a:ext cx="382680" cy="241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70680" y="5351040"/>
              <a:ext cx="49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39080" y="5351040"/>
              <a:ext cx="46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62840" y="5351040"/>
              <a:ext cx="49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1240" y="5351040"/>
              <a:ext cx="46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55000" y="5351040"/>
              <a:ext cx="489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23040" y="5351040"/>
              <a:ext cx="5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346800" y="5351040"/>
              <a:ext cx="49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15200" y="5351040"/>
              <a:ext cx="64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40760" y="5351040"/>
              <a:ext cx="363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77080" y="522720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77080" y="525744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77080" y="528912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77080" y="5321160"/>
              <a:ext cx="180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77080" y="535284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080" y="538308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77080" y="541296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77080" y="5446440"/>
              <a:ext cx="180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77080" y="546876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24880" y="522720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24880" y="525744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24880" y="528912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24880" y="5321160"/>
              <a:ext cx="14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24880" y="535284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24880" y="538308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24880" y="541296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24880" y="5446440"/>
              <a:ext cx="14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24880" y="546876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13760" y="537336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13760" y="546084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89960" y="537336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89960" y="5460840"/>
              <a:ext cx="144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50080" y="517968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50080" y="526536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50080" y="5297040"/>
              <a:ext cx="180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50080" y="538308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0080" y="5414760"/>
              <a:ext cx="1800" cy="6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50080" y="5500440"/>
              <a:ext cx="180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48600" y="5179680"/>
              <a:ext cx="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48600" y="526536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48600" y="5297040"/>
              <a:ext cx="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48600" y="538308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48600" y="5414760"/>
              <a:ext cx="0" cy="6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48600" y="550044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80280" y="522720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80280" y="525744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80280" y="528912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80280" y="5321160"/>
              <a:ext cx="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80280" y="535284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80280" y="538308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80280" y="541296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80280" y="5446440"/>
              <a:ext cx="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80280" y="546876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23040" y="522720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23040" y="525744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23040" y="528912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23040" y="5321160"/>
              <a:ext cx="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23040" y="535284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23040" y="538308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23040" y="541296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23040" y="5446440"/>
              <a:ext cx="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23040" y="5468760"/>
              <a:ext cx="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64360" y="3660480"/>
              <a:ext cx="689040" cy="1816200"/>
            </a:xfrm>
            <a:custGeom>
              <a:avLst/>
              <a:gdLst/>
              <a:ahLst/>
              <a:rect l="l" t="t" r="r" b="b"/>
              <a:pathLst>
                <a:path w="761" h="1586">
                  <a:moveTo>
                    <a:pt x="217" y="0"/>
                  </a:moveTo>
                  <a:lnTo>
                    <a:pt x="217" y="1368"/>
                  </a:lnTo>
                  <a:lnTo>
                    <a:pt x="0" y="1368"/>
                  </a:lnTo>
                  <a:lnTo>
                    <a:pt x="0" y="1450"/>
                  </a:lnTo>
                  <a:lnTo>
                    <a:pt x="20" y="1450"/>
                  </a:lnTo>
                  <a:lnTo>
                    <a:pt x="20" y="1497"/>
                  </a:lnTo>
                  <a:lnTo>
                    <a:pt x="0" y="1497"/>
                  </a:lnTo>
                  <a:lnTo>
                    <a:pt x="0" y="1586"/>
                  </a:lnTo>
                  <a:lnTo>
                    <a:pt x="149" y="1586"/>
                  </a:lnTo>
                  <a:lnTo>
                    <a:pt x="177" y="1559"/>
                  </a:lnTo>
                  <a:lnTo>
                    <a:pt x="197" y="1586"/>
                  </a:lnTo>
                  <a:lnTo>
                    <a:pt x="245" y="1586"/>
                  </a:lnTo>
                  <a:lnTo>
                    <a:pt x="245" y="61"/>
                  </a:lnTo>
                  <a:lnTo>
                    <a:pt x="517" y="61"/>
                  </a:lnTo>
                  <a:lnTo>
                    <a:pt x="517" y="1586"/>
                  </a:lnTo>
                  <a:lnTo>
                    <a:pt x="564" y="1586"/>
                  </a:lnTo>
                  <a:lnTo>
                    <a:pt x="591" y="1559"/>
                  </a:lnTo>
                  <a:lnTo>
                    <a:pt x="612" y="1586"/>
                  </a:lnTo>
                  <a:lnTo>
                    <a:pt x="761" y="1586"/>
                  </a:lnTo>
                  <a:lnTo>
                    <a:pt x="761" y="1368"/>
                  </a:lnTo>
                  <a:lnTo>
                    <a:pt x="544" y="1368"/>
                  </a:lnTo>
                  <a:lnTo>
                    <a:pt x="544" y="0"/>
                  </a:lnTo>
                  <a:lnTo>
                    <a:pt x="421" y="0"/>
                  </a:lnTo>
                  <a:lnTo>
                    <a:pt x="421" y="41"/>
                  </a:lnTo>
                  <a:lnTo>
                    <a:pt x="340" y="41"/>
                  </a:lnTo>
                  <a:lnTo>
                    <a:pt x="340" y="0"/>
                  </a:lnTo>
                  <a:lnTo>
                    <a:pt x="217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08800" y="3666960"/>
              <a:ext cx="173160" cy="507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15280" y="3231720"/>
              <a:ext cx="173160" cy="1350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67480" y="3322440"/>
              <a:ext cx="66960" cy="918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86560" y="3024000"/>
              <a:ext cx="30240" cy="858600"/>
            </a:xfrm>
            <a:custGeom>
              <a:avLst/>
              <a:gdLst/>
              <a:ahLst/>
              <a:rect l="l" t="t" r="r" b="b"/>
              <a:pathLst>
                <a:path w="34" h="681">
                  <a:moveTo>
                    <a:pt x="0" y="0"/>
                  </a:moveTo>
                  <a:lnTo>
                    <a:pt x="0" y="660"/>
                  </a:lnTo>
                  <a:lnTo>
                    <a:pt x="0" y="674"/>
                  </a:lnTo>
                  <a:lnTo>
                    <a:pt x="14" y="681"/>
                  </a:lnTo>
                  <a:lnTo>
                    <a:pt x="27" y="674"/>
                  </a:lnTo>
                  <a:lnTo>
                    <a:pt x="34" y="66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660"/>
                  </a:lnTo>
                  <a:lnTo>
                    <a:pt x="14" y="674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1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81880" y="3863520"/>
              <a:ext cx="6048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70720" y="4186080"/>
              <a:ext cx="6192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04200" y="3557160"/>
              <a:ext cx="4255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78640" y="4411440"/>
              <a:ext cx="6048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53200" y="3335040"/>
              <a:ext cx="333360" cy="349200"/>
            </a:xfrm>
            <a:prstGeom prst="uturnArrow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15280" y="3819240"/>
              <a:ext cx="144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mple temper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056200" y="5356080"/>
              <a:ext cx="10573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94640" y="3773160"/>
              <a:ext cx="495360" cy="1295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eb4b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141960" y="3835080"/>
              <a:ext cx="174240" cy="56880"/>
              <a:chOff x="6141960" y="3835080"/>
              <a:chExt cx="174240" cy="56880"/>
            </a:xfrm>
          </p:grpSpPr>
          <p:sp>
            <p:nvSpPr>
              <p:cNvPr id="836" name=""/>
              <p:cNvSpPr/>
              <p:nvPr/>
            </p:nvSpPr>
            <p:spPr>
              <a:xfrm flipH="1">
                <a:off x="6141960" y="3835080"/>
                <a:ext cx="17388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42320" y="3868920"/>
                <a:ext cx="17388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6141960" y="3892320"/>
              <a:ext cx="174240" cy="66240"/>
              <a:chOff x="6141960" y="3892320"/>
              <a:chExt cx="174240" cy="66240"/>
            </a:xfrm>
          </p:grpSpPr>
          <p:sp>
            <p:nvSpPr>
              <p:cNvPr id="839" name=""/>
              <p:cNvSpPr/>
              <p:nvPr/>
            </p:nvSpPr>
            <p:spPr>
              <a:xfrm flipH="1">
                <a:off x="6141960" y="389232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142320" y="392544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6141960" y="3958920"/>
              <a:ext cx="174240" cy="64800"/>
              <a:chOff x="6141960" y="3958920"/>
              <a:chExt cx="174240" cy="64800"/>
            </a:xfrm>
          </p:grpSpPr>
          <p:sp>
            <p:nvSpPr>
              <p:cNvPr id="842" name=""/>
              <p:cNvSpPr/>
              <p:nvPr/>
            </p:nvSpPr>
            <p:spPr>
              <a:xfrm flipH="1">
                <a:off x="6141960" y="3958920"/>
                <a:ext cx="17388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42320" y="3991320"/>
                <a:ext cx="17388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141960" y="4024080"/>
              <a:ext cx="174240" cy="57960"/>
              <a:chOff x="6141960" y="4024080"/>
              <a:chExt cx="174240" cy="57960"/>
            </a:xfrm>
          </p:grpSpPr>
          <p:sp>
            <p:nvSpPr>
              <p:cNvPr id="845" name=""/>
              <p:cNvSpPr/>
              <p:nvPr/>
            </p:nvSpPr>
            <p:spPr>
              <a:xfrm flipH="1">
                <a:off x="6141960" y="4024080"/>
                <a:ext cx="17388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42320" y="4058280"/>
                <a:ext cx="1738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6141960" y="4082760"/>
              <a:ext cx="174240" cy="64800"/>
              <a:chOff x="6141960" y="4082760"/>
              <a:chExt cx="174240" cy="64800"/>
            </a:xfrm>
          </p:grpSpPr>
          <p:sp>
            <p:nvSpPr>
              <p:cNvPr id="848" name=""/>
              <p:cNvSpPr/>
              <p:nvPr/>
            </p:nvSpPr>
            <p:spPr>
              <a:xfrm flipH="1">
                <a:off x="6141960" y="4082760"/>
                <a:ext cx="173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42320" y="4114800"/>
                <a:ext cx="17388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141960" y="4147920"/>
              <a:ext cx="174240" cy="66240"/>
              <a:chOff x="6141960" y="4147920"/>
              <a:chExt cx="174240" cy="66240"/>
            </a:xfrm>
          </p:grpSpPr>
          <p:sp>
            <p:nvSpPr>
              <p:cNvPr id="851" name=""/>
              <p:cNvSpPr/>
              <p:nvPr/>
            </p:nvSpPr>
            <p:spPr>
              <a:xfrm flipH="1">
                <a:off x="6141960" y="414792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2320" y="418104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141960" y="4214520"/>
              <a:ext cx="174240" cy="55080"/>
              <a:chOff x="6141960" y="4214520"/>
              <a:chExt cx="174240" cy="55080"/>
            </a:xfrm>
          </p:grpSpPr>
          <p:sp>
            <p:nvSpPr>
              <p:cNvPr id="854" name=""/>
              <p:cNvSpPr/>
              <p:nvPr/>
            </p:nvSpPr>
            <p:spPr>
              <a:xfrm flipH="1">
                <a:off x="6141960" y="4214520"/>
                <a:ext cx="17388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42320" y="4247280"/>
                <a:ext cx="17388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6141960" y="4269960"/>
              <a:ext cx="174240" cy="64800"/>
              <a:chOff x="6141960" y="4269960"/>
              <a:chExt cx="174240" cy="64800"/>
            </a:xfrm>
          </p:grpSpPr>
          <p:sp>
            <p:nvSpPr>
              <p:cNvPr id="857" name=""/>
              <p:cNvSpPr/>
              <p:nvPr/>
            </p:nvSpPr>
            <p:spPr>
              <a:xfrm flipH="1">
                <a:off x="6141960" y="4269960"/>
                <a:ext cx="17388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142320" y="4302720"/>
                <a:ext cx="173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6141960" y="4335120"/>
              <a:ext cx="174240" cy="66240"/>
              <a:chOff x="6141960" y="4335120"/>
              <a:chExt cx="174240" cy="66240"/>
            </a:xfrm>
          </p:grpSpPr>
          <p:sp>
            <p:nvSpPr>
              <p:cNvPr id="860" name=""/>
              <p:cNvSpPr/>
              <p:nvPr/>
            </p:nvSpPr>
            <p:spPr>
              <a:xfrm flipH="1">
                <a:off x="6141960" y="433512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142320" y="436824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6141960" y="4401720"/>
              <a:ext cx="174240" cy="56880"/>
              <a:chOff x="6141960" y="4401720"/>
              <a:chExt cx="174240" cy="56880"/>
            </a:xfrm>
          </p:grpSpPr>
          <p:sp>
            <p:nvSpPr>
              <p:cNvPr id="863" name=""/>
              <p:cNvSpPr/>
              <p:nvPr/>
            </p:nvSpPr>
            <p:spPr>
              <a:xfrm flipH="1">
                <a:off x="6141960" y="4401720"/>
                <a:ext cx="17388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142320" y="4435560"/>
                <a:ext cx="17388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6141960" y="4458960"/>
              <a:ext cx="174240" cy="66240"/>
              <a:chOff x="6141960" y="4458960"/>
              <a:chExt cx="174240" cy="66240"/>
            </a:xfrm>
          </p:grpSpPr>
          <p:sp>
            <p:nvSpPr>
              <p:cNvPr id="866" name=""/>
              <p:cNvSpPr/>
              <p:nvPr/>
            </p:nvSpPr>
            <p:spPr>
              <a:xfrm flipH="1">
                <a:off x="6141960" y="445896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142320" y="449208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6141960" y="4525560"/>
              <a:ext cx="174240" cy="68040"/>
              <a:chOff x="6141960" y="4525560"/>
              <a:chExt cx="174240" cy="68040"/>
            </a:xfrm>
          </p:grpSpPr>
          <p:sp>
            <p:nvSpPr>
              <p:cNvPr id="869" name=""/>
              <p:cNvSpPr/>
              <p:nvPr/>
            </p:nvSpPr>
            <p:spPr>
              <a:xfrm flipH="1">
                <a:off x="6141960" y="4525560"/>
                <a:ext cx="17388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142320" y="456048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6141960" y="4593960"/>
              <a:ext cx="174240" cy="54720"/>
              <a:chOff x="6141960" y="4593960"/>
              <a:chExt cx="174240" cy="54720"/>
            </a:xfrm>
          </p:grpSpPr>
          <p:sp>
            <p:nvSpPr>
              <p:cNvPr id="872" name=""/>
              <p:cNvSpPr/>
              <p:nvPr/>
            </p:nvSpPr>
            <p:spPr>
              <a:xfrm flipH="1">
                <a:off x="6141960" y="4593960"/>
                <a:ext cx="17388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142320" y="4627440"/>
                <a:ext cx="173880" cy="2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6141960" y="4649400"/>
              <a:ext cx="174240" cy="68040"/>
              <a:chOff x="6141960" y="4649400"/>
              <a:chExt cx="174240" cy="68040"/>
            </a:xfrm>
          </p:grpSpPr>
          <p:sp>
            <p:nvSpPr>
              <p:cNvPr id="875" name=""/>
              <p:cNvSpPr/>
              <p:nvPr/>
            </p:nvSpPr>
            <p:spPr>
              <a:xfrm flipH="1">
                <a:off x="6141960" y="4649400"/>
                <a:ext cx="173880" cy="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142320" y="4684680"/>
                <a:ext cx="17388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141960" y="4717800"/>
              <a:ext cx="174240" cy="66240"/>
              <a:chOff x="6141960" y="4717800"/>
              <a:chExt cx="174240" cy="66240"/>
            </a:xfrm>
          </p:grpSpPr>
          <p:sp>
            <p:nvSpPr>
              <p:cNvPr id="878" name=""/>
              <p:cNvSpPr/>
              <p:nvPr/>
            </p:nvSpPr>
            <p:spPr>
              <a:xfrm flipH="1">
                <a:off x="6141960" y="471780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142320" y="475092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6141960" y="4784400"/>
              <a:ext cx="174240" cy="56880"/>
              <a:chOff x="6141960" y="4784400"/>
              <a:chExt cx="174240" cy="56880"/>
            </a:xfrm>
          </p:grpSpPr>
          <p:sp>
            <p:nvSpPr>
              <p:cNvPr id="881" name=""/>
              <p:cNvSpPr/>
              <p:nvPr/>
            </p:nvSpPr>
            <p:spPr>
              <a:xfrm flipH="1">
                <a:off x="6141960" y="4784400"/>
                <a:ext cx="17388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142320" y="4818240"/>
                <a:ext cx="17388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6141960" y="4841640"/>
              <a:ext cx="174240" cy="66240"/>
              <a:chOff x="6141960" y="4841640"/>
              <a:chExt cx="174240" cy="66240"/>
            </a:xfrm>
          </p:grpSpPr>
          <p:sp>
            <p:nvSpPr>
              <p:cNvPr id="884" name=""/>
              <p:cNvSpPr/>
              <p:nvPr/>
            </p:nvSpPr>
            <p:spPr>
              <a:xfrm flipH="1">
                <a:off x="6141960" y="484164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142320" y="4874760"/>
                <a:ext cx="17388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6141960" y="4908240"/>
              <a:ext cx="174240" cy="64800"/>
              <a:chOff x="6141960" y="4908240"/>
              <a:chExt cx="174240" cy="64800"/>
            </a:xfrm>
          </p:grpSpPr>
          <p:sp>
            <p:nvSpPr>
              <p:cNvPr id="887" name=""/>
              <p:cNvSpPr/>
              <p:nvPr/>
            </p:nvSpPr>
            <p:spPr>
              <a:xfrm flipH="1">
                <a:off x="6141960" y="4908240"/>
                <a:ext cx="173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142320" y="4940280"/>
                <a:ext cx="17388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6828120" y="3787560"/>
              <a:ext cx="515880" cy="1295280"/>
            </a:xfrm>
            <a:prstGeom prst="rect">
              <a:avLst/>
            </a:prstGeom>
            <a:gradFill rotWithShape="0">
              <a:gsLst>
                <a:gs pos="0">
                  <a:srgbClr val="feb4b4"/>
                </a:gs>
                <a:gs pos="100000">
                  <a:srgbClr val="ff505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6904080" y="3849480"/>
              <a:ext cx="183600" cy="56520"/>
              <a:chOff x="6904080" y="3849480"/>
              <a:chExt cx="183600" cy="56520"/>
            </a:xfrm>
          </p:grpSpPr>
          <p:sp>
            <p:nvSpPr>
              <p:cNvPr id="891" name=""/>
              <p:cNvSpPr/>
              <p:nvPr/>
            </p:nvSpPr>
            <p:spPr>
              <a:xfrm>
                <a:off x="6904080" y="3849480"/>
                <a:ext cx="18360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904080" y="3883320"/>
                <a:ext cx="18360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6904080" y="3906360"/>
              <a:ext cx="183600" cy="66240"/>
              <a:chOff x="6904080" y="3906360"/>
              <a:chExt cx="183600" cy="66240"/>
            </a:xfrm>
          </p:grpSpPr>
          <p:sp>
            <p:nvSpPr>
              <p:cNvPr id="894" name=""/>
              <p:cNvSpPr/>
              <p:nvPr/>
            </p:nvSpPr>
            <p:spPr>
              <a:xfrm>
                <a:off x="6904080" y="390636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904080" y="393948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6904080" y="3973320"/>
              <a:ext cx="183600" cy="64800"/>
              <a:chOff x="6904080" y="3973320"/>
              <a:chExt cx="183600" cy="64800"/>
            </a:xfrm>
          </p:grpSpPr>
          <p:sp>
            <p:nvSpPr>
              <p:cNvPr id="897" name=""/>
              <p:cNvSpPr/>
              <p:nvPr/>
            </p:nvSpPr>
            <p:spPr>
              <a:xfrm>
                <a:off x="6904080" y="3973320"/>
                <a:ext cx="1836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904080" y="4005720"/>
                <a:ext cx="1836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6904080" y="4038480"/>
              <a:ext cx="183600" cy="57960"/>
              <a:chOff x="6904080" y="4038480"/>
              <a:chExt cx="183600" cy="57960"/>
            </a:xfrm>
          </p:grpSpPr>
          <p:sp>
            <p:nvSpPr>
              <p:cNvPr id="900" name=""/>
              <p:cNvSpPr/>
              <p:nvPr/>
            </p:nvSpPr>
            <p:spPr>
              <a:xfrm>
                <a:off x="6904080" y="4038480"/>
                <a:ext cx="18360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6904080" y="4072680"/>
                <a:ext cx="18360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904080" y="4097160"/>
              <a:ext cx="183600" cy="64440"/>
              <a:chOff x="6904080" y="4097160"/>
              <a:chExt cx="183600" cy="64440"/>
            </a:xfrm>
          </p:grpSpPr>
          <p:sp>
            <p:nvSpPr>
              <p:cNvPr id="903" name=""/>
              <p:cNvSpPr/>
              <p:nvPr/>
            </p:nvSpPr>
            <p:spPr>
              <a:xfrm>
                <a:off x="6904080" y="4097160"/>
                <a:ext cx="18360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904080" y="4129200"/>
                <a:ext cx="1836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6904080" y="4161960"/>
              <a:ext cx="183600" cy="66240"/>
              <a:chOff x="6904080" y="4161960"/>
              <a:chExt cx="183600" cy="66240"/>
            </a:xfrm>
          </p:grpSpPr>
          <p:sp>
            <p:nvSpPr>
              <p:cNvPr id="906" name=""/>
              <p:cNvSpPr/>
              <p:nvPr/>
            </p:nvSpPr>
            <p:spPr>
              <a:xfrm>
                <a:off x="6904080" y="416196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904080" y="419508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6904080" y="4228920"/>
              <a:ext cx="183600" cy="55080"/>
              <a:chOff x="6904080" y="4228920"/>
              <a:chExt cx="183600" cy="55080"/>
            </a:xfrm>
          </p:grpSpPr>
          <p:sp>
            <p:nvSpPr>
              <p:cNvPr id="909" name=""/>
              <p:cNvSpPr/>
              <p:nvPr/>
            </p:nvSpPr>
            <p:spPr>
              <a:xfrm>
                <a:off x="6904080" y="4228920"/>
                <a:ext cx="1836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6904080" y="4261680"/>
                <a:ext cx="1836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904080" y="4284360"/>
              <a:ext cx="183600" cy="64800"/>
              <a:chOff x="6904080" y="4284360"/>
              <a:chExt cx="183600" cy="64800"/>
            </a:xfrm>
          </p:grpSpPr>
          <p:sp>
            <p:nvSpPr>
              <p:cNvPr id="912" name=""/>
              <p:cNvSpPr/>
              <p:nvPr/>
            </p:nvSpPr>
            <p:spPr>
              <a:xfrm>
                <a:off x="6904080" y="4284360"/>
                <a:ext cx="1836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904080" y="4317120"/>
                <a:ext cx="18360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6904080" y="4349520"/>
              <a:ext cx="183600" cy="66240"/>
              <a:chOff x="6904080" y="4349520"/>
              <a:chExt cx="183600" cy="66240"/>
            </a:xfrm>
          </p:grpSpPr>
          <p:sp>
            <p:nvSpPr>
              <p:cNvPr id="915" name=""/>
              <p:cNvSpPr/>
              <p:nvPr/>
            </p:nvSpPr>
            <p:spPr>
              <a:xfrm>
                <a:off x="6904080" y="434952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904080" y="438264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904080" y="4416120"/>
              <a:ext cx="183600" cy="56880"/>
              <a:chOff x="6904080" y="4416120"/>
              <a:chExt cx="183600" cy="56880"/>
            </a:xfrm>
          </p:grpSpPr>
          <p:sp>
            <p:nvSpPr>
              <p:cNvPr id="918" name=""/>
              <p:cNvSpPr/>
              <p:nvPr/>
            </p:nvSpPr>
            <p:spPr>
              <a:xfrm>
                <a:off x="6904080" y="4416120"/>
                <a:ext cx="18360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904080" y="4449960"/>
                <a:ext cx="18360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6904080" y="4473360"/>
              <a:ext cx="183600" cy="66240"/>
              <a:chOff x="6904080" y="4473360"/>
              <a:chExt cx="183600" cy="66240"/>
            </a:xfrm>
          </p:grpSpPr>
          <p:sp>
            <p:nvSpPr>
              <p:cNvPr id="921" name=""/>
              <p:cNvSpPr/>
              <p:nvPr/>
            </p:nvSpPr>
            <p:spPr>
              <a:xfrm>
                <a:off x="6904080" y="447336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6904080" y="450648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904080" y="4539960"/>
              <a:ext cx="183600" cy="68040"/>
              <a:chOff x="6904080" y="4539960"/>
              <a:chExt cx="183600" cy="68040"/>
            </a:xfrm>
          </p:grpSpPr>
          <p:sp>
            <p:nvSpPr>
              <p:cNvPr id="924" name=""/>
              <p:cNvSpPr/>
              <p:nvPr/>
            </p:nvSpPr>
            <p:spPr>
              <a:xfrm>
                <a:off x="6904080" y="4539960"/>
                <a:ext cx="18360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6904080" y="457488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6904080" y="4608360"/>
              <a:ext cx="183600" cy="54720"/>
              <a:chOff x="6904080" y="4608360"/>
              <a:chExt cx="183600" cy="54720"/>
            </a:xfrm>
          </p:grpSpPr>
          <p:sp>
            <p:nvSpPr>
              <p:cNvPr id="927" name=""/>
              <p:cNvSpPr/>
              <p:nvPr/>
            </p:nvSpPr>
            <p:spPr>
              <a:xfrm>
                <a:off x="6904080" y="4608360"/>
                <a:ext cx="18360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6904080" y="4641840"/>
                <a:ext cx="183600" cy="2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6904080" y="4663800"/>
              <a:ext cx="183600" cy="68040"/>
              <a:chOff x="6904080" y="4663800"/>
              <a:chExt cx="183600" cy="68040"/>
            </a:xfrm>
          </p:grpSpPr>
          <p:sp>
            <p:nvSpPr>
              <p:cNvPr id="930" name=""/>
              <p:cNvSpPr/>
              <p:nvPr/>
            </p:nvSpPr>
            <p:spPr>
              <a:xfrm>
                <a:off x="6904080" y="4663800"/>
                <a:ext cx="183600" cy="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6904080" y="4699080"/>
                <a:ext cx="1836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6904080" y="4732200"/>
              <a:ext cx="183600" cy="66240"/>
              <a:chOff x="6904080" y="4732200"/>
              <a:chExt cx="183600" cy="66240"/>
            </a:xfrm>
          </p:grpSpPr>
          <p:sp>
            <p:nvSpPr>
              <p:cNvPr id="933" name=""/>
              <p:cNvSpPr/>
              <p:nvPr/>
            </p:nvSpPr>
            <p:spPr>
              <a:xfrm>
                <a:off x="6904080" y="473220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6904080" y="476532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6904080" y="4798800"/>
              <a:ext cx="183600" cy="56880"/>
              <a:chOff x="6904080" y="4798800"/>
              <a:chExt cx="183600" cy="56880"/>
            </a:xfrm>
          </p:grpSpPr>
          <p:sp>
            <p:nvSpPr>
              <p:cNvPr id="936" name=""/>
              <p:cNvSpPr/>
              <p:nvPr/>
            </p:nvSpPr>
            <p:spPr>
              <a:xfrm>
                <a:off x="6904080" y="4798800"/>
                <a:ext cx="18360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6904080" y="4832640"/>
                <a:ext cx="18360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6904080" y="4856040"/>
              <a:ext cx="183600" cy="66240"/>
              <a:chOff x="6904080" y="4856040"/>
              <a:chExt cx="183600" cy="66240"/>
            </a:xfrm>
          </p:grpSpPr>
          <p:sp>
            <p:nvSpPr>
              <p:cNvPr id="939" name=""/>
              <p:cNvSpPr/>
              <p:nvPr/>
            </p:nvSpPr>
            <p:spPr>
              <a:xfrm>
                <a:off x="6904080" y="485604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904080" y="4889160"/>
                <a:ext cx="1836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904080" y="4922640"/>
              <a:ext cx="183600" cy="64800"/>
              <a:chOff x="6904080" y="4922640"/>
              <a:chExt cx="183600" cy="64800"/>
            </a:xfrm>
          </p:grpSpPr>
          <p:sp>
            <p:nvSpPr>
              <p:cNvPr id="942" name=""/>
              <p:cNvSpPr/>
              <p:nvPr/>
            </p:nvSpPr>
            <p:spPr>
              <a:xfrm>
                <a:off x="6904080" y="4922640"/>
                <a:ext cx="18360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6904080" y="4954680"/>
                <a:ext cx="1836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5445360" y="3989160"/>
              <a:ext cx="11221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6613560" y="4133520"/>
              <a:ext cx="84780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77360" y="4670280"/>
              <a:ext cx="75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明朝"/>
                </a:rPr>
                <a:t>He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45360" y="4708080"/>
              <a:ext cx="360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81360" y="4838400"/>
              <a:ext cx="23353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30760" y="4771800"/>
              <a:ext cx="85680" cy="1000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0" y="70"/>
                  </a:lnTo>
                  <a:lnTo>
                    <a:pt x="7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16440" y="4771800"/>
              <a:ext cx="85680" cy="1000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70" y="0"/>
                  </a:lnTo>
                  <a:lnTo>
                    <a:pt x="0" y="32"/>
                  </a:lnTo>
                  <a:lnTo>
                    <a:pt x="7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70360" y="469224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916440" y="4692240"/>
              <a:ext cx="18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67560" y="5289120"/>
              <a:ext cx="255600" cy="130320"/>
            </a:xfrm>
            <a:custGeom>
              <a:avLst/>
              <a:gdLst>
                <a:gd name="textAreaLeft" fmla="*/ 39960 w 255600"/>
                <a:gd name="textAreaRight" fmla="*/ 223920 w 255600"/>
                <a:gd name="textAreaTop" fmla="*/ 32400 h 130320"/>
                <a:gd name="textAreaBottom" fmla="*/ 9792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0800000">
              <a:off x="5761080" y="5554440"/>
              <a:ext cx="255600" cy="131760"/>
            </a:xfrm>
            <a:custGeom>
              <a:avLst/>
              <a:gdLst>
                <a:gd name="textAreaLeft" fmla="*/ 39960 w 255600"/>
                <a:gd name="textAreaRight" fmla="*/ 223920 w 255600"/>
                <a:gd name="textAreaTop" fmla="*/ 32760 h 131760"/>
                <a:gd name="textAreaBottom" fmla="*/ 9900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956" name="" descr=""/>
            <p:cNvPicPr/>
            <p:nvPr/>
          </p:nvPicPr>
          <p:blipFill>
            <a:blip r:embed="rId3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2DC7-69C6-4FD3-A87C-08A2582AC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bed reactor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951440" y="1012680"/>
            <a:ext cx="2727360" cy="5122440"/>
            <a:chOff x="4951440" y="1012680"/>
            <a:chExt cx="2727360" cy="5122440"/>
          </a:xfrm>
        </p:grpSpPr>
        <p:sp>
          <p:nvSpPr>
            <p:cNvPr id="960" name=""/>
            <p:cNvSpPr/>
            <p:nvPr/>
          </p:nvSpPr>
          <p:spPr>
            <a:xfrm>
              <a:off x="6177240" y="2737800"/>
              <a:ext cx="269640" cy="112896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705640" y="2565000"/>
              <a:ext cx="1195560" cy="2993040"/>
            </a:xfrm>
            <a:custGeom>
              <a:avLst/>
              <a:gdLst/>
              <a:ahLst/>
              <a:rect l="l" t="t" r="r" b="b"/>
              <a:pathLst>
                <a:path w="761" h="1572">
                  <a:moveTo>
                    <a:pt x="0" y="1354"/>
                  </a:moveTo>
                  <a:lnTo>
                    <a:pt x="149" y="1354"/>
                  </a:lnTo>
                  <a:lnTo>
                    <a:pt x="176" y="1313"/>
                  </a:lnTo>
                  <a:lnTo>
                    <a:pt x="204" y="1354"/>
                  </a:lnTo>
                  <a:lnTo>
                    <a:pt x="244" y="1354"/>
                  </a:lnTo>
                  <a:lnTo>
                    <a:pt x="272" y="1204"/>
                  </a:lnTo>
                  <a:lnTo>
                    <a:pt x="272" y="0"/>
                  </a:lnTo>
                  <a:lnTo>
                    <a:pt x="299" y="0"/>
                  </a:lnTo>
                  <a:lnTo>
                    <a:pt x="299" y="714"/>
                  </a:lnTo>
                  <a:lnTo>
                    <a:pt x="319" y="714"/>
                  </a:lnTo>
                  <a:lnTo>
                    <a:pt x="319" y="1442"/>
                  </a:lnTo>
                  <a:lnTo>
                    <a:pt x="340" y="1470"/>
                  </a:lnTo>
                  <a:lnTo>
                    <a:pt x="428" y="1470"/>
                  </a:lnTo>
                  <a:lnTo>
                    <a:pt x="449" y="1442"/>
                  </a:lnTo>
                  <a:lnTo>
                    <a:pt x="449" y="714"/>
                  </a:lnTo>
                  <a:lnTo>
                    <a:pt x="469" y="714"/>
                  </a:lnTo>
                  <a:lnTo>
                    <a:pt x="469" y="0"/>
                  </a:lnTo>
                  <a:lnTo>
                    <a:pt x="489" y="0"/>
                  </a:lnTo>
                  <a:lnTo>
                    <a:pt x="489" y="1204"/>
                  </a:lnTo>
                  <a:lnTo>
                    <a:pt x="523" y="1354"/>
                  </a:lnTo>
                  <a:lnTo>
                    <a:pt x="564" y="1354"/>
                  </a:lnTo>
                  <a:lnTo>
                    <a:pt x="591" y="1313"/>
                  </a:lnTo>
                  <a:lnTo>
                    <a:pt x="619" y="1354"/>
                  </a:lnTo>
                  <a:lnTo>
                    <a:pt x="761" y="1354"/>
                  </a:lnTo>
                  <a:lnTo>
                    <a:pt x="761" y="1572"/>
                  </a:lnTo>
                  <a:lnTo>
                    <a:pt x="571" y="1572"/>
                  </a:lnTo>
                  <a:lnTo>
                    <a:pt x="564" y="1517"/>
                  </a:lnTo>
                  <a:lnTo>
                    <a:pt x="462" y="1538"/>
                  </a:lnTo>
                  <a:lnTo>
                    <a:pt x="469" y="1572"/>
                  </a:lnTo>
                  <a:lnTo>
                    <a:pt x="435" y="1572"/>
                  </a:lnTo>
                  <a:lnTo>
                    <a:pt x="435" y="1524"/>
                  </a:lnTo>
                  <a:lnTo>
                    <a:pt x="333" y="1524"/>
                  </a:lnTo>
                  <a:lnTo>
                    <a:pt x="333" y="1565"/>
                  </a:lnTo>
                  <a:lnTo>
                    <a:pt x="0" y="1565"/>
                  </a:lnTo>
                  <a:lnTo>
                    <a:pt x="0" y="1476"/>
                  </a:lnTo>
                  <a:lnTo>
                    <a:pt x="27" y="1476"/>
                  </a:lnTo>
                  <a:lnTo>
                    <a:pt x="27" y="1436"/>
                  </a:lnTo>
                  <a:lnTo>
                    <a:pt x="0" y="1436"/>
                  </a:lnTo>
                  <a:lnTo>
                    <a:pt x="0" y="135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6284520" y="2851920"/>
              <a:ext cx="75240" cy="3283200"/>
              <a:chOff x="6284520" y="2851920"/>
              <a:chExt cx="75240" cy="3283200"/>
            </a:xfrm>
          </p:grpSpPr>
          <p:sp>
            <p:nvSpPr>
              <p:cNvPr id="963" name=""/>
              <p:cNvSpPr/>
              <p:nvPr/>
            </p:nvSpPr>
            <p:spPr>
              <a:xfrm>
                <a:off x="6284520" y="3909240"/>
                <a:ext cx="75240" cy="2225880"/>
              </a:xfrm>
              <a:custGeom>
                <a:avLst/>
                <a:gdLst/>
                <a:ahLst/>
                <a:rect l="l" t="t" r="r" b="b"/>
                <a:pathLst>
                  <a:path w="62" h="1844">
                    <a:moveTo>
                      <a:pt x="7" y="1844"/>
                    </a:moveTo>
                    <a:lnTo>
                      <a:pt x="0" y="1844"/>
                    </a:lnTo>
                    <a:lnTo>
                      <a:pt x="0" y="20"/>
                    </a:lnTo>
                    <a:lnTo>
                      <a:pt x="7" y="6"/>
                    </a:lnTo>
                    <a:lnTo>
                      <a:pt x="28" y="0"/>
                    </a:lnTo>
                    <a:lnTo>
                      <a:pt x="48" y="6"/>
                    </a:lnTo>
                    <a:lnTo>
                      <a:pt x="62" y="20"/>
                    </a:lnTo>
                    <a:lnTo>
                      <a:pt x="62" y="1844"/>
                    </a:lnTo>
                    <a:lnTo>
                      <a:pt x="55" y="1844"/>
                    </a:lnTo>
                    <a:lnTo>
                      <a:pt x="55" y="20"/>
                    </a:lnTo>
                    <a:lnTo>
                      <a:pt x="41" y="6"/>
                    </a:lnTo>
                    <a:lnTo>
                      <a:pt x="28" y="6"/>
                    </a:lnTo>
                    <a:lnTo>
                      <a:pt x="14" y="6"/>
                    </a:lnTo>
                    <a:lnTo>
                      <a:pt x="7" y="20"/>
                    </a:lnTo>
                    <a:lnTo>
                      <a:pt x="7" y="1844"/>
                    </a:lnTo>
                    <a:close/>
                  </a:path>
                </a:pathLst>
              </a:custGeom>
              <a:noFill/>
              <a:ln w="11160">
                <a:solidFill>
                  <a:srgbClr val="3f3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295320" y="2851920"/>
                <a:ext cx="0" cy="10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334560" y="3304800"/>
                <a:ext cx="0" cy="60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6180120" y="2673360"/>
              <a:ext cx="269640" cy="66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180120" y="3865680"/>
              <a:ext cx="269640" cy="65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20160" bIns="20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6105960" y="2581920"/>
              <a:ext cx="407880" cy="2243160"/>
              <a:chOff x="6105960" y="2581920"/>
              <a:chExt cx="407880" cy="224316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6105960" y="4783680"/>
                <a:ext cx="407880" cy="41400"/>
                <a:chOff x="6105960" y="4783680"/>
                <a:chExt cx="407880" cy="4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6105960" y="4783680"/>
                  <a:ext cx="34200" cy="414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479640" y="4783680"/>
                  <a:ext cx="34200" cy="414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6105960" y="4511520"/>
                <a:ext cx="407880" cy="41400"/>
                <a:chOff x="6105960" y="4511520"/>
                <a:chExt cx="407880" cy="414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6105960" y="4511520"/>
                  <a:ext cx="34200" cy="414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479640" y="4511520"/>
                  <a:ext cx="34200" cy="414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6105960" y="4227840"/>
                <a:ext cx="407880" cy="39600"/>
                <a:chOff x="6105960" y="4227840"/>
                <a:chExt cx="407880" cy="39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6105960" y="4227840"/>
                  <a:ext cx="34200" cy="396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5760" bIns="-5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479640" y="4227840"/>
                  <a:ext cx="34200" cy="396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5760" bIns="-5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105960" y="3955320"/>
                <a:ext cx="407880" cy="39600"/>
                <a:chOff x="6105960" y="3955320"/>
                <a:chExt cx="407880" cy="39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105960" y="3955320"/>
                  <a:ext cx="34200" cy="39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5760" bIns="-5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479640" y="3955320"/>
                  <a:ext cx="34200" cy="3960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5760" bIns="-5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6105960" y="3683520"/>
                <a:ext cx="407880" cy="39240"/>
                <a:chOff x="6105960" y="3683520"/>
                <a:chExt cx="407880" cy="392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6105960" y="3683520"/>
                  <a:ext cx="34200" cy="3924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6120" bIns="-6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479640" y="3683520"/>
                  <a:ext cx="34200" cy="3924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6120" bIns="-6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6105960" y="3411360"/>
                <a:ext cx="407880" cy="39600"/>
                <a:chOff x="6105960" y="3411360"/>
                <a:chExt cx="407880" cy="39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6105960" y="3411360"/>
                  <a:ext cx="34200" cy="396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5760" bIns="-5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479640" y="3411360"/>
                  <a:ext cx="34200" cy="396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5760" bIns="-5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6105960" y="3139200"/>
                <a:ext cx="407880" cy="39240"/>
                <a:chOff x="6105960" y="3139200"/>
                <a:chExt cx="407880" cy="392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6105960" y="3139200"/>
                  <a:ext cx="34200" cy="3924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6120" bIns="-6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79640" y="3139200"/>
                  <a:ext cx="34200" cy="392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6120" bIns="-6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6105960" y="2853720"/>
                <a:ext cx="407880" cy="41400"/>
                <a:chOff x="6105960" y="2853720"/>
                <a:chExt cx="407880" cy="414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6105960" y="2853720"/>
                  <a:ext cx="34200" cy="4140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479640" y="2853720"/>
                  <a:ext cx="34200" cy="414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6105960" y="2581920"/>
                <a:ext cx="407880" cy="41400"/>
                <a:chOff x="6105960" y="2581920"/>
                <a:chExt cx="407880" cy="414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6105960" y="2581920"/>
                  <a:ext cx="34200" cy="414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79640" y="2581920"/>
                  <a:ext cx="34200" cy="4140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3960" bIns="-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6" name=""/>
            <p:cNvSpPr/>
            <p:nvPr/>
          </p:nvSpPr>
          <p:spPr>
            <a:xfrm>
              <a:off x="6454440" y="5479560"/>
              <a:ext cx="171360" cy="271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21600" h="34143">
                  <a:moveTo>
                    <a:pt x="0" y="0"/>
                  </a:moveTo>
                  <a:arcTo wR="0" hR="0" stAng="16200000" swAng="-5400000"/>
                  <a:lnTo>
                    <a:pt x="0" y="34143"/>
                  </a:lnTo>
                  <a:arcTo wR="0" hR="0" stAng="10800000" swAng="-5400000"/>
                  <a:lnTo>
                    <a:pt x="21600" y="341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234120" y="5472000"/>
              <a:ext cx="16164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6234120" y="5758200"/>
              <a:ext cx="161280" cy="182520"/>
              <a:chOff x="6234120" y="5758200"/>
              <a:chExt cx="161280" cy="182520"/>
            </a:xfrm>
          </p:grpSpPr>
          <p:sp>
            <p:nvSpPr>
              <p:cNvPr id="999" name=""/>
              <p:cNvSpPr/>
              <p:nvPr/>
            </p:nvSpPr>
            <p:spPr>
              <a:xfrm>
                <a:off x="6244920" y="5758200"/>
                <a:ext cx="150480" cy="1825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244920" y="5758200"/>
                <a:ext cx="150480" cy="266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8720" bIns="-18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244920" y="5912280"/>
                <a:ext cx="150480" cy="284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6920" bIns="-16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287400" y="5782680"/>
                <a:ext cx="54720" cy="131760"/>
              </a:xfrm>
              <a:custGeom>
                <a:avLst/>
                <a:gdLst>
                  <a:gd name="textAreaLeft" fmla="*/ 6480 w 54720"/>
                  <a:gd name="textAreaRight" fmla="*/ 48240 w 54720"/>
                  <a:gd name="textAreaTop" fmla="*/ 6480 h 131760"/>
                  <a:gd name="textAreaBottom" fmla="*/ 125280 h 131760"/>
                </a:gdLst>
                <a:ahLst/>
                <a:rect l="textAreaLeft" t="textAreaTop" r="textAreaRight" b="textAreaBottom"/>
                <a:pathLst>
                  <a:path w="21600" h="51812">
                    <a:moveTo>
                      <a:pt x="9000" y="0"/>
                    </a:moveTo>
                    <a:arcTo wR="9000" hR="9000" stAng="16200000" swAng="-5400000"/>
                    <a:lnTo>
                      <a:pt x="0" y="42812"/>
                    </a:lnTo>
                    <a:arcTo wR="9000" hR="9000" stAng="10800000" swAng="-5400000"/>
                    <a:lnTo>
                      <a:pt x="12600" y="51812"/>
                    </a:lnTo>
                    <a:arcTo wR="9000" hR="9000" stAng="5400000" swAng="-5400000"/>
                    <a:lnTo>
                      <a:pt x="21600" y="9000"/>
                    </a:lnTo>
                    <a:arcTo wR="9000" hR="9000" stAng="0" swAng="-5400000"/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340680" y="5782680"/>
                <a:ext cx="54720" cy="131760"/>
              </a:xfrm>
              <a:custGeom>
                <a:avLst/>
                <a:gdLst>
                  <a:gd name="textAreaLeft" fmla="*/ 6480 w 54720"/>
                  <a:gd name="textAreaRight" fmla="*/ 48240 w 54720"/>
                  <a:gd name="textAreaTop" fmla="*/ 6480 h 131760"/>
                  <a:gd name="textAreaBottom" fmla="*/ 125280 h 131760"/>
                </a:gdLst>
                <a:ahLst/>
                <a:rect l="textAreaLeft" t="textAreaTop" r="textAreaRight" b="textAreaBottom"/>
                <a:pathLst>
                  <a:path w="21600" h="51812">
                    <a:moveTo>
                      <a:pt x="9000" y="0"/>
                    </a:moveTo>
                    <a:arcTo wR="9000" hR="9000" stAng="16200000" swAng="-5400000"/>
                    <a:lnTo>
                      <a:pt x="0" y="42812"/>
                    </a:lnTo>
                    <a:arcTo wR="9000" hR="9000" stAng="10800000" swAng="-5400000"/>
                    <a:lnTo>
                      <a:pt x="12600" y="51812"/>
                    </a:lnTo>
                    <a:arcTo wR="9000" hR="9000" stAng="5400000" swAng="-5400000"/>
                    <a:lnTo>
                      <a:pt x="21600" y="9000"/>
                    </a:lnTo>
                    <a:arcTo wR="9000" hR="9000" stAng="0" swAng="-5400000"/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34120" y="5782680"/>
                <a:ext cx="54720" cy="131760"/>
              </a:xfrm>
              <a:custGeom>
                <a:avLst/>
                <a:gdLst>
                  <a:gd name="textAreaLeft" fmla="*/ 6480 w 54720"/>
                  <a:gd name="textAreaRight" fmla="*/ 48240 w 54720"/>
                  <a:gd name="textAreaTop" fmla="*/ 6480 h 131760"/>
                  <a:gd name="textAreaBottom" fmla="*/ 125280 h 131760"/>
                </a:gdLst>
                <a:ahLst/>
                <a:rect l="textAreaLeft" t="textAreaTop" r="textAreaRight" b="textAreaBottom"/>
                <a:pathLst>
                  <a:path w="21600" h="51812">
                    <a:moveTo>
                      <a:pt x="9000" y="0"/>
                    </a:moveTo>
                    <a:arcTo wR="9000" hR="9000" stAng="16200000" swAng="-5400000"/>
                    <a:lnTo>
                      <a:pt x="0" y="42812"/>
                    </a:lnTo>
                    <a:arcTo wR="9000" hR="9000" stAng="10800000" swAng="-5400000"/>
                    <a:lnTo>
                      <a:pt x="12600" y="51812"/>
                    </a:lnTo>
                    <a:arcTo wR="9000" hR="9000" stAng="5400000" swAng="-5400000"/>
                    <a:lnTo>
                      <a:pt x="21600" y="9000"/>
                    </a:lnTo>
                    <a:arcTo wR="9000" hR="9000" stAng="0" swAng="-5400000"/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6906960" y="5497920"/>
              <a:ext cx="568440" cy="640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591680" y="5497920"/>
              <a:ext cx="87120" cy="64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42600" y="5486760"/>
              <a:ext cx="567000" cy="6516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9800" bIns="1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51440" y="5486760"/>
              <a:ext cx="87120" cy="651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9800" bIns="1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33120" y="5305320"/>
              <a:ext cx="321120" cy="91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27000" y="5309280"/>
              <a:ext cx="812520" cy="54000"/>
            </a:xfrm>
            <a:custGeom>
              <a:avLst/>
              <a:gdLst/>
              <a:ahLst/>
              <a:rect l="l" t="t" r="r" b="b"/>
              <a:pathLst>
                <a:path w="517" h="28">
                  <a:moveTo>
                    <a:pt x="0" y="28"/>
                  </a:moveTo>
                  <a:lnTo>
                    <a:pt x="517" y="28"/>
                  </a:lnTo>
                  <a:lnTo>
                    <a:pt x="483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8640" bIns="8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5385600" y="5336640"/>
              <a:ext cx="843840" cy="1080"/>
              <a:chOff x="5385600" y="5336640"/>
              <a:chExt cx="843840" cy="1080"/>
            </a:xfrm>
          </p:grpSpPr>
          <p:sp>
            <p:nvSpPr>
              <p:cNvPr id="1012" name=""/>
              <p:cNvSpPr/>
              <p:nvPr/>
            </p:nvSpPr>
            <p:spPr>
              <a:xfrm>
                <a:off x="5385600" y="5336640"/>
                <a:ext cx="846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01520" y="5336640"/>
                <a:ext cx="108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545800" y="5336640"/>
                <a:ext cx="846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62080" y="5336640"/>
                <a:ext cx="108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06360" y="5336640"/>
                <a:ext cx="846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22640" y="5336640"/>
                <a:ext cx="108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6560" y="5336640"/>
                <a:ext cx="846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982840" y="5336640"/>
                <a:ext cx="108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026760" y="5336640"/>
                <a:ext cx="846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144840" y="5336640"/>
                <a:ext cx="90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187320" y="5336640"/>
                <a:ext cx="42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5035680" y="5486760"/>
              <a:ext cx="108360" cy="6516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9800" bIns="1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485480" y="5497920"/>
              <a:ext cx="108360" cy="640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699960" y="5052240"/>
              <a:ext cx="86760" cy="543600"/>
              <a:chOff x="6699960" y="5052240"/>
              <a:chExt cx="86760" cy="543600"/>
            </a:xfrm>
          </p:grpSpPr>
          <p:grpSp>
            <p:nvGrpSpPr>
              <p:cNvPr id="1026" name=""/>
              <p:cNvGrpSpPr/>
              <p:nvPr/>
            </p:nvGrpSpPr>
            <p:grpSpPr>
              <a:xfrm>
                <a:off x="6699960" y="5143680"/>
                <a:ext cx="86760" cy="414000"/>
                <a:chOff x="6699960" y="5143680"/>
                <a:chExt cx="86760" cy="414000"/>
              </a:xfrm>
            </p:grpSpPr>
            <p:grpSp>
              <p:nvGrpSpPr>
                <p:cNvPr id="1027" name=""/>
                <p:cNvGrpSpPr/>
                <p:nvPr/>
              </p:nvGrpSpPr>
              <p:grpSpPr>
                <a:xfrm>
                  <a:off x="6785280" y="5143680"/>
                  <a:ext cx="1440" cy="414000"/>
                  <a:chOff x="6785280" y="5143680"/>
                  <a:chExt cx="1440" cy="41400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6785280" y="514368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6785280" y="519480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785280" y="524628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785280" y="5299200"/>
                    <a:ext cx="1440" cy="11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785280" y="535032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6785280" y="540180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785280" y="545292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785280" y="5504760"/>
                    <a:ext cx="1440" cy="126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785280" y="554436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6699960" y="5143680"/>
                  <a:ext cx="1080" cy="414000"/>
                  <a:chOff x="6699960" y="5143680"/>
                  <a:chExt cx="1080" cy="41400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6699960" y="514368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699960" y="519480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699960" y="524628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699960" y="5299200"/>
                    <a:ext cx="1080" cy="11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699960" y="535032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699960" y="540180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699960" y="545292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699960" y="5504760"/>
                    <a:ext cx="1080" cy="126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6699960" y="554436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7" name=""/>
              <p:cNvGrpSpPr/>
              <p:nvPr/>
            </p:nvGrpSpPr>
            <p:grpSpPr>
              <a:xfrm>
                <a:off x="6741720" y="5052240"/>
                <a:ext cx="1080" cy="543600"/>
                <a:chOff x="6741720" y="5052240"/>
                <a:chExt cx="1080" cy="543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6741720" y="5052240"/>
                  <a:ext cx="1080" cy="104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741720" y="51948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741720" y="5246280"/>
                  <a:ext cx="1080" cy="104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741720" y="5388840"/>
                  <a:ext cx="1080" cy="126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741720" y="5440320"/>
                  <a:ext cx="1080" cy="104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741720" y="55825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4" name=""/>
            <p:cNvGrpSpPr/>
            <p:nvPr/>
          </p:nvGrpSpPr>
          <p:grpSpPr>
            <a:xfrm>
              <a:off x="5822640" y="5052240"/>
              <a:ext cx="98280" cy="543600"/>
              <a:chOff x="5822640" y="5052240"/>
              <a:chExt cx="98280" cy="54360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5822640" y="5143680"/>
                <a:ext cx="98280" cy="414000"/>
                <a:chOff x="5822640" y="5143680"/>
                <a:chExt cx="98280" cy="414000"/>
              </a:xfrm>
            </p:grpSpPr>
            <p:grpSp>
              <p:nvGrpSpPr>
                <p:cNvPr id="1056" name=""/>
                <p:cNvGrpSpPr/>
                <p:nvPr/>
              </p:nvGrpSpPr>
              <p:grpSpPr>
                <a:xfrm>
                  <a:off x="5919480" y="5143680"/>
                  <a:ext cx="1440" cy="414000"/>
                  <a:chOff x="5919480" y="5143680"/>
                  <a:chExt cx="1440" cy="41400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5919480" y="514368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919480" y="519480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919480" y="524628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5919480" y="5299200"/>
                    <a:ext cx="1440" cy="11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5919480" y="535032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19480" y="540180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919480" y="545292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919480" y="5504760"/>
                    <a:ext cx="1440" cy="126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5919480" y="5544360"/>
                    <a:ext cx="144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5822640" y="5143680"/>
                  <a:ext cx="1080" cy="414000"/>
                  <a:chOff x="5822640" y="5143680"/>
                  <a:chExt cx="1080" cy="4140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5822640" y="514368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822640" y="519480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822640" y="524628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822640" y="5299200"/>
                    <a:ext cx="1080" cy="11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822640" y="535032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822640" y="540180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822640" y="545292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822640" y="5504760"/>
                    <a:ext cx="1080" cy="126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5822640" y="5544360"/>
                    <a:ext cx="1080" cy="13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080" rIns="9108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6" name=""/>
              <p:cNvGrpSpPr/>
              <p:nvPr/>
            </p:nvGrpSpPr>
            <p:grpSpPr>
              <a:xfrm>
                <a:off x="5875560" y="5052240"/>
                <a:ext cx="1080" cy="543600"/>
                <a:chOff x="5875560" y="5052240"/>
                <a:chExt cx="1080" cy="5436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5875560" y="5052240"/>
                  <a:ext cx="1080" cy="104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875560" y="51948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875560" y="5246280"/>
                  <a:ext cx="1080" cy="104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875560" y="5388840"/>
                  <a:ext cx="1080" cy="126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875560" y="5440320"/>
                  <a:ext cx="1080" cy="104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875560" y="55825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3" name=""/>
            <p:cNvSpPr/>
            <p:nvPr/>
          </p:nvSpPr>
          <p:spPr>
            <a:xfrm>
              <a:off x="6261480" y="4104360"/>
              <a:ext cx="388440" cy="1971000"/>
            </a:xfrm>
            <a:custGeom>
              <a:avLst/>
              <a:gdLst/>
              <a:ahLst/>
              <a:rect l="l" t="t" r="r" b="b"/>
              <a:pathLst>
                <a:path w="252" h="1035">
                  <a:moveTo>
                    <a:pt x="198" y="1035"/>
                  </a:moveTo>
                  <a:lnTo>
                    <a:pt x="191" y="1035"/>
                  </a:lnTo>
                  <a:lnTo>
                    <a:pt x="0" y="28"/>
                  </a:lnTo>
                  <a:lnTo>
                    <a:pt x="7" y="14"/>
                  </a:lnTo>
                  <a:lnTo>
                    <a:pt x="28" y="0"/>
                  </a:lnTo>
                  <a:lnTo>
                    <a:pt x="41" y="7"/>
                  </a:lnTo>
                  <a:lnTo>
                    <a:pt x="55" y="21"/>
                  </a:lnTo>
                  <a:lnTo>
                    <a:pt x="252" y="1028"/>
                  </a:lnTo>
                  <a:lnTo>
                    <a:pt x="245" y="1028"/>
                  </a:lnTo>
                  <a:lnTo>
                    <a:pt x="55" y="21"/>
                  </a:lnTo>
                  <a:lnTo>
                    <a:pt x="4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28"/>
                  </a:lnTo>
                  <a:lnTo>
                    <a:pt x="198" y="1035"/>
                  </a:lnTo>
                  <a:close/>
                </a:path>
              </a:pathLst>
            </a:custGeom>
            <a:noFill/>
            <a:ln w="111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31400" y="5452560"/>
              <a:ext cx="202680" cy="28584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102" y="0"/>
                  </a:moveTo>
                  <a:lnTo>
                    <a:pt x="129" y="136"/>
                  </a:lnTo>
                  <a:lnTo>
                    <a:pt x="27" y="150"/>
                  </a:lnTo>
                  <a:lnTo>
                    <a:pt x="0" y="2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6478560" y="5688000"/>
              <a:ext cx="182520" cy="208080"/>
              <a:chOff x="6478560" y="5688000"/>
              <a:chExt cx="182520" cy="208080"/>
            </a:xfrm>
          </p:grpSpPr>
          <p:sp>
            <p:nvSpPr>
              <p:cNvPr id="1086" name=""/>
              <p:cNvSpPr/>
              <p:nvPr/>
            </p:nvSpPr>
            <p:spPr>
              <a:xfrm>
                <a:off x="6489360" y="5701320"/>
                <a:ext cx="160920" cy="1947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21600" h="26132">
                    <a:moveTo>
                      <a:pt x="0" y="0"/>
                    </a:moveTo>
                    <a:arcTo wR="0" hR="0" stAng="16200000" swAng="-5400000"/>
                    <a:lnTo>
                      <a:pt x="0" y="26132"/>
                    </a:lnTo>
                    <a:arcTo wR="0" hR="0" stAng="10800000" swAng="-5400000"/>
                    <a:lnTo>
                      <a:pt x="21600" y="2613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78560" y="5688000"/>
                <a:ext cx="172080" cy="208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89" y="0"/>
                    </a:moveTo>
                    <a:lnTo>
                      <a:pt x="109" y="95"/>
                    </a:lnTo>
                    <a:lnTo>
                      <a:pt x="21" y="109"/>
                    </a:lnTo>
                    <a:lnTo>
                      <a:pt x="0" y="2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478560" y="5714640"/>
                <a:ext cx="160920" cy="378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7200" bIns="-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78560" y="5688000"/>
                <a:ext cx="149760" cy="51480"/>
              </a:xfrm>
              <a:custGeom>
                <a:avLst/>
                <a:gdLst/>
                <a:ahLst/>
                <a:rect l="l" t="t" r="r" b="b"/>
                <a:pathLst>
                  <a:path w="95" h="27">
                    <a:moveTo>
                      <a:pt x="89" y="0"/>
                    </a:moveTo>
                    <a:lnTo>
                      <a:pt x="95" y="14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6120" bIns="61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00520" y="5855760"/>
                <a:ext cx="160560" cy="39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5040" bIns="-5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0520" y="5844600"/>
                <a:ext cx="149760" cy="51480"/>
              </a:xfrm>
              <a:custGeom>
                <a:avLst/>
                <a:gdLst/>
                <a:ahLst/>
                <a:rect l="l" t="t" r="r" b="b"/>
                <a:pathLst>
                  <a:path w="95" h="27">
                    <a:moveTo>
                      <a:pt x="95" y="0"/>
                    </a:moveTo>
                    <a:lnTo>
                      <a:pt x="95" y="13"/>
                    </a:lnTo>
                    <a:lnTo>
                      <a:pt x="7" y="27"/>
                    </a:lnTo>
                    <a:lnTo>
                      <a:pt x="0" y="13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6120" bIns="61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43000" y="5725800"/>
                <a:ext cx="64440" cy="143280"/>
              </a:xfrm>
              <a:custGeom>
                <a:avLst/>
                <a:gdLst>
                  <a:gd name="textAreaLeft" fmla="*/ 7560 w 64440"/>
                  <a:gd name="textAreaRight" fmla="*/ 56880 w 64440"/>
                  <a:gd name="textAreaTop" fmla="*/ 7560 h 143280"/>
                  <a:gd name="textAreaBottom" fmla="*/ 135720 h 143280"/>
                </a:gdLst>
                <a:ahLst/>
                <a:rect l="textAreaLeft" t="textAreaTop" r="textAreaRight" b="textAreaBottom"/>
                <a:pathLst>
                  <a:path w="21600" h="47880">
                    <a:moveTo>
                      <a:pt x="9000" y="0"/>
                    </a:moveTo>
                    <a:arcTo wR="9000" hR="9000" stAng="16200000" swAng="-5400000"/>
                    <a:lnTo>
                      <a:pt x="0" y="38880"/>
                    </a:lnTo>
                    <a:arcTo wR="9000" hR="9000" stAng="10800000" swAng="-5400000"/>
                    <a:lnTo>
                      <a:pt x="12600" y="47880"/>
                    </a:lnTo>
                    <a:arcTo wR="9000" hR="9000" stAng="5400000" swAng="-5400000"/>
                    <a:lnTo>
                      <a:pt x="21600" y="9000"/>
                    </a:lnTo>
                    <a:arcTo wR="9000" hR="90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532200" y="5725800"/>
                <a:ext cx="64440" cy="1296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0" y="21"/>
                    </a:moveTo>
                    <a:lnTo>
                      <a:pt x="0" y="21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41" y="48"/>
                    </a:lnTo>
                    <a:lnTo>
                      <a:pt x="41" y="55"/>
                    </a:lnTo>
                    <a:lnTo>
                      <a:pt x="41" y="62"/>
                    </a:lnTo>
                    <a:lnTo>
                      <a:pt x="41" y="62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1" y="68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7" y="62"/>
                    </a:lnTo>
                    <a:lnTo>
                      <a:pt x="7" y="55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597000" y="5714640"/>
                <a:ext cx="64080" cy="141120"/>
              </a:xfrm>
              <a:custGeom>
                <a:avLst/>
                <a:gdLst>
                  <a:gd name="textAreaLeft" fmla="*/ 7560 w 64080"/>
                  <a:gd name="textAreaRight" fmla="*/ 56520 w 64080"/>
                  <a:gd name="textAreaTop" fmla="*/ 7560 h 141120"/>
                  <a:gd name="textAreaBottom" fmla="*/ 133560 h 141120"/>
                </a:gdLst>
                <a:ahLst/>
                <a:rect l="textAreaLeft" t="textAreaTop" r="textAreaRight" b="textAreaBottom"/>
                <a:pathLst>
                  <a:path w="21600" h="47423">
                    <a:moveTo>
                      <a:pt x="9000" y="0"/>
                    </a:moveTo>
                    <a:arcTo wR="9000" hR="9000" stAng="16200000" swAng="-5400000"/>
                    <a:lnTo>
                      <a:pt x="0" y="38423"/>
                    </a:lnTo>
                    <a:arcTo wR="9000" hR="9000" stAng="10800000" swAng="-5400000"/>
                    <a:lnTo>
                      <a:pt x="12600" y="47423"/>
                    </a:lnTo>
                    <a:arcTo wR="9000" hR="9000" stAng="5400000" swAng="-5400000"/>
                    <a:lnTo>
                      <a:pt x="21600" y="9000"/>
                    </a:lnTo>
                    <a:arcTo wR="9000" hR="90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585840" y="5714640"/>
                <a:ext cx="64440" cy="1296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0" y="20"/>
                    </a:moveTo>
                    <a:lnTo>
                      <a:pt x="0" y="2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34" y="6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41" y="47"/>
                    </a:lnTo>
                    <a:lnTo>
                      <a:pt x="41" y="54"/>
                    </a:lnTo>
                    <a:lnTo>
                      <a:pt x="41" y="61"/>
                    </a:lnTo>
                    <a:lnTo>
                      <a:pt x="41" y="61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1" y="68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7" y="61"/>
                    </a:lnTo>
                    <a:lnTo>
                      <a:pt x="7" y="5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89360" y="5739480"/>
                <a:ext cx="64440" cy="143280"/>
              </a:xfrm>
              <a:custGeom>
                <a:avLst/>
                <a:gdLst>
                  <a:gd name="textAreaLeft" fmla="*/ 7560 w 64440"/>
                  <a:gd name="textAreaRight" fmla="*/ 56880 w 64440"/>
                  <a:gd name="textAreaTop" fmla="*/ 7560 h 143280"/>
                  <a:gd name="textAreaBottom" fmla="*/ 135720 h 143280"/>
                </a:gdLst>
                <a:ahLst/>
                <a:rect l="textAreaLeft" t="textAreaTop" r="textAreaRight" b="textAreaBottom"/>
                <a:pathLst>
                  <a:path w="21600" h="47880">
                    <a:moveTo>
                      <a:pt x="9000" y="0"/>
                    </a:moveTo>
                    <a:arcTo wR="9000" hR="9000" stAng="16200000" swAng="-5400000"/>
                    <a:lnTo>
                      <a:pt x="0" y="38880"/>
                    </a:lnTo>
                    <a:arcTo wR="9000" hR="9000" stAng="10800000" swAng="-5400000"/>
                    <a:lnTo>
                      <a:pt x="12600" y="47880"/>
                    </a:lnTo>
                    <a:arcTo wR="9000" hR="9000" stAng="5400000" swAng="-5400000"/>
                    <a:lnTo>
                      <a:pt x="21600" y="9000"/>
                    </a:lnTo>
                    <a:arcTo wR="9000" hR="90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478560" y="5739480"/>
                <a:ext cx="64440" cy="1296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0" y="21"/>
                    </a:moveTo>
                    <a:lnTo>
                      <a:pt x="0" y="21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41" y="48"/>
                    </a:lnTo>
                    <a:lnTo>
                      <a:pt x="41" y="55"/>
                    </a:lnTo>
                    <a:lnTo>
                      <a:pt x="41" y="61"/>
                    </a:lnTo>
                    <a:lnTo>
                      <a:pt x="41" y="61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1" y="68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387040" y="1012680"/>
              <a:ext cx="1517040" cy="4128840"/>
              <a:chOff x="5387040" y="1012680"/>
              <a:chExt cx="1517040" cy="4128840"/>
            </a:xfrm>
          </p:grpSpPr>
          <p:sp>
            <p:nvSpPr>
              <p:cNvPr id="1099" name=""/>
              <p:cNvSpPr/>
              <p:nvPr/>
            </p:nvSpPr>
            <p:spPr>
              <a:xfrm>
                <a:off x="6240600" y="1583280"/>
                <a:ext cx="135000" cy="57240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34200" y="4836960"/>
                <a:ext cx="322200" cy="907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34200" y="4862160"/>
                <a:ext cx="663480" cy="4068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680" bIns="-4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5387040" y="4882680"/>
                <a:ext cx="705240" cy="1080"/>
                <a:chOff x="5387040" y="4882680"/>
                <a:chExt cx="705240" cy="10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5387040" y="4882680"/>
                  <a:ext cx="846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504760" y="4882680"/>
                  <a:ext cx="90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547240" y="4882680"/>
                  <a:ext cx="846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665320" y="4882680"/>
                  <a:ext cx="90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5707440" y="4882680"/>
                  <a:ext cx="846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825520" y="4882680"/>
                  <a:ext cx="90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868000" y="4882680"/>
                  <a:ext cx="8460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985720" y="4882680"/>
                  <a:ext cx="93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027840" y="4882680"/>
                  <a:ext cx="6444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6787800" y="4674600"/>
                <a:ext cx="1440" cy="415080"/>
                <a:chOff x="6787800" y="4674600"/>
                <a:chExt cx="1440" cy="415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787800" y="467460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787800" y="472572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787800" y="477720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787800" y="4830480"/>
                  <a:ext cx="1440" cy="11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787800" y="488196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6787800" y="493344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787800" y="498492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787800" y="5038200"/>
                  <a:ext cx="1440" cy="11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787800" y="507636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01400" y="4674600"/>
                <a:ext cx="1080" cy="415080"/>
                <a:chOff x="6701400" y="4674600"/>
                <a:chExt cx="1080" cy="41508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01400" y="46746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701400" y="47257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6701400" y="47772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701400" y="4830480"/>
                  <a:ext cx="1080" cy="11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701400" y="48819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701400" y="493344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701400" y="49849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701400" y="5038200"/>
                  <a:ext cx="1080" cy="11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701400" y="50763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5985720" y="4920120"/>
                <a:ext cx="1440" cy="156960"/>
                <a:chOff x="5985720" y="4920120"/>
                <a:chExt cx="1440" cy="15696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5985720" y="4920120"/>
                  <a:ext cx="1440" cy="1054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985720" y="506376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6636960" y="4920120"/>
                <a:ext cx="1440" cy="156960"/>
                <a:chOff x="6636960" y="4920120"/>
                <a:chExt cx="1440" cy="15696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6636960" y="4920120"/>
                  <a:ext cx="1440" cy="1054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636960" y="5063760"/>
                  <a:ext cx="144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6743880" y="4597560"/>
                <a:ext cx="1080" cy="543960"/>
                <a:chOff x="6743880" y="4597560"/>
                <a:chExt cx="1080" cy="54396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6743880" y="4597560"/>
                  <a:ext cx="1080" cy="104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743880" y="4740120"/>
                  <a:ext cx="1080" cy="126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743880" y="4791600"/>
                  <a:ext cx="1080" cy="104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743880" y="49341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6743880" y="4985280"/>
                  <a:ext cx="1080" cy="104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743880" y="51282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868000" y="4597560"/>
                <a:ext cx="1080" cy="543960"/>
                <a:chOff x="5868000" y="4597560"/>
                <a:chExt cx="1080" cy="5439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868000" y="4597560"/>
                  <a:ext cx="1080" cy="104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868000" y="4740120"/>
                  <a:ext cx="1080" cy="126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868000" y="4791600"/>
                  <a:ext cx="1080" cy="104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868000" y="49341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868000" y="4985280"/>
                  <a:ext cx="1080" cy="104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868000" y="51282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5921640" y="4674600"/>
                <a:ext cx="1080" cy="415080"/>
                <a:chOff x="5921640" y="4674600"/>
                <a:chExt cx="1080" cy="415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921640" y="46746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921640" y="47257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921640" y="47772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921640" y="4830480"/>
                  <a:ext cx="1080" cy="11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921640" y="48819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921640" y="493344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921640" y="49849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921640" y="5038200"/>
                  <a:ext cx="1080" cy="11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921640" y="50763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5825880" y="4674600"/>
                <a:ext cx="1080" cy="415080"/>
                <a:chOff x="5825880" y="4674600"/>
                <a:chExt cx="1080" cy="41508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825880" y="46746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825880" y="47257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825880" y="477720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825880" y="4830480"/>
                  <a:ext cx="1080" cy="11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825880" y="48819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825880" y="493344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825880" y="498492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825880" y="5038200"/>
                  <a:ext cx="1080" cy="11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25880" y="5076360"/>
                  <a:ext cx="1080" cy="13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2" name=""/>
              <p:cNvSpPr/>
              <p:nvPr/>
            </p:nvSpPr>
            <p:spPr>
              <a:xfrm>
                <a:off x="5707800" y="2071080"/>
                <a:ext cx="1196280" cy="3018960"/>
              </a:xfrm>
              <a:custGeom>
                <a:avLst/>
                <a:gdLst/>
                <a:ahLst/>
                <a:rect l="l" t="t" r="r" b="b"/>
                <a:pathLst>
                  <a:path w="761" h="1586">
                    <a:moveTo>
                      <a:pt x="217" y="0"/>
                    </a:moveTo>
                    <a:lnTo>
                      <a:pt x="217" y="1368"/>
                    </a:lnTo>
                    <a:lnTo>
                      <a:pt x="0" y="1368"/>
                    </a:lnTo>
                    <a:lnTo>
                      <a:pt x="0" y="1450"/>
                    </a:lnTo>
                    <a:lnTo>
                      <a:pt x="20" y="1450"/>
                    </a:lnTo>
                    <a:lnTo>
                      <a:pt x="20" y="1497"/>
                    </a:lnTo>
                    <a:lnTo>
                      <a:pt x="0" y="1497"/>
                    </a:lnTo>
                    <a:lnTo>
                      <a:pt x="0" y="1586"/>
                    </a:lnTo>
                    <a:lnTo>
                      <a:pt x="149" y="1586"/>
                    </a:lnTo>
                    <a:lnTo>
                      <a:pt x="177" y="1559"/>
                    </a:lnTo>
                    <a:lnTo>
                      <a:pt x="197" y="1586"/>
                    </a:lnTo>
                    <a:lnTo>
                      <a:pt x="245" y="1586"/>
                    </a:lnTo>
                    <a:lnTo>
                      <a:pt x="245" y="61"/>
                    </a:lnTo>
                    <a:lnTo>
                      <a:pt x="517" y="61"/>
                    </a:lnTo>
                    <a:lnTo>
                      <a:pt x="517" y="1586"/>
                    </a:lnTo>
                    <a:lnTo>
                      <a:pt x="564" y="1586"/>
                    </a:lnTo>
                    <a:lnTo>
                      <a:pt x="591" y="1559"/>
                    </a:lnTo>
                    <a:lnTo>
                      <a:pt x="612" y="1586"/>
                    </a:lnTo>
                    <a:lnTo>
                      <a:pt x="761" y="1586"/>
                    </a:lnTo>
                    <a:lnTo>
                      <a:pt x="761" y="1368"/>
                    </a:lnTo>
                    <a:lnTo>
                      <a:pt x="544" y="1368"/>
                    </a:lnTo>
                    <a:lnTo>
                      <a:pt x="544" y="0"/>
                    </a:lnTo>
                    <a:lnTo>
                      <a:pt x="421" y="0"/>
                    </a:lnTo>
                    <a:lnTo>
                      <a:pt x="421" y="41"/>
                    </a:lnTo>
                    <a:lnTo>
                      <a:pt x="340" y="41"/>
                    </a:lnTo>
                    <a:lnTo>
                      <a:pt x="340" y="0"/>
                    </a:lnTo>
                    <a:lnTo>
                      <a:pt x="217" y="0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49520" y="2082240"/>
                <a:ext cx="301680" cy="817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36360" bIns="36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59240" y="1356840"/>
                <a:ext cx="301320" cy="22644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51760" y="1508040"/>
                <a:ext cx="114480" cy="15084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284520" y="1012680"/>
                <a:ext cx="53280" cy="1426680"/>
              </a:xfrm>
              <a:custGeom>
                <a:avLst/>
                <a:gdLst/>
                <a:ahLst/>
                <a:rect l="l" t="t" r="r" b="b"/>
                <a:pathLst>
                  <a:path w="34" h="681">
                    <a:moveTo>
                      <a:pt x="0" y="0"/>
                    </a:moveTo>
                    <a:lnTo>
                      <a:pt x="0" y="660"/>
                    </a:lnTo>
                    <a:lnTo>
                      <a:pt x="0" y="674"/>
                    </a:lnTo>
                    <a:lnTo>
                      <a:pt x="14" y="681"/>
                    </a:lnTo>
                    <a:lnTo>
                      <a:pt x="27" y="674"/>
                    </a:lnTo>
                    <a:lnTo>
                      <a:pt x="34" y="66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660"/>
                    </a:lnTo>
                    <a:lnTo>
                      <a:pt x="14" y="674"/>
                    </a:lnTo>
                    <a:lnTo>
                      <a:pt x="0" y="6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1160">
                <a:solidFill>
                  <a:srgbClr val="3f3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7" name=""/>
              <p:cNvGrpSpPr/>
              <p:nvPr/>
            </p:nvGrpSpPr>
            <p:grpSpPr>
              <a:xfrm>
                <a:off x="6245280" y="1119240"/>
                <a:ext cx="128520" cy="182160"/>
                <a:chOff x="6245280" y="1119240"/>
                <a:chExt cx="128520" cy="18216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6256080" y="1119240"/>
                  <a:ext cx="117720" cy="1821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256080" y="1261800"/>
                  <a:ext cx="117720" cy="2628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19080" bIns="-19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256080" y="1119240"/>
                  <a:ext cx="117720" cy="2664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-18720" bIns="-18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287400" y="1132560"/>
                  <a:ext cx="43920" cy="131040"/>
                </a:xfrm>
                <a:custGeom>
                  <a:avLst/>
                  <a:gdLst>
                    <a:gd name="textAreaLeft" fmla="*/ 5040 w 43920"/>
                    <a:gd name="textAreaRight" fmla="*/ 38880 w 43920"/>
                    <a:gd name="textAreaTop" fmla="*/ 5040 h 131040"/>
                    <a:gd name="textAreaBottom" fmla="*/ 126000 h 131040"/>
                  </a:gdLst>
                  <a:ahLst/>
                  <a:rect l="textAreaLeft" t="textAreaTop" r="textAreaRight" b="textAreaBottom"/>
                  <a:pathLst>
                    <a:path w="21600" h="64098">
                      <a:moveTo>
                        <a:pt x="8640" y="0"/>
                      </a:moveTo>
                      <a:arcTo wR="8640" hR="8640" stAng="16200000" swAng="-5400000"/>
                      <a:lnTo>
                        <a:pt x="0" y="55458"/>
                      </a:lnTo>
                      <a:arcTo wR="8640" hR="8640" stAng="10800000" swAng="-5400000"/>
                      <a:lnTo>
                        <a:pt x="12960" y="64098"/>
                      </a:lnTo>
                      <a:arcTo wR="8640" hR="8640" stAng="5400000" swAng="-5400000"/>
                      <a:lnTo>
                        <a:pt x="21600" y="8640"/>
                      </a:lnTo>
                      <a:arcTo wR="8640" hR="864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6330240" y="1132560"/>
                  <a:ext cx="43560" cy="131040"/>
                </a:xfrm>
                <a:custGeom>
                  <a:avLst/>
                  <a:gdLst>
                    <a:gd name="textAreaLeft" fmla="*/ 5040 w 43560"/>
                    <a:gd name="textAreaRight" fmla="*/ 38520 w 43560"/>
                    <a:gd name="textAreaTop" fmla="*/ 5040 h 131040"/>
                    <a:gd name="textAreaBottom" fmla="*/ 126000 h 131040"/>
                  </a:gdLst>
                  <a:ahLst/>
                  <a:rect l="textAreaLeft" t="textAreaTop" r="textAreaRight" b="textAreaBottom"/>
                  <a:pathLst>
                    <a:path w="21600" h="64623">
                      <a:moveTo>
                        <a:pt x="8640" y="0"/>
                      </a:moveTo>
                      <a:arcTo wR="8640" hR="8640" stAng="16200000" swAng="-5400000"/>
                      <a:lnTo>
                        <a:pt x="0" y="55983"/>
                      </a:lnTo>
                      <a:arcTo wR="8640" hR="8640" stAng="10800000" swAng="-5400000"/>
                      <a:lnTo>
                        <a:pt x="12960" y="64623"/>
                      </a:lnTo>
                      <a:arcTo wR="8640" hR="8640" stAng="5400000" swAng="-5400000"/>
                      <a:lnTo>
                        <a:pt x="21600" y="8640"/>
                      </a:lnTo>
                      <a:arcTo wR="8640" hR="864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6245280" y="1132560"/>
                  <a:ext cx="43920" cy="131040"/>
                </a:xfrm>
                <a:custGeom>
                  <a:avLst/>
                  <a:gdLst>
                    <a:gd name="textAreaLeft" fmla="*/ 5040 w 43920"/>
                    <a:gd name="textAreaRight" fmla="*/ 38880 w 43920"/>
                    <a:gd name="textAreaTop" fmla="*/ 5040 h 131040"/>
                    <a:gd name="textAreaBottom" fmla="*/ 126000 h 131040"/>
                  </a:gdLst>
                  <a:ahLst/>
                  <a:rect l="textAreaLeft" t="textAreaTop" r="textAreaRight" b="textAreaBottom"/>
                  <a:pathLst>
                    <a:path w="21600" h="64098">
                      <a:moveTo>
                        <a:pt x="8640" y="0"/>
                      </a:moveTo>
                      <a:arcTo wR="8640" hR="8640" stAng="16200000" swAng="-5400000"/>
                      <a:lnTo>
                        <a:pt x="0" y="55458"/>
                      </a:lnTo>
                      <a:arcTo wR="8640" hR="8640" stAng="10800000" swAng="-5400000"/>
                      <a:lnTo>
                        <a:pt x="12960" y="64098"/>
                      </a:lnTo>
                      <a:arcTo wR="8640" hR="8640" stAng="5400000" swAng="-5400000"/>
                      <a:lnTo>
                        <a:pt x="21600" y="8640"/>
                      </a:lnTo>
                      <a:arcTo wR="8640" hR="864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080" rIns="910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4" name=""/>
          <p:cNvSpPr/>
          <p:nvPr/>
        </p:nvSpPr>
        <p:spPr>
          <a:xfrm>
            <a:off x="4948200" y="2728800"/>
            <a:ext cx="107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802480" y="3060720"/>
            <a:ext cx="458640" cy="1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30600" y="4402080"/>
            <a:ext cx="12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56160" y="5564160"/>
            <a:ext cx="138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275520" y="2344680"/>
            <a:ext cx="10764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30960" bIns="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257880" y="2881440"/>
            <a:ext cx="106560" cy="106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9880" bIns="29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38880" y="2416320"/>
            <a:ext cx="50796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330960" y="2987640"/>
            <a:ext cx="57132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21120" y="4765680"/>
            <a:ext cx="444600" cy="220680"/>
          </a:xfrm>
          <a:custGeom>
            <a:avLst/>
            <a:gdLst>
              <a:gd name="textAreaLeft" fmla="*/ 69480 w 444600"/>
              <a:gd name="textAreaRight" fmla="*/ 389160 w 4446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4820760" y="5231880"/>
            <a:ext cx="444600" cy="220680"/>
          </a:xfrm>
          <a:custGeom>
            <a:avLst/>
            <a:gdLst>
              <a:gd name="textAreaLeft" fmla="*/ 69480 w 444600"/>
              <a:gd name="textAreaRight" fmla="*/ 389160 w 4446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270480" y="3257640"/>
            <a:ext cx="106560" cy="106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9880" bIns="29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359400" y="3179880"/>
            <a:ext cx="54288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940440" y="5950080"/>
            <a:ext cx="900360" cy="161640"/>
            <a:chOff x="6940440" y="5950080"/>
            <a:chExt cx="900360" cy="161640"/>
          </a:xfrm>
        </p:grpSpPr>
        <p:sp>
          <p:nvSpPr>
            <p:cNvPr id="1197" name=""/>
            <p:cNvSpPr/>
            <p:nvPr/>
          </p:nvSpPr>
          <p:spPr>
            <a:xfrm>
              <a:off x="6940440" y="601956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940440" y="595008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840800" y="595008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6924960" y="5700600"/>
            <a:ext cx="91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810480" y="2805120"/>
            <a:ext cx="180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mocou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49960" y="4151160"/>
            <a:ext cx="101520" cy="130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353280" y="3191040"/>
            <a:ext cx="522360" cy="9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063960" y="2185920"/>
            <a:ext cx="134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明朝"/>
              </a:rPr>
              <a:t>Outer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143000" y="2558880"/>
            <a:ext cx="1042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明朝"/>
              </a:rPr>
              <a:t>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92160" y="2873520"/>
            <a:ext cx="86040" cy="30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371680" y="1281240"/>
            <a:ext cx="76320" cy="3222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14480" y="3119400"/>
            <a:ext cx="184320" cy="50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14480" y="3133800"/>
            <a:ext cx="376200" cy="223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889280" y="3144960"/>
            <a:ext cx="399600" cy="1440"/>
            <a:chOff x="1889280" y="3144960"/>
            <a:chExt cx="399600" cy="1440"/>
          </a:xfrm>
        </p:grpSpPr>
        <p:sp>
          <p:nvSpPr>
            <p:cNvPr id="1211" name=""/>
            <p:cNvSpPr/>
            <p:nvPr/>
          </p:nvSpPr>
          <p:spPr>
            <a:xfrm>
              <a:off x="1889280" y="31449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55880" y="3144960"/>
              <a:ext cx="5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80000" y="31449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46960" y="3144960"/>
              <a:ext cx="5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071080" y="31449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138040" y="3144960"/>
              <a:ext cx="5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61800" y="31449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28760" y="3144960"/>
              <a:ext cx="5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52520" y="3144960"/>
              <a:ext cx="36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2409840" y="939960"/>
            <a:ext cx="0" cy="2342520"/>
            <a:chOff x="2409840" y="939960"/>
            <a:chExt cx="0" cy="2342520"/>
          </a:xfrm>
        </p:grpSpPr>
        <p:sp>
          <p:nvSpPr>
            <p:cNvPr id="1221" name=""/>
            <p:cNvSpPr/>
            <p:nvPr/>
          </p:nvSpPr>
          <p:spPr>
            <a:xfrm>
              <a:off x="2409840" y="93996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09840" y="10206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09840" y="104940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09840" y="11304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09840" y="115920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09840" y="12402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09840" y="1269000"/>
              <a:ext cx="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09840" y="13496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409840" y="1378800"/>
              <a:ext cx="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09840" y="14594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409840" y="148824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09840" y="15692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09840" y="159804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9840" y="16790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409840" y="170892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09840" y="17888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09840" y="181872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9840" y="189828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09840" y="192852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09840" y="2009160"/>
              <a:ext cx="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409840" y="203832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09840" y="2118600"/>
              <a:ext cx="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09840" y="214812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09840" y="2228400"/>
              <a:ext cx="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09840" y="225756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409840" y="23382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09840" y="236736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09840" y="24480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09840" y="247716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409840" y="2557800"/>
              <a:ext cx="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09840" y="2586960"/>
              <a:ext cx="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09840" y="26672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09840" y="269640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09840" y="27770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09840" y="280620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09840" y="28868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409840" y="291600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09840" y="29966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09840" y="3025800"/>
              <a:ext cx="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409840" y="3106440"/>
              <a:ext cx="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09840" y="3136320"/>
              <a:ext cx="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09840" y="321588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09840" y="3246120"/>
              <a:ext cx="0" cy="3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2681280" y="3027240"/>
            <a:ext cx="1440" cy="235080"/>
            <a:chOff x="2681280" y="3027240"/>
            <a:chExt cx="1440" cy="235080"/>
          </a:xfrm>
        </p:grpSpPr>
        <p:sp>
          <p:nvSpPr>
            <p:cNvPr id="1265" name=""/>
            <p:cNvSpPr/>
            <p:nvPr/>
          </p:nvSpPr>
          <p:spPr>
            <a:xfrm>
              <a:off x="2681280" y="302724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81280" y="305604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81280" y="308520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81280" y="3115440"/>
              <a:ext cx="14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81280" y="314460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81280" y="317376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81280" y="320292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81280" y="3233160"/>
              <a:ext cx="14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81280" y="325476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2631960" y="3027240"/>
            <a:ext cx="1440" cy="235080"/>
            <a:chOff x="2631960" y="3027240"/>
            <a:chExt cx="1440" cy="235080"/>
          </a:xfrm>
        </p:grpSpPr>
        <p:sp>
          <p:nvSpPr>
            <p:cNvPr id="1275" name=""/>
            <p:cNvSpPr/>
            <p:nvPr/>
          </p:nvSpPr>
          <p:spPr>
            <a:xfrm>
              <a:off x="2631960" y="302724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31960" y="305604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631960" y="308520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31960" y="3115440"/>
              <a:ext cx="14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31960" y="314460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31960" y="317376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631960" y="320292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31960" y="3233160"/>
              <a:ext cx="14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631960" y="325476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2228760" y="3165480"/>
            <a:ext cx="0" cy="88920"/>
            <a:chOff x="2228760" y="3165480"/>
            <a:chExt cx="0" cy="88920"/>
          </a:xfrm>
        </p:grpSpPr>
        <p:sp>
          <p:nvSpPr>
            <p:cNvPr id="1285" name=""/>
            <p:cNvSpPr/>
            <p:nvPr/>
          </p:nvSpPr>
          <p:spPr>
            <a:xfrm>
              <a:off x="2228760" y="3165480"/>
              <a:ext cx="0" cy="59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228760" y="32468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2595600" y="3165480"/>
            <a:ext cx="1440" cy="88920"/>
            <a:chOff x="2595600" y="3165480"/>
            <a:chExt cx="1440" cy="88920"/>
          </a:xfrm>
        </p:grpSpPr>
        <p:sp>
          <p:nvSpPr>
            <p:cNvPr id="1288" name=""/>
            <p:cNvSpPr/>
            <p:nvPr/>
          </p:nvSpPr>
          <p:spPr>
            <a:xfrm>
              <a:off x="2595600" y="3165480"/>
              <a:ext cx="1440" cy="59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595600" y="3246840"/>
              <a:ext cx="144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655720" y="2984400"/>
            <a:ext cx="1440" cy="306000"/>
            <a:chOff x="2655720" y="2984400"/>
            <a:chExt cx="1440" cy="306000"/>
          </a:xfrm>
        </p:grpSpPr>
        <p:sp>
          <p:nvSpPr>
            <p:cNvPr id="1291" name=""/>
            <p:cNvSpPr/>
            <p:nvPr/>
          </p:nvSpPr>
          <p:spPr>
            <a:xfrm>
              <a:off x="2655720" y="2984400"/>
              <a:ext cx="144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55720" y="3064680"/>
              <a:ext cx="144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55720" y="3093480"/>
              <a:ext cx="144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655720" y="3173760"/>
              <a:ext cx="144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655720" y="3202560"/>
              <a:ext cx="144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655720" y="3283200"/>
              <a:ext cx="144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2162160" y="2984400"/>
            <a:ext cx="0" cy="306000"/>
            <a:chOff x="2162160" y="2984400"/>
            <a:chExt cx="0" cy="306000"/>
          </a:xfrm>
        </p:grpSpPr>
        <p:sp>
          <p:nvSpPr>
            <p:cNvPr id="1298" name=""/>
            <p:cNvSpPr/>
            <p:nvPr/>
          </p:nvSpPr>
          <p:spPr>
            <a:xfrm>
              <a:off x="2162160" y="2984400"/>
              <a:ext cx="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162160" y="3064680"/>
              <a:ext cx="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62160" y="3093480"/>
              <a:ext cx="0" cy="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162160" y="3173760"/>
              <a:ext cx="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62160" y="320256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62160" y="3283200"/>
              <a:ext cx="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2192400" y="3027240"/>
            <a:ext cx="0" cy="235080"/>
            <a:chOff x="2192400" y="3027240"/>
            <a:chExt cx="0" cy="235080"/>
          </a:xfrm>
        </p:grpSpPr>
        <p:sp>
          <p:nvSpPr>
            <p:cNvPr id="1305" name=""/>
            <p:cNvSpPr/>
            <p:nvPr/>
          </p:nvSpPr>
          <p:spPr>
            <a:xfrm>
              <a:off x="2192400" y="30272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92400" y="30560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192400" y="30852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92400" y="3115440"/>
              <a:ext cx="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92400" y="31446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192400" y="317376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92400" y="320292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192400" y="3233160"/>
              <a:ext cx="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192400" y="325476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2138400" y="3027240"/>
            <a:ext cx="0" cy="235080"/>
            <a:chOff x="2138400" y="3027240"/>
            <a:chExt cx="0" cy="235080"/>
          </a:xfrm>
        </p:grpSpPr>
        <p:sp>
          <p:nvSpPr>
            <p:cNvPr id="1315" name=""/>
            <p:cNvSpPr/>
            <p:nvPr/>
          </p:nvSpPr>
          <p:spPr>
            <a:xfrm>
              <a:off x="2138400" y="30272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38400" y="305604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138400" y="30852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38400" y="3115440"/>
              <a:ext cx="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138400" y="314460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38400" y="317376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38400" y="320292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138400" y="3233160"/>
              <a:ext cx="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38400" y="3254760"/>
              <a:ext cx="0" cy="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2071800" y="1555920"/>
            <a:ext cx="674640" cy="1706400"/>
          </a:xfrm>
          <a:custGeom>
            <a:avLst/>
            <a:gdLst/>
            <a:ahLst/>
            <a:rect l="l" t="t" r="r" b="b"/>
            <a:pathLst>
              <a:path w="761" h="1586">
                <a:moveTo>
                  <a:pt x="217" y="0"/>
                </a:moveTo>
                <a:lnTo>
                  <a:pt x="217" y="1368"/>
                </a:lnTo>
                <a:lnTo>
                  <a:pt x="0" y="1368"/>
                </a:lnTo>
                <a:lnTo>
                  <a:pt x="0" y="1450"/>
                </a:lnTo>
                <a:lnTo>
                  <a:pt x="20" y="1450"/>
                </a:lnTo>
                <a:lnTo>
                  <a:pt x="20" y="1497"/>
                </a:lnTo>
                <a:lnTo>
                  <a:pt x="0" y="1497"/>
                </a:lnTo>
                <a:lnTo>
                  <a:pt x="0" y="1586"/>
                </a:lnTo>
                <a:lnTo>
                  <a:pt x="149" y="1586"/>
                </a:lnTo>
                <a:lnTo>
                  <a:pt x="177" y="1559"/>
                </a:lnTo>
                <a:lnTo>
                  <a:pt x="197" y="1586"/>
                </a:lnTo>
                <a:lnTo>
                  <a:pt x="245" y="1586"/>
                </a:lnTo>
                <a:lnTo>
                  <a:pt x="245" y="61"/>
                </a:lnTo>
                <a:lnTo>
                  <a:pt x="517" y="61"/>
                </a:lnTo>
                <a:lnTo>
                  <a:pt x="517" y="1586"/>
                </a:lnTo>
                <a:lnTo>
                  <a:pt x="564" y="1586"/>
                </a:lnTo>
                <a:lnTo>
                  <a:pt x="591" y="1559"/>
                </a:lnTo>
                <a:lnTo>
                  <a:pt x="612" y="1586"/>
                </a:lnTo>
                <a:lnTo>
                  <a:pt x="761" y="1586"/>
                </a:lnTo>
                <a:lnTo>
                  <a:pt x="761" y="1368"/>
                </a:lnTo>
                <a:lnTo>
                  <a:pt x="544" y="1368"/>
                </a:lnTo>
                <a:lnTo>
                  <a:pt x="544" y="0"/>
                </a:lnTo>
                <a:lnTo>
                  <a:pt x="421" y="0"/>
                </a:lnTo>
                <a:lnTo>
                  <a:pt x="421" y="41"/>
                </a:lnTo>
                <a:lnTo>
                  <a:pt x="340" y="41"/>
                </a:lnTo>
                <a:lnTo>
                  <a:pt x="340" y="0"/>
                </a:lnTo>
                <a:lnTo>
                  <a:pt x="217" y="0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20920" y="1562040"/>
            <a:ext cx="169920" cy="460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325600" y="1152360"/>
            <a:ext cx="171360" cy="1288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78160" y="1238400"/>
            <a:ext cx="65160" cy="8568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7240" y="958680"/>
            <a:ext cx="29880" cy="804960"/>
          </a:xfrm>
          <a:custGeom>
            <a:avLst/>
            <a:gdLst/>
            <a:ahLst/>
            <a:rect l="l" t="t" r="r" b="b"/>
            <a:pathLst>
              <a:path w="34" h="681">
                <a:moveTo>
                  <a:pt x="0" y="0"/>
                </a:moveTo>
                <a:lnTo>
                  <a:pt x="0" y="660"/>
                </a:lnTo>
                <a:lnTo>
                  <a:pt x="0" y="674"/>
                </a:lnTo>
                <a:lnTo>
                  <a:pt x="14" y="681"/>
                </a:lnTo>
                <a:lnTo>
                  <a:pt x="27" y="674"/>
                </a:lnTo>
                <a:lnTo>
                  <a:pt x="34" y="660"/>
                </a:lnTo>
                <a:lnTo>
                  <a:pt x="34" y="0"/>
                </a:lnTo>
                <a:lnTo>
                  <a:pt x="27" y="0"/>
                </a:lnTo>
                <a:lnTo>
                  <a:pt x="27" y="660"/>
                </a:lnTo>
                <a:lnTo>
                  <a:pt x="14" y="674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noFill/>
          <a:ln w="111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2374920" y="1019160"/>
            <a:ext cx="73080" cy="103320"/>
            <a:chOff x="2374920" y="1019160"/>
            <a:chExt cx="73080" cy="103320"/>
          </a:xfrm>
        </p:grpSpPr>
        <p:sp>
          <p:nvSpPr>
            <p:cNvPr id="1330" name=""/>
            <p:cNvSpPr/>
            <p:nvPr/>
          </p:nvSpPr>
          <p:spPr>
            <a:xfrm>
              <a:off x="2381040" y="1019160"/>
              <a:ext cx="66960" cy="103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381040" y="1099800"/>
              <a:ext cx="66960" cy="147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381040" y="1019160"/>
              <a:ext cx="66960" cy="151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398680" y="1026720"/>
              <a:ext cx="24840" cy="74160"/>
            </a:xfrm>
            <a:custGeom>
              <a:avLst/>
              <a:gdLst>
                <a:gd name="textAreaLeft" fmla="*/ 2880 w 24840"/>
                <a:gd name="textAreaRight" fmla="*/ 21960 w 24840"/>
                <a:gd name="textAreaTop" fmla="*/ 2880 h 74160"/>
                <a:gd name="textAreaBottom" fmla="*/ 71280 h 74160"/>
              </a:gdLst>
              <a:ahLst/>
              <a:rect l="textAreaLeft" t="textAreaTop" r="textAreaRight" b="textAreaBottom"/>
              <a:pathLst>
                <a:path w="21600" h="63874">
                  <a:moveTo>
                    <a:pt x="8640" y="0"/>
                  </a:moveTo>
                  <a:arcTo wR="8640" hR="8640" stAng="16200000" swAng="-5400000"/>
                  <a:lnTo>
                    <a:pt x="0" y="55234"/>
                  </a:lnTo>
                  <a:arcTo wR="8640" hR="8640" stAng="10800000" swAng="-5400000"/>
                  <a:lnTo>
                    <a:pt x="12960" y="6387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23160" y="1026720"/>
              <a:ext cx="24840" cy="74160"/>
            </a:xfrm>
            <a:custGeom>
              <a:avLst/>
              <a:gdLst>
                <a:gd name="textAreaLeft" fmla="*/ 2880 w 24840"/>
                <a:gd name="textAreaRight" fmla="*/ 21960 w 24840"/>
                <a:gd name="textAreaTop" fmla="*/ 2880 h 74160"/>
                <a:gd name="textAreaBottom" fmla="*/ 71280 h 74160"/>
              </a:gdLst>
              <a:ahLst/>
              <a:rect l="textAreaLeft" t="textAreaTop" r="textAreaRight" b="textAreaBottom"/>
              <a:pathLst>
                <a:path w="21600" h="63874">
                  <a:moveTo>
                    <a:pt x="8640" y="0"/>
                  </a:moveTo>
                  <a:arcTo wR="8640" hR="8640" stAng="16200000" swAng="-5400000"/>
                  <a:lnTo>
                    <a:pt x="0" y="55234"/>
                  </a:lnTo>
                  <a:arcTo wR="8640" hR="8640" stAng="10800000" swAng="-5400000"/>
                  <a:lnTo>
                    <a:pt x="12960" y="6387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74920" y="1026720"/>
              <a:ext cx="24840" cy="74160"/>
            </a:xfrm>
            <a:custGeom>
              <a:avLst/>
              <a:gdLst>
                <a:gd name="textAreaLeft" fmla="*/ 2880 w 24840"/>
                <a:gd name="textAreaRight" fmla="*/ 21960 w 24840"/>
                <a:gd name="textAreaTop" fmla="*/ 2880 h 74160"/>
                <a:gd name="textAreaBottom" fmla="*/ 71280 h 74160"/>
              </a:gdLst>
              <a:ahLst/>
              <a:rect l="textAreaLeft" t="textAreaTop" r="textAreaRight" b="textAreaBottom"/>
              <a:pathLst>
                <a:path w="21600" h="63874">
                  <a:moveTo>
                    <a:pt x="8640" y="0"/>
                  </a:moveTo>
                  <a:arcTo wR="8640" hR="8640" stAng="16200000" swAng="-5400000"/>
                  <a:lnTo>
                    <a:pt x="0" y="55234"/>
                  </a:lnTo>
                  <a:arcTo wR="8640" hR="8640" stAng="10800000" swAng="-5400000"/>
                  <a:lnTo>
                    <a:pt x="12960" y="63874"/>
                  </a:lnTo>
                  <a:arcTo wR="8640" hR="8640" stAng="5400000" swAng="-5400000"/>
                  <a:lnTo>
                    <a:pt x="21600" y="8640"/>
                  </a:lnTo>
                  <a:arcTo wR="8640" hR="864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3133800" y="4730760"/>
            <a:ext cx="123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明朝"/>
              </a:rPr>
              <a:t>Inner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571480" y="6215040"/>
            <a:ext cx="145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Thermocou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333520" y="3900600"/>
            <a:ext cx="179640" cy="739800"/>
          </a:xfrm>
          <a:prstGeom prst="rect">
            <a:avLst/>
          </a:prstGeom>
          <a:solidFill>
            <a:srgbClr val="bbe0e3">
              <a:alpha val="50000"/>
            </a:srgbClr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025720" y="3786120"/>
            <a:ext cx="784080" cy="1962360"/>
          </a:xfrm>
          <a:custGeom>
            <a:avLst/>
            <a:gdLst/>
            <a:ahLst/>
            <a:rect l="l" t="t" r="r" b="b"/>
            <a:pathLst>
              <a:path w="761" h="1572">
                <a:moveTo>
                  <a:pt x="0" y="1354"/>
                </a:moveTo>
                <a:lnTo>
                  <a:pt x="149" y="1354"/>
                </a:lnTo>
                <a:lnTo>
                  <a:pt x="176" y="1313"/>
                </a:lnTo>
                <a:lnTo>
                  <a:pt x="204" y="1354"/>
                </a:lnTo>
                <a:lnTo>
                  <a:pt x="244" y="1354"/>
                </a:lnTo>
                <a:lnTo>
                  <a:pt x="272" y="1204"/>
                </a:lnTo>
                <a:lnTo>
                  <a:pt x="272" y="0"/>
                </a:lnTo>
                <a:lnTo>
                  <a:pt x="299" y="0"/>
                </a:lnTo>
                <a:lnTo>
                  <a:pt x="299" y="714"/>
                </a:lnTo>
                <a:lnTo>
                  <a:pt x="319" y="714"/>
                </a:lnTo>
                <a:lnTo>
                  <a:pt x="319" y="1442"/>
                </a:lnTo>
                <a:lnTo>
                  <a:pt x="340" y="1470"/>
                </a:lnTo>
                <a:lnTo>
                  <a:pt x="428" y="1470"/>
                </a:lnTo>
                <a:lnTo>
                  <a:pt x="449" y="1442"/>
                </a:lnTo>
                <a:lnTo>
                  <a:pt x="449" y="714"/>
                </a:lnTo>
                <a:lnTo>
                  <a:pt x="469" y="714"/>
                </a:lnTo>
                <a:lnTo>
                  <a:pt x="469" y="0"/>
                </a:lnTo>
                <a:lnTo>
                  <a:pt x="489" y="0"/>
                </a:lnTo>
                <a:lnTo>
                  <a:pt x="489" y="1204"/>
                </a:lnTo>
                <a:lnTo>
                  <a:pt x="523" y="1354"/>
                </a:lnTo>
                <a:lnTo>
                  <a:pt x="564" y="1354"/>
                </a:lnTo>
                <a:lnTo>
                  <a:pt x="591" y="1313"/>
                </a:lnTo>
                <a:lnTo>
                  <a:pt x="619" y="1354"/>
                </a:lnTo>
                <a:lnTo>
                  <a:pt x="761" y="1354"/>
                </a:lnTo>
                <a:lnTo>
                  <a:pt x="761" y="1572"/>
                </a:lnTo>
                <a:lnTo>
                  <a:pt x="571" y="1572"/>
                </a:lnTo>
                <a:lnTo>
                  <a:pt x="564" y="1517"/>
                </a:lnTo>
                <a:lnTo>
                  <a:pt x="462" y="1538"/>
                </a:lnTo>
                <a:lnTo>
                  <a:pt x="469" y="1572"/>
                </a:lnTo>
                <a:lnTo>
                  <a:pt x="435" y="1572"/>
                </a:lnTo>
                <a:lnTo>
                  <a:pt x="435" y="1524"/>
                </a:lnTo>
                <a:lnTo>
                  <a:pt x="333" y="1524"/>
                </a:lnTo>
                <a:lnTo>
                  <a:pt x="333" y="1565"/>
                </a:lnTo>
                <a:lnTo>
                  <a:pt x="0" y="1565"/>
                </a:lnTo>
                <a:lnTo>
                  <a:pt x="0" y="1476"/>
                </a:lnTo>
                <a:lnTo>
                  <a:pt x="27" y="1476"/>
                </a:lnTo>
                <a:lnTo>
                  <a:pt x="27" y="1436"/>
                </a:lnTo>
                <a:lnTo>
                  <a:pt x="0" y="1436"/>
                </a:lnTo>
                <a:lnTo>
                  <a:pt x="0" y="1354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2406600" y="3976560"/>
            <a:ext cx="49320" cy="2149560"/>
            <a:chOff x="2406600" y="3976560"/>
            <a:chExt cx="49320" cy="2149560"/>
          </a:xfrm>
        </p:grpSpPr>
        <p:sp>
          <p:nvSpPr>
            <p:cNvPr id="1341" name=""/>
            <p:cNvSpPr/>
            <p:nvPr/>
          </p:nvSpPr>
          <p:spPr>
            <a:xfrm>
              <a:off x="2406600" y="4668840"/>
              <a:ext cx="49320" cy="1457280"/>
            </a:xfrm>
            <a:custGeom>
              <a:avLst/>
              <a:gdLst/>
              <a:ahLst/>
              <a:rect l="l" t="t" r="r" b="b"/>
              <a:pathLst>
                <a:path w="62" h="1844">
                  <a:moveTo>
                    <a:pt x="7" y="1844"/>
                  </a:moveTo>
                  <a:lnTo>
                    <a:pt x="0" y="1844"/>
                  </a:lnTo>
                  <a:lnTo>
                    <a:pt x="0" y="20"/>
                  </a:lnTo>
                  <a:lnTo>
                    <a:pt x="7" y="6"/>
                  </a:lnTo>
                  <a:lnTo>
                    <a:pt x="28" y="0"/>
                  </a:lnTo>
                  <a:lnTo>
                    <a:pt x="48" y="6"/>
                  </a:lnTo>
                  <a:lnTo>
                    <a:pt x="62" y="20"/>
                  </a:lnTo>
                  <a:lnTo>
                    <a:pt x="62" y="1844"/>
                  </a:lnTo>
                  <a:lnTo>
                    <a:pt x="55" y="1844"/>
                  </a:lnTo>
                  <a:lnTo>
                    <a:pt x="55" y="20"/>
                  </a:lnTo>
                  <a:lnTo>
                    <a:pt x="41" y="6"/>
                  </a:lnTo>
                  <a:lnTo>
                    <a:pt x="28" y="6"/>
                  </a:lnTo>
                  <a:lnTo>
                    <a:pt x="14" y="6"/>
                  </a:lnTo>
                  <a:lnTo>
                    <a:pt x="7" y="20"/>
                  </a:lnTo>
                  <a:lnTo>
                    <a:pt x="7" y="1844"/>
                  </a:lnTo>
                  <a:close/>
                </a:path>
              </a:pathLst>
            </a:custGeom>
            <a:noFill/>
            <a:ln w="111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13800" y="3976560"/>
              <a:ext cx="0" cy="69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39360" y="4273200"/>
              <a:ext cx="0" cy="3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2422440" y="6151680"/>
            <a:ext cx="14940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338560" y="3857760"/>
            <a:ext cx="174600" cy="475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38560" y="4640400"/>
            <a:ext cx="174600" cy="42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2289240" y="3797280"/>
            <a:ext cx="266400" cy="1471320"/>
            <a:chOff x="2289240" y="3797280"/>
            <a:chExt cx="266400" cy="1471320"/>
          </a:xfrm>
        </p:grpSpPr>
        <p:grpSp>
          <p:nvGrpSpPr>
            <p:cNvPr id="1348" name=""/>
            <p:cNvGrpSpPr/>
            <p:nvPr/>
          </p:nvGrpSpPr>
          <p:grpSpPr>
            <a:xfrm>
              <a:off x="2289240" y="5241240"/>
              <a:ext cx="266400" cy="27360"/>
              <a:chOff x="2289240" y="5241240"/>
              <a:chExt cx="266400" cy="27360"/>
            </a:xfrm>
          </p:grpSpPr>
          <p:sp>
            <p:nvSpPr>
              <p:cNvPr id="1349" name=""/>
              <p:cNvSpPr/>
              <p:nvPr/>
            </p:nvSpPr>
            <p:spPr>
              <a:xfrm>
                <a:off x="2289240" y="5241240"/>
                <a:ext cx="22320" cy="2736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33320" y="5241240"/>
                <a:ext cx="22320" cy="2736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2289240" y="5062680"/>
              <a:ext cx="266400" cy="27360"/>
              <a:chOff x="2289240" y="5062680"/>
              <a:chExt cx="266400" cy="27360"/>
            </a:xfrm>
          </p:grpSpPr>
          <p:sp>
            <p:nvSpPr>
              <p:cNvPr id="1352" name=""/>
              <p:cNvSpPr/>
              <p:nvPr/>
            </p:nvSpPr>
            <p:spPr>
              <a:xfrm>
                <a:off x="2289240" y="5062680"/>
                <a:ext cx="22320" cy="2736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533320" y="5062680"/>
                <a:ext cx="22320" cy="2736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2289240" y="4876920"/>
              <a:ext cx="266400" cy="26280"/>
              <a:chOff x="2289240" y="4876920"/>
              <a:chExt cx="266400" cy="26280"/>
            </a:xfrm>
          </p:grpSpPr>
          <p:sp>
            <p:nvSpPr>
              <p:cNvPr id="1355" name=""/>
              <p:cNvSpPr/>
              <p:nvPr/>
            </p:nvSpPr>
            <p:spPr>
              <a:xfrm>
                <a:off x="2289240" y="4876920"/>
                <a:ext cx="22320" cy="2628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533320" y="4876920"/>
                <a:ext cx="22320" cy="2628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2289240" y="4698000"/>
              <a:ext cx="266400" cy="26280"/>
              <a:chOff x="2289240" y="4698000"/>
              <a:chExt cx="266400" cy="26280"/>
            </a:xfrm>
          </p:grpSpPr>
          <p:sp>
            <p:nvSpPr>
              <p:cNvPr id="1358" name=""/>
              <p:cNvSpPr/>
              <p:nvPr/>
            </p:nvSpPr>
            <p:spPr>
              <a:xfrm>
                <a:off x="2289240" y="4698000"/>
                <a:ext cx="22320" cy="2628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533320" y="4698000"/>
                <a:ext cx="22320" cy="2628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2289240" y="4519800"/>
              <a:ext cx="266400" cy="25920"/>
              <a:chOff x="2289240" y="4519800"/>
              <a:chExt cx="266400" cy="25920"/>
            </a:xfrm>
          </p:grpSpPr>
          <p:sp>
            <p:nvSpPr>
              <p:cNvPr id="1361" name=""/>
              <p:cNvSpPr/>
              <p:nvPr/>
            </p:nvSpPr>
            <p:spPr>
              <a:xfrm>
                <a:off x="2289240" y="4519800"/>
                <a:ext cx="22320" cy="2592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533320" y="4519800"/>
                <a:ext cx="22320" cy="2592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2289240" y="4341240"/>
              <a:ext cx="266400" cy="26280"/>
              <a:chOff x="2289240" y="4341240"/>
              <a:chExt cx="266400" cy="26280"/>
            </a:xfrm>
          </p:grpSpPr>
          <p:sp>
            <p:nvSpPr>
              <p:cNvPr id="1364" name=""/>
              <p:cNvSpPr/>
              <p:nvPr/>
            </p:nvSpPr>
            <p:spPr>
              <a:xfrm>
                <a:off x="2289240" y="4341240"/>
                <a:ext cx="22320" cy="2628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33320" y="4341240"/>
                <a:ext cx="22320" cy="2628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2289240" y="4162680"/>
              <a:ext cx="266400" cy="25920"/>
              <a:chOff x="2289240" y="4162680"/>
              <a:chExt cx="266400" cy="25920"/>
            </a:xfrm>
          </p:grpSpPr>
          <p:sp>
            <p:nvSpPr>
              <p:cNvPr id="1367" name=""/>
              <p:cNvSpPr/>
              <p:nvPr/>
            </p:nvSpPr>
            <p:spPr>
              <a:xfrm>
                <a:off x="2289240" y="4162680"/>
                <a:ext cx="22320" cy="2592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533320" y="4162680"/>
                <a:ext cx="22320" cy="25920"/>
              </a:xfrm>
              <a:prstGeom prst="rect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289240" y="3975480"/>
              <a:ext cx="266400" cy="27360"/>
              <a:chOff x="2289240" y="3975480"/>
              <a:chExt cx="266400" cy="27360"/>
            </a:xfrm>
          </p:grpSpPr>
          <p:sp>
            <p:nvSpPr>
              <p:cNvPr id="1370" name=""/>
              <p:cNvSpPr/>
              <p:nvPr/>
            </p:nvSpPr>
            <p:spPr>
              <a:xfrm>
                <a:off x="2289240" y="3975480"/>
                <a:ext cx="22320" cy="2736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533320" y="3975480"/>
                <a:ext cx="22320" cy="273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289240" y="3797280"/>
              <a:ext cx="266400" cy="27360"/>
              <a:chOff x="2289240" y="3797280"/>
              <a:chExt cx="266400" cy="27360"/>
            </a:xfrm>
          </p:grpSpPr>
          <p:sp>
            <p:nvSpPr>
              <p:cNvPr id="1373" name=""/>
              <p:cNvSpPr/>
              <p:nvPr/>
            </p:nvSpPr>
            <p:spPr>
              <a:xfrm>
                <a:off x="2289240" y="3797280"/>
                <a:ext cx="22320" cy="273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33320" y="3797280"/>
                <a:ext cx="22320" cy="2736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5" name=""/>
          <p:cNvSpPr/>
          <p:nvPr/>
        </p:nvSpPr>
        <p:spPr>
          <a:xfrm>
            <a:off x="2517840" y="5697360"/>
            <a:ext cx="109440" cy="174960"/>
          </a:xfrm>
          <a:custGeom>
            <a:avLst/>
            <a:gdLst>
              <a:gd name="textAreaLeft" fmla="*/ 0 w 109440"/>
              <a:gd name="textAreaRight" fmla="*/ 109800 w 10944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21600" h="34489">
                <a:moveTo>
                  <a:pt x="0" y="0"/>
                </a:moveTo>
                <a:arcTo wR="0" hR="0" stAng="16200000" swAng="-5400000"/>
                <a:lnTo>
                  <a:pt x="0" y="34489"/>
                </a:lnTo>
                <a:arcTo wR="0" hR="0" stAng="10800000" swAng="-5400000"/>
                <a:lnTo>
                  <a:pt x="21600" y="344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371680" y="5691240"/>
            <a:ext cx="108000" cy="171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371680" y="5880240"/>
            <a:ext cx="108000" cy="117360"/>
            <a:chOff x="2371680" y="5880240"/>
            <a:chExt cx="108000" cy="117360"/>
          </a:xfrm>
        </p:grpSpPr>
        <p:sp>
          <p:nvSpPr>
            <p:cNvPr id="1378" name=""/>
            <p:cNvSpPr/>
            <p:nvPr/>
          </p:nvSpPr>
          <p:spPr>
            <a:xfrm>
              <a:off x="2378880" y="5880240"/>
              <a:ext cx="100440" cy="117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78880" y="5880240"/>
              <a:ext cx="100440" cy="16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78880" y="5979240"/>
              <a:ext cx="100440" cy="18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07320" y="5895720"/>
              <a:ext cx="36720" cy="84600"/>
            </a:xfrm>
            <a:custGeom>
              <a:avLst/>
              <a:gdLst>
                <a:gd name="textAreaLeft" fmla="*/ 4320 w 36720"/>
                <a:gd name="textAreaRight" fmla="*/ 32400 w 36720"/>
                <a:gd name="textAreaTop" fmla="*/ 4320 h 84600"/>
                <a:gd name="textAreaBottom" fmla="*/ 80280 h 84600"/>
              </a:gdLst>
              <a:ahLst/>
              <a:rect l="textAreaLeft" t="textAreaTop" r="textAreaRight" b="textAreaBottom"/>
              <a:pathLst>
                <a:path w="21600" h="49491">
                  <a:moveTo>
                    <a:pt x="9000" y="0"/>
                  </a:moveTo>
                  <a:arcTo wR="9000" hR="9000" stAng="16200000" swAng="-5400000"/>
                  <a:lnTo>
                    <a:pt x="0" y="40491"/>
                  </a:lnTo>
                  <a:arcTo wR="9000" hR="9000" stAng="10800000" swAng="-5400000"/>
                  <a:lnTo>
                    <a:pt x="12600" y="49491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42960" y="5895720"/>
              <a:ext cx="36720" cy="84600"/>
            </a:xfrm>
            <a:custGeom>
              <a:avLst/>
              <a:gdLst>
                <a:gd name="textAreaLeft" fmla="*/ 4320 w 36720"/>
                <a:gd name="textAreaRight" fmla="*/ 32400 w 36720"/>
                <a:gd name="textAreaTop" fmla="*/ 4320 h 84600"/>
                <a:gd name="textAreaBottom" fmla="*/ 80280 h 84600"/>
              </a:gdLst>
              <a:ahLst/>
              <a:rect l="textAreaLeft" t="textAreaTop" r="textAreaRight" b="textAreaBottom"/>
              <a:pathLst>
                <a:path w="21600" h="49491">
                  <a:moveTo>
                    <a:pt x="9000" y="0"/>
                  </a:moveTo>
                  <a:arcTo wR="9000" hR="9000" stAng="16200000" swAng="-5400000"/>
                  <a:lnTo>
                    <a:pt x="0" y="40491"/>
                  </a:lnTo>
                  <a:arcTo wR="9000" hR="9000" stAng="10800000" swAng="-5400000"/>
                  <a:lnTo>
                    <a:pt x="12600" y="49491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1680" y="5895720"/>
              <a:ext cx="36720" cy="84600"/>
            </a:xfrm>
            <a:custGeom>
              <a:avLst/>
              <a:gdLst>
                <a:gd name="textAreaLeft" fmla="*/ 4320 w 36720"/>
                <a:gd name="textAreaRight" fmla="*/ 32400 w 36720"/>
                <a:gd name="textAreaTop" fmla="*/ 4320 h 84600"/>
                <a:gd name="textAreaBottom" fmla="*/ 80280 h 84600"/>
              </a:gdLst>
              <a:ahLst/>
              <a:rect l="textAreaLeft" t="textAreaTop" r="textAreaRight" b="textAreaBottom"/>
              <a:pathLst>
                <a:path w="21600" h="49491">
                  <a:moveTo>
                    <a:pt x="9000" y="0"/>
                  </a:moveTo>
                  <a:arcTo wR="9000" hR="9000" stAng="16200000" swAng="-5400000"/>
                  <a:lnTo>
                    <a:pt x="0" y="40491"/>
                  </a:lnTo>
                  <a:arcTo wR="9000" hR="9000" stAng="10800000" swAng="-5400000"/>
                  <a:lnTo>
                    <a:pt x="12600" y="49491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2814480" y="5708520"/>
            <a:ext cx="373320" cy="428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260880" y="5708520"/>
            <a:ext cx="56880" cy="42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660680" y="5700600"/>
            <a:ext cx="368280" cy="4284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530360" y="5700600"/>
            <a:ext cx="57240" cy="4284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46440" y="5583240"/>
            <a:ext cx="214200" cy="57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846440" y="5583240"/>
            <a:ext cx="529920" cy="36360"/>
          </a:xfrm>
          <a:custGeom>
            <a:avLst/>
            <a:gdLst/>
            <a:ahLst/>
            <a:rect l="l" t="t" r="r" b="b"/>
            <a:pathLst>
              <a:path w="517" h="28">
                <a:moveTo>
                  <a:pt x="0" y="28"/>
                </a:moveTo>
                <a:lnTo>
                  <a:pt x="517" y="28"/>
                </a:lnTo>
                <a:lnTo>
                  <a:pt x="483" y="0"/>
                </a:lnTo>
                <a:lnTo>
                  <a:pt x="0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1816200" y="5600880"/>
            <a:ext cx="552240" cy="3960"/>
            <a:chOff x="1816200" y="5600880"/>
            <a:chExt cx="552240" cy="3960"/>
          </a:xfrm>
        </p:grpSpPr>
        <p:sp>
          <p:nvSpPr>
            <p:cNvPr id="1391" name=""/>
            <p:cNvSpPr/>
            <p:nvPr/>
          </p:nvSpPr>
          <p:spPr>
            <a:xfrm>
              <a:off x="1816200" y="5600880"/>
              <a:ext cx="5544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892160" y="5600880"/>
              <a:ext cx="720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20960" y="5600880"/>
              <a:ext cx="5544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96920" y="5600880"/>
              <a:ext cx="720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026080" y="5600880"/>
              <a:ext cx="5544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02040" y="5600880"/>
              <a:ext cx="720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30840" y="5600880"/>
              <a:ext cx="5544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206800" y="5600880"/>
              <a:ext cx="720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235600" y="5600880"/>
              <a:ext cx="5544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13000" y="5600880"/>
              <a:ext cx="576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40720" y="5600880"/>
              <a:ext cx="2772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587600" y="5700600"/>
            <a:ext cx="73080" cy="428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191040" y="5708520"/>
            <a:ext cx="72720" cy="428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2676600" y="5415120"/>
            <a:ext cx="57240" cy="356760"/>
            <a:chOff x="2676600" y="5415120"/>
            <a:chExt cx="57240" cy="356760"/>
          </a:xfrm>
        </p:grpSpPr>
        <p:grpSp>
          <p:nvGrpSpPr>
            <p:cNvPr id="1405" name=""/>
            <p:cNvGrpSpPr/>
            <p:nvPr/>
          </p:nvGrpSpPr>
          <p:grpSpPr>
            <a:xfrm>
              <a:off x="2676600" y="5474880"/>
              <a:ext cx="57240" cy="271800"/>
              <a:chOff x="2676600" y="5474880"/>
              <a:chExt cx="57240" cy="271800"/>
            </a:xfrm>
          </p:grpSpPr>
          <p:grpSp>
            <p:nvGrpSpPr>
              <p:cNvPr id="1406" name=""/>
              <p:cNvGrpSpPr/>
              <p:nvPr/>
            </p:nvGrpSpPr>
            <p:grpSpPr>
              <a:xfrm>
                <a:off x="2732760" y="5474880"/>
                <a:ext cx="1080" cy="271800"/>
                <a:chOff x="2732760" y="5474880"/>
                <a:chExt cx="1080" cy="27180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2732760" y="547488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732760" y="550836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732760" y="554220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732760" y="5577120"/>
                  <a:ext cx="108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732760" y="561060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732760" y="564444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732760" y="567792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732760" y="5712120"/>
                  <a:ext cx="1080" cy="82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732760" y="573804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2676600" y="5474880"/>
                <a:ext cx="720" cy="271800"/>
                <a:chOff x="2676600" y="5474880"/>
                <a:chExt cx="720" cy="27180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2676600" y="547488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2676600" y="550836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676600" y="554220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676600" y="5577120"/>
                  <a:ext cx="72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2676600" y="561060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676600" y="564444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676600" y="567792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676600" y="5712120"/>
                  <a:ext cx="720" cy="82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676600" y="573804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6" name=""/>
            <p:cNvGrpSpPr/>
            <p:nvPr/>
          </p:nvGrpSpPr>
          <p:grpSpPr>
            <a:xfrm>
              <a:off x="2703960" y="5415120"/>
              <a:ext cx="720" cy="356760"/>
              <a:chOff x="2703960" y="5415120"/>
              <a:chExt cx="720" cy="356760"/>
            </a:xfrm>
          </p:grpSpPr>
          <p:sp>
            <p:nvSpPr>
              <p:cNvPr id="1427" name=""/>
              <p:cNvSpPr/>
              <p:nvPr/>
            </p:nvSpPr>
            <p:spPr>
              <a:xfrm>
                <a:off x="2703960" y="5415120"/>
                <a:ext cx="720" cy="68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03960" y="5508720"/>
                <a:ext cx="720" cy="8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03960" y="5542560"/>
                <a:ext cx="720" cy="68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03960" y="5636160"/>
                <a:ext cx="720" cy="8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03960" y="5670000"/>
                <a:ext cx="720" cy="68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703960" y="5763240"/>
                <a:ext cx="720" cy="8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3" name=""/>
          <p:cNvGrpSpPr/>
          <p:nvPr/>
        </p:nvGrpSpPr>
        <p:grpSpPr>
          <a:xfrm>
            <a:off x="2101680" y="5415120"/>
            <a:ext cx="65160" cy="356760"/>
            <a:chOff x="2101680" y="5415120"/>
            <a:chExt cx="65160" cy="356760"/>
          </a:xfrm>
        </p:grpSpPr>
        <p:grpSp>
          <p:nvGrpSpPr>
            <p:cNvPr id="1434" name=""/>
            <p:cNvGrpSpPr/>
            <p:nvPr/>
          </p:nvGrpSpPr>
          <p:grpSpPr>
            <a:xfrm>
              <a:off x="2101680" y="5474880"/>
              <a:ext cx="65160" cy="271800"/>
              <a:chOff x="2101680" y="5474880"/>
              <a:chExt cx="65160" cy="271800"/>
            </a:xfrm>
          </p:grpSpPr>
          <p:grpSp>
            <p:nvGrpSpPr>
              <p:cNvPr id="1435" name=""/>
              <p:cNvGrpSpPr/>
              <p:nvPr/>
            </p:nvGrpSpPr>
            <p:grpSpPr>
              <a:xfrm>
                <a:off x="2165760" y="5474880"/>
                <a:ext cx="1080" cy="271800"/>
                <a:chOff x="2165760" y="5474880"/>
                <a:chExt cx="1080" cy="27180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2165760" y="547488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165760" y="550836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165760" y="554220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165760" y="5577120"/>
                  <a:ext cx="108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165760" y="561060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165760" y="564444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165760" y="567792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165760" y="5712120"/>
                  <a:ext cx="1080" cy="82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165760" y="5738040"/>
                  <a:ext cx="108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2101680" y="5474880"/>
                <a:ext cx="720" cy="271800"/>
                <a:chOff x="2101680" y="5474880"/>
                <a:chExt cx="720" cy="27180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2101680" y="547488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101680" y="550836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101680" y="554220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101680" y="5577120"/>
                  <a:ext cx="720" cy="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101680" y="561060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101680" y="564444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101680" y="567792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101680" y="5712120"/>
                  <a:ext cx="720" cy="82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101680" y="5738040"/>
                  <a:ext cx="720" cy="86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5" name=""/>
            <p:cNvGrpSpPr/>
            <p:nvPr/>
          </p:nvGrpSpPr>
          <p:grpSpPr>
            <a:xfrm>
              <a:off x="2136600" y="5415120"/>
              <a:ext cx="720" cy="356760"/>
              <a:chOff x="2136600" y="5415120"/>
              <a:chExt cx="720" cy="356760"/>
            </a:xfrm>
          </p:grpSpPr>
          <p:sp>
            <p:nvSpPr>
              <p:cNvPr id="1456" name=""/>
              <p:cNvSpPr/>
              <p:nvPr/>
            </p:nvSpPr>
            <p:spPr>
              <a:xfrm>
                <a:off x="2136600" y="5415120"/>
                <a:ext cx="720" cy="68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36600" y="5508720"/>
                <a:ext cx="720" cy="8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136600" y="5542560"/>
                <a:ext cx="720" cy="68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36600" y="5636160"/>
                <a:ext cx="720" cy="8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136600" y="5670000"/>
                <a:ext cx="720" cy="68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136600" y="5763240"/>
                <a:ext cx="720" cy="8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2" name=""/>
          <p:cNvSpPr/>
          <p:nvPr/>
        </p:nvSpPr>
        <p:spPr>
          <a:xfrm>
            <a:off x="1106640" y="49388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Gas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210320" y="375120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487520" y="4386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817720" y="403380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009880" y="3925800"/>
            <a:ext cx="3744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1846440" y="4185720"/>
            <a:ext cx="426960" cy="33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846440" y="4525920"/>
            <a:ext cx="41904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 flipV="1">
            <a:off x="2439720" y="3905280"/>
            <a:ext cx="345960" cy="217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2475000" y="4221000"/>
            <a:ext cx="333360" cy="42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39880" y="5229360"/>
            <a:ext cx="141480" cy="339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27280" y="6100920"/>
            <a:ext cx="0" cy="9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87520" y="4797360"/>
            <a:ext cx="258840" cy="1289160"/>
          </a:xfrm>
          <a:custGeom>
            <a:avLst/>
            <a:gdLst/>
            <a:ahLst/>
            <a:rect l="l" t="t" r="r" b="b"/>
            <a:pathLst>
              <a:path w="252" h="1035">
                <a:moveTo>
                  <a:pt x="198" y="1035"/>
                </a:moveTo>
                <a:lnTo>
                  <a:pt x="191" y="1035"/>
                </a:lnTo>
                <a:lnTo>
                  <a:pt x="0" y="28"/>
                </a:lnTo>
                <a:lnTo>
                  <a:pt x="7" y="14"/>
                </a:lnTo>
                <a:lnTo>
                  <a:pt x="28" y="0"/>
                </a:lnTo>
                <a:lnTo>
                  <a:pt x="41" y="7"/>
                </a:lnTo>
                <a:lnTo>
                  <a:pt x="55" y="21"/>
                </a:lnTo>
                <a:lnTo>
                  <a:pt x="252" y="1028"/>
                </a:lnTo>
                <a:lnTo>
                  <a:pt x="245" y="1028"/>
                </a:lnTo>
                <a:lnTo>
                  <a:pt x="55" y="21"/>
                </a:lnTo>
                <a:lnTo>
                  <a:pt x="41" y="7"/>
                </a:lnTo>
                <a:lnTo>
                  <a:pt x="21" y="7"/>
                </a:lnTo>
                <a:lnTo>
                  <a:pt x="7" y="14"/>
                </a:lnTo>
                <a:lnTo>
                  <a:pt x="7" y="28"/>
                </a:lnTo>
                <a:lnTo>
                  <a:pt x="198" y="1035"/>
                </a:lnTo>
                <a:close/>
              </a:path>
            </a:pathLst>
          </a:custGeom>
          <a:noFill/>
          <a:ln w="111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502000" y="5680080"/>
            <a:ext cx="133200" cy="185760"/>
          </a:xfrm>
          <a:custGeom>
            <a:avLst/>
            <a:gdLst/>
            <a:ahLst/>
            <a:rect l="l" t="t" r="r" b="b"/>
            <a:pathLst>
              <a:path w="129" h="150">
                <a:moveTo>
                  <a:pt x="102" y="0"/>
                </a:moveTo>
                <a:lnTo>
                  <a:pt x="129" y="136"/>
                </a:lnTo>
                <a:lnTo>
                  <a:pt x="27" y="150"/>
                </a:lnTo>
                <a:lnTo>
                  <a:pt x="0" y="21"/>
                </a:lnTo>
                <a:lnTo>
                  <a:pt x="102" y="0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2532240" y="5834160"/>
            <a:ext cx="122040" cy="135000"/>
            <a:chOff x="2532240" y="5834160"/>
            <a:chExt cx="122040" cy="135000"/>
          </a:xfrm>
        </p:grpSpPr>
        <p:sp>
          <p:nvSpPr>
            <p:cNvPr id="1476" name=""/>
            <p:cNvSpPr/>
            <p:nvPr/>
          </p:nvSpPr>
          <p:spPr>
            <a:xfrm>
              <a:off x="2539440" y="5842800"/>
              <a:ext cx="107280" cy="1263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1600" h="25429">
                  <a:moveTo>
                    <a:pt x="0" y="0"/>
                  </a:moveTo>
                  <a:arcTo wR="0" hR="0" stAng="16200000" swAng="-5400000"/>
                  <a:lnTo>
                    <a:pt x="0" y="25429"/>
                  </a:lnTo>
                  <a:arcTo wR="0" hR="0" stAng="10800000" swAng="-5400000"/>
                  <a:lnTo>
                    <a:pt x="21600" y="2542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532240" y="5834160"/>
              <a:ext cx="114840" cy="1350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89" y="0"/>
                  </a:moveTo>
                  <a:lnTo>
                    <a:pt x="109" y="95"/>
                  </a:lnTo>
                  <a:lnTo>
                    <a:pt x="21" y="109"/>
                  </a:lnTo>
                  <a:lnTo>
                    <a:pt x="0" y="2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32240" y="5851440"/>
              <a:ext cx="107280" cy="24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32240" y="5834160"/>
              <a:ext cx="100080" cy="331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89" y="0"/>
                  </a:moveTo>
                  <a:lnTo>
                    <a:pt x="95" y="1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47000" y="5942880"/>
              <a:ext cx="107280" cy="25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47000" y="5935680"/>
              <a:ext cx="100080" cy="331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95" y="0"/>
                  </a:moveTo>
                  <a:lnTo>
                    <a:pt x="95" y="13"/>
                  </a:lnTo>
                  <a:lnTo>
                    <a:pt x="7" y="27"/>
                  </a:lnTo>
                  <a:lnTo>
                    <a:pt x="0" y="1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575440" y="5858640"/>
              <a:ext cx="43200" cy="92880"/>
            </a:xfrm>
            <a:custGeom>
              <a:avLst/>
              <a:gdLst>
                <a:gd name="textAreaLeft" fmla="*/ 5040 w 43200"/>
                <a:gd name="textAreaRight" fmla="*/ 38160 w 43200"/>
                <a:gd name="textAreaTop" fmla="*/ 5040 h 92880"/>
                <a:gd name="textAreaBottom" fmla="*/ 87840 h 92880"/>
              </a:gdLst>
              <a:ahLst/>
              <a:rect l="textAreaLeft" t="textAreaTop" r="textAreaRight" b="textAreaBottom"/>
              <a:pathLst>
                <a:path w="21600" h="46235">
                  <a:moveTo>
                    <a:pt x="9000" y="0"/>
                  </a:moveTo>
                  <a:arcTo wR="9000" hR="9000" stAng="16200000" swAng="-5400000"/>
                  <a:lnTo>
                    <a:pt x="0" y="37235"/>
                  </a:lnTo>
                  <a:arcTo wR="9000" hR="9000" stAng="10800000" swAng="-5400000"/>
                  <a:lnTo>
                    <a:pt x="12600" y="46235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567880" y="5858640"/>
              <a:ext cx="43200" cy="8424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1" y="48"/>
                  </a:lnTo>
                  <a:lnTo>
                    <a:pt x="41" y="55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11080" y="5851440"/>
              <a:ext cx="42840" cy="91440"/>
            </a:xfrm>
            <a:custGeom>
              <a:avLst/>
              <a:gdLst>
                <a:gd name="textAreaLeft" fmla="*/ 5040 w 42840"/>
                <a:gd name="textAreaRight" fmla="*/ 37800 w 42840"/>
                <a:gd name="textAreaTop" fmla="*/ 5040 h 91440"/>
                <a:gd name="textAreaBottom" fmla="*/ 86400 h 91440"/>
              </a:gdLst>
              <a:ahLst/>
              <a:rect l="textAreaLeft" t="textAreaTop" r="textAreaRight" b="textAreaBottom"/>
              <a:pathLst>
                <a:path w="21600" h="45900">
                  <a:moveTo>
                    <a:pt x="9000" y="0"/>
                  </a:moveTo>
                  <a:arcTo wR="9000" hR="9000" stAng="16200000" swAng="-5400000"/>
                  <a:lnTo>
                    <a:pt x="0" y="36900"/>
                  </a:lnTo>
                  <a:arcTo wR="9000" hR="9000" stAng="10800000" swAng="-5400000"/>
                  <a:lnTo>
                    <a:pt x="12600" y="45900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03880" y="5851440"/>
              <a:ext cx="43200" cy="8424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20"/>
                  </a:moveTo>
                  <a:lnTo>
                    <a:pt x="0" y="2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41" y="47"/>
                  </a:lnTo>
                  <a:lnTo>
                    <a:pt x="41" y="54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7" y="61"/>
                  </a:lnTo>
                  <a:lnTo>
                    <a:pt x="7" y="5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539440" y="5867280"/>
              <a:ext cx="43200" cy="92880"/>
            </a:xfrm>
            <a:custGeom>
              <a:avLst/>
              <a:gdLst>
                <a:gd name="textAreaLeft" fmla="*/ 5040 w 43200"/>
                <a:gd name="textAreaRight" fmla="*/ 38160 w 43200"/>
                <a:gd name="textAreaTop" fmla="*/ 5040 h 92880"/>
                <a:gd name="textAreaBottom" fmla="*/ 87840 h 92880"/>
              </a:gdLst>
              <a:ahLst/>
              <a:rect l="textAreaLeft" t="textAreaTop" r="textAreaRight" b="textAreaBottom"/>
              <a:pathLst>
                <a:path w="21600" h="46235">
                  <a:moveTo>
                    <a:pt x="9000" y="0"/>
                  </a:moveTo>
                  <a:arcTo wR="9000" hR="9000" stAng="16200000" swAng="-5400000"/>
                  <a:lnTo>
                    <a:pt x="0" y="37235"/>
                  </a:lnTo>
                  <a:arcTo wR="9000" hR="9000" stAng="10800000" swAng="-5400000"/>
                  <a:lnTo>
                    <a:pt x="12600" y="46235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32240" y="5867280"/>
              <a:ext cx="43200" cy="8424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1" y="48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409920" y="2732040"/>
            <a:ext cx="1581120" cy="1746360"/>
            <a:chOff x="3409920" y="2732040"/>
            <a:chExt cx="1581120" cy="1746360"/>
          </a:xfrm>
        </p:grpSpPr>
        <p:sp>
          <p:nvSpPr>
            <p:cNvPr id="1489" name=""/>
            <p:cNvSpPr/>
            <p:nvPr/>
          </p:nvSpPr>
          <p:spPr>
            <a:xfrm>
              <a:off x="4138560" y="2736720"/>
              <a:ext cx="61920" cy="1741320"/>
            </a:xfrm>
            <a:custGeom>
              <a:avLst/>
              <a:gdLst/>
              <a:ahLst/>
              <a:rect l="l" t="t" r="r" b="b"/>
              <a:pathLst>
                <a:path w="1" h="904">
                  <a:moveTo>
                    <a:pt x="0" y="0"/>
                  </a:moveTo>
                  <a:lnTo>
                    <a:pt x="0" y="904"/>
                  </a:lnTo>
                </a:path>
              </a:pathLst>
            </a:custGeom>
            <a:noFill/>
            <a:ln w="88920">
              <a:solidFill>
                <a:srgbClr val="8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13160" y="2732040"/>
              <a:ext cx="770040" cy="6120"/>
            </a:xfrm>
            <a:custGeom>
              <a:avLst/>
              <a:gdLst/>
              <a:ahLst/>
              <a:rect l="l" t="t" r="r" b="b"/>
              <a:pathLst>
                <a:path w="484" h="4">
                  <a:moveTo>
                    <a:pt x="0" y="4"/>
                  </a:moveTo>
                  <a:lnTo>
                    <a:pt x="484" y="0"/>
                  </a:lnTo>
                </a:path>
              </a:pathLst>
            </a:custGeom>
            <a:noFill/>
            <a:ln w="88920">
              <a:solidFill>
                <a:srgbClr val="8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409920" y="4478040"/>
              <a:ext cx="770040" cy="360"/>
            </a:xfrm>
            <a:custGeom>
              <a:avLst/>
              <a:gdLst/>
              <a:ahLst/>
              <a:rect l="l" t="t" r="r" b="b"/>
              <a:pathLst>
                <a:path w="484" h="1">
                  <a:moveTo>
                    <a:pt x="0" y="0"/>
                  </a:moveTo>
                  <a:lnTo>
                    <a:pt x="484" y="0"/>
                  </a:lnTo>
                </a:path>
              </a:pathLst>
            </a:custGeom>
            <a:noFill/>
            <a:ln w="88920">
              <a:solidFill>
                <a:srgbClr val="8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145040" y="3570120"/>
              <a:ext cx="846000" cy="0"/>
            </a:xfrm>
            <a:prstGeom prst="line">
              <a:avLst/>
            </a:prstGeom>
            <a:ln w="88920">
              <a:solidFill>
                <a:srgbClr val="8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3" name=""/>
          <p:cNvSpPr/>
          <p:nvPr/>
        </p:nvSpPr>
        <p:spPr>
          <a:xfrm>
            <a:off x="1379520" y="3025800"/>
            <a:ext cx="444600" cy="220680"/>
          </a:xfrm>
          <a:custGeom>
            <a:avLst/>
            <a:gdLst>
              <a:gd name="textAreaLeft" fmla="*/ 69480 w 444600"/>
              <a:gd name="textAreaRight" fmla="*/ 389160 w 4446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0800000">
            <a:off x="1321920" y="5492520"/>
            <a:ext cx="444600" cy="220680"/>
          </a:xfrm>
          <a:custGeom>
            <a:avLst/>
            <a:gdLst>
              <a:gd name="textAreaLeft" fmla="*/ 69480 w 444600"/>
              <a:gd name="textAreaRight" fmla="*/ 389160 w 4446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496" name="" descr=""/>
            <p:cNvPicPr/>
            <p:nvPr/>
          </p:nvPicPr>
          <p:blipFill>
            <a:blip r:embed="rId6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97CD-4699-4501-B7C2-C6CE2406C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3429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observation</a:t>
            </a:r>
            <a:endParaRPr b="1" lang="en-US" sz="2000" spc="-1" strike="noStrike">
              <a:solidFill>
                <a:srgbClr val="000000"/>
              </a:solidFill>
              <a:latin typeface="ＭＳ ゴシック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372960" y="765000"/>
            <a:ext cx="8391600" cy="2954160"/>
            <a:chOff x="372960" y="765000"/>
            <a:chExt cx="8391600" cy="2954160"/>
          </a:xfrm>
        </p:grpSpPr>
        <p:sp>
          <p:nvSpPr>
            <p:cNvPr id="1500" name=""/>
            <p:cNvSpPr/>
            <p:nvPr/>
          </p:nvSpPr>
          <p:spPr>
            <a:xfrm>
              <a:off x="544320" y="1085760"/>
              <a:ext cx="24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  <a:ea typeface="ＭＳ Ｐゴシック"/>
                </a:rPr>
                <a:t>Before re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306600" y="765000"/>
              <a:ext cx="24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  <a:ea typeface="ＭＳ Ｐゴシック"/>
                </a:rPr>
                <a:t>After re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  <a:ea typeface="ＭＳ Ｐゴシック"/>
                </a:rPr>
                <a:t>at 1288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162480" y="779040"/>
              <a:ext cx="244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  <a:ea typeface="ＭＳ Ｐゴシック"/>
                </a:rPr>
                <a:t>After re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  <a:ea typeface="ＭＳ Ｐゴシック"/>
                </a:rPr>
                <a:t>at 1338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3" name="" descr=""/>
            <p:cNvPicPr/>
            <p:nvPr/>
          </p:nvPicPr>
          <p:blipFill>
            <a:blip r:embed="rId2"/>
            <a:stretch/>
          </p:blipFill>
          <p:spPr>
            <a:xfrm>
              <a:off x="3190680" y="1606320"/>
              <a:ext cx="2746440" cy="20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" descr=""/>
            <p:cNvPicPr/>
            <p:nvPr/>
          </p:nvPicPr>
          <p:blipFill>
            <a:blip r:embed="rId3"/>
            <a:stretch/>
          </p:blipFill>
          <p:spPr>
            <a:xfrm>
              <a:off x="6011640" y="1606320"/>
              <a:ext cx="2752920" cy="21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5" name="" descr=""/>
            <p:cNvPicPr/>
            <p:nvPr/>
          </p:nvPicPr>
          <p:blipFill>
            <a:blip r:embed="rId4"/>
            <a:stretch/>
          </p:blipFill>
          <p:spPr>
            <a:xfrm>
              <a:off x="372960" y="1620720"/>
              <a:ext cx="2752920" cy="20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6" name=""/>
          <p:cNvSpPr/>
          <p:nvPr/>
        </p:nvSpPr>
        <p:spPr>
          <a:xfrm>
            <a:off x="3252960" y="4086360"/>
            <a:ext cx="4937040" cy="2066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s reduction procee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751"/>
              </a:spcBef>
              <a:buClr>
                <a:srgbClr val="004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White parts (ilmenite) have several h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751"/>
              </a:spcBef>
              <a:buClr>
                <a:srgbClr val="004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4080"/>
                </a:solidFill>
                <a:latin typeface="Arial"/>
                <a:ea typeface="ＭＳ Ｐゴシック"/>
              </a:rPr>
              <a:t>The pores were blocked by the melt of alkali contents at 1338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7331400" y="100080"/>
            <a:ext cx="1658520" cy="411120"/>
            <a:chOff x="7331400" y="100080"/>
            <a:chExt cx="1658520" cy="411120"/>
          </a:xfrm>
        </p:grpSpPr>
        <p:pic>
          <p:nvPicPr>
            <p:cNvPr id="1508" name="" descr=""/>
            <p:cNvPicPr/>
            <p:nvPr/>
          </p:nvPicPr>
          <p:blipFill>
            <a:blip r:embed="rId6"/>
            <a:stretch/>
          </p:blipFill>
          <p:spPr>
            <a:xfrm>
              <a:off x="8575560" y="100080"/>
              <a:ext cx="41436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7331400" y="1364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Tokyo 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10" name=""/>
          <p:cNvGraphicFramePr/>
          <p:nvPr/>
        </p:nvGraphicFramePr>
        <p:xfrm>
          <a:off x="343080" y="4305240"/>
          <a:ext cx="2628720" cy="2247840"/>
        </p:xfrm>
        <a:graphic>
          <a:graphicData uri="http://schemas.openxmlformats.org/drawingml/2006/table">
            <a:tbl>
              <a:tblPr/>
              <a:tblGrid>
                <a:gridCol w="812520"/>
                <a:gridCol w="888840"/>
                <a:gridCol w="92736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</a:t>
                      </a:r>
                      <a:r>
                        <a:rPr b="1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1" name=""/>
          <p:cNvSpPr/>
          <p:nvPr/>
        </p:nvSpPr>
        <p:spPr>
          <a:xfrm>
            <a:off x="165240" y="3924360"/>
            <a:ext cx="30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ＭＳ ゴシック"/>
              </a:rPr>
              <a:t>Soil Contents [ wt%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D85B-5181-4B2E-8500-718DD8DD5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49:41Z</dcterms:created>
  <dc:creator>Taka Watanabe</dc:creator>
  <dc:description/>
  <dc:language>en-US</dc:language>
  <cp:lastModifiedBy>Taka Watanabe</cp:lastModifiedBy>
  <cp:lastPrinted>2006-10-28T06:39:06Z</cp:lastPrinted>
  <dcterms:modified xsi:type="dcterms:W3CDTF">2006-11-01T06:16:10Z</dcterms:modified>
  <cp:revision>110</cp:revision>
  <dc:subject/>
  <dc:title>Kinetic Investigation of Water Production  from Lunar Soil Simulant  by Hydrogen Reduction</dc:title>
</cp:coreProperties>
</file>