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629-E767-4240-80BA-43ABFE2F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4EE-E8E1-4238-B410-A545FBE5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D21-C922-45C7-9F6E-2E4EAF00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710-0F64-44D4-94F9-BB2A85EA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284-A458-4C1F-ACF8-CA765530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9CA-6160-4E50-9A8A-D82D461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0F8-ABB5-4E16-80B4-664D1A49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630-EA2C-4017-90A7-B7722F37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3F3-5362-4646-B2AC-C5AE1692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82B-01E1-47E7-936F-7C11416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033-65B1-4669-9379-F6EFA29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A66-B024-4ECC-82FC-4D53766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8A7B-87A8-4993-9F42-8F0FB5E4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-mining.com/Telepossession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pace-mining.com/Telepossession.html" TargetMode="External"/><Relationship Id="rId2" Type="http://schemas.openxmlformats.org/officeDocument/2006/relationships/hyperlink" Target="http://www.higp.hawaii.edu/srr/SRR-VI-presentations/Rodriguez-TelePoss_SRR6.pdf" TargetMode="External"/><Relationship Id="rId3" Type="http://schemas.openxmlformats.org/officeDocument/2006/relationships/hyperlink" Target="http://www.space-mining.com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0560" y="0"/>
            <a:ext cx="661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320" y="2879280"/>
            <a:ext cx="1646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iam C. Jen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67080" cy="2905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68520" y="136440"/>
            <a:ext cx="6675480" cy="508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74680" y="3246480"/>
            <a:ext cx="2119320" cy="324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35360" y="534996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on Carbonyl Steel Product Manufacture with Iron on the Moon, Asteroids and Mars will be the Best Method for producing Steel with In-Situ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 degrees C – vs – 1400 degrees C for Foundry 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6354720"/>
            <a:ext cx="4389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ace-mining.com/Telepossession.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1880" y="960480"/>
            <a:ext cx="2924280" cy="4476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479840" y="0"/>
            <a:ext cx="466416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89480" y="3438360"/>
            <a:ext cx="47545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520" y="228240"/>
            <a:ext cx="55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kScrew Asteroids as Feedsto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160" y="1964880"/>
            <a:ext cx="5761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kscrew or Helical Asteroids are the great hope for the colonization of space with Near Earth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 GU9 is a good example of such a re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 Mining will build the Buzz Aldrin Cycler Orbiters – Traveling from Earth to Mars an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ossession of feedstock resources can leverage investment and promote long term su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ace-mining.com/Telepossess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igp.hawaii.edu/srr/SRR-VI-presentations/Rodriguez-TelePoss_SRR6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pace-mining.co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26120" y="0"/>
            <a:ext cx="3017880" cy="2824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92960" y="2971800"/>
            <a:ext cx="24192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42:04Z</dcterms:created>
  <dc:creator>.</dc:creator>
  <dc:description/>
  <dc:language>en-US</dc:language>
  <cp:lastModifiedBy>.</cp:lastModifiedBy>
  <dcterms:modified xsi:type="dcterms:W3CDTF">2006-10-31T01:30:28Z</dcterms:modified>
  <cp:revision>11</cp:revision>
  <dc:subject/>
  <dc:title>Slide 1</dc:title>
</cp:coreProperties>
</file>