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18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054-98B3-41D7-91C7-9A40893B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 dens 2500  kn 1e8 ks 1e8 fric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perty pb_rad 1 pb_s 1e6 pb_n 1e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perty pb_kn 2e6 pb_ks 2e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id 1 kn=1e8 ks=1e8 fric 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rad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rad 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id 1 kn=1e8 ks=1e8 fric 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 dens 2500  kn 1e8 ks 1e8 fric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rav 0 -9.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pb_rad 1 pb_s 1e6 pb_n 1e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pb_kn 3e6 pb_ks 3e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den 3000 kn 1e8 ks 1e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fr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ra 0 -9.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 pb_rad 1 pb_kn 1e9 pb_ks 1e9 pb_nstr 1e4 pb_sstr 1e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DBD-D714-4E80-8E33-BBC986F3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229-5932-4096-B9E2-145BF23E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9E1-B3C3-4F5A-A834-FD3E049B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B78-F363-4E37-ACFE-23A681CA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D57-9B67-4D1F-8067-25378801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09D-1129-4A4E-AA3D-17254697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492-F8AE-44D3-BC8E-51AD556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8EC-030C-494D-AECF-BDE6E84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12D-FA91-481D-806B-49A88C04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CD2-C6EF-4211-B392-FB9B7710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3D2-CF49-411A-A2C5-9E6E858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9E6-FA37-4815-BABB-5CFF23A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2393-6635-43B3-9710-8860F3ADD6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d59"/>
                </a:solidFill>
                <a:latin typeface="Arial"/>
              </a:rPr>
              <a:t>Modeling of Agglutinates and its mechanical propert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ana Garza-Cru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ami Nakaga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ado School of 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d59"/>
                </a:solidFill>
                <a:latin typeface="Arial"/>
              </a:rPr>
              <a:t>Three Different Mode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43400" cy="21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76920" y="2028960"/>
            <a:ext cx="3962160" cy="1933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523960" y="4468680"/>
            <a:ext cx="43340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fd59"/>
                </a:solidFill>
                <a:latin typeface="Arial"/>
              </a:rPr>
              <a:t>Uniaxial Compression Test of a bed of agglutinat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867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mulation resul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47920" y="1295280"/>
          <a:ext cx="693396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93396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dfd59"/>
                </a:solidFill>
                <a:latin typeface="Arial"/>
              </a:rPr>
              <a:t>Uniaxial Compression Test of a bed of agglutinates and uniform size particl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d59"/>
                </a:solidFill>
                <a:latin typeface="Arial"/>
              </a:rPr>
              <a:t>Agglutinates and partic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1625760"/>
          <a:ext cx="6781680" cy="46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25760"/>
                    <a:ext cx="678168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fd59"/>
                </a:solidFill>
                <a:latin typeface="Arial"/>
              </a:rPr>
              <a:t>Uniaxial Compression Test of a bed of agglutinates and particles with size distribution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3000" y="1596960"/>
          <a:ext cx="693432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96960"/>
                    <a:ext cx="693432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e dimensional Oedometer tes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26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352680" y="586728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ollo 12 Carrier et al.(1972b,1973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una 16 and 20 Leonovich et al. (1974a,197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d5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00040" y="3657240"/>
            <a:ext cx="5638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d59"/>
                </a:solidFill>
                <a:latin typeface="Arial"/>
              </a:rPr>
              <a:t>Regolith Model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t and safe processing of Lunar Soil is necessary for a sustainable stay on the Moon.  The ability to predict and understand the mechanical properties of lunar soil will ensure the development of novel machinery to extract and process the regoli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developed a set of simulations to model the behavior and properties of lunar soil found in laboratory experiments and the ways they may break into finer partic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1"/>
                </a:solidFill>
                <a:latin typeface="Arial"/>
              </a:rPr>
              <a:t>Particle Flow Code 2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C2D is a 2D discontinuum program based on Distinct Element Method (DEM).  This method was introduced for the analysis of rock-mechanics problems and enables us to have two bonding models; Contact-bond and Parallel-bo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rallel-bo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is like a finite-sized piece of cementation deposited between particles. 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to simulate the  mechanical behavior of different materials and therefore the way they break into finer partic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they br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5870520" y="5334120"/>
            <a:ext cx="1596960" cy="1371600"/>
            <a:chOff x="5870520" y="5334120"/>
            <a:chExt cx="1596960" cy="1371600"/>
          </a:xfrm>
        </p:grpSpPr>
        <p:pic>
          <p:nvPicPr>
            <p:cNvPr id="57" name="" descr=""/>
            <p:cNvPicPr/>
            <p:nvPr/>
          </p:nvPicPr>
          <p:blipFill>
            <a:blip r:embed="rId2"/>
            <a:srcRect l="47787" t="15089" r="0" b="0"/>
            <a:stretch/>
          </p:blipFill>
          <p:spPr>
            <a:xfrm>
              <a:off x="5943600" y="5334120"/>
              <a:ext cx="1523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870520" y="5410080"/>
              <a:ext cx="98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Times New Roman"/>
                  <a:ea typeface="Times New Roman"/>
                </a:rPr>
                <a:t>Parallel bo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 Represent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2133360" cy="191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342900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2727360" cy="2003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DEM a rock can be represented as a dense packing of particles bonded together at their contact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3352680"/>
            <a:ext cx="7596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7520" y="3381480"/>
            <a:ext cx="75960" cy="759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43120" y="3295800"/>
            <a:ext cx="76320" cy="759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24240"/>
            <a:ext cx="7632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43200" y="3409920"/>
            <a:ext cx="7596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76240" y="3467160"/>
            <a:ext cx="7632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52560" y="3495600"/>
            <a:ext cx="7632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24200" y="3438360"/>
            <a:ext cx="7596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14480" y="3352680"/>
            <a:ext cx="7632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267000"/>
            <a:ext cx="7596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4120" y="3243240"/>
            <a:ext cx="7596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43120" y="3219480"/>
            <a:ext cx="7632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62120" y="3262320"/>
            <a:ext cx="76320" cy="763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90840" y="3319560"/>
            <a:ext cx="75960" cy="759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1"/>
                </a:solidFill>
                <a:latin typeface="Arial"/>
              </a:rPr>
              <a:t>Fracture of simple geometr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21193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9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41360" y="1663560"/>
            <a:ext cx="6459480" cy="4397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1"/>
                </a:solidFill>
                <a:latin typeface="Arial"/>
              </a:rPr>
              <a:t>Virtual Agglutinat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15200" y="5683320"/>
            <a:ext cx="182880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ff01"/>
                </a:solidFill>
                <a:latin typeface="Arial"/>
              </a:rPr>
              <a:t>Uniaxial Compression test of one Virtual Agglutinat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2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e dimensional Oedometer tes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26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52680" y="586728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ollo 12 Carrier et al.(1972b,1973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una 16 and 20 Leonovich et al. (1974a,197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d59"/>
                </a:solidFill>
                <a:latin typeface="Arial"/>
              </a:rPr>
              <a:t>Compressibil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bility describes the volume change, or densification, that occurs when a confining stress is applied to soi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ow stresses compression of the soil results from particle slippage and reori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high stress, particle deformation and breakage at the points of contact al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0" y="0"/>
                <a:ext cx="876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0" y="428760"/>
                <a:ext cx="571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0" y="0"/>
                <a:ext cx="876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0" y="428760"/>
                <a:ext cx="571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0" y="0"/>
                <a:ext cx="876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0" y="428760"/>
                <a:ext cx="571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0"/>
                <a:ext cx="876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428760"/>
                <a:ext cx="571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3019320"/>
                <a:ext cx="876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0" y="3448080"/>
                <a:ext cx="571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038480"/>
            <a:ext cx="81536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 rat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: poro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bilit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 : applied vertical st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29000" y="5029200"/>
            <a:ext cx="1723680" cy="1431360"/>
            <a:chOff x="3429000" y="5029200"/>
            <a:chExt cx="1723680" cy="1431360"/>
          </a:xfrm>
        </p:grpSpPr>
        <p:sp>
          <p:nvSpPr>
            <p:cNvPr id="117" name=""/>
            <p:cNvSpPr/>
            <p:nvPr/>
          </p:nvSpPr>
          <p:spPr>
            <a:xfrm>
              <a:off x="3429000" y="5029200"/>
              <a:ext cx="1723680" cy="14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551400" y="5357160"/>
                  <a:ext cx="1457280" cy="71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Δe</m:t>
                          </m:r>
                        </m:num>
                        <m:den>
                          <m:r>
                            <m:t xml:space="preserve">Δ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"/>
          <p:cNvGrpSpPr/>
          <p:nvPr/>
        </p:nvGrpSpPr>
        <p:grpSpPr>
          <a:xfrm>
            <a:off x="2895480" y="4038480"/>
            <a:ext cx="990360" cy="838080"/>
            <a:chOff x="2895480" y="4038480"/>
            <a:chExt cx="990360" cy="838080"/>
          </a:xfrm>
        </p:grpSpPr>
        <p:sp>
          <p:nvSpPr>
            <p:cNvPr id="120" name=""/>
            <p:cNvSpPr/>
            <p:nvPr/>
          </p:nvSpPr>
          <p:spPr>
            <a:xfrm>
              <a:off x="2895480" y="4038480"/>
              <a:ext cx="99036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950560" y="4038480"/>
                  <a:ext cx="825120" cy="72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9:14:59Z</dcterms:created>
  <dc:creator>Masami Nakagawa</dc:creator>
  <dc:description/>
  <dc:language>en-US</dc:language>
  <cp:lastModifiedBy>Tryana Garza-Cruz</cp:lastModifiedBy>
  <dcterms:modified xsi:type="dcterms:W3CDTF">2007-10-25T20:34:15Z</dcterms:modified>
  <cp:revision>6</cp:revision>
  <dc:subject/>
  <dc:title>Slide 1</dc:title>
</cp:coreProperties>
</file>