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E3CC-60DB-4AFE-AE54-2B58453F4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DE14-D55A-45E2-A16C-FA26407F0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5EA0-44DC-4048-B801-BF36D87B3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BC61-CB42-478F-80D5-2429D45FB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CB77-A55C-4277-AACF-D8110207A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C9EC-DFBE-4670-BF76-02DECEA3B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401C-3A0A-4599-9B1F-02F69AE3F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15B5-CAAE-4D3C-B75B-182C9AEFF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F2F9-5DD0-48D7-B4F0-A93525EA2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6CED-7EC6-4089-BBE6-398932798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3D65-5BEC-45F6-918A-26CA4E121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6890-BDAD-4A03-B05F-DF3262A00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20F-EFDD-40FC-B7C8-51123790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49320"/>
            <a:ext cx="8686800" cy="788760"/>
            <a:chOff x="228600" y="49320"/>
            <a:chExt cx="8686800" cy="788760"/>
          </a:xfrm>
        </p:grpSpPr>
        <p:sp>
          <p:nvSpPr>
            <p:cNvPr id="2" name=""/>
            <p:cNvSpPr/>
            <p:nvPr/>
          </p:nvSpPr>
          <p:spPr>
            <a:xfrm>
              <a:off x="228600" y="838080"/>
              <a:ext cx="86868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28600" y="49320"/>
              <a:ext cx="2590920" cy="71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76320"/>
            <a:ext cx="5983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CES and ISRU Systems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Resources Round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6, 20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2440" y="32767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Duke and Frank Schowenge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FB5D-CB17-46BE-8C90-DD8A3D37F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759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nering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 Seed Fund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C/KSC:  Lunar Analog ISRU Field 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:  Lunar Robotic Site Survey &amp;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L:  Low-Temperature, Long-Life, Compliant Wheels for the Lunar Surface and Bey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ar Advanced Science and Exploration Research (LASER)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Materials Research for a Lunar Out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102E-D926-4315-8888-B95A55D02A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9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am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 at PISCES annual meeting – November 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local community into discussions of PISCES 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users for simul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eeded capabilities for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en PISCES 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PISCES research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to ISRU research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other PISCE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donors for capital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C720-B49C-4A7C-A4BA-49B4223AD9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3808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ISCES will be a comprehensive analog facility, international research, and education center dedicated to the creation of technologies to sustain human presence on the Moon and beyon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5360" y="604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382240" cy="2325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6560" y="4800600"/>
            <a:ext cx="456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ar Outpos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Situ Resource Utilization (IS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ligent Rob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bitat Design and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ar Energy and Power B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1244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D419-901C-4B57-8A4C-BF02CEEA3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4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 Simulated Lunar Outpost on the Big Island of Hawai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a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578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4876920"/>
            <a:ext cx="57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RU pilot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otic fiel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ar 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a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bitats constructed from local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F129-2806-4332-9313-BEAD429D3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4520" y="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obo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419720"/>
            <a:ext cx="739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perception and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tical and cooperative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ble Man-Machin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and, control, and communic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rchitecture that integrates these capabilities into a robotic system that can look, plan, move, operate collaboratively, and perform on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477120" cy="33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E4E2-101A-406F-B469-1DA735063D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68480" y="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ducation and Outr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4572000" cy="33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1179360"/>
            <a:ext cx="3429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graduate and graduate student research programs in space operations technology, including ISRU, robotics, habitats, solar power and supporting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SCES internships in public relations/communications at the University of Hawai’i at Hilo, where course work currently is offered in this area of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952880"/>
            <a:ext cx="88394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SCES internships from Tokyo Institute of Technology, one of our partner institutions, as a model for future internships from other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SCES student internships in cultural studies, emphasizing the importance of science in Hawaiian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aceClass lesson about living on the Moon, which will reach classrooms around the globe and serve as a valuable resource to science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52280" y="449568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ace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™ Clas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A667-81E0-414D-895A-E9197D8CB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ISCES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by Japan-U. S. Science, Technology and Applications Program (JUSTSAP)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proposal developed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by the State of Hawaii in Ju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nual meeting – Hilo, November 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esign project – Simulation facility design – 3 university teams selected for presentations at annual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hops at annual meeting will further define PISCES directions, projects,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proposals written to NASA programs in concert with partn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SRU plan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70AB-D790-469F-A2B1-A75A903C7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3440" y="0"/>
            <a:ext cx="13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S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846600"/>
            <a:ext cx="2971800" cy="270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371600"/>
            <a:ext cx="396252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s of technology in a representative environment with NASA, Industry, university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U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886200"/>
            <a:ext cx="57150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ces Research program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on-competitive with current NASA-funded ISRU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teractive with facilit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uilds on other technologies – eg. 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otentially, help develop Hawaiian expertise or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306F-47A0-4CD9-8FB0-19E71DBE1E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ssible PISCES Foc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 of construction materials with IS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s thermal energy – abundant in Haw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quire processed regolith (other than direct melting and ca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Hawaiian regolith simulant available in large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fluence further development of an oup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onstruct solar reflectors utilizing regolit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674A-2617-498D-A9DC-B95083339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440" y="759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nering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/university/government partnership center (RPC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joins with membership fees in return for access to resulting technolog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irected research on joint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faculty members on joint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searchers participate through NASA field centers or foreign space ag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SCES realizes extra revenue streams from user fees and overhea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1BB9-E367-4EA9-8DF7-B439BE0D5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20:39:46Z</dcterms:created>
  <dc:creator>fschowen</dc:creator>
  <dc:description/>
  <dc:language>en-US</dc:language>
  <cp:lastModifiedBy>mike duke</cp:lastModifiedBy>
  <dcterms:modified xsi:type="dcterms:W3CDTF">2007-10-26T18:45:09Z</dcterms:modified>
  <cp:revision>76</cp:revision>
  <dc:subject/>
  <dc:title>Slide 1</dc:title>
</cp:coreProperties>
</file>