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F8C-6DE4-4262-A290-8472C860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BAC-5846-4343-9AFC-456A2A6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281-E75C-43EE-A880-D2A69A9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310-BADD-41E6-A851-27F36928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AA1-5179-489A-B3BB-95702C44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538-BEDE-4098-8364-90195AA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11A-6EE0-459C-8C6A-6A15747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DA0-2F10-4737-A2E8-4C0D7103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536-1973-4564-A410-86124B0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C72-8C40-4FE3-86CF-4DF2E5D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25E-B35E-409B-A515-2D44DE5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048-FCD0-4C15-ADC2-2674A53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732-80D2-441F-AF0F-2397786A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dustrial-Grade Power Generation, Management and Distribution System for Lunar Surface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03120" y="3886200"/>
            <a:ext cx="51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Design Stud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Fox Engineering Services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2240" y="397836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23040" y="4800600"/>
            <a:ext cx="933480" cy="95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8240" y="626436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Resource Roundtable IX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B4D-1115-42EB-9F05-BEA311F0ED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600" y="1918800"/>
            <a:ext cx="54864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S-35B Power Triode is equivalent to an EIMAC (Varian) 3CPX1500A7 and is a typical high-current, high-voltage device capable of 2.5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echnologies persist because of thes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uum Tube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57615" t="6443" r="4800" b="6443"/>
          <a:stretch/>
        </p:blipFill>
        <p:spPr>
          <a:xfrm>
            <a:off x="952560" y="2143080"/>
            <a:ext cx="181116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D9F-1B3D-4146-AAD0-1780448969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1880" y="3246120"/>
            <a:ext cx="77724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mary source is a 150k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clear Re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Free Piston Stirling Engine (FPS) Altern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PS has two windings which split the load redunda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n efficiency of 28% the alternator output is ~42k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mission line extends at least a kilometer from the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-user consumer requires 120V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ystem requires high reliability parts in an environment which includes reactor and high ambient radiati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5720" y="1325520"/>
            <a:ext cx="797076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1D9-72E4-47F7-A082-6E2EA1C3D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C Mains / Rectified Alter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520" y="985680"/>
            <a:ext cx="6765840" cy="4886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46320" y="2514600"/>
            <a:ext cx="429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FPS Dual-Tap Alter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of 42K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.5KV, -2.5KV &amp; 5K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urrent Sum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d to extent that individual path impedance a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Cable 2x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alternator ‘sync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2C9-32B3-412E-A70D-218CC77611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680" y="868320"/>
            <a:ext cx="6675480" cy="469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89480" y="3062160"/>
            <a:ext cx="22860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879640"/>
            <a:ext cx="43894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FPS Dual-Tap Alter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of 42K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, Two and Three-Phase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urrent Su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Balanced to extent that individual path impedance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ards Source Rec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MF ‘syncs’ alter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set of line filters for 3-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18B-D906-488D-A450-D47DBB400C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C Mains / Rectified Alter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9480" y="3429000"/>
            <a:ext cx="228600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22280" y="3703320"/>
            <a:ext cx="493884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 ‘chopper’ to invert DC Mains to Pulsed DC (not a sinew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omplexity for user sink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417680"/>
            <a:ext cx="8335800" cy="18352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2A9-3C7B-4A38-9A28-563FF349B0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ains / Rectified Alter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89480" y="3429000"/>
            <a:ext cx="228600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22280" y="4068360"/>
            <a:ext cx="493884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Mains reduce the amount of circuitry where it counts – at the many taps which consume power – mostly through the elimination of inver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5040" y="1333440"/>
            <a:ext cx="8413920" cy="25527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220-A859-4271-AAF5-2B8C2B862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Circuit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3840" y="974880"/>
            <a:ext cx="8820000" cy="5759280"/>
            <a:chOff x="123840" y="974880"/>
            <a:chExt cx="8820000" cy="57592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4176720" y="3429000"/>
              <a:ext cx="4324320" cy="130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303120" y="974880"/>
              <a:ext cx="8640720" cy="3301920"/>
              <a:chOff x="303120" y="974880"/>
              <a:chExt cx="8640720" cy="3301920"/>
            </a:xfrm>
          </p:grpSpPr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3120" y="974880"/>
                <a:ext cx="4572000" cy="33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71840" y="1001880"/>
                <a:ext cx="457200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flipV="1">
                <a:off x="4317840" y="1149480"/>
                <a:ext cx="563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311720" y="1503360"/>
                <a:ext cx="563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308480" y="1856880"/>
                <a:ext cx="563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266760" y="3457440"/>
              <a:ext cx="43527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23840" y="5743440"/>
              <a:ext cx="334332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4876920"/>
              <a:ext cx="163836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0000" y="359568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017960" y="3933360"/>
              <a:ext cx="9493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022640" y="4269960"/>
              <a:ext cx="94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727520" y="359388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05200" y="3575160"/>
              <a:ext cx="428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9040" y="3562200"/>
              <a:ext cx="648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0960" y="4787640"/>
            <a:ext cx="5629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 system has fewer active components and more passive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 system requires less support hardware, such as cooling and cabi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ewer mode translations the AC system is more efficient, delivering a larger fraction (15% to 20% more) of the alternator output to the end-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2160" y="6172200"/>
            <a:ext cx="3108240" cy="593640"/>
            <a:chOff x="92160" y="6172200"/>
            <a:chExt cx="3108240" cy="59364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31880" y="6446880"/>
              <a:ext cx="2468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53360" y="24224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missio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196524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789280"/>
            <a:ext cx="0" cy="63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960-5654-43D2-ACF2-C6E5DA6519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04800" y="2422080"/>
            <a:ext cx="493884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ample of a high-power safety circuit uses the rectifiers as circuit br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de current is sensed and compared to programmed thres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grids is used to turn-off the tube in the event of a fault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9720" y="2333520"/>
            <a:ext cx="3286080" cy="2190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AED-6083-4D7A-A7EB-E597E7F6BB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1918800"/>
            <a:ext cx="54864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example of a high-power safety circuit uses temporary resistive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ansient loads reduces load-switching-induced noise which causes ri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ringing also reduces the ‘hunting’ by alternators trying to match output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2160" y="6172200"/>
            <a:ext cx="8137440" cy="593640"/>
            <a:chOff x="92160" y="6172200"/>
            <a:chExt cx="8137440" cy="5936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92160" y="6172200"/>
              <a:ext cx="5810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31880" y="6446880"/>
              <a:ext cx="7497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79440" y="1165320"/>
            <a:ext cx="1941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86F-AFF2-4F15-9F94-DD2BCD810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4:01:13Z</dcterms:created>
  <dc:creator>ROD</dc:creator>
  <dc:description/>
  <dc:language>en-US</dc:language>
  <cp:lastModifiedBy>ROD</cp:lastModifiedBy>
  <dcterms:modified xsi:type="dcterms:W3CDTF">2007-10-25T06:54:27Z</dcterms:modified>
  <cp:revision>7</cp:revision>
  <dc:subject/>
  <dc:title>DC Mains / Rectified Alternators</dc:title>
</cp:coreProperties>
</file>